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DBE1-13F6-4E0E-BFD0-4444E25E5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A8E4-4A2E-4C1F-B467-172C6391D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95AB-5DB0-47D0-9273-73F5D583D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62EB-426D-47D8-8B98-19C28B50A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8C766-D180-4501-8230-0919D1D90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3DA49-D46B-4B0F-8AFE-3D1B5252D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08EBF-52A4-41E0-A667-915C87BA1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781A4-D811-4D20-8017-04C231736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2F8B6-ADE6-4C0E-982C-B2551EC40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E5D8F-26F5-4E14-8C7C-53593AEBA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7C9F0-DBBB-408A-95B9-14DF2A9D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9734-5364-4983-A51D-8190C0317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C087D-9B15-42BC-BD83-396DE147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84C96-F4C3-47AF-A3C3-8FAC0EB8E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E8F14-E76A-45A4-95A3-C5913D6F4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E633B-06F9-4D9E-976F-A3651D730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3FD45-1667-4383-B91A-186CE6F6A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E0544-FE2F-47A1-BBAA-699655AD3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B1A66-7E10-48D5-A6B7-BD7AB0F19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99CC2-8F85-447F-B6F2-985BA8203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C1106-C1A0-4EBA-81BB-D4A6043FB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59036-C287-4E8C-A453-B7D367C56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B205-E307-4BF7-963A-F32CFA237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4BFD3-9565-44BC-BF6F-B30DB5EB6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AE204-399D-41AA-BE29-E06503576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F2F12-C93A-4F5E-9DFA-B09758F5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86464-8943-487A-8484-58F27B236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B7278-A79E-4887-A3E7-36D6BB665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62F69-68C0-4C7E-BBF6-509F2A22D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73042-B315-434A-B4CE-81233FCAC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C28BC-0762-43E1-B7A8-D90216BD8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C17D1-B73B-40FB-AFD1-D2B01E122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B8211-E80C-497E-92DD-38B87EDFC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CB33-9FF6-418C-977D-23CCA1D66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80047-26B5-46AF-B13A-2BC65D04E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23097-045A-4577-B307-8FE5326E5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A882C-0E43-4C43-914E-568A78ACB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A40E5-CDF6-4E74-8136-C91397AC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B962A-7AAE-4C32-ABE8-6E072F00D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001D1-FFAE-4AD3-A777-8DAFC5168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D75B7-FD62-4454-ADD7-5AF10C848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18C2F-90AA-493B-BB0A-7643FE453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DA05D-A18B-4B42-B045-8D35BD96E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F4399-2C90-4642-B87E-966A07A4A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4197-960C-4A96-B0E6-60788980E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08603-E350-4A16-A77A-935A43BCF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32189E-E272-4808-AB03-CFEE7E822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E99CB-4DAC-48DF-9C3B-FAAB7A6B2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C52F54-AF18-4588-A349-94AF58F31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432198-8264-47E8-84CF-B95446D7B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908A92-BF31-43D9-910F-4A48AAE4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295042-9EB3-4743-8065-CB5072850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CE18B5-E2D4-4A94-BF8D-2EC76C718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C1EDFD-E26F-49BB-82E7-4756E8F92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1FF5F-53A6-478C-9826-973723600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5EEB-947D-455F-AD93-B086D191D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11C80-670A-4FBE-9483-3ADAAC563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62368C-25FF-4F4C-95FF-4C8D5128C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B2599-1C49-4ECE-B337-4DD9F9516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B0F908-EABF-4409-A59E-68D810433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97578F-CC0B-4F42-A7B5-D1E2CB208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72651-7225-41C6-AB22-9097D1190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6F2629-5C1B-450F-940A-3197A95B6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6005D7-B3F3-450C-8D6F-733F4D5CB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FCB5D0-579B-4306-A3AF-679BE520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1C2EE6-5A57-49FE-853E-D5A86E48A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C366-A43E-4FD7-8044-9CDB00654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27AD38-6F34-416F-8058-D818049E8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BCDDD0-DA39-4FC1-A5E0-B09DB230A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EC3D8C-1BAB-4025-A7B4-E2C23C2E2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B3E3-60A4-4295-B26B-35E2986E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7AAB-C217-4713-B473-1FD8807AE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0972800" y="6476760"/>
            <a:ext cx="1015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7B5A1-C570-466D-B055-F2864CF1AF0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9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12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5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54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57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直接连接符 12"/>
          <p:cNvGrpSpPr/>
          <p:nvPr/>
        </p:nvGrpSpPr>
        <p:grpSpPr>
          <a:xfrm>
            <a:off x="682560" y="5340240"/>
            <a:ext cx="11515680" cy="23760"/>
            <a:chOff x="682560" y="5340240"/>
            <a:chExt cx="11515680" cy="23760"/>
          </a:xfrm>
        </p:grpSpPr>
        <p:pic>
          <p:nvPicPr>
            <p:cNvPr id="60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5340240"/>
              <a:ext cx="1151568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68580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10972440" y="6473880"/>
            <a:ext cx="1011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8A9A7-0882-42D1-A319-526BB467247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04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07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110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4774680" y="76320"/>
            <a:ext cx="3861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10972440" y="6473880"/>
            <a:ext cx="1011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07F0C-0022-4195-8177-FED12DF71EE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54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57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160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直接连接符 12"/>
          <p:cNvGrpSpPr/>
          <p:nvPr/>
        </p:nvGrpSpPr>
        <p:grpSpPr>
          <a:xfrm>
            <a:off x="682560" y="3432240"/>
            <a:ext cx="11515680" cy="23760"/>
            <a:chOff x="682560" y="3432240"/>
            <a:chExt cx="11515680" cy="23760"/>
          </a:xfrm>
        </p:grpSpPr>
        <p:pic>
          <p:nvPicPr>
            <p:cNvPr id="163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3432240"/>
              <a:ext cx="1151568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68580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10972800" y="6476760"/>
            <a:ext cx="1015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56901-27A4-4465-A8C4-B2208758679E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07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10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213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直接连接符 12"/>
          <p:cNvGrpSpPr/>
          <p:nvPr/>
        </p:nvGrpSpPr>
        <p:grpSpPr>
          <a:xfrm>
            <a:off x="682560" y="6010200"/>
            <a:ext cx="11515680" cy="25560"/>
            <a:chOff x="682560" y="6010200"/>
            <a:chExt cx="11515680" cy="25560"/>
          </a:xfrm>
        </p:grpSpPr>
        <p:pic>
          <p:nvPicPr>
            <p:cNvPr id="216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60102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68580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10972800" y="6477120"/>
            <a:ext cx="10159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1B313-9DC4-46D1-8EB1-E36DACF950A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60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63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266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直接连接符 12"/>
          <p:cNvGrpSpPr/>
          <p:nvPr/>
        </p:nvGrpSpPr>
        <p:grpSpPr>
          <a:xfrm>
            <a:off x="682560" y="5840280"/>
            <a:ext cx="11515680" cy="24120"/>
            <a:chOff x="682560" y="5840280"/>
            <a:chExt cx="11515680" cy="24120"/>
          </a:xfrm>
        </p:grpSpPr>
        <p:pic>
          <p:nvPicPr>
            <p:cNvPr id="269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5840280"/>
              <a:ext cx="1151568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68580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10972800" y="6476760"/>
            <a:ext cx="1015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98C4C-92B2-4BDE-84A7-07CF405B5A9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21" descr=""/>
          <p:cNvPicPr/>
          <p:nvPr/>
        </p:nvPicPr>
        <p:blipFill>
          <a:blip r:embed="rId1"/>
          <a:stretch/>
        </p:blipFill>
        <p:spPr>
          <a:xfrm>
            <a:off x="1200240" y="1052640"/>
            <a:ext cx="9880560" cy="4284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22" descr=""/>
          <p:cNvPicPr/>
          <p:nvPr/>
        </p:nvPicPr>
        <p:blipFill>
          <a:blip r:embed="rId2"/>
          <a:stretch/>
        </p:blipFill>
        <p:spPr>
          <a:xfrm>
            <a:off x="3790800" y="2492280"/>
            <a:ext cx="4432320" cy="309564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23"/>
          <p:cNvSpPr/>
          <p:nvPr/>
        </p:nvSpPr>
        <p:spPr>
          <a:xfrm>
            <a:off x="5433840" y="4640400"/>
            <a:ext cx="2478240" cy="260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24"/>
          <p:cNvSpPr/>
          <p:nvPr/>
        </p:nvSpPr>
        <p:spPr>
          <a:xfrm>
            <a:off x="3916440" y="4964040"/>
            <a:ext cx="3282840" cy="260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5"/>
          <p:cNvSpPr/>
          <p:nvPr/>
        </p:nvSpPr>
        <p:spPr>
          <a:xfrm>
            <a:off x="3691080" y="5332320"/>
            <a:ext cx="4206600" cy="260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"/>
          <p:cNvPicPr/>
          <p:nvPr/>
        </p:nvPicPr>
        <p:blipFill>
          <a:blip r:embed="rId1"/>
          <a:stretch/>
        </p:blipFill>
        <p:spPr>
          <a:xfrm>
            <a:off x="431640" y="907920"/>
            <a:ext cx="10757160" cy="520092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3"/>
          <p:cNvSpPr/>
          <p:nvPr/>
        </p:nvSpPr>
        <p:spPr>
          <a:xfrm>
            <a:off x="1103400" y="2997360"/>
            <a:ext cx="42321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1668600" y="3589200"/>
            <a:ext cx="42321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5"/>
          <p:cNvSpPr/>
          <p:nvPr/>
        </p:nvSpPr>
        <p:spPr>
          <a:xfrm>
            <a:off x="1757520" y="4113360"/>
            <a:ext cx="42321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6"/>
          <p:cNvSpPr/>
          <p:nvPr/>
        </p:nvSpPr>
        <p:spPr>
          <a:xfrm>
            <a:off x="1816200" y="4637160"/>
            <a:ext cx="42336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7"/>
          <p:cNvSpPr/>
          <p:nvPr/>
        </p:nvSpPr>
        <p:spPr>
          <a:xfrm>
            <a:off x="1905120" y="5172120"/>
            <a:ext cx="42336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8"/>
          <p:cNvSpPr/>
          <p:nvPr/>
        </p:nvSpPr>
        <p:spPr>
          <a:xfrm>
            <a:off x="1890720" y="5718240"/>
            <a:ext cx="42321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4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9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4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9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4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9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"/>
          <p:cNvPicPr/>
          <p:nvPr/>
        </p:nvPicPr>
        <p:blipFill>
          <a:blip r:embed="rId1"/>
          <a:stretch/>
        </p:blipFill>
        <p:spPr>
          <a:xfrm>
            <a:off x="1008000" y="836640"/>
            <a:ext cx="5905440" cy="14670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"/>
          <p:cNvPicPr/>
          <p:nvPr/>
        </p:nvPicPr>
        <p:blipFill>
          <a:blip r:embed="rId2"/>
          <a:stretch/>
        </p:blipFill>
        <p:spPr>
          <a:xfrm>
            <a:off x="239760" y="2421000"/>
            <a:ext cx="10693440" cy="4219560"/>
          </a:xfrm>
          <a:prstGeom prst="rect">
            <a:avLst/>
          </a:prstGeom>
          <a:ln w="0">
            <a:noFill/>
          </a:ln>
        </p:spPr>
      </p:pic>
      <p:sp>
        <p:nvSpPr>
          <p:cNvPr id="375" name="Rectangle 4"/>
          <p:cNvSpPr/>
          <p:nvPr/>
        </p:nvSpPr>
        <p:spPr>
          <a:xfrm>
            <a:off x="1103400" y="836640"/>
            <a:ext cx="47052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1147680" y="1349280"/>
            <a:ext cx="56260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1087560" y="1884240"/>
            <a:ext cx="56260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6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1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6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"/>
          <p:cNvPicPr/>
          <p:nvPr/>
        </p:nvPicPr>
        <p:blipFill>
          <a:blip r:embed="rId1"/>
          <a:stretch/>
        </p:blipFill>
        <p:spPr>
          <a:xfrm>
            <a:off x="814320" y="907920"/>
            <a:ext cx="10071000" cy="5220000"/>
          </a:xfrm>
          <a:prstGeom prst="rect">
            <a:avLst/>
          </a:prstGeom>
          <a:ln w="0">
            <a:noFill/>
          </a:ln>
        </p:spPr>
      </p:pic>
      <p:sp>
        <p:nvSpPr>
          <p:cNvPr id="379" name="Rectangle 3"/>
          <p:cNvSpPr/>
          <p:nvPr/>
        </p:nvSpPr>
        <p:spPr>
          <a:xfrm>
            <a:off x="1008000" y="907920"/>
            <a:ext cx="35514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4"/>
          <p:cNvSpPr/>
          <p:nvPr/>
        </p:nvSpPr>
        <p:spPr>
          <a:xfrm>
            <a:off x="992160" y="1488960"/>
            <a:ext cx="35528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5"/>
          <p:cNvSpPr/>
          <p:nvPr/>
        </p:nvSpPr>
        <p:spPr>
          <a:xfrm>
            <a:off x="1036800" y="1990800"/>
            <a:ext cx="35528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6"/>
          <p:cNvSpPr/>
          <p:nvPr/>
        </p:nvSpPr>
        <p:spPr>
          <a:xfrm>
            <a:off x="826920" y="2548080"/>
            <a:ext cx="35528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7"/>
          <p:cNvSpPr/>
          <p:nvPr/>
        </p:nvSpPr>
        <p:spPr>
          <a:xfrm>
            <a:off x="903240" y="3071880"/>
            <a:ext cx="35528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8"/>
          <p:cNvSpPr/>
          <p:nvPr/>
        </p:nvSpPr>
        <p:spPr>
          <a:xfrm>
            <a:off x="963720" y="3606840"/>
            <a:ext cx="74325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9"/>
          <p:cNvSpPr/>
          <p:nvPr/>
        </p:nvSpPr>
        <p:spPr>
          <a:xfrm>
            <a:off x="903240" y="4154400"/>
            <a:ext cx="7434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0"/>
          <p:cNvSpPr/>
          <p:nvPr/>
        </p:nvSpPr>
        <p:spPr>
          <a:xfrm>
            <a:off x="1096920" y="4645080"/>
            <a:ext cx="74325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1"/>
          <p:cNvSpPr/>
          <p:nvPr/>
        </p:nvSpPr>
        <p:spPr>
          <a:xfrm>
            <a:off x="1081080" y="5168880"/>
            <a:ext cx="4444920" cy="393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12"/>
          <p:cNvSpPr/>
          <p:nvPr/>
        </p:nvSpPr>
        <p:spPr>
          <a:xfrm>
            <a:off x="1081080" y="5715000"/>
            <a:ext cx="5813280" cy="393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3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8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3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8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3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8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3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8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3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8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" descr=""/>
          <p:cNvPicPr/>
          <p:nvPr/>
        </p:nvPicPr>
        <p:blipFill>
          <a:blip r:embed="rId1"/>
          <a:stretch/>
        </p:blipFill>
        <p:spPr>
          <a:xfrm>
            <a:off x="241200" y="907920"/>
            <a:ext cx="11950920" cy="5753160"/>
          </a:xfrm>
          <a:prstGeom prst="rect">
            <a:avLst/>
          </a:prstGeom>
          <a:ln w="0">
            <a:noFill/>
          </a:ln>
        </p:spPr>
      </p:pic>
      <p:sp>
        <p:nvSpPr>
          <p:cNvPr id="318" name="Rectangle 3"/>
          <p:cNvSpPr/>
          <p:nvPr/>
        </p:nvSpPr>
        <p:spPr>
          <a:xfrm>
            <a:off x="9226440" y="1650960"/>
            <a:ext cx="7686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4"/>
          <p:cNvSpPr/>
          <p:nvPr/>
        </p:nvSpPr>
        <p:spPr>
          <a:xfrm>
            <a:off x="10756800" y="1650960"/>
            <a:ext cx="7686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5"/>
          <p:cNvSpPr/>
          <p:nvPr/>
        </p:nvSpPr>
        <p:spPr>
          <a:xfrm>
            <a:off x="838080" y="2052720"/>
            <a:ext cx="7686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6"/>
          <p:cNvSpPr/>
          <p:nvPr/>
        </p:nvSpPr>
        <p:spPr>
          <a:xfrm>
            <a:off x="3365640" y="2052720"/>
            <a:ext cx="7682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7"/>
          <p:cNvSpPr/>
          <p:nvPr/>
        </p:nvSpPr>
        <p:spPr>
          <a:xfrm>
            <a:off x="7188120" y="2587680"/>
            <a:ext cx="1067040" cy="393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8"/>
          <p:cNvSpPr/>
          <p:nvPr/>
        </p:nvSpPr>
        <p:spPr>
          <a:xfrm>
            <a:off x="10771200" y="2554200"/>
            <a:ext cx="7682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9"/>
          <p:cNvSpPr/>
          <p:nvPr/>
        </p:nvSpPr>
        <p:spPr>
          <a:xfrm>
            <a:off x="855720" y="3022560"/>
            <a:ext cx="7682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0"/>
          <p:cNvSpPr/>
          <p:nvPr/>
        </p:nvSpPr>
        <p:spPr>
          <a:xfrm>
            <a:off x="2328840" y="3022560"/>
            <a:ext cx="7682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1"/>
          <p:cNvSpPr/>
          <p:nvPr/>
        </p:nvSpPr>
        <p:spPr>
          <a:xfrm>
            <a:off x="7873920" y="3089160"/>
            <a:ext cx="768600" cy="293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2"/>
          <p:cNvSpPr/>
          <p:nvPr/>
        </p:nvSpPr>
        <p:spPr>
          <a:xfrm>
            <a:off x="2373480" y="3535200"/>
            <a:ext cx="1971360" cy="293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3"/>
          <p:cNvSpPr/>
          <p:nvPr/>
        </p:nvSpPr>
        <p:spPr>
          <a:xfrm>
            <a:off x="9480600" y="3535200"/>
            <a:ext cx="1020600" cy="293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4"/>
          <p:cNvSpPr/>
          <p:nvPr/>
        </p:nvSpPr>
        <p:spPr>
          <a:xfrm>
            <a:off x="11368080" y="5219640"/>
            <a:ext cx="469800" cy="349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"/>
          <p:cNvPicPr/>
          <p:nvPr/>
        </p:nvPicPr>
        <p:blipFill>
          <a:blip r:embed="rId1"/>
          <a:stretch/>
        </p:blipFill>
        <p:spPr>
          <a:xfrm>
            <a:off x="291960" y="1052640"/>
            <a:ext cx="11900160" cy="409572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3"/>
          <p:cNvSpPr/>
          <p:nvPr/>
        </p:nvSpPr>
        <p:spPr>
          <a:xfrm>
            <a:off x="11336400" y="1060560"/>
            <a:ext cx="619200" cy="303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11352240" y="1895400"/>
            <a:ext cx="617400" cy="303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5"/>
          <p:cNvSpPr/>
          <p:nvPr/>
        </p:nvSpPr>
        <p:spPr>
          <a:xfrm>
            <a:off x="3249720" y="3533760"/>
            <a:ext cx="1049400" cy="303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6"/>
          <p:cNvSpPr/>
          <p:nvPr/>
        </p:nvSpPr>
        <p:spPr>
          <a:xfrm>
            <a:off x="5106960" y="3946680"/>
            <a:ext cx="1050840" cy="303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7"/>
          <p:cNvSpPr/>
          <p:nvPr/>
        </p:nvSpPr>
        <p:spPr>
          <a:xfrm>
            <a:off x="3843360" y="4348080"/>
            <a:ext cx="722160" cy="303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8"/>
          <p:cNvSpPr/>
          <p:nvPr/>
        </p:nvSpPr>
        <p:spPr>
          <a:xfrm>
            <a:off x="8913960" y="4772160"/>
            <a:ext cx="720720" cy="303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2" descr=""/>
          <p:cNvPicPr/>
          <p:nvPr/>
        </p:nvPicPr>
        <p:blipFill>
          <a:blip r:embed="rId1"/>
          <a:stretch/>
        </p:blipFill>
        <p:spPr>
          <a:xfrm>
            <a:off x="216000" y="836640"/>
            <a:ext cx="11976120" cy="284796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3" descr=""/>
          <p:cNvPicPr/>
          <p:nvPr/>
        </p:nvPicPr>
        <p:blipFill>
          <a:blip r:embed="rId2"/>
          <a:stretch/>
        </p:blipFill>
        <p:spPr>
          <a:xfrm>
            <a:off x="266760" y="4005360"/>
            <a:ext cx="11925360" cy="2571480"/>
          </a:xfrm>
          <a:prstGeom prst="rect">
            <a:avLst/>
          </a:prstGeom>
          <a:ln w="0">
            <a:noFill/>
          </a:ln>
        </p:spPr>
      </p:pic>
      <p:sp>
        <p:nvSpPr>
          <p:cNvPr id="339" name="Rectangle 4"/>
          <p:cNvSpPr/>
          <p:nvPr/>
        </p:nvSpPr>
        <p:spPr>
          <a:xfrm>
            <a:off x="541440" y="1650960"/>
            <a:ext cx="6092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763560" y="2041560"/>
            <a:ext cx="6093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6"/>
          <p:cNvSpPr/>
          <p:nvPr/>
        </p:nvSpPr>
        <p:spPr>
          <a:xfrm>
            <a:off x="527040" y="4840200"/>
            <a:ext cx="6091200" cy="59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7"/>
          <p:cNvSpPr/>
          <p:nvPr/>
        </p:nvSpPr>
        <p:spPr>
          <a:xfrm>
            <a:off x="527040" y="4840200"/>
            <a:ext cx="6091200" cy="59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8"/>
          <p:cNvSpPr/>
          <p:nvPr/>
        </p:nvSpPr>
        <p:spPr>
          <a:xfrm>
            <a:off x="704880" y="5554800"/>
            <a:ext cx="6091200" cy="595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9"/>
          <p:cNvSpPr/>
          <p:nvPr/>
        </p:nvSpPr>
        <p:spPr>
          <a:xfrm>
            <a:off x="1166760" y="6267600"/>
            <a:ext cx="60912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2" descr=""/>
          <p:cNvPicPr/>
          <p:nvPr/>
        </p:nvPicPr>
        <p:blipFill>
          <a:blip r:embed="rId1"/>
          <a:stretch/>
        </p:blipFill>
        <p:spPr>
          <a:xfrm>
            <a:off x="527040" y="836640"/>
            <a:ext cx="10744200" cy="5200560"/>
          </a:xfrm>
          <a:prstGeom prst="rect">
            <a:avLst/>
          </a:prstGeom>
          <a:ln w="0">
            <a:noFill/>
          </a:ln>
        </p:spPr>
      </p:pic>
      <p:sp>
        <p:nvSpPr>
          <p:cNvPr id="346" name="Rectangle 3"/>
          <p:cNvSpPr/>
          <p:nvPr/>
        </p:nvSpPr>
        <p:spPr>
          <a:xfrm>
            <a:off x="10128240" y="2492280"/>
            <a:ext cx="7682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4"/>
          <p:cNvSpPr/>
          <p:nvPr/>
        </p:nvSpPr>
        <p:spPr>
          <a:xfrm>
            <a:off x="10053720" y="4656240"/>
            <a:ext cx="7682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2" descr=""/>
          <p:cNvPicPr/>
          <p:nvPr/>
        </p:nvPicPr>
        <p:blipFill>
          <a:blip r:embed="rId1"/>
          <a:stretch/>
        </p:blipFill>
        <p:spPr>
          <a:xfrm>
            <a:off x="239760" y="907920"/>
            <a:ext cx="10706040" cy="5220000"/>
          </a:xfrm>
          <a:prstGeom prst="rect">
            <a:avLst/>
          </a:prstGeom>
          <a:ln w="0">
            <a:noFill/>
          </a:ln>
        </p:spPr>
      </p:pic>
      <p:sp>
        <p:nvSpPr>
          <p:cNvPr id="349" name="Rectangle 3"/>
          <p:cNvSpPr/>
          <p:nvPr/>
        </p:nvSpPr>
        <p:spPr>
          <a:xfrm>
            <a:off x="9840960" y="1484280"/>
            <a:ext cx="7682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4"/>
          <p:cNvSpPr/>
          <p:nvPr/>
        </p:nvSpPr>
        <p:spPr>
          <a:xfrm>
            <a:off x="4413240" y="4640400"/>
            <a:ext cx="13636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5"/>
          <p:cNvSpPr/>
          <p:nvPr/>
        </p:nvSpPr>
        <p:spPr>
          <a:xfrm>
            <a:off x="4457880" y="5153040"/>
            <a:ext cx="13633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6"/>
          <p:cNvSpPr/>
          <p:nvPr/>
        </p:nvSpPr>
        <p:spPr>
          <a:xfrm>
            <a:off x="4443480" y="5676840"/>
            <a:ext cx="13618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2" descr=""/>
          <p:cNvPicPr/>
          <p:nvPr/>
        </p:nvPicPr>
        <p:blipFill>
          <a:blip r:embed="rId1"/>
          <a:stretch/>
        </p:blipFill>
        <p:spPr>
          <a:xfrm>
            <a:off x="239760" y="907920"/>
            <a:ext cx="10782360" cy="4257720"/>
          </a:xfrm>
          <a:prstGeom prst="rect">
            <a:avLst/>
          </a:prstGeom>
          <a:ln w="0">
            <a:noFill/>
          </a:ln>
        </p:spPr>
      </p:pic>
      <p:sp>
        <p:nvSpPr>
          <p:cNvPr id="354" name="Rectangle 3"/>
          <p:cNvSpPr/>
          <p:nvPr/>
        </p:nvSpPr>
        <p:spPr>
          <a:xfrm>
            <a:off x="7056360" y="1413000"/>
            <a:ext cx="7686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4"/>
          <p:cNvSpPr/>
          <p:nvPr/>
        </p:nvSpPr>
        <p:spPr>
          <a:xfrm>
            <a:off x="7151760" y="1916280"/>
            <a:ext cx="7682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5"/>
          <p:cNvSpPr/>
          <p:nvPr/>
        </p:nvSpPr>
        <p:spPr>
          <a:xfrm>
            <a:off x="7167600" y="2473200"/>
            <a:ext cx="7682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6"/>
          <p:cNvSpPr/>
          <p:nvPr/>
        </p:nvSpPr>
        <p:spPr>
          <a:xfrm>
            <a:off x="2602080" y="4078440"/>
            <a:ext cx="11379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2" descr=""/>
          <p:cNvPicPr/>
          <p:nvPr/>
        </p:nvPicPr>
        <p:blipFill>
          <a:blip r:embed="rId1"/>
          <a:stretch/>
        </p:blipFill>
        <p:spPr>
          <a:xfrm>
            <a:off x="0" y="836640"/>
            <a:ext cx="10706040" cy="376236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3"/>
          <p:cNvSpPr/>
          <p:nvPr/>
        </p:nvSpPr>
        <p:spPr>
          <a:xfrm>
            <a:off x="719280" y="1341360"/>
            <a:ext cx="518472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1487520" y="2276640"/>
            <a:ext cx="3744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" descr=""/>
          <p:cNvPicPr/>
          <p:nvPr/>
        </p:nvPicPr>
        <p:blipFill>
          <a:blip r:embed="rId1"/>
          <a:stretch/>
        </p:blipFill>
        <p:spPr>
          <a:xfrm>
            <a:off x="334800" y="836640"/>
            <a:ext cx="10655640" cy="203832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3" descr=""/>
          <p:cNvPicPr/>
          <p:nvPr/>
        </p:nvPicPr>
        <p:blipFill>
          <a:blip r:embed="rId2"/>
          <a:stretch/>
        </p:blipFill>
        <p:spPr>
          <a:xfrm>
            <a:off x="912960" y="3068640"/>
            <a:ext cx="10007280" cy="3495600"/>
          </a:xfrm>
          <a:prstGeom prst="rect">
            <a:avLst/>
          </a:prstGeom>
          <a:ln w="0">
            <a:noFill/>
          </a:ln>
        </p:spPr>
      </p:pic>
      <p:sp>
        <p:nvSpPr>
          <p:cNvPr id="363" name="Rectangle 4"/>
          <p:cNvSpPr/>
          <p:nvPr/>
        </p:nvSpPr>
        <p:spPr>
          <a:xfrm>
            <a:off x="1008000" y="4653000"/>
            <a:ext cx="43210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1676520" y="5187960"/>
            <a:ext cx="49464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6"/>
          <p:cNvSpPr/>
          <p:nvPr/>
        </p:nvSpPr>
        <p:spPr>
          <a:xfrm>
            <a:off x="1720800" y="5689440"/>
            <a:ext cx="49467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7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2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7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01T07:47:00Z</dcterms:created>
  <dc:creator/>
  <dc:description/>
  <dc:language>en-US</dc:language>
  <cp:lastModifiedBy>DELL-00</cp:lastModifiedBy>
  <dcterms:modified xsi:type="dcterms:W3CDTF">2018-03-25T13:24:37Z</dcterms:modified>
  <cp:revision>13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47</vt:lpwstr>
  </property>
</Properties>
</file>