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312E-283C-4CAE-A64C-D2D881ED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A3E-F87E-4997-8E70-1ED23444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C3A-11CE-41D3-9906-765C33EA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321-A0CC-40FC-9FBE-B1BDF025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1C29-7F3C-47AB-9F4A-1195C394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A48D-B7E1-486F-BCD7-F4FE6583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5FE5-60BE-4A53-8B2F-A98A661F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5B9C-881C-42ED-815C-D139AB5E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AB3E-82BB-4101-AB0F-1D3BCFA3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B001-BC86-4105-BB96-E11B58CB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EDDA-1DD7-4716-A2B3-E11A8BBA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9A6-70D8-40D2-A30C-86BB35F1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4E63-F8C8-4D47-8679-BE7D97A1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5D2A-C756-45D3-A090-DB7FE655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6826-D3F3-4C6E-A63B-60F3D491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BDD9-E7E0-4385-B703-8D297AD5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098A-79CD-4733-BD6F-80A806E0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FE9CF-CF6A-4FF0-8A21-E2885F22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A398-314D-48ED-96F9-FF7B825D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CF8B-1998-4DD4-B2A6-6BE9A11B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099D-12C5-4D1D-8F77-BE5E5D24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2D1D5-AF0B-4981-891B-9141D9B8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A42-4462-4A0E-90F8-5CB18944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4A7C0-99D8-41AD-8293-FE3768C5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55303-3B21-449C-BF4C-E852A9D6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BA4A-F43B-4144-B9CD-5F8E0333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207DC-1867-4390-BB73-998D89F4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70E98-7D88-4D51-AF4B-DE1CA406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A1865-F2D2-4752-AFB3-22CBB74E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C1FCF-46FC-4E6A-807A-2C957C39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10367-BD5B-490F-8F93-EC1F0936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2F9E5-988D-4FDA-893E-E17DE3DD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FF7CB-AB80-4767-8C07-0D7D6DC6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56B-9DAE-4771-A008-BE151BD0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ECF8B-6E4B-4EB6-BF65-A5CA1682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9D98F-2B6C-4DE7-8B09-30EE3F65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AF676-9D5C-49D9-B3D5-943EA284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BC5AF-1EC5-42E9-AA49-F5BC35AC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0EC24-78C8-4641-87E3-DE53532F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22CA4-2F91-4626-AF28-9A347580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F7E94-E8EE-49BF-BBED-5F5CDFBB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ED304-4051-4B6E-A788-59BB39F5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82FD5-A0C1-4916-BE5B-7678365B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E9FFB-7F3E-4ADD-BB0D-E5D928F0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006-8B06-48EB-A8E2-D508E4FE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F34B7-F13E-4DFB-8BD4-0C978D18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4B1BA-3349-4359-87A8-215A4E46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7DD87-F4C5-4D26-BD12-EB81338C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79795-5643-41B6-B497-B4343989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1C104-46E7-494E-B9DD-6B71CAB3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00184-A46E-45A2-88FC-B9B3743F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19433-820E-4300-AEB8-2BC555D4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193D6-73A8-488E-BD3D-42FA4A33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E3A4D-5050-49C3-B7B2-61E6F8A0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7800D-D52B-4823-A096-2EB80955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D6F1-A0C0-49D9-B8D5-D46151C1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7F4B0-F384-40E2-A35E-0CB26910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8FA8C-A434-4DBB-A96C-C8FEFAEA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5059E-D856-4EAD-AA1A-48C5F46B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40E2F-B764-4538-B2FA-4C3ABE14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FC32D-02B9-4723-B7E3-1D87DAC2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5895B-E849-4897-AFB2-A7A668D4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18C08-00B4-49A7-B6FA-951E9AEF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1EE3F-32C2-4CC0-8CE6-FC4ED16D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C7C9B-E8E6-4598-9876-280457EA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978E4-284A-4F89-A3BF-2DCA10C8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DA2-AD41-4F82-AEED-50C4CCDD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13E91-E1B6-451D-9058-98722718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1DC37-3B7E-4ED5-A30E-135BE75A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E8B65-1BAE-4DD5-B026-59C10BAB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09E-AF3A-4261-B1B1-6D5003EF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417-CDE4-4833-8760-398BBDEF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9237-6F7D-40B4-AF3F-CE38EC903A0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AC7C-FAA8-440E-8A21-BF68ABF6922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808E-DAC9-4AA3-BF89-D288D6649C2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7DF9-C4EE-44C8-B69C-EE35962EC29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73F8-2C92-4A6C-B3C9-D663F11B84E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2C4E-1654-4633-AD5A-0331568D63B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222120" y="2205000"/>
            <a:ext cx="11747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216000" y="777960"/>
            <a:ext cx="11760120" cy="416232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836640" y="2135160"/>
            <a:ext cx="55260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104840" y="2558880"/>
            <a:ext cx="5526000" cy="3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1297080" y="3005280"/>
            <a:ext cx="55274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1415880" y="3451320"/>
            <a:ext cx="552636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1668600" y="3875040"/>
            <a:ext cx="55260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727280" y="4287960"/>
            <a:ext cx="55260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203040" y="906480"/>
            <a:ext cx="11785680" cy="57150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3"/>
          <p:cNvSpPr/>
          <p:nvPr/>
        </p:nvSpPr>
        <p:spPr>
          <a:xfrm>
            <a:off x="909720" y="3105000"/>
            <a:ext cx="6213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65080" y="3595680"/>
            <a:ext cx="56768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806400" y="4352760"/>
            <a:ext cx="56768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744480" y="5045040"/>
            <a:ext cx="62136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730080" y="5502240"/>
            <a:ext cx="62121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747720" y="5970600"/>
            <a:ext cx="56768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09520" y="727200"/>
            <a:ext cx="11773080" cy="59814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"/>
          <p:cNvSpPr/>
          <p:nvPr/>
        </p:nvSpPr>
        <p:spPr>
          <a:xfrm>
            <a:off x="912960" y="2459160"/>
            <a:ext cx="602928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1001880" y="2871720"/>
            <a:ext cx="528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939960" y="3317760"/>
            <a:ext cx="5122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762120" y="3797280"/>
            <a:ext cx="5122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820800" y="4210200"/>
            <a:ext cx="51228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1282680" y="4667400"/>
            <a:ext cx="51228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1282680" y="5102280"/>
            <a:ext cx="5122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1341360" y="5570640"/>
            <a:ext cx="443700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1327320" y="6284880"/>
            <a:ext cx="71294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79360" y="824040"/>
            <a:ext cx="11633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438120" y="836640"/>
            <a:ext cx="10096560" cy="5877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3"/>
          <p:cNvSpPr/>
          <p:nvPr/>
        </p:nvSpPr>
        <p:spPr>
          <a:xfrm>
            <a:off x="1046160" y="2614680"/>
            <a:ext cx="47512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314360" y="3049560"/>
            <a:ext cx="47516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1522440" y="3506760"/>
            <a:ext cx="47512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1403280" y="3930480"/>
            <a:ext cx="47512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1389240" y="4410000"/>
            <a:ext cx="3963960" cy="6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1447920" y="5157720"/>
            <a:ext cx="3963960" cy="6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1328760" y="5859360"/>
            <a:ext cx="47530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1568520" y="6372360"/>
            <a:ext cx="475128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209520" y="790560"/>
            <a:ext cx="11773080" cy="52768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4"/>
          <p:cNvSpPr/>
          <p:nvPr/>
        </p:nvSpPr>
        <p:spPr>
          <a:xfrm>
            <a:off x="957240" y="3005280"/>
            <a:ext cx="58230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776160" y="3451320"/>
            <a:ext cx="58230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820800" y="3897360"/>
            <a:ext cx="58230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882720" y="4332240"/>
            <a:ext cx="7651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717480" y="4756320"/>
            <a:ext cx="76518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642960" y="5213520"/>
            <a:ext cx="543564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808200" y="5659560"/>
            <a:ext cx="543528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609480" y="1012680"/>
            <a:ext cx="10972800" cy="23814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882720" y="1042920"/>
            <a:ext cx="4248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747720" y="1467000"/>
            <a:ext cx="3533760" cy="66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731880" y="2203560"/>
            <a:ext cx="11042640" cy="66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852480" y="2971800"/>
            <a:ext cx="79977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279360" y="784080"/>
            <a:ext cx="11633400" cy="56008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882720" y="2949480"/>
            <a:ext cx="53928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896760" y="3373560"/>
            <a:ext cx="53946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208160" y="3819600"/>
            <a:ext cx="53942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268280" y="4243320"/>
            <a:ext cx="53928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1297080" y="4700520"/>
            <a:ext cx="53942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1030320" y="5135400"/>
            <a:ext cx="53942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1179360" y="5570640"/>
            <a:ext cx="53928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1252440" y="6027840"/>
            <a:ext cx="53946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47640" y="849240"/>
            <a:ext cx="10896840" cy="54482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3"/>
          <p:cNvSpPr/>
          <p:nvPr/>
        </p:nvSpPr>
        <p:spPr>
          <a:xfrm>
            <a:off x="971640" y="874800"/>
            <a:ext cx="71611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27000" y="1265400"/>
            <a:ext cx="71614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912960" y="1733400"/>
            <a:ext cx="71593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957240" y="2157480"/>
            <a:ext cx="71596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868320" y="2625840"/>
            <a:ext cx="71596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79400" y="3038400"/>
            <a:ext cx="71596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703440" y="3462480"/>
            <a:ext cx="60148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717480" y="3963960"/>
            <a:ext cx="580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628560" y="4678200"/>
            <a:ext cx="60152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566640" y="5057640"/>
            <a:ext cx="60166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642960" y="5559480"/>
            <a:ext cx="543564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254160" y="770040"/>
            <a:ext cx="11683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254160" y="855720"/>
            <a:ext cx="11683800" cy="59054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3"/>
          <p:cNvSpPr/>
          <p:nvPr/>
        </p:nvSpPr>
        <p:spPr>
          <a:xfrm>
            <a:off x="10991880" y="128736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10961640" y="3206880"/>
            <a:ext cx="6066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7960" y="938160"/>
            <a:ext cx="11176200" cy="49816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673200" y="1031760"/>
            <a:ext cx="53928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793800" y="1467000"/>
            <a:ext cx="5392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927000" y="1913040"/>
            <a:ext cx="53928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1074600" y="2336760"/>
            <a:ext cx="53946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985680" y="2782800"/>
            <a:ext cx="53946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957240" y="3251160"/>
            <a:ext cx="5140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1163520" y="4021200"/>
            <a:ext cx="514188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1193760" y="4824360"/>
            <a:ext cx="648180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1239840" y="5583240"/>
            <a:ext cx="714852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706320" y="803160"/>
            <a:ext cx="10477440" cy="53625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"/>
          <p:cNvPicPr/>
          <p:nvPr/>
        </p:nvPicPr>
        <p:blipFill>
          <a:blip r:embed="rId2"/>
          <a:stretch/>
        </p:blipFill>
        <p:spPr>
          <a:xfrm>
            <a:off x="3008160" y="5616720"/>
            <a:ext cx="3378240" cy="352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"/>
          <p:cNvPicPr/>
          <p:nvPr/>
        </p:nvPicPr>
        <p:blipFill>
          <a:blip r:embed="rId3"/>
          <a:stretch/>
        </p:blipFill>
        <p:spPr>
          <a:xfrm>
            <a:off x="792000" y="6335640"/>
            <a:ext cx="3353040" cy="3430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7"/>
          <p:cNvSpPr/>
          <p:nvPr/>
        </p:nvSpPr>
        <p:spPr>
          <a:xfrm>
            <a:off x="673200" y="863640"/>
            <a:ext cx="54226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687240" y="1343160"/>
            <a:ext cx="521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806400" y="2146320"/>
            <a:ext cx="57960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776160" y="2558880"/>
            <a:ext cx="57960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2"/>
          <p:cNvSpPr/>
          <p:nvPr/>
        </p:nvSpPr>
        <p:spPr>
          <a:xfrm>
            <a:off x="658800" y="2994120"/>
            <a:ext cx="579456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3"/>
          <p:cNvSpPr/>
          <p:nvPr/>
        </p:nvSpPr>
        <p:spPr>
          <a:xfrm>
            <a:off x="628560" y="3440160"/>
            <a:ext cx="657072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4"/>
          <p:cNvSpPr/>
          <p:nvPr/>
        </p:nvSpPr>
        <p:spPr>
          <a:xfrm>
            <a:off x="642960" y="4287960"/>
            <a:ext cx="5572080" cy="66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5"/>
          <p:cNvSpPr/>
          <p:nvPr/>
        </p:nvSpPr>
        <p:spPr>
          <a:xfrm>
            <a:off x="762120" y="5045040"/>
            <a:ext cx="57960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6"/>
          <p:cNvSpPr/>
          <p:nvPr/>
        </p:nvSpPr>
        <p:spPr>
          <a:xfrm>
            <a:off x="703440" y="5502240"/>
            <a:ext cx="5810040" cy="66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7"/>
          <p:cNvSpPr/>
          <p:nvPr/>
        </p:nvSpPr>
        <p:spPr>
          <a:xfrm>
            <a:off x="762120" y="6338880"/>
            <a:ext cx="57960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8"/>
          <p:cNvSpPr/>
          <p:nvPr/>
        </p:nvSpPr>
        <p:spPr>
          <a:xfrm>
            <a:off x="7183440" y="831960"/>
            <a:ext cx="417528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3" descr=""/>
          <p:cNvPicPr/>
          <p:nvPr/>
        </p:nvPicPr>
        <p:blipFill>
          <a:blip r:embed="rId1"/>
          <a:stretch/>
        </p:blipFill>
        <p:spPr>
          <a:xfrm>
            <a:off x="222120" y="866880"/>
            <a:ext cx="11747520" cy="512424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11022120" y="1343160"/>
            <a:ext cx="6048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0960200" y="3295800"/>
            <a:ext cx="6048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11036160" y="506880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260280" y="863640"/>
            <a:ext cx="11671200" cy="43718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3"/>
          <p:cNvSpPr/>
          <p:nvPr/>
        </p:nvSpPr>
        <p:spPr>
          <a:xfrm>
            <a:off x="10915560" y="141120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247680" y="1004760"/>
            <a:ext cx="11696760" cy="48484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3"/>
          <p:cNvSpPr/>
          <p:nvPr/>
        </p:nvSpPr>
        <p:spPr>
          <a:xfrm>
            <a:off x="11036160" y="105408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1050560" y="4633920"/>
            <a:ext cx="6066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228600" y="973080"/>
            <a:ext cx="11734920" cy="55152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11036160" y="139860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1022120" y="6116760"/>
            <a:ext cx="6048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152280" y="966960"/>
            <a:ext cx="11887200" cy="58384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3"/>
          <p:cNvSpPr/>
          <p:nvPr/>
        </p:nvSpPr>
        <p:spPr>
          <a:xfrm>
            <a:off x="3244680" y="3328920"/>
            <a:ext cx="12891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6978600" y="4610160"/>
            <a:ext cx="80028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2133720" y="6427800"/>
            <a:ext cx="17953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09520" y="797040"/>
            <a:ext cx="11773080" cy="3009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138240" y="3940200"/>
            <a:ext cx="11709360" cy="27907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3975120" y="120960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4184640" y="2090880"/>
            <a:ext cx="112572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8211960" y="3941640"/>
            <a:ext cx="6066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266760" y="755640"/>
            <a:ext cx="11658600" cy="291456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3"/>
          <p:cNvSpPr/>
          <p:nvPr/>
        </p:nvSpPr>
        <p:spPr>
          <a:xfrm>
            <a:off x="1252440" y="1623960"/>
            <a:ext cx="85752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227480" y="3252960"/>
            <a:ext cx="125892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9:09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