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C0D-D066-470D-8BB5-F8DAC248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77A-36AC-430E-A2BE-11E30E23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7AF-57EB-40FF-A879-F9288047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CC0-4F89-4114-8196-2723E8D0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830B-DBB9-46D3-9CF1-9499A928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5D71-53BD-4CD3-A6FF-D0D94F71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E919-CC4B-47FD-9928-BC37E9BA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C465-789E-48ED-AD8F-F74DF2B4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D977-71A3-48D4-A493-AC5C0C87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89C3-C4AE-466F-B0E9-BA1E59A1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0F23-5C13-451C-AB1D-58CE7878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DB6-78B3-4431-8E7C-08CE4AC1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AD9E-65C7-485F-97C9-2E94BAE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07A6-8EBF-4F32-A934-40B34C82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FE17-AE70-4D7F-ABE2-59DE21E8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F10B-4AC6-4EA8-8557-80ED3770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F247-9AD1-4348-93D2-263451C2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94B9-1126-4705-9A94-F4527A8F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CB39-02E0-403E-AA43-72D00375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BB4E-A483-47CF-8E7D-1BC286C5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53827-152E-4139-A774-319F4D35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80D0-BFEA-4F1E-972B-2E97DEBA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8E4-2862-424C-9A0D-A18C7EE9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E71D-83A1-4C76-98A0-FEA9955A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E375-3FBC-45E9-A5F5-6213E3B0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749A-FEFE-4D4C-9719-E03AD22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9CDC-7BB2-4541-906D-3FD2E1EF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DF43-BB59-4091-B90B-2313E4A4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7F0E6-04B6-4055-8DAE-260D5B09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4625-06C6-4750-8FAB-2CCFD20D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8B65-A239-493C-80C1-D6860019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AFEC-B0D3-469A-B4C5-328782AD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E6C09-4CC5-48D3-A63F-4702F85D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4AE-7EEB-4A5C-8F20-8712EC41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F6B8-CACC-48AD-AF10-99C93522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BFE8C-E8E9-416B-8CA1-46523E39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443A8-2E16-440A-A198-8FC0D6FC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A05FF-B83B-4FEF-9CBA-D70E41E1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6C97-9591-407C-A496-52AB4143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38DD-A7CA-40E7-BC62-5BD80D74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9999-5106-4A38-93ED-B192D2E9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88C0-B6CD-4ABE-B7DE-AF4E3A34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510CD-577B-4D54-9A24-25CC0747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436E6-1BF5-4016-AC5F-EF9EA254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183-AFE5-4FB8-B1B6-193B858F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77DE4-1BEA-449D-972E-0F0A38EC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45C3-52FA-4164-AE4B-10AC5838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68B6-4839-44A8-BF70-FBE66522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4230E-704B-48A2-9F32-D53F6AB8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E596D-10E7-470A-AABC-A46D7923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9F207-F172-40EA-92CA-7252B610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17042-55A2-4E56-A9EA-02E45A21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E845C-726C-4460-AD21-6A273007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00BBB-1BB5-4ED1-9937-6F6EBB3B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1EF0D-B942-4191-AB22-40642C0E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CB1-8205-48ED-9D83-37B4B049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74C8-E56D-4030-A6A8-6C5776B0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55B9F-4B67-4759-AC0C-7D35BAD9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F6B38-04A8-4CF3-8A16-8997B1BC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67831-A2CE-4440-B229-8976C43D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B4050-E445-488B-BF4C-52DD4208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2448A-9B06-4783-9E23-EC9A8478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040F4-789D-4823-AF05-FB21CB23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9B1DC-CBCA-4A8C-B510-6744D37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C3621-3450-4574-8D9E-DFF368A7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0F20-DD26-4EC2-A3E3-7621A95A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EDA-7E30-4D8E-8126-FDC9FD5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9F9D9-1A3D-4819-A3DD-B110A770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BE699-1A8E-42AE-813E-083DBB06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A004F-151E-4FBA-A1FD-7C35EA87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745-DE19-4F7A-A7B8-09172A1E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26A-475F-4AD1-86CE-DD1D0331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CA79-5AB4-466B-BEFA-4C77486E19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F40B-8441-42FE-8F71-4BDC80AC2F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1398-0708-44AE-A565-FEE82CC74CE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CD36-20CE-490F-9F53-BBE1FDDD02D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3775-907F-45A9-8B6F-3D28220650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A3C9-232C-4876-802F-A61D2222E34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1103400" y="981000"/>
            <a:ext cx="9994680" cy="4190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1008000" y="2205000"/>
            <a:ext cx="4330800" cy="3610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6288120" y="2781360"/>
            <a:ext cx="4368600" cy="2000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4"/>
          <p:cNvSpPr/>
          <p:nvPr/>
        </p:nvSpPr>
        <p:spPr>
          <a:xfrm>
            <a:off x="2635200" y="4751280"/>
            <a:ext cx="2762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5"/>
          <p:cNvSpPr/>
          <p:nvPr/>
        </p:nvSpPr>
        <p:spPr>
          <a:xfrm>
            <a:off x="1042920" y="4973760"/>
            <a:ext cx="426564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1028880" y="5241960"/>
            <a:ext cx="426528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998640" y="5519880"/>
            <a:ext cx="426564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6039000" y="2809800"/>
            <a:ext cx="4755960" cy="2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6127920" y="3111480"/>
            <a:ext cx="472572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6053040" y="3611520"/>
            <a:ext cx="475632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1"/>
          <p:cNvSpPr/>
          <p:nvPr/>
        </p:nvSpPr>
        <p:spPr>
          <a:xfrm>
            <a:off x="6068880" y="3902040"/>
            <a:ext cx="475632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2"/>
          <p:cNvSpPr/>
          <p:nvPr/>
        </p:nvSpPr>
        <p:spPr>
          <a:xfrm>
            <a:off x="6068880" y="4170240"/>
            <a:ext cx="4756320" cy="2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3"/>
          <p:cNvSpPr/>
          <p:nvPr/>
        </p:nvSpPr>
        <p:spPr>
          <a:xfrm>
            <a:off x="6024600" y="4470480"/>
            <a:ext cx="475596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858320" cy="48862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9504360" y="4673520"/>
            <a:ext cx="574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745480" y="53085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39760" y="836640"/>
            <a:ext cx="10706040" cy="522936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969840" y="4973760"/>
            <a:ext cx="1007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998640" y="5619600"/>
            <a:ext cx="10077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10109160" cy="1743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527040" y="2924280"/>
            <a:ext cx="9271080" cy="352404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1163520" y="982800"/>
            <a:ext cx="1006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030320" y="1574640"/>
            <a:ext cx="1006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1001880" y="2198520"/>
            <a:ext cx="10059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9982080" cy="41911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909720" y="1038240"/>
            <a:ext cx="3878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84200" y="1673280"/>
            <a:ext cx="4413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384200" y="2297160"/>
            <a:ext cx="4413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442880" y="2978280"/>
            <a:ext cx="439920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1549440" y="4092480"/>
            <a:ext cx="4413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1760480" cy="55342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4494240" y="2109960"/>
            <a:ext cx="118440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6307200" y="2855880"/>
            <a:ext cx="1008000" cy="2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1349000" y="4003560"/>
            <a:ext cx="606600" cy="28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406440" y="836640"/>
            <a:ext cx="11785680" cy="58960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11317320" y="77004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1317320" y="441648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419040" y="836640"/>
            <a:ext cx="11773080" cy="51530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1042920" y="152892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936800" y="4830840"/>
            <a:ext cx="66528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3440160" y="5587920"/>
            <a:ext cx="663480" cy="3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833120" cy="29242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10096560" y="282240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008000" y="1125360"/>
            <a:ext cx="10198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31600" cy="54388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10155240" y="157320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0244160" y="47181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776240" y="836640"/>
            <a:ext cx="7810560" cy="4228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334800" y="5200560"/>
            <a:ext cx="10680840" cy="16574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10009080" y="582120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34800" y="981000"/>
            <a:ext cx="10719000" cy="35816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9415440" y="1628640"/>
            <a:ext cx="574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8:18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