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777-B210-48FB-A6E4-73429CDF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D38-BA24-4142-9BA3-030BE15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79A-EEF1-43A7-9763-C34BFF55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ACA-D4C5-4A83-8588-4B6A9C1E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3946-4DB2-4249-9089-3DC80C0E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DB52-D9FB-4D27-B41B-8C672E46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728E-2E0D-4B2C-B4FB-74F9ACDE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BAB9-2710-4A9A-89A9-6CB8D3CF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948E-F212-4535-AA85-AF936A65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1B14-7B15-4874-B602-2E79F6D8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0768-368E-40E2-BA65-B020E96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0FE-9842-4781-A43F-819E2DBF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E588-EC89-4607-9044-3D22B88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5082-FEEE-455F-B57D-3F3D875E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95DE-E69F-4913-A038-84202D0D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657-1B68-4F95-935C-F9A09A4C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B736-4719-4FC1-B339-477C7DDD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C107-D2F3-4E40-9333-DCF67DD2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6FA8-52CD-4051-8163-813519A1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EFAB-82F7-42FB-BB8E-C7E36AFD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7792-9EF5-4FA6-A7F9-DEBD6BF7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BC64-AAD9-4037-B62F-18B6DD4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BDF-6810-4945-95A9-A586D515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A267-E9D6-4CA8-90A4-DAA943B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B484-F68C-4889-895F-94D84F7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92F2-2DA9-48D6-957F-E961443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D7E5-7356-4C39-B7B1-4E54E484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6F06-C3A5-4216-88DA-EA00931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E1BA-680C-4CA6-8556-844EC698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FAB1-C7AC-4827-A717-AABA1DC0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20EF-F4F3-4C42-B978-4194FAE8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FA29-1A88-4E9B-814E-0AAEB53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DC15-AEDE-4793-811A-FCD2E07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95D-97B4-41ED-A1CE-4D54E965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6668-34FB-402C-99D3-EB2B20E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EB6C-46EC-4E4E-B993-683E6290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9091-2B8D-4C90-A95F-DFF43EBC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F40C-8F06-42FC-B1BB-DBB55E88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C8BA-2836-4C7A-9C37-BF9BC11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A75E-79AB-4491-87CB-59A8ACB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E6DC-E8DF-4736-AAA1-351DACD9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79A6-098C-40C8-ACC7-FED6623D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BBF8-5613-4F3C-942A-A64565E8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7B38-DE42-495C-8D70-7CD603F1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20F-46AA-4617-9051-A8C6D4A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27BB-648E-4DC4-8CBA-13673260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302F-FD25-428D-A0C4-F164953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87B5-B3CE-4A3A-ACBB-7EE4A288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B069-75A0-4056-92F6-8879D18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6543-4D11-4217-9ED0-0798DA81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6BAC-9633-4F7F-8F2F-E0C4049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BDD3-C7F6-4D56-8988-ED8A539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FAF7-32A3-4C60-BFDB-26152B3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ABABA-316A-4C34-84EA-4CAAE13B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92AD-21DC-4669-A766-FB5407A1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BE5-232E-4EDA-9CCA-3C5ECC22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643B-866B-44FB-AB8E-C5649966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3D18-8B50-4621-B3E5-1BFBFD03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2914-17D2-4384-A208-6F8CCDF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71A30-1E59-4F9A-8579-FCBBB40E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9832-4B9F-4789-8F37-6C4AB58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93691-4A14-4FE8-AB06-1D7684A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E44B-B30F-4BBA-88D4-CD41C809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2C79-1555-48B3-8559-4042566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9243-4734-4255-B4CD-953AD0B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DF20-2553-4947-A36C-CA0EDF2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3AD-9051-4274-B736-3FE0A7C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FBF0-40FC-4ED2-92B2-0CD5DE4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E9F0-B434-4E5D-8EA5-08453EA5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DF12-9F41-4CD6-84F0-3903A53C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D50-2F52-46F1-96A2-9E83BDFF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2CE-2FC7-410C-9ED1-33A40E0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EB85-DACC-4FC9-A571-D3FEB674F4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54FA-EE66-4411-A9F7-95FD762FEC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0F2-1E77-44BD-A4F7-6F6864F72C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BF94-116B-451B-8D82-71A02ADEDB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D26E-360E-40CF-A4AB-0E2FF89AD7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93A-9476-4F90-B89F-5FF2AC975C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735280" y="1052640"/>
            <a:ext cx="6705720" cy="2076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200240" y="3467160"/>
            <a:ext cx="4470480" cy="3390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6672240" y="4005360"/>
            <a:ext cx="3568680" cy="1857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5"/>
          <p:cNvSpPr/>
          <p:nvPr/>
        </p:nvSpPr>
        <p:spPr>
          <a:xfrm>
            <a:off x="8304120" y="4005360"/>
            <a:ext cx="201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6770520" y="4262400"/>
            <a:ext cx="32990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7"/>
          <p:cNvSpPr/>
          <p:nvPr/>
        </p:nvSpPr>
        <p:spPr>
          <a:xfrm>
            <a:off x="6770520" y="4518000"/>
            <a:ext cx="349092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6756480" y="5052960"/>
            <a:ext cx="349092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9"/>
          <p:cNvSpPr/>
          <p:nvPr/>
        </p:nvSpPr>
        <p:spPr>
          <a:xfrm>
            <a:off x="6742080" y="5611680"/>
            <a:ext cx="20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623880" y="666720"/>
            <a:ext cx="10845720" cy="61912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2158920" y="620640"/>
            <a:ext cx="3551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351160" y="1216080"/>
            <a:ext cx="4978440" cy="73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1519200" y="3710160"/>
            <a:ext cx="355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593720" y="4200480"/>
            <a:ext cx="3551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608120" y="4768920"/>
            <a:ext cx="362916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693440" cy="55720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1200240" y="4437000"/>
            <a:ext cx="4513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141560" y="4960800"/>
            <a:ext cx="4511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320840" y="5473800"/>
            <a:ext cx="9194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976320" y="5997600"/>
            <a:ext cx="4511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7150320" cy="190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334800" y="3213000"/>
            <a:ext cx="9918720" cy="21621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1103400" y="836640"/>
            <a:ext cx="431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295280" y="1341360"/>
            <a:ext cx="680256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220760" y="2297160"/>
            <a:ext cx="5213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12960" y="765000"/>
            <a:ext cx="10045440" cy="55915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912960" y="1341360"/>
            <a:ext cx="4701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760400" y="1876320"/>
            <a:ext cx="470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909800" y="2446200"/>
            <a:ext cx="4701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2057400" y="2970360"/>
            <a:ext cx="470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266920" y="3505320"/>
            <a:ext cx="470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057400" y="4029120"/>
            <a:ext cx="7364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1924200" y="4575240"/>
            <a:ext cx="7364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2131920" y="5133960"/>
            <a:ext cx="301968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2205000" y="6024600"/>
            <a:ext cx="7364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8077320" cy="895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008000" y="907920"/>
            <a:ext cx="8064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6667560" cy="752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469800" y="1916280"/>
            <a:ext cx="11722320" cy="4171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6959520" y="1916280"/>
            <a:ext cx="3264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513480" y="2317680"/>
            <a:ext cx="28908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293840" y="2730600"/>
            <a:ext cx="2890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276200" y="3500280"/>
            <a:ext cx="2891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1423520" y="5589720"/>
            <a:ext cx="52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82760" y="981000"/>
            <a:ext cx="11709360" cy="4943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11423520" y="4005360"/>
            <a:ext cx="52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1393640" y="5154480"/>
            <a:ext cx="529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11734920" cy="5114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7246800" y="1125360"/>
            <a:ext cx="67320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746360" y="2352600"/>
            <a:ext cx="67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023240" y="3121200"/>
            <a:ext cx="10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824040" y="4079880"/>
            <a:ext cx="5384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001880" y="4748040"/>
            <a:ext cx="53845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477800" y="5451480"/>
            <a:ext cx="32734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883880" cy="36669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9840960" y="31417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871280" cy="54579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10128240" y="5084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31600" cy="40863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6769080" y="35002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668240" cy="4133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9745560" y="198900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39760" y="790560"/>
            <a:ext cx="10667880" cy="60674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4078440" y="2349360"/>
            <a:ext cx="3554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060560" y="4892760"/>
            <a:ext cx="6602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1776240" y="5445000"/>
            <a:ext cx="115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760400" y="5979960"/>
            <a:ext cx="5775480" cy="6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2:40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