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B8F8B-F8C8-4DC8-BECC-23677C2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D85C1-2878-4BEF-A283-07FB6111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4668-D618-40A1-888D-FEBC66DD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60175-FCFD-4FBE-BF78-24A479C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3C477-A11D-4B16-A934-7CA3C2CC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050A9-5C17-476C-9677-317F340F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1CFE8-F787-41AD-813B-A525AA6A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BA414-09C2-4D99-AE8B-8236F455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BD19E-F070-4823-965C-0E4E2229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2C42C-7FB7-4831-88F4-6C070EA9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6225C-F028-4C99-A569-ACBCEFD3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8C93E-6D06-4588-B554-FAA34C4E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9518D-3A33-4404-9B71-C4765D61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B3B6D-1FAF-4CFE-9E11-3FC9F8C5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FDFE1-1549-4868-A947-46FA77E2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4FAB8-FBD8-43D9-93E7-3FAB20E2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80876-4099-4E87-B303-7E4FA85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6196E-0E4D-443E-8624-35DD21A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88174-FF0F-4CF5-AEC1-B04D24C4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AA7AE-9BC9-4AA2-9E88-00630316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D86C7-4224-498C-B847-F6A13E9E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4C2A8-F7F2-411C-8CDD-030DA299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911F6-AC0A-4A4D-BD79-FBB8EB6D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E567B-5752-4134-BA22-EECCA878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5C8A8-FE48-4AAD-9379-D139F4F0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6B2F4-94D4-4AB9-9AE3-124E972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5FA1-E87D-49B7-8AA2-17004FC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53211-8C50-42B1-A344-D216732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377F5-5A90-466C-AB28-E298DB3A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45B19-8DA3-4AC1-999E-A44A4A5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E73-0ED2-4807-A5C9-937C2565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A4CD4-094E-4862-A64A-9E978C79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94CEE-AEF1-4600-AC0A-0C2B7925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2C483-839A-49A2-9E05-5102C579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4C7C0-9E99-4205-8EDC-225271D1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31BE6-6E8D-4773-B4B7-9024763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59CDD-9B4A-4DAC-8B45-78878FD3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38C9D-9530-4F3C-A9F3-3C51A4D5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2EEBC-A805-4F7D-924E-BC1ACFA2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5D8C8-8F5D-4728-9B84-017FDB82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E37FF-C3B4-44BB-A3E0-2A9AA563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A54-5A7F-4E99-B9FD-3E5F751A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6C812-945C-4477-A033-AB444FE2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5B38F-6D8A-4EF9-80AD-6C2E9560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E103-1EBF-4C76-A2CB-DC49752B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56B81-EB3A-467C-BB09-C75E67C8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BF049-2006-42E0-B19C-F2916EE0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D195F-BA71-4A93-9CBC-B14CBBC6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03CA2-E424-4F86-AACC-9293826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71259-85DD-4A62-A160-8C8B96B3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4D3A9-92AA-4278-912E-5C64A8EE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B10BD-78E2-4481-BBA4-49CF513A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FB8-D7C6-45B3-BB5F-6815DF54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3FF1C-E7BF-436C-A59A-205A934B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C9139-F1AA-4407-8561-A4E892E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7894E-962D-405A-AB4B-0B31EF55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19C9C-F2B7-4622-BFB9-6F8D075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12EB8-74D7-47AA-B046-E96A0A1E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C1080-30BA-408C-BDD1-158ACF8B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34FEC-3E20-4ADA-858A-68720D01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8A8-789B-4210-88D4-D40DFD05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65B-9340-4E8C-8870-BD29CAAA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BF7-FBEC-4EFE-9C3F-073D8A23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B3C-7044-4AA7-836D-A47C1B0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011-C32D-42C6-B1E0-3D27883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FB4-5CA9-456E-A7D8-6CDAEE60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DF9-D897-4E87-85EF-5631E043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4BE-3287-4C8F-AB21-852E1DF3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1D9-04AF-4A69-81DE-D9B73CE1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457F-27A6-4BFC-924B-60F187FE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D60D-E5EE-4614-9FF4-A16EC79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2E2A-1777-4E68-9A19-EFFBBD53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50CC-9D12-4511-A518-3CC4B26F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0AFF-F8C1-4B48-AA42-764F2795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79A5-4252-4AD9-8D8D-5DCCF7AA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D084-A81F-4128-855C-C3DF7534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A392-EEE4-4DE2-838B-3BAA803F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3C27-A39A-4E3B-84CB-57BBA95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D05E-C627-4D2F-BA65-173A77EE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C6F8-AA94-49AC-BE23-01295CDC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649-9B2B-49D0-AE31-B0AC50F1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B890-A031-4221-A9BC-FD2AEEB8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DD75-84FB-4857-BCFA-175A90C3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5D61-8D82-4854-9AF8-690AF9C8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CFB4-ACCA-4AD1-9357-2C0328D5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E908-87EC-494E-AA0D-75F4726F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00BE-DD60-4BE5-9EBC-59557AD2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CB21-4ECB-48F4-8069-DC03FAC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DBC86-FFE8-4B2C-B334-B5A96FD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2F94-2500-4508-A816-4EF976B7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73B6-EA34-40B8-9672-375B45D3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BA47-E47B-4A93-8962-F2979D72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1318-AF8D-4585-B0F5-38B692EF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4734-6F18-4900-B173-61A54DC2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07555-E99B-4353-A3BD-6833142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7623-B138-42B2-A476-E3F5ACC9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9505F-CE60-4B59-AB99-D5D8EA39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3DF43-D8CF-432D-9BF4-F6E88988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6C07-E283-4188-8883-03D66716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7CE27-7C5C-47C2-80D0-FA13293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372A-E195-4A31-B19B-35E15898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67D4-22E6-4280-AB34-041A30C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5D50-1F23-4D18-9A9F-396C4CD2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F15FA-6B36-447D-8C72-7E484CD0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C365-A75E-4744-8B37-AA3A181B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2B73-3F2B-40D6-A1DA-D0522FAB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93689-5346-4C8F-8B34-A4A38F69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DCEC-1F4D-4497-9260-F5F788C2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0301-C5E1-480A-BDBA-3D74B073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FBC36-BB35-415D-AFFC-F490E761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E6A2-5254-4E8A-9F30-EC09160C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CB4B-76E3-423C-84F9-1CDE24D5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A6BC-75E4-4D83-85F3-41F61F3C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79C61-2F53-49F3-BDC4-3F7C4C98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6E7E-F065-4376-8424-BACA5CEF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9006F-EB24-445A-826C-4FE57DFE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607C-8C94-4380-84BE-ECC83935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69CA-F3C8-458C-B2C3-FABB59EE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D8DB-9AE9-445D-81FE-641A9066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C1E50-0360-435A-A4A1-171A7210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5130-CACC-4F33-9049-D6F2BE9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A05FD-FDAA-4084-A875-E454A742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2DF88-5BE4-499E-B350-D7668906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C7269-89D4-47C0-89A5-262AE63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4A4A6-0DCA-4A4A-8F5E-90FFD10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6092-5A84-4D3A-B964-73549EFC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7A6B0-6EEB-4D7B-8364-37257C0F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8CB3-C6D4-4C81-81F4-FF293A1D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235EF-83A5-4192-BE5E-1303CB41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0610A-6E8A-460E-8F02-1AF91D05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D4F9B-3C91-4E73-9461-650D5A44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70263-E9B9-4598-8BAD-795A64E9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3EE65-E8B9-45E0-9EF4-403515B2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88321-795E-4EC2-A41F-7A7256F8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F6B14-AF35-4F23-AFA8-03275362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B02D2-18EF-45F9-AB51-57DC71F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45BF-165D-4A17-9E67-9252FA14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7E8AD-D1B8-4C2B-9C32-D02CE98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26BA4-5743-45CD-A2CC-21E0F48B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06BD-A405-405A-9CEA-97CE6643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2773B-A6C6-4C25-B341-E7A443F7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5DA0D-F1DD-4B8E-BB7C-61F52B71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EF60-56B9-4E46-9A2F-ECCF135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E141D-C54C-4C19-9672-BDD3C2C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5559-172A-4288-8B9E-3FF54F3C8C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EE7F-7E2A-4534-BE14-D9F87C7984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7CBE-897D-4C36-AD67-EBCC90E1EF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AB43-BBD1-4EEA-91E7-7806F73E50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A679-4E76-4FD5-A1A5-EADB5E33D7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9BC0-DEB1-4CAD-9C46-F50C7A2C1E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6B4F-5535-4CE2-AD07-A6C48BEED4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4771-7FEB-4B78-998B-6F58C6BB0B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BA6D-528A-40F7-A972-CA4A1656E4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E964-B4A5-49E4-9A14-144A7438F0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10E-E628-47DB-B588-4AD9C3B538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9B06-0F8B-4F22-9A9A-C7B78496AE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3"/>
          <p:cNvSpPr/>
          <p:nvPr/>
        </p:nvSpPr>
        <p:spPr>
          <a:xfrm>
            <a:off x="1116000" y="2192400"/>
            <a:ext cx="479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决问题（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18"/>
          <p:cNvSpPr/>
          <p:nvPr/>
        </p:nvSpPr>
        <p:spPr>
          <a:xfrm>
            <a:off x="766800" y="3886200"/>
            <a:ext cx="1079640" cy="39888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9" name="TextBox 51"/>
          <p:cNvSpPr/>
          <p:nvPr/>
        </p:nvSpPr>
        <p:spPr>
          <a:xfrm>
            <a:off x="908640" y="38559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553040" y="1560960"/>
            <a:ext cx="1870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算一算，填一填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1" name="标题 5"/>
          <p:cNvSpPr/>
          <p:nvPr/>
        </p:nvSpPr>
        <p:spPr>
          <a:xfrm>
            <a:off x="39528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2" name="TextBox 10"/>
          <p:cNvSpPr/>
          <p:nvPr/>
        </p:nvSpPr>
        <p:spPr>
          <a:xfrm>
            <a:off x="1063800" y="5765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整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3753000" y="5765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上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4" name="TextBox 15"/>
          <p:cNvSpPr/>
          <p:nvPr/>
        </p:nvSpPr>
        <p:spPr>
          <a:xfrm>
            <a:off x="6477120" y="5765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到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5" name="TextBox 25"/>
          <p:cNvSpPr/>
          <p:nvPr/>
        </p:nvSpPr>
        <p:spPr>
          <a:xfrm>
            <a:off x="6199200" y="6168960"/>
            <a:ext cx="1081080" cy="39888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6" name="TextBox 26"/>
          <p:cNvSpPr/>
          <p:nvPr/>
        </p:nvSpPr>
        <p:spPr>
          <a:xfrm>
            <a:off x="3451320" y="6168960"/>
            <a:ext cx="1079280" cy="39888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7" name="TextBox 27"/>
          <p:cNvSpPr/>
          <p:nvPr/>
        </p:nvSpPr>
        <p:spPr>
          <a:xfrm>
            <a:off x="766800" y="6168960"/>
            <a:ext cx="1079640" cy="39888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8" name="TextBox 9"/>
          <p:cNvSpPr/>
          <p:nvPr/>
        </p:nvSpPr>
        <p:spPr>
          <a:xfrm>
            <a:off x="1063800" y="3500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起床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3753000" y="3506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洗漱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0" name="TextBox 14"/>
          <p:cNvSpPr/>
          <p:nvPr/>
        </p:nvSpPr>
        <p:spPr>
          <a:xfrm>
            <a:off x="6400800" y="35067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吃早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1" name="TextBox 28"/>
          <p:cNvSpPr/>
          <p:nvPr/>
        </p:nvSpPr>
        <p:spPr>
          <a:xfrm>
            <a:off x="6192720" y="3909960"/>
            <a:ext cx="1081080" cy="39888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2" name="TextBox 29"/>
          <p:cNvSpPr/>
          <p:nvPr/>
        </p:nvSpPr>
        <p:spPr>
          <a:xfrm>
            <a:off x="3456000" y="3909960"/>
            <a:ext cx="1079640" cy="39888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23" name="组合 34"/>
          <p:cNvGrpSpPr/>
          <p:nvPr/>
        </p:nvGrpSpPr>
        <p:grpSpPr>
          <a:xfrm>
            <a:off x="2050920" y="2637000"/>
            <a:ext cx="1224360" cy="459720"/>
            <a:chOff x="2050920" y="2637000"/>
            <a:chExt cx="1224360" cy="459720"/>
          </a:xfrm>
        </p:grpSpPr>
        <p:cxnSp>
          <p:nvCxnSpPr>
            <p:cNvPr id="624" name="直接箭头连接符 31"/>
            <p:cNvCxnSpPr/>
            <p:nvPr/>
          </p:nvCxnSpPr>
          <p:spPr>
            <a:xfrm>
              <a:off x="2050920" y="3093840"/>
              <a:ext cx="1224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25" name="TextBox 33"/>
            <p:cNvSpPr/>
            <p:nvPr/>
          </p:nvSpPr>
          <p:spPr>
            <a:xfrm>
              <a:off x="2208240" y="2637000"/>
              <a:ext cx="89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过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26" name="组合 39"/>
          <p:cNvGrpSpPr/>
          <p:nvPr/>
        </p:nvGrpSpPr>
        <p:grpSpPr>
          <a:xfrm>
            <a:off x="4744800" y="2679840"/>
            <a:ext cx="1223280" cy="459720"/>
            <a:chOff x="4744800" y="2679840"/>
            <a:chExt cx="1223280" cy="459720"/>
          </a:xfrm>
        </p:grpSpPr>
        <p:cxnSp>
          <p:nvCxnSpPr>
            <p:cNvPr id="627" name="直接箭头连接符 40"/>
            <p:cNvCxnSpPr/>
            <p:nvPr/>
          </p:nvCxnSpPr>
          <p:spPr>
            <a:xfrm>
              <a:off x="4744800" y="3111480"/>
              <a:ext cx="12236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28" name="TextBox 41"/>
            <p:cNvSpPr/>
            <p:nvPr/>
          </p:nvSpPr>
          <p:spPr>
            <a:xfrm>
              <a:off x="5001840" y="2679840"/>
              <a:ext cx="83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4436a"/>
                  </a:solidFill>
                  <a:latin typeface="Century Gothic"/>
                  <a:ea typeface="微软雅黑"/>
                </a:rPr>
                <a:t>过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（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29" name="组合 42"/>
          <p:cNvGrpSpPr/>
          <p:nvPr/>
        </p:nvGrpSpPr>
        <p:grpSpPr>
          <a:xfrm>
            <a:off x="7472160" y="2679840"/>
            <a:ext cx="1224720" cy="459720"/>
            <a:chOff x="7472160" y="2679840"/>
            <a:chExt cx="1224720" cy="459720"/>
          </a:xfrm>
        </p:grpSpPr>
        <p:cxnSp>
          <p:nvCxnSpPr>
            <p:cNvPr id="630" name="直接箭头连接符 43"/>
            <p:cNvCxnSpPr/>
            <p:nvPr/>
          </p:nvCxnSpPr>
          <p:spPr>
            <a:xfrm>
              <a:off x="7472160" y="3111480"/>
              <a:ext cx="1225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1" name="TextBox 44"/>
            <p:cNvSpPr/>
            <p:nvPr/>
          </p:nvSpPr>
          <p:spPr>
            <a:xfrm>
              <a:off x="7728840" y="2679840"/>
              <a:ext cx="83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4436a"/>
                  </a:solidFill>
                  <a:latin typeface="Century Gothic"/>
                  <a:ea typeface="微软雅黑"/>
                </a:rPr>
                <a:t>过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（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32" name="组合 45"/>
          <p:cNvGrpSpPr/>
          <p:nvPr/>
        </p:nvGrpSpPr>
        <p:grpSpPr>
          <a:xfrm>
            <a:off x="2050560" y="4959360"/>
            <a:ext cx="1224000" cy="459720"/>
            <a:chOff x="2050560" y="4959360"/>
            <a:chExt cx="1224000" cy="459720"/>
          </a:xfrm>
        </p:grpSpPr>
        <p:cxnSp>
          <p:nvCxnSpPr>
            <p:cNvPr id="633" name="直接箭头连接符 46"/>
            <p:cNvCxnSpPr/>
            <p:nvPr/>
          </p:nvCxnSpPr>
          <p:spPr>
            <a:xfrm>
              <a:off x="2050560" y="5390640"/>
              <a:ext cx="1224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4" name="TextBox 47"/>
            <p:cNvSpPr/>
            <p:nvPr/>
          </p:nvSpPr>
          <p:spPr>
            <a:xfrm>
              <a:off x="2319120" y="495936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（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35" name="组合 48"/>
          <p:cNvGrpSpPr/>
          <p:nvPr/>
        </p:nvGrpSpPr>
        <p:grpSpPr>
          <a:xfrm>
            <a:off x="4745160" y="4959360"/>
            <a:ext cx="1223640" cy="459720"/>
            <a:chOff x="4745160" y="4959360"/>
            <a:chExt cx="1223640" cy="459720"/>
          </a:xfrm>
        </p:grpSpPr>
        <p:cxnSp>
          <p:nvCxnSpPr>
            <p:cNvPr id="636" name="直接箭头连接符 49"/>
            <p:cNvCxnSpPr/>
            <p:nvPr/>
          </p:nvCxnSpPr>
          <p:spPr>
            <a:xfrm>
              <a:off x="4745160" y="5390640"/>
              <a:ext cx="12240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50"/>
            <p:cNvSpPr/>
            <p:nvPr/>
          </p:nvSpPr>
          <p:spPr>
            <a:xfrm>
              <a:off x="5013000" y="495936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（   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38" name="TextBox 52"/>
          <p:cNvSpPr/>
          <p:nvPr/>
        </p:nvSpPr>
        <p:spPr>
          <a:xfrm>
            <a:off x="3486240" y="389412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   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9" name="TextBox 53"/>
          <p:cNvSpPr/>
          <p:nvPr/>
        </p:nvSpPr>
        <p:spPr>
          <a:xfrm>
            <a:off x="6275520" y="389412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   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831960" y="614988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   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1" name="TextBox 55"/>
          <p:cNvSpPr/>
          <p:nvPr/>
        </p:nvSpPr>
        <p:spPr>
          <a:xfrm>
            <a:off x="3522600" y="6137280"/>
            <a:ext cx="10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   2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2" name="TextBox 56"/>
          <p:cNvSpPr/>
          <p:nvPr/>
        </p:nvSpPr>
        <p:spPr>
          <a:xfrm>
            <a:off x="6254640" y="613728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   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3" name="TextBox 57"/>
          <p:cNvSpPr/>
          <p:nvPr/>
        </p:nvSpPr>
        <p:spPr>
          <a:xfrm>
            <a:off x="5207040" y="2679840"/>
            <a:ext cx="6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4" name="TextBox 58"/>
          <p:cNvSpPr/>
          <p:nvPr/>
        </p:nvSpPr>
        <p:spPr>
          <a:xfrm>
            <a:off x="7929720" y="2673360"/>
            <a:ext cx="6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5" name="TextBox 59"/>
          <p:cNvSpPr/>
          <p:nvPr/>
        </p:nvSpPr>
        <p:spPr>
          <a:xfrm>
            <a:off x="2360880" y="4941720"/>
            <a:ext cx="7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过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6" name="TextBox 60"/>
          <p:cNvSpPr/>
          <p:nvPr/>
        </p:nvSpPr>
        <p:spPr>
          <a:xfrm>
            <a:off x="4974480" y="4941720"/>
            <a:ext cx="8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过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47" name="Picture 55" descr="u1jx01_1"/>
          <p:cNvPicPr/>
          <p:nvPr/>
        </p:nvPicPr>
        <p:blipFill>
          <a:blip r:embed="rId1"/>
          <a:stretch/>
        </p:blipFill>
        <p:spPr>
          <a:xfrm>
            <a:off x="585720" y="227952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6" descr="u1jx01_2"/>
          <p:cNvPicPr/>
          <p:nvPr/>
        </p:nvPicPr>
        <p:blipFill>
          <a:blip r:embed="rId2"/>
          <a:stretch/>
        </p:blipFill>
        <p:spPr>
          <a:xfrm>
            <a:off x="3276720" y="2279520"/>
            <a:ext cx="1439640" cy="1276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7" descr="u1jx01_3"/>
          <p:cNvPicPr/>
          <p:nvPr/>
        </p:nvPicPr>
        <p:blipFill>
          <a:blip r:embed="rId3"/>
          <a:stretch/>
        </p:blipFill>
        <p:spPr>
          <a:xfrm>
            <a:off x="5999040" y="2276640"/>
            <a:ext cx="1440000" cy="1276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8" descr="u1jx01_4"/>
          <p:cNvPicPr/>
          <p:nvPr/>
        </p:nvPicPr>
        <p:blipFill>
          <a:blip r:embed="rId4"/>
          <a:stretch/>
        </p:blipFill>
        <p:spPr>
          <a:xfrm>
            <a:off x="585720" y="4543560"/>
            <a:ext cx="1441440" cy="12747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9" descr="u1jx01_5"/>
          <p:cNvPicPr/>
          <p:nvPr/>
        </p:nvPicPr>
        <p:blipFill>
          <a:blip r:embed="rId5"/>
          <a:stretch/>
        </p:blipFill>
        <p:spPr>
          <a:xfrm>
            <a:off x="3276720" y="4578480"/>
            <a:ext cx="1439640" cy="12747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0" descr="u1jx01_6"/>
          <p:cNvPicPr/>
          <p:nvPr/>
        </p:nvPicPr>
        <p:blipFill>
          <a:blip r:embed="rId6"/>
          <a:stretch/>
        </p:blipFill>
        <p:spPr>
          <a:xfrm>
            <a:off x="5999040" y="4546440"/>
            <a:ext cx="14400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6"/>
          <p:cNvSpPr/>
          <p:nvPr/>
        </p:nvSpPr>
        <p:spPr>
          <a:xfrm>
            <a:off x="1553040" y="1560960"/>
            <a:ext cx="1870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说一说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4" name="Text Box 17"/>
          <p:cNvSpPr/>
          <p:nvPr/>
        </p:nvSpPr>
        <p:spPr>
          <a:xfrm>
            <a:off x="971640" y="2205000"/>
            <a:ext cx="383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一列火车本应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到达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现在要晚点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分钟，什么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时候能到达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4500720" y="4184640"/>
            <a:ext cx="4392000" cy="1981080"/>
            <a:chOff x="4500720" y="4184640"/>
            <a:chExt cx="4392000" cy="1981080"/>
          </a:xfrm>
        </p:grpSpPr>
        <p:sp>
          <p:nvSpPr>
            <p:cNvPr id="656" name="AutoShape 27"/>
            <p:cNvSpPr/>
            <p:nvPr/>
          </p:nvSpPr>
          <p:spPr>
            <a:xfrm>
              <a:off x="4500720" y="4510080"/>
              <a:ext cx="3188880" cy="891000"/>
            </a:xfrm>
            <a:prstGeom prst="wedgeRoundRectCallout">
              <a:avLst>
                <a:gd name="adj1" fmla="val 57129"/>
                <a:gd name="adj2" fmla="val 107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在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15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的基础上再过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2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钟才能到达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657" name="Picture 28" descr="未标题-7"/>
            <p:cNvPicPr/>
            <p:nvPr/>
          </p:nvPicPr>
          <p:blipFill>
            <a:blip r:embed="rId1"/>
            <a:srcRect l="65308" t="2087" r="-463" b="2087"/>
            <a:stretch/>
          </p:blipFill>
          <p:spPr>
            <a:xfrm>
              <a:off x="7686360" y="4184640"/>
              <a:ext cx="120636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8" name="Picture 25" descr="10"/>
          <p:cNvPicPr/>
          <p:nvPr/>
        </p:nvPicPr>
        <p:blipFill>
          <a:blip r:embed="rId2"/>
          <a:stretch/>
        </p:blipFill>
        <p:spPr>
          <a:xfrm>
            <a:off x="826920" y="3807000"/>
            <a:ext cx="3600720" cy="1925640"/>
          </a:xfrm>
          <a:prstGeom prst="rect">
            <a:avLst/>
          </a:prstGeom>
          <a:ln w="0">
            <a:noFill/>
          </a:ln>
        </p:spPr>
      </p:pic>
      <p:sp>
        <p:nvSpPr>
          <p:cNvPr id="659" name="标题 5"/>
          <p:cNvSpPr/>
          <p:nvPr/>
        </p:nvSpPr>
        <p:spPr>
          <a:xfrm>
            <a:off x="39528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60" name="Group 16"/>
          <p:cNvGrpSpPr/>
          <p:nvPr/>
        </p:nvGrpSpPr>
        <p:grpSpPr>
          <a:xfrm>
            <a:off x="5221440" y="1916280"/>
            <a:ext cx="3527280" cy="1873080"/>
            <a:chOff x="5221440" y="1916280"/>
            <a:chExt cx="3527280" cy="1873080"/>
          </a:xfrm>
        </p:grpSpPr>
        <p:sp>
          <p:nvSpPr>
            <p:cNvPr id="661" name="AutoShape 27"/>
            <p:cNvSpPr/>
            <p:nvPr/>
          </p:nvSpPr>
          <p:spPr>
            <a:xfrm>
              <a:off x="5221440" y="1916280"/>
              <a:ext cx="2158920" cy="891000"/>
            </a:xfrm>
            <a:prstGeom prst="wedgeRoundRectCallout">
              <a:avLst>
                <a:gd name="adj1" fmla="val 61236"/>
                <a:gd name="adj2" fmla="val 32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晚点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2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钟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662" name="Picture 15" descr="42"/>
            <p:cNvPicPr/>
            <p:nvPr/>
          </p:nvPicPr>
          <p:blipFill>
            <a:blip r:embed="rId3"/>
            <a:stretch/>
          </p:blipFill>
          <p:spPr>
            <a:xfrm flipH="1">
              <a:off x="6948720" y="198936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标题 5"/>
          <p:cNvSpPr/>
          <p:nvPr/>
        </p:nvSpPr>
        <p:spPr>
          <a:xfrm>
            <a:off x="39528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4" name="标题 5"/>
          <p:cNvSpPr/>
          <p:nvPr/>
        </p:nvSpPr>
        <p:spPr>
          <a:xfrm>
            <a:off x="698400" y="2351160"/>
            <a:ext cx="7128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4436a"/>
                </a:solidFill>
                <a:latin typeface="楷体_GB2312"/>
                <a:ea typeface="微软雅黑"/>
              </a:rPr>
              <a:t>作业：</a:t>
            </a:r>
            <a:r>
              <a:rPr b="1" lang="zh-CN" sz="3200" spc="-1" strike="noStrike">
                <a:solidFill>
                  <a:srgbClr val="14436a"/>
                </a:solidFill>
                <a:latin typeface="楷体_GB2312"/>
                <a:ea typeface="微软雅黑"/>
              </a:rPr>
              <a:t>第</a:t>
            </a:r>
            <a:r>
              <a:rPr b="1" lang="en-US" sz="3200" spc="-1" strike="noStrike">
                <a:solidFill>
                  <a:srgbClr val="14436a"/>
                </a:solidFill>
                <a:latin typeface="Century Gothic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14436a"/>
                </a:solidFill>
                <a:latin typeface="楷体_GB2312"/>
                <a:ea typeface="微软雅黑"/>
              </a:rPr>
              <a:t>页练习一，第</a:t>
            </a:r>
            <a:r>
              <a:rPr b="1" lang="en-US" sz="3200" spc="-1" strike="noStrike">
                <a:solidFill>
                  <a:srgbClr val="14436a"/>
                </a:solidFill>
                <a:latin typeface="Century Gothic"/>
                <a:ea typeface="微软雅黑"/>
              </a:rPr>
              <a:t>8</a:t>
            </a:r>
            <a:r>
              <a:rPr b="1" lang="zh-CN" sz="3200" spc="-1" strike="noStrike">
                <a:solidFill>
                  <a:srgbClr val="14436a"/>
                </a:solidFill>
                <a:latin typeface="楷体_GB2312"/>
                <a:ea typeface="微软雅黑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4436a"/>
                </a:solidFill>
                <a:latin typeface="楷体_GB2312"/>
                <a:ea typeface="微软雅黑"/>
              </a:rPr>
              <a:t>      </a:t>
            </a:r>
            <a:r>
              <a:rPr b="1" lang="zh-CN" sz="3200" spc="-1" strike="noStrike">
                <a:solidFill>
                  <a:srgbClr val="14436a"/>
                </a:solidFill>
                <a:latin typeface="楷体_GB2312"/>
                <a:ea typeface="微软雅黑"/>
              </a:rPr>
              <a:t>第</a:t>
            </a:r>
            <a:r>
              <a:rPr b="1" lang="en-US" sz="3200" spc="-1" strike="noStrike">
                <a:solidFill>
                  <a:srgbClr val="14436a"/>
                </a:solidFill>
                <a:latin typeface="Century Gothic"/>
                <a:ea typeface="微软雅黑"/>
              </a:rPr>
              <a:t>8</a:t>
            </a:r>
            <a:r>
              <a:rPr b="1" lang="zh-CN" sz="3200" spc="-1" strike="noStrike">
                <a:solidFill>
                  <a:srgbClr val="14436a"/>
                </a:solidFill>
                <a:latin typeface="楷体_GB2312"/>
                <a:ea typeface="微软雅黑"/>
              </a:rPr>
              <a:t>页练习一，第</a:t>
            </a:r>
            <a:r>
              <a:rPr b="1" lang="en-US" sz="3200" spc="-1" strike="noStrike">
                <a:solidFill>
                  <a:srgbClr val="14436a"/>
                </a:solidFill>
                <a:latin typeface="Century Gothic"/>
                <a:ea typeface="微软雅黑"/>
              </a:rPr>
              <a:t>11</a:t>
            </a:r>
            <a:r>
              <a:rPr b="1" lang="zh-CN" sz="3200" spc="-1" strike="noStrike">
                <a:solidFill>
                  <a:srgbClr val="14436a"/>
                </a:solidFill>
                <a:latin typeface="楷体_GB2312"/>
                <a:ea typeface="微软雅黑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标题 5"/>
          <p:cNvSpPr/>
          <p:nvPr/>
        </p:nvSpPr>
        <p:spPr>
          <a:xfrm>
            <a:off x="39528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一、复习旧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0" name="TextBox 31"/>
          <p:cNvSpPr/>
          <p:nvPr/>
        </p:nvSpPr>
        <p:spPr>
          <a:xfrm>
            <a:off x="2700360" y="4367160"/>
            <a:ext cx="374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1" name="TextBox 33"/>
          <p:cNvSpPr/>
          <p:nvPr/>
        </p:nvSpPr>
        <p:spPr>
          <a:xfrm>
            <a:off x="2700360" y="5230800"/>
            <a:ext cx="374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（   ）秒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2" name="TextBox 34"/>
          <p:cNvSpPr/>
          <p:nvPr/>
        </p:nvSpPr>
        <p:spPr>
          <a:xfrm>
            <a:off x="4179960" y="437832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3" name="TextBox 35"/>
          <p:cNvSpPr/>
          <p:nvPr/>
        </p:nvSpPr>
        <p:spPr>
          <a:xfrm>
            <a:off x="4179960" y="523080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34" name="Group 21"/>
          <p:cNvGrpSpPr/>
          <p:nvPr/>
        </p:nvGrpSpPr>
        <p:grpSpPr>
          <a:xfrm>
            <a:off x="4219560" y="2227320"/>
            <a:ext cx="4529160" cy="2209680"/>
            <a:chOff x="4219560" y="2227320"/>
            <a:chExt cx="4529160" cy="2209680"/>
          </a:xfrm>
        </p:grpSpPr>
        <p:sp>
          <p:nvSpPr>
            <p:cNvPr id="535" name="AutoShape 27"/>
            <p:cNvSpPr/>
            <p:nvPr/>
          </p:nvSpPr>
          <p:spPr>
            <a:xfrm>
              <a:off x="4219560" y="3024360"/>
              <a:ext cx="3089160" cy="891000"/>
            </a:xfrm>
            <a:prstGeom prst="wedgeRoundRectCallout">
              <a:avLst>
                <a:gd name="adj1" fmla="val 56208"/>
                <a:gd name="adj2" fmla="val -344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我们学过的时间单位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时、分、秒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36" name="Picture 31" descr="13"/>
            <p:cNvPicPr/>
            <p:nvPr/>
          </p:nvPicPr>
          <p:blipFill>
            <a:blip r:embed="rId1"/>
            <a:stretch/>
          </p:blipFill>
          <p:spPr>
            <a:xfrm>
              <a:off x="7296120" y="2227320"/>
              <a:ext cx="145260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7"/>
          <p:cNvGrpSpPr/>
          <p:nvPr/>
        </p:nvGrpSpPr>
        <p:grpSpPr>
          <a:xfrm>
            <a:off x="539640" y="1916280"/>
            <a:ext cx="4610160" cy="1800000"/>
            <a:chOff x="539640" y="1916280"/>
            <a:chExt cx="4610160" cy="1800000"/>
          </a:xfrm>
        </p:grpSpPr>
        <p:sp>
          <p:nvSpPr>
            <p:cNvPr id="538" name="AutoShape 27"/>
            <p:cNvSpPr/>
            <p:nvPr/>
          </p:nvSpPr>
          <p:spPr>
            <a:xfrm>
              <a:off x="1834920" y="2062080"/>
              <a:ext cx="3314880" cy="496440"/>
            </a:xfrm>
            <a:prstGeom prst="wedgeRoundRectCallout">
              <a:avLst>
                <a:gd name="adj1" fmla="val -57847"/>
                <a:gd name="adj2" fmla="val 473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我们学过哪些时间单位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39" name="Picture 16" descr="42"/>
            <p:cNvPicPr/>
            <p:nvPr/>
          </p:nvPicPr>
          <p:blipFill>
            <a:blip r:embed="rId2"/>
            <a:stretch/>
          </p:blipFill>
          <p:spPr>
            <a:xfrm>
              <a:off x="539640" y="191628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328680" y="289080"/>
            <a:ext cx="8420040" cy="627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Control 2"/>
          <p:cNvGraphicFramePr/>
          <p:nvPr/>
        </p:nvGraphicFramePr>
        <p:xfrm>
          <a:off x="324000" y="260280"/>
          <a:ext cx="837072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2" name="Control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0280"/>
                    <a:ext cx="8370720" cy="6280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0"/>
          <p:cNvSpPr/>
          <p:nvPr/>
        </p:nvSpPr>
        <p:spPr>
          <a:xfrm>
            <a:off x="324000" y="1585800"/>
            <a:ext cx="37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（二）探究新知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44" name="组合 20"/>
          <p:cNvGrpSpPr/>
          <p:nvPr/>
        </p:nvGrpSpPr>
        <p:grpSpPr>
          <a:xfrm>
            <a:off x="755640" y="4143240"/>
            <a:ext cx="2073240" cy="532800"/>
            <a:chOff x="755640" y="4143240"/>
            <a:chExt cx="2073240" cy="532800"/>
          </a:xfrm>
        </p:grpSpPr>
        <p:sp>
          <p:nvSpPr>
            <p:cNvPr id="545" name="流程图: 终止 18"/>
            <p:cNvSpPr/>
            <p:nvPr/>
          </p:nvSpPr>
          <p:spPr>
            <a:xfrm>
              <a:off x="755640" y="4152600"/>
              <a:ext cx="2073240" cy="500400"/>
            </a:xfrm>
            <a:prstGeom prst="flowChartTerminator">
              <a:avLst/>
            </a:prstGeom>
            <a:solidFill>
              <a:srgbClr val="ccecf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46" name="TextBox 19"/>
            <p:cNvSpPr/>
            <p:nvPr/>
          </p:nvSpPr>
          <p:spPr>
            <a:xfrm>
              <a:off x="1332720" y="4143240"/>
              <a:ext cx="1095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阅读与理解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547" name="Picture 25" descr="05"/>
          <p:cNvPicPr/>
          <p:nvPr/>
        </p:nvPicPr>
        <p:blipFill>
          <a:blip r:embed="rId1"/>
          <a:stretch/>
        </p:blipFill>
        <p:spPr>
          <a:xfrm>
            <a:off x="1763640" y="1916280"/>
            <a:ext cx="5761080" cy="213984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27"/>
          <p:cNvSpPr/>
          <p:nvPr/>
        </p:nvSpPr>
        <p:spPr>
          <a:xfrm>
            <a:off x="5580000" y="4076640"/>
            <a:ext cx="2160720" cy="496440"/>
          </a:xfrm>
          <a:prstGeom prst="wedgeRoundRectCallout">
            <a:avLst>
              <a:gd name="adj1" fmla="val 62990"/>
              <a:gd name="adj2" fmla="val 315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问题是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49" name="Group 40"/>
          <p:cNvGrpSpPr/>
          <p:nvPr/>
        </p:nvGrpSpPr>
        <p:grpSpPr>
          <a:xfrm>
            <a:off x="3132000" y="4952880"/>
            <a:ext cx="4549680" cy="1905120"/>
            <a:chOff x="3132000" y="4952880"/>
            <a:chExt cx="4549680" cy="1905120"/>
          </a:xfrm>
        </p:grpSpPr>
        <p:pic>
          <p:nvPicPr>
            <p:cNvPr id="550" name="Picture 35" descr="08"/>
            <p:cNvPicPr/>
            <p:nvPr/>
          </p:nvPicPr>
          <p:blipFill>
            <a:blip r:embed="rId2"/>
            <a:stretch/>
          </p:blipFill>
          <p:spPr>
            <a:xfrm>
              <a:off x="6445080" y="4952880"/>
              <a:ext cx="12366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27"/>
            <p:cNvSpPr/>
            <p:nvPr/>
          </p:nvSpPr>
          <p:spPr>
            <a:xfrm>
              <a:off x="3132000" y="5876640"/>
              <a:ext cx="3373560" cy="496440"/>
            </a:xfrm>
            <a:prstGeom prst="wedgeRoundRectCallout">
              <a:avLst>
                <a:gd name="adj1" fmla="val 56337"/>
                <a:gd name="adj2" fmla="val -375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离家，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4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到校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52" name="Group 39"/>
          <p:cNvGrpSpPr/>
          <p:nvPr/>
        </p:nvGrpSpPr>
        <p:grpSpPr>
          <a:xfrm>
            <a:off x="755640" y="4782960"/>
            <a:ext cx="3960720" cy="1886040"/>
            <a:chOff x="755640" y="4782960"/>
            <a:chExt cx="3960720" cy="1886040"/>
          </a:xfrm>
        </p:grpSpPr>
        <p:sp>
          <p:nvSpPr>
            <p:cNvPr id="553" name="AutoShape 27"/>
            <p:cNvSpPr/>
            <p:nvPr/>
          </p:nvSpPr>
          <p:spPr>
            <a:xfrm>
              <a:off x="2085840" y="4856040"/>
              <a:ext cx="2630520" cy="891000"/>
            </a:xfrm>
            <a:prstGeom prst="wedgeRoundRectCallout">
              <a:avLst>
                <a:gd name="adj1" fmla="val -58166"/>
                <a:gd name="adj2" fmla="val -4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小明从家走到学校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用了多长时间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54" name="Picture 38" descr="07"/>
            <p:cNvPicPr/>
            <p:nvPr/>
          </p:nvPicPr>
          <p:blipFill>
            <a:blip r:embed="rId3"/>
            <a:stretch/>
          </p:blipFill>
          <p:spPr>
            <a:xfrm>
              <a:off x="755640" y="4782960"/>
              <a:ext cx="1405080" cy="18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标题 5"/>
          <p:cNvSpPr/>
          <p:nvPr/>
        </p:nvSpPr>
        <p:spPr>
          <a:xfrm>
            <a:off x="39528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6" name="AutoShape 27"/>
          <p:cNvSpPr/>
          <p:nvPr/>
        </p:nvSpPr>
        <p:spPr>
          <a:xfrm>
            <a:off x="5060880" y="4076640"/>
            <a:ext cx="2751120" cy="496440"/>
          </a:xfrm>
          <a:prstGeom prst="wedgeRoundRectCallout">
            <a:avLst>
              <a:gd name="adj1" fmla="val 58240"/>
              <a:gd name="adj2" fmla="val 3760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需要利用哪些信息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7" name="Picture 20" descr="42"/>
          <p:cNvPicPr/>
          <p:nvPr/>
        </p:nvPicPr>
        <p:blipFill>
          <a:blip r:embed="rId4"/>
          <a:stretch/>
        </p:blipFill>
        <p:spPr>
          <a:xfrm>
            <a:off x="7164360" y="378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32"/>
          <p:cNvGrpSpPr/>
          <p:nvPr/>
        </p:nvGrpSpPr>
        <p:grpSpPr>
          <a:xfrm>
            <a:off x="826920" y="3645000"/>
            <a:ext cx="4824360" cy="1885680"/>
            <a:chOff x="826920" y="3645000"/>
            <a:chExt cx="4824360" cy="1885680"/>
          </a:xfrm>
        </p:grpSpPr>
        <p:sp>
          <p:nvSpPr>
            <p:cNvPr id="559" name="AutoShape 27"/>
            <p:cNvSpPr/>
            <p:nvPr/>
          </p:nvSpPr>
          <p:spPr>
            <a:xfrm>
              <a:off x="2122200" y="3789000"/>
              <a:ext cx="3529080" cy="891000"/>
            </a:xfrm>
            <a:prstGeom prst="wedgeRoundRectCallout">
              <a:avLst>
                <a:gd name="adj1" fmla="val -56199"/>
                <a:gd name="adj2" fmla="val -11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可以直接数一数从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4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针走了多少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60" name="Picture 34" descr="07"/>
            <p:cNvPicPr/>
            <p:nvPr/>
          </p:nvPicPr>
          <p:blipFill>
            <a:blip r:embed="rId1"/>
            <a:stretch/>
          </p:blipFill>
          <p:spPr>
            <a:xfrm>
              <a:off x="826920" y="3645000"/>
              <a:ext cx="1405080" cy="18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38"/>
          <p:cNvGrpSpPr/>
          <p:nvPr/>
        </p:nvGrpSpPr>
        <p:grpSpPr>
          <a:xfrm>
            <a:off x="3997440" y="4332240"/>
            <a:ext cx="3899880" cy="1905120"/>
            <a:chOff x="3997440" y="4332240"/>
            <a:chExt cx="3899880" cy="1905120"/>
          </a:xfrm>
        </p:grpSpPr>
        <p:pic>
          <p:nvPicPr>
            <p:cNvPr id="562" name="Picture 36" descr="08"/>
            <p:cNvPicPr/>
            <p:nvPr/>
          </p:nvPicPr>
          <p:blipFill>
            <a:blip r:embed="rId2"/>
            <a:stretch/>
          </p:blipFill>
          <p:spPr>
            <a:xfrm>
              <a:off x="6661080" y="4332240"/>
              <a:ext cx="1236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AutoShape 27"/>
            <p:cNvSpPr/>
            <p:nvPr/>
          </p:nvSpPr>
          <p:spPr>
            <a:xfrm>
              <a:off x="3997440" y="5124240"/>
              <a:ext cx="2734920" cy="891000"/>
            </a:xfrm>
            <a:prstGeom prst="wedgeRoundRectCallout">
              <a:avLst>
                <a:gd name="adj1" fmla="val 57379"/>
                <a:gd name="adj2" fmla="val -350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针走了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个大格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钟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64" name="标题 5"/>
          <p:cNvSpPr/>
          <p:nvPr/>
        </p:nvSpPr>
        <p:spPr>
          <a:xfrm>
            <a:off x="530280" y="620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5" name="组合 20"/>
          <p:cNvGrpSpPr/>
          <p:nvPr/>
        </p:nvGrpSpPr>
        <p:grpSpPr>
          <a:xfrm>
            <a:off x="755640" y="2343240"/>
            <a:ext cx="2075040" cy="532800"/>
            <a:chOff x="755640" y="2343240"/>
            <a:chExt cx="2075040" cy="532800"/>
          </a:xfrm>
        </p:grpSpPr>
        <p:sp>
          <p:nvSpPr>
            <p:cNvPr id="566" name="流程图: 终止 21"/>
            <p:cNvSpPr/>
            <p:nvPr/>
          </p:nvSpPr>
          <p:spPr>
            <a:xfrm>
              <a:off x="755640" y="2352600"/>
              <a:ext cx="2075040" cy="500040"/>
            </a:xfrm>
            <a:prstGeom prst="flowChartTerminator">
              <a:avLst/>
            </a:prstGeom>
            <a:solidFill>
              <a:srgbClr val="ccecf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67" name="TextBox 19"/>
            <p:cNvSpPr/>
            <p:nvPr/>
          </p:nvSpPr>
          <p:spPr>
            <a:xfrm>
              <a:off x="1235160" y="2343240"/>
              <a:ext cx="1095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析与解答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68" name="Text Box 20"/>
          <p:cNvSpPr/>
          <p:nvPr/>
        </p:nvSpPr>
        <p:spPr>
          <a:xfrm>
            <a:off x="324000" y="1585800"/>
            <a:ext cx="37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（二）探究新知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9" name="Group 20"/>
          <p:cNvGrpSpPr/>
          <p:nvPr/>
        </p:nvGrpSpPr>
        <p:grpSpPr>
          <a:xfrm>
            <a:off x="5003640" y="2205000"/>
            <a:ext cx="3673080" cy="1800360"/>
            <a:chOff x="5003640" y="2205000"/>
            <a:chExt cx="3673080" cy="1800360"/>
          </a:xfrm>
        </p:grpSpPr>
        <p:sp>
          <p:nvSpPr>
            <p:cNvPr id="570" name="AutoShape 27"/>
            <p:cNvSpPr/>
            <p:nvPr/>
          </p:nvSpPr>
          <p:spPr>
            <a:xfrm>
              <a:off x="5003640" y="2530440"/>
              <a:ext cx="2160720" cy="496440"/>
            </a:xfrm>
            <a:prstGeom prst="wedgeRoundRectCallout">
              <a:avLst>
                <a:gd name="adj1" fmla="val 61675"/>
                <a:gd name="adj2" fmla="val 41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可以怎样解答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71" name="Picture 19" descr="42"/>
            <p:cNvPicPr/>
            <p:nvPr/>
          </p:nvPicPr>
          <p:blipFill>
            <a:blip r:embed="rId3"/>
            <a:stretch/>
          </p:blipFill>
          <p:spPr>
            <a:xfrm flipH="1">
              <a:off x="6876360" y="220500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47760" y="281160"/>
            <a:ext cx="8372520" cy="627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3" name="Control 2"/>
          <p:cNvGraphicFramePr/>
          <p:nvPr/>
        </p:nvGraphicFramePr>
        <p:xfrm>
          <a:off x="357120" y="284040"/>
          <a:ext cx="8371080" cy="628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4" name="Control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284040"/>
                    <a:ext cx="8371080" cy="6280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1"/>
          <p:cNvSpPr/>
          <p:nvPr/>
        </p:nvSpPr>
        <p:spPr>
          <a:xfrm>
            <a:off x="3180240" y="4149720"/>
            <a:ext cx="3050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76" name="Group 17"/>
          <p:cNvGrpSpPr/>
          <p:nvPr/>
        </p:nvGrpSpPr>
        <p:grpSpPr>
          <a:xfrm>
            <a:off x="4240080" y="2133720"/>
            <a:ext cx="4076640" cy="1904760"/>
            <a:chOff x="4240080" y="2133720"/>
            <a:chExt cx="4076640" cy="1904760"/>
          </a:xfrm>
        </p:grpSpPr>
        <p:pic>
          <p:nvPicPr>
            <p:cNvPr id="577" name="Picture 18" descr="08"/>
            <p:cNvPicPr/>
            <p:nvPr/>
          </p:nvPicPr>
          <p:blipFill>
            <a:blip r:embed="rId1"/>
            <a:stretch/>
          </p:blipFill>
          <p:spPr>
            <a:xfrm>
              <a:off x="7080120" y="2133720"/>
              <a:ext cx="12366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AutoShape 27"/>
            <p:cNvSpPr/>
            <p:nvPr/>
          </p:nvSpPr>
          <p:spPr>
            <a:xfrm>
              <a:off x="4240080" y="2925360"/>
              <a:ext cx="2852640" cy="891000"/>
            </a:xfrm>
            <a:prstGeom prst="wedgeRoundRectCallout">
              <a:avLst>
                <a:gd name="adj1" fmla="val 57949"/>
                <a:gd name="adj2" fmla="val -30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因为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时多，我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直接用减法计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79" name="标题 5"/>
          <p:cNvSpPr/>
          <p:nvPr/>
        </p:nvSpPr>
        <p:spPr>
          <a:xfrm>
            <a:off x="39528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80" name="组合 16"/>
          <p:cNvGrpSpPr/>
          <p:nvPr/>
        </p:nvGrpSpPr>
        <p:grpSpPr>
          <a:xfrm>
            <a:off x="755640" y="2343240"/>
            <a:ext cx="2075040" cy="532800"/>
            <a:chOff x="755640" y="2343240"/>
            <a:chExt cx="2075040" cy="532800"/>
          </a:xfrm>
        </p:grpSpPr>
        <p:sp>
          <p:nvSpPr>
            <p:cNvPr id="581" name="流程图: 终止 17"/>
            <p:cNvSpPr/>
            <p:nvPr/>
          </p:nvSpPr>
          <p:spPr>
            <a:xfrm>
              <a:off x="755640" y="2352600"/>
              <a:ext cx="2075040" cy="500040"/>
            </a:xfrm>
            <a:prstGeom prst="flowChartTerminator">
              <a:avLst/>
            </a:prstGeom>
            <a:solidFill>
              <a:srgbClr val="ccecf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82" name="TextBox 19"/>
            <p:cNvSpPr/>
            <p:nvPr/>
          </p:nvSpPr>
          <p:spPr>
            <a:xfrm>
              <a:off x="1235160" y="2343240"/>
              <a:ext cx="1095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析与解答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324000" y="1585800"/>
            <a:ext cx="37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（二）探究新知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84" name="Group 18"/>
          <p:cNvGrpSpPr/>
          <p:nvPr/>
        </p:nvGrpSpPr>
        <p:grpSpPr>
          <a:xfrm>
            <a:off x="539640" y="4724280"/>
            <a:ext cx="4414680" cy="1800360"/>
            <a:chOff x="539640" y="4724280"/>
            <a:chExt cx="4414680" cy="1800360"/>
          </a:xfrm>
        </p:grpSpPr>
        <p:sp>
          <p:nvSpPr>
            <p:cNvPr id="585" name="AutoShape 27"/>
            <p:cNvSpPr/>
            <p:nvPr/>
          </p:nvSpPr>
          <p:spPr>
            <a:xfrm>
              <a:off x="1979640" y="5010120"/>
              <a:ext cx="2974680" cy="496440"/>
            </a:xfrm>
            <a:prstGeom prst="wedgeRoundRectCallout">
              <a:avLst>
                <a:gd name="adj1" fmla="val -56773"/>
                <a:gd name="adj2" fmla="val 4209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拨一拨表，验证一下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86" name="Picture 17" descr="42"/>
            <p:cNvPicPr/>
            <p:nvPr/>
          </p:nvPicPr>
          <p:blipFill>
            <a:blip r:embed="rId2"/>
            <a:stretch/>
          </p:blipFill>
          <p:spPr>
            <a:xfrm>
              <a:off x="539640" y="472428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标题 5"/>
          <p:cNvSpPr/>
          <p:nvPr/>
        </p:nvSpPr>
        <p:spPr>
          <a:xfrm>
            <a:off x="39528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8" name="TextBox 16"/>
          <p:cNvSpPr/>
          <p:nvPr/>
        </p:nvSpPr>
        <p:spPr>
          <a:xfrm flipH="1">
            <a:off x="2907360" y="5805360"/>
            <a:ext cx="3715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小明从家走到学校用了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3035520" y="5157720"/>
            <a:ext cx="3050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90" name="Group 26"/>
          <p:cNvGrpSpPr/>
          <p:nvPr/>
        </p:nvGrpSpPr>
        <p:grpSpPr>
          <a:xfrm>
            <a:off x="755640" y="3500280"/>
            <a:ext cx="4035600" cy="1905120"/>
            <a:chOff x="755640" y="3500280"/>
            <a:chExt cx="4035600" cy="1905120"/>
          </a:xfrm>
        </p:grpSpPr>
        <p:pic>
          <p:nvPicPr>
            <p:cNvPr id="591" name="Picture 24" descr="06"/>
            <p:cNvPicPr/>
            <p:nvPr/>
          </p:nvPicPr>
          <p:blipFill>
            <a:blip r:embed="rId1"/>
            <a:srcRect l="4921" t="0" r="6713" b="0"/>
            <a:stretch/>
          </p:blipFill>
          <p:spPr>
            <a:xfrm>
              <a:off x="755640" y="3500280"/>
              <a:ext cx="1092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AutoShape 27"/>
            <p:cNvSpPr/>
            <p:nvPr/>
          </p:nvSpPr>
          <p:spPr>
            <a:xfrm>
              <a:off x="1908000" y="3716280"/>
              <a:ext cx="2883240" cy="1286280"/>
            </a:xfrm>
            <a:prstGeom prst="wedgeRoundRectCallout">
              <a:avLst>
                <a:gd name="adj1" fmla="val -58412"/>
                <a:gd name="adj2" fmla="val 90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＋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4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（分）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过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钟就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4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。解答正确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93" name="Text Box 20"/>
          <p:cNvSpPr/>
          <p:nvPr/>
        </p:nvSpPr>
        <p:spPr>
          <a:xfrm>
            <a:off x="324000" y="1585800"/>
            <a:ext cx="374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entury Gothic"/>
                <a:ea typeface="微软雅黑"/>
              </a:rPr>
              <a:t>（二）探究新知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94" name="组合 18"/>
          <p:cNvGrpSpPr/>
          <p:nvPr/>
        </p:nvGrpSpPr>
        <p:grpSpPr>
          <a:xfrm>
            <a:off x="755640" y="2343240"/>
            <a:ext cx="2075040" cy="532800"/>
            <a:chOff x="755640" y="2343240"/>
            <a:chExt cx="2075040" cy="532800"/>
          </a:xfrm>
        </p:grpSpPr>
        <p:sp>
          <p:nvSpPr>
            <p:cNvPr id="595" name="流程图: 终止 19"/>
            <p:cNvSpPr/>
            <p:nvPr/>
          </p:nvSpPr>
          <p:spPr>
            <a:xfrm>
              <a:off x="755640" y="2352600"/>
              <a:ext cx="2075040" cy="500040"/>
            </a:xfrm>
            <a:prstGeom prst="flowChartTerminator">
              <a:avLst/>
            </a:prstGeom>
            <a:solidFill>
              <a:srgbClr val="ccecf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96" name="TextBox 19"/>
            <p:cNvSpPr/>
            <p:nvPr/>
          </p:nvSpPr>
          <p:spPr>
            <a:xfrm>
              <a:off x="1235160" y="2343240"/>
              <a:ext cx="10951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回顾与反思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97" name="Group 19"/>
          <p:cNvGrpSpPr/>
          <p:nvPr/>
        </p:nvGrpSpPr>
        <p:grpSpPr>
          <a:xfrm>
            <a:off x="3564000" y="2422440"/>
            <a:ext cx="5113080" cy="1870200"/>
            <a:chOff x="3564000" y="2422440"/>
            <a:chExt cx="5113080" cy="1870200"/>
          </a:xfrm>
        </p:grpSpPr>
        <p:sp>
          <p:nvSpPr>
            <p:cNvPr id="598" name="AutoShape 27"/>
            <p:cNvSpPr/>
            <p:nvPr/>
          </p:nvSpPr>
          <p:spPr>
            <a:xfrm>
              <a:off x="3564000" y="2422440"/>
              <a:ext cx="3672000" cy="891000"/>
            </a:xfrm>
            <a:prstGeom prst="wedgeRoundRectCallout">
              <a:avLst>
                <a:gd name="adj1" fmla="val 57300"/>
                <a:gd name="adj2" fmla="val 36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这些方法虽然解决了我们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问题，但解答的对不对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599" name="Picture 18" descr="42"/>
            <p:cNvPicPr/>
            <p:nvPr/>
          </p:nvPicPr>
          <p:blipFill>
            <a:blip r:embed="rId2"/>
            <a:stretch/>
          </p:blipFill>
          <p:spPr>
            <a:xfrm flipH="1">
              <a:off x="6876720" y="249228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标题 5"/>
          <p:cNvSpPr/>
          <p:nvPr/>
        </p:nvSpPr>
        <p:spPr>
          <a:xfrm>
            <a:off x="39528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01" name="Group 17"/>
          <p:cNvGrpSpPr/>
          <p:nvPr/>
        </p:nvGrpSpPr>
        <p:grpSpPr>
          <a:xfrm>
            <a:off x="468360" y="3684600"/>
            <a:ext cx="4824360" cy="1905120"/>
            <a:chOff x="468360" y="3684600"/>
            <a:chExt cx="4824360" cy="1905120"/>
          </a:xfrm>
        </p:grpSpPr>
        <p:pic>
          <p:nvPicPr>
            <p:cNvPr id="602" name="Picture 18" descr="06"/>
            <p:cNvPicPr/>
            <p:nvPr/>
          </p:nvPicPr>
          <p:blipFill>
            <a:blip r:embed="rId1"/>
            <a:srcRect l="4921" t="0" r="6713" b="0"/>
            <a:stretch/>
          </p:blipFill>
          <p:spPr>
            <a:xfrm>
              <a:off x="468360" y="3684600"/>
              <a:ext cx="1092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AutoShape 27"/>
            <p:cNvSpPr/>
            <p:nvPr/>
          </p:nvSpPr>
          <p:spPr>
            <a:xfrm>
              <a:off x="1619280" y="4083120"/>
              <a:ext cx="3673440" cy="891000"/>
            </a:xfrm>
            <a:prstGeom prst="wedgeRoundRectCallout">
              <a:avLst>
                <a:gd name="adj1" fmla="val -56462"/>
                <a:gd name="adj2" fmla="val 6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可以直接数一数，从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8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4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到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分针走了多少格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604" name="Picture 20" descr="09"/>
          <p:cNvPicPr/>
          <p:nvPr/>
        </p:nvPicPr>
        <p:blipFill>
          <a:blip r:embed="rId2"/>
          <a:stretch/>
        </p:blipFill>
        <p:spPr>
          <a:xfrm>
            <a:off x="1403280" y="1501920"/>
            <a:ext cx="5905440" cy="24318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23"/>
          <p:cNvGrpSpPr/>
          <p:nvPr/>
        </p:nvGrpSpPr>
        <p:grpSpPr>
          <a:xfrm>
            <a:off x="3263760" y="4724280"/>
            <a:ext cx="5380200" cy="1981080"/>
            <a:chOff x="3263760" y="4724280"/>
            <a:chExt cx="5380200" cy="1981080"/>
          </a:xfrm>
        </p:grpSpPr>
        <p:sp>
          <p:nvSpPr>
            <p:cNvPr id="606" name="AutoShape 27"/>
            <p:cNvSpPr/>
            <p:nvPr/>
          </p:nvSpPr>
          <p:spPr>
            <a:xfrm>
              <a:off x="3263760" y="5154480"/>
              <a:ext cx="4044960" cy="1286280"/>
            </a:xfrm>
            <a:prstGeom prst="wedgeRoundRectCallout">
              <a:avLst>
                <a:gd name="adj1" fmla="val 57925"/>
                <a:gd name="adj2" fmla="val -14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开门，也可以想成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8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：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开门，这样就可以用我们前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学习的方法解答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607" name="Picture 28" descr="未标题-7"/>
            <p:cNvPicPr/>
            <p:nvPr/>
          </p:nvPicPr>
          <p:blipFill>
            <a:blip r:embed="rId3"/>
            <a:srcRect l="65308" t="2087" r="-463" b="2087"/>
            <a:stretch/>
          </p:blipFill>
          <p:spPr>
            <a:xfrm>
              <a:off x="7437240" y="4724280"/>
              <a:ext cx="120672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BMT6</dc:creator>
  <dc:description/>
  <dc:language>en-US</dc:language>
  <cp:lastModifiedBy>BMT-6</cp:lastModifiedBy>
  <dcterms:modified xsi:type="dcterms:W3CDTF">2018-10-25T06:07:30Z</dcterms:modified>
  <cp:revision>4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