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camera.wav" ContentType="audio/x-wav"/>
  <Override PartName="/ppt/media/image7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614-A5A3-4E7C-8A0C-1E2B75F7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5E4-3623-42D3-AC35-2EDC057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109-A4A6-4E0C-B111-DDAA0996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829-0398-462C-866D-EF2210ED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2EF-2D28-484B-B178-DF0E6D19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35D-7D95-4C12-AD45-86974AC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1AE-7976-4B5A-9F70-A324A290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182-A287-417B-8048-5E0E6FF2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16C-1F97-4A77-912B-CC9DBEC4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79C-C6B5-4D2E-B605-2BA1350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26B-53C1-4212-A29D-32E3DD5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0BC-01B1-4442-BDAE-CDBD81FD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86C6-FE1C-4C45-A04A-81B03F62947B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371600" y="1600200"/>
            <a:ext cx="6629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笔算几百几十加、减几百几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05228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博园里的一个纪念品商店，上午卖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海宝，下午卖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海宝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9" name="Picture 3" descr="7"/>
          <p:cNvPicPr/>
          <p:nvPr/>
        </p:nvPicPr>
        <p:blipFill>
          <a:blip r:embed="rId1"/>
          <a:srcRect l="0" t="0" r="0" b="5629"/>
          <a:stretch/>
        </p:blipFill>
        <p:spPr>
          <a:xfrm>
            <a:off x="6095880" y="3200400"/>
            <a:ext cx="2743200" cy="2820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539640" y="256536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下午比上午多卖出多少个海宝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295280" y="36576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黑体"/>
                <a:ea typeface="宋体"/>
              </a:rPr>
              <a:t>550 - 380 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752480" y="144792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黑体"/>
                <a:ea typeface="宋体"/>
              </a:rPr>
              <a:t>550 - 380 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124000" y="22766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179280" y="1197000"/>
            <a:ext cx="1440000" cy="916920"/>
            <a:chOff x="179280" y="1197000"/>
            <a:chExt cx="1440000" cy="916920"/>
          </a:xfrm>
        </p:grpSpPr>
        <p:pic>
          <p:nvPicPr>
            <p:cNvPr id="125" name="Picture 25" descr="小鱼"/>
            <p:cNvPicPr/>
            <p:nvPr/>
          </p:nvPicPr>
          <p:blipFill>
            <a:blip r:embed="rId1"/>
            <a:stretch/>
          </p:blipFill>
          <p:spPr>
            <a:xfrm>
              <a:off x="179280" y="1303200"/>
              <a:ext cx="11476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6"/>
            <p:cNvSpPr/>
            <p:nvPr/>
          </p:nvSpPr>
          <p:spPr>
            <a:xfrm>
              <a:off x="536400" y="1197000"/>
              <a:ext cx="1082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7" name="Text Box 32"/>
          <p:cNvSpPr/>
          <p:nvPr/>
        </p:nvSpPr>
        <p:spPr>
          <a:xfrm>
            <a:off x="1763640" y="33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几百几十的减法（笔算）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143000" y="2625840"/>
            <a:ext cx="67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试一试，先独立完成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187280" y="3502080"/>
            <a:ext cx="62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小组合作交流算法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87280" y="4508640"/>
            <a:ext cx="47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全班交流、汇报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1" name="Picture 11" descr="7"/>
          <p:cNvPicPr/>
          <p:nvPr/>
        </p:nvPicPr>
        <p:blipFill>
          <a:blip r:embed="rId2"/>
          <a:srcRect l="0" t="0" r="0" b="5205"/>
          <a:stretch/>
        </p:blipFill>
        <p:spPr>
          <a:xfrm>
            <a:off x="6553080" y="4343400"/>
            <a:ext cx="198144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86000" y="188640"/>
            <a:ext cx="595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等线 Light"/>
                <a:ea typeface="楷体_GB2312"/>
              </a:rPr>
              <a:t>笔算：</a:t>
            </a:r>
            <a:endParaRPr b="0" lang="en-US" sz="5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567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9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30=     24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60=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324000" y="1413000"/>
            <a:ext cx="4176720" cy="3732840"/>
            <a:chOff x="324000" y="1413000"/>
            <a:chExt cx="4176720" cy="3732840"/>
          </a:xfrm>
        </p:grpSpPr>
        <p:grpSp>
          <p:nvGrpSpPr>
            <p:cNvPr id="135" name="Group 5"/>
            <p:cNvGrpSpPr/>
            <p:nvPr/>
          </p:nvGrpSpPr>
          <p:grpSpPr>
            <a:xfrm>
              <a:off x="324000" y="2565360"/>
              <a:ext cx="2592360" cy="2580480"/>
              <a:chOff x="324000" y="2565360"/>
              <a:chExt cx="2592360" cy="2580480"/>
            </a:xfrm>
          </p:grpSpPr>
          <p:grpSp>
            <p:nvGrpSpPr>
              <p:cNvPr id="136" name="Group 6"/>
              <p:cNvGrpSpPr/>
              <p:nvPr/>
            </p:nvGrpSpPr>
            <p:grpSpPr>
              <a:xfrm>
                <a:off x="569160" y="2565360"/>
                <a:ext cx="2104920" cy="2580480"/>
                <a:chOff x="569160" y="2565360"/>
                <a:chExt cx="2104920" cy="2580480"/>
              </a:xfrm>
            </p:grpSpPr>
            <p:sp>
              <p:nvSpPr>
                <p:cNvPr id="137" name="Rectangle 7"/>
                <p:cNvSpPr/>
                <p:nvPr/>
              </p:nvSpPr>
              <p:spPr>
                <a:xfrm>
                  <a:off x="961560" y="2565360"/>
                  <a:ext cx="171252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黑体"/>
                      <a:ea typeface="宋体"/>
                    </a:rPr>
                    <a:t>4 9 0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黑体"/>
                      <a:ea typeface="宋体"/>
                    </a:rPr>
                    <a:t>1 3 0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38" name="Rectangle 8"/>
                <p:cNvSpPr/>
                <p:nvPr/>
              </p:nvSpPr>
              <p:spPr>
                <a:xfrm>
                  <a:off x="569160" y="3390840"/>
                  <a:ext cx="4017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黑体"/>
                      <a:ea typeface="宋体"/>
                    </a:rPr>
                    <a:t>-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39" name="Rectangle 9"/>
                <p:cNvSpPr/>
                <p:nvPr/>
              </p:nvSpPr>
              <p:spPr>
                <a:xfrm>
                  <a:off x="929880" y="4228920"/>
                  <a:ext cx="17125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ff"/>
                      </a:solidFill>
                      <a:latin typeface="黑体"/>
                      <a:ea typeface="宋体"/>
                    </a:rPr>
                    <a:t>3 6 0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40" name="Line 10"/>
              <p:cNvSpPr/>
              <p:nvPr/>
            </p:nvSpPr>
            <p:spPr>
              <a:xfrm>
                <a:off x="324000" y="4344840"/>
                <a:ext cx="25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41" name="Text Box 11"/>
            <p:cNvSpPr/>
            <p:nvPr/>
          </p:nvSpPr>
          <p:spPr>
            <a:xfrm>
              <a:off x="3132360" y="14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黑体"/>
                  <a:ea typeface="宋体"/>
                </a:rPr>
                <a:t>360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4716360" y="1484280"/>
            <a:ext cx="4284720" cy="3766320"/>
            <a:chOff x="4716360" y="1484280"/>
            <a:chExt cx="4284720" cy="3766320"/>
          </a:xfrm>
        </p:grpSpPr>
        <p:grpSp>
          <p:nvGrpSpPr>
            <p:cNvPr id="143" name="Group 13"/>
            <p:cNvGrpSpPr/>
            <p:nvPr/>
          </p:nvGrpSpPr>
          <p:grpSpPr>
            <a:xfrm>
              <a:off x="4716360" y="2205000"/>
              <a:ext cx="2636280" cy="3045600"/>
              <a:chOff x="4716360" y="2205000"/>
              <a:chExt cx="2636280" cy="3045600"/>
            </a:xfrm>
          </p:grpSpPr>
          <p:sp>
            <p:nvSpPr>
              <p:cNvPr id="144" name="Rectangle 14"/>
              <p:cNvSpPr/>
              <p:nvPr/>
            </p:nvSpPr>
            <p:spPr>
              <a:xfrm>
                <a:off x="5301000" y="2671560"/>
                <a:ext cx="1712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黑体"/>
                    <a:ea typeface="宋体"/>
                  </a:rPr>
                  <a:t>2 4 0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黑体"/>
                    <a:ea typeface="宋体"/>
                  </a:rPr>
                  <a:t>1 6 0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45" name="Group 15"/>
              <p:cNvGrpSpPr/>
              <p:nvPr/>
            </p:nvGrpSpPr>
            <p:grpSpPr>
              <a:xfrm>
                <a:off x="4716360" y="3606840"/>
                <a:ext cx="2636280" cy="916920"/>
                <a:chOff x="4716360" y="3606840"/>
                <a:chExt cx="2636280" cy="916920"/>
              </a:xfrm>
            </p:grpSpPr>
            <p:sp>
              <p:nvSpPr>
                <p:cNvPr id="146" name="Rectangle 16"/>
                <p:cNvSpPr/>
                <p:nvPr/>
              </p:nvSpPr>
              <p:spPr>
                <a:xfrm>
                  <a:off x="4716360" y="3606840"/>
                  <a:ext cx="640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黑体"/>
                      <a:ea typeface="宋体"/>
                    </a:rPr>
                    <a:t>-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47" name="Line 17"/>
                <p:cNvSpPr/>
                <p:nvPr/>
              </p:nvSpPr>
              <p:spPr>
                <a:xfrm>
                  <a:off x="5009400" y="4384800"/>
                  <a:ext cx="2343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48" name="Rectangle 18"/>
              <p:cNvSpPr/>
              <p:nvPr/>
            </p:nvSpPr>
            <p:spPr>
              <a:xfrm>
                <a:off x="5364720" y="4333680"/>
                <a:ext cx="167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ff"/>
                    </a:solidFill>
                    <a:latin typeface="Arial Black"/>
                    <a:ea typeface="楷体_GB2312"/>
                  </a:rPr>
                  <a:t>   </a:t>
                </a:r>
                <a:r>
                  <a:rPr b="0" lang="en-US" sz="5400" spc="-1" strike="noStrike">
                    <a:solidFill>
                      <a:srgbClr val="0000ff"/>
                    </a:solidFill>
                    <a:latin typeface="黑体"/>
                    <a:ea typeface="宋体"/>
                  </a:rPr>
                  <a:t>8 0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49" name="Rectangle 19"/>
              <p:cNvSpPr/>
              <p:nvPr/>
            </p:nvSpPr>
            <p:spPr>
              <a:xfrm>
                <a:off x="5183640" y="2205000"/>
                <a:ext cx="3848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0066"/>
                    </a:solidFill>
                    <a:latin typeface="Impact"/>
                    <a:ea typeface="楷体_GB2312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0" name="Text Box 20"/>
            <p:cNvSpPr/>
            <p:nvPr/>
          </p:nvSpPr>
          <p:spPr>
            <a:xfrm>
              <a:off x="7597800" y="1484280"/>
              <a:ext cx="14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黑体"/>
                  <a:ea typeface="宋体"/>
                </a:rPr>
                <a:t>80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1" name="AutoShape 21"/>
          <p:cNvSpPr/>
          <p:nvPr/>
        </p:nvSpPr>
        <p:spPr>
          <a:xfrm>
            <a:off x="4500720" y="458136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2028600" y="5319720"/>
            <a:ext cx="469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里的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0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0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为什么不写？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3" name="Picture 23" descr="7"/>
          <p:cNvPicPr/>
          <p:nvPr/>
        </p:nvPicPr>
        <p:blipFill>
          <a:blip r:embed="rId1"/>
          <a:srcRect l="0" t="0" r="0" b="6100"/>
          <a:stretch/>
        </p:blipFill>
        <p:spPr>
          <a:xfrm>
            <a:off x="7162920" y="4935600"/>
            <a:ext cx="1981080" cy="16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835280" y="11592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Arial"/>
                <a:ea typeface="楷体_GB2312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5280" y="126828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笔算几百几十的减法的方法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2117880"/>
            <a:ext cx="856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同数位对齐；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个位减起；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3280" y="38098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位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够减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从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百位退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8" name="Picture 6" descr="7"/>
          <p:cNvPicPr/>
          <p:nvPr/>
        </p:nvPicPr>
        <p:blipFill>
          <a:blip r:embed="rId1"/>
          <a:srcRect l="0" t="0" r="0" b="9231"/>
          <a:stretch/>
        </p:blipFill>
        <p:spPr>
          <a:xfrm>
            <a:off x="6858000" y="434340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标题 1"/>
          <p:cNvSpPr/>
          <p:nvPr/>
        </p:nvSpPr>
        <p:spPr>
          <a:xfrm>
            <a:off x="900000" y="260280"/>
            <a:ext cx="7993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（三）巩固提高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24000" y="12700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笔算我最棒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388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标题 1"/>
          <p:cNvSpPr/>
          <p:nvPr/>
        </p:nvSpPr>
        <p:spPr>
          <a:xfrm>
            <a:off x="900000" y="260280"/>
            <a:ext cx="7993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（三）巩固提高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12700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火车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8360" y="2254320"/>
            <a:ext cx="2592360" cy="83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3060720" y="2166840"/>
            <a:ext cx="1655640" cy="96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645080" y="2165400"/>
            <a:ext cx="172728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6372360" y="2205000"/>
            <a:ext cx="1752480" cy="946080"/>
          </a:xfrm>
          <a:prstGeom prst="rect">
            <a:avLst/>
          </a:prstGeom>
          <a:ln w="0">
            <a:noFill/>
          </a:ln>
        </p:spPr>
      </p:pic>
      <p:sp>
        <p:nvSpPr>
          <p:cNvPr id="168" name="标题 1"/>
          <p:cNvSpPr/>
          <p:nvPr/>
        </p:nvSpPr>
        <p:spPr>
          <a:xfrm>
            <a:off x="2340000" y="2421000"/>
            <a:ext cx="72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8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标题 1"/>
          <p:cNvSpPr/>
          <p:nvPr/>
        </p:nvSpPr>
        <p:spPr>
          <a:xfrm>
            <a:off x="5653080" y="2421000"/>
            <a:ext cx="719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97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标题 1"/>
          <p:cNvSpPr/>
          <p:nvPr/>
        </p:nvSpPr>
        <p:spPr>
          <a:xfrm>
            <a:off x="3997440" y="2421000"/>
            <a:ext cx="718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69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标题 1"/>
          <p:cNvSpPr/>
          <p:nvPr/>
        </p:nvSpPr>
        <p:spPr>
          <a:xfrm>
            <a:off x="7380360" y="2421000"/>
            <a:ext cx="72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2360" y="227664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几百几十加减几百几十笔算时，应注意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同数位对齐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个位减起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笔算加法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十位满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向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百位进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笔算减法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十位不够减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从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百位退一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" name="WordArt 3"/>
          <p:cNvSpPr txBox="1"/>
          <p:nvPr/>
        </p:nvSpPr>
        <p:spPr>
          <a:xfrm>
            <a:off x="2340000" y="692280"/>
            <a:ext cx="4176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+mn-ea"/>
              </a:rPr>
              <a:t>课堂总结</a:t>
            </a:r>
            <a:endParaRPr b="1" lang="en-US" sz="60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174" name="Picture 4" descr="7"/>
          <p:cNvPicPr/>
          <p:nvPr/>
        </p:nvPicPr>
        <p:blipFill>
          <a:blip r:embed="rId3"/>
          <a:srcRect l="0" t="0" r="0" b="9333"/>
          <a:stretch/>
        </p:blipFill>
        <p:spPr>
          <a:xfrm>
            <a:off x="7010280" y="3048120"/>
            <a:ext cx="1981440" cy="16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4480" y="188640"/>
            <a:ext cx="5969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等线 Light"/>
                <a:ea typeface="楷体_GB2312"/>
              </a:rPr>
              <a:t>温故知新</a:t>
            </a:r>
            <a:r>
              <a:rPr b="1" lang="en-US" sz="5400" spc="-1" strike="noStrike">
                <a:solidFill>
                  <a:srgbClr val="800000"/>
                </a:solidFill>
                <a:latin typeface="等线 Light"/>
                <a:ea typeface="楷体_GB2312"/>
              </a:rPr>
              <a:t>—</a:t>
            </a:r>
            <a:r>
              <a:rPr b="1" lang="zh-CN" sz="5400" spc="-1" strike="noStrike">
                <a:solidFill>
                  <a:srgbClr val="800000"/>
                </a:solidFill>
                <a:latin typeface="等线 Light"/>
                <a:ea typeface="楷体_GB2312"/>
              </a:rPr>
              <a:t>笔算</a:t>
            </a:r>
            <a:endParaRPr b="0" lang="en-US" sz="5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567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5+16=       3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6=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152280" y="1523880"/>
            <a:ext cx="4697640" cy="3732840"/>
            <a:chOff x="152280" y="1523880"/>
            <a:chExt cx="4697640" cy="3732840"/>
          </a:xfrm>
        </p:grpSpPr>
        <p:grpSp>
          <p:nvGrpSpPr>
            <p:cNvPr id="45" name="Group 5"/>
            <p:cNvGrpSpPr/>
            <p:nvPr/>
          </p:nvGrpSpPr>
          <p:grpSpPr>
            <a:xfrm>
              <a:off x="152280" y="2676240"/>
              <a:ext cx="2915640" cy="2580480"/>
              <a:chOff x="152280" y="2676240"/>
              <a:chExt cx="2915640" cy="2580480"/>
            </a:xfrm>
          </p:grpSpPr>
          <p:grpSp>
            <p:nvGrpSpPr>
              <p:cNvPr id="46" name="Group 6"/>
              <p:cNvGrpSpPr/>
              <p:nvPr/>
            </p:nvGrpSpPr>
            <p:grpSpPr>
              <a:xfrm>
                <a:off x="334800" y="2676240"/>
                <a:ext cx="1795320" cy="2580480"/>
                <a:chOff x="334800" y="2676240"/>
                <a:chExt cx="1795320" cy="2580480"/>
              </a:xfrm>
            </p:grpSpPr>
            <p:sp>
              <p:nvSpPr>
                <p:cNvPr id="47" name="Rectangle 7"/>
                <p:cNvSpPr/>
                <p:nvPr/>
              </p:nvSpPr>
              <p:spPr>
                <a:xfrm>
                  <a:off x="755640" y="2676240"/>
                  <a:ext cx="137448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 5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 6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" name="Rectangle 8"/>
                <p:cNvSpPr/>
                <p:nvPr/>
              </p:nvSpPr>
              <p:spPr>
                <a:xfrm>
                  <a:off x="334800" y="3501720"/>
                  <a:ext cx="572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9" name="Rectangle 9"/>
                <p:cNvSpPr/>
                <p:nvPr/>
              </p:nvSpPr>
              <p:spPr>
                <a:xfrm>
                  <a:off x="759240" y="4339800"/>
                  <a:ext cx="11422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6 1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0" name="Line 10"/>
              <p:cNvSpPr/>
              <p:nvPr/>
            </p:nvSpPr>
            <p:spPr>
              <a:xfrm>
                <a:off x="152280" y="4455720"/>
                <a:ext cx="29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1" name="Text Box 11"/>
            <p:cNvSpPr/>
            <p:nvPr/>
          </p:nvSpPr>
          <p:spPr>
            <a:xfrm>
              <a:off x="3310920" y="1523880"/>
              <a:ext cx="153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61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4643280" y="1484280"/>
            <a:ext cx="4284720" cy="3766320"/>
            <a:chOff x="4643280" y="1484280"/>
            <a:chExt cx="4284720" cy="3766320"/>
          </a:xfrm>
        </p:grpSpPr>
        <p:grpSp>
          <p:nvGrpSpPr>
            <p:cNvPr id="53" name="Group 13"/>
            <p:cNvGrpSpPr/>
            <p:nvPr/>
          </p:nvGrpSpPr>
          <p:grpSpPr>
            <a:xfrm>
              <a:off x="4643280" y="2205000"/>
              <a:ext cx="2636280" cy="3045600"/>
              <a:chOff x="4643280" y="2205000"/>
              <a:chExt cx="2636280" cy="3045600"/>
            </a:xfrm>
          </p:grpSpPr>
          <p:sp>
            <p:nvSpPr>
              <p:cNvPr id="54" name="Rectangle 14"/>
              <p:cNvSpPr/>
              <p:nvPr/>
            </p:nvSpPr>
            <p:spPr>
              <a:xfrm>
                <a:off x="5250600" y="2671560"/>
                <a:ext cx="13208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 4 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 6 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55" name="Group 15"/>
              <p:cNvGrpSpPr/>
              <p:nvPr/>
            </p:nvGrpSpPr>
            <p:grpSpPr>
              <a:xfrm>
                <a:off x="4643280" y="3606840"/>
                <a:ext cx="2636280" cy="916920"/>
                <a:chOff x="4643280" y="3606840"/>
                <a:chExt cx="2636280" cy="916920"/>
              </a:xfrm>
            </p:grpSpPr>
            <p:sp>
              <p:nvSpPr>
                <p:cNvPr id="56" name="Rectangle 16"/>
                <p:cNvSpPr/>
                <p:nvPr/>
              </p:nvSpPr>
              <p:spPr>
                <a:xfrm>
                  <a:off x="4643280" y="3606840"/>
                  <a:ext cx="640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-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" name="Line 17"/>
                <p:cNvSpPr/>
                <p:nvPr/>
              </p:nvSpPr>
              <p:spPr>
                <a:xfrm>
                  <a:off x="4936320" y="4384800"/>
                  <a:ext cx="2343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8" name="Rectangle 18"/>
              <p:cNvSpPr/>
              <p:nvPr/>
            </p:nvSpPr>
            <p:spPr>
              <a:xfrm>
                <a:off x="5266440" y="4333680"/>
                <a:ext cx="1499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5400" spc="-1" strike="noStrike">
                    <a:solidFill>
                      <a:srgbClr val="0000ff"/>
                    </a:solidFill>
                    <a:latin typeface="Arial Black"/>
                    <a:ea typeface="楷体_GB2312"/>
                  </a:rPr>
                  <a:t>  </a:t>
                </a:r>
                <a:r>
                  <a:rPr b="1" lang="en-US" sz="54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8 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5084280" y="2205000"/>
                <a:ext cx="1836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0" name="Text Box 20"/>
            <p:cNvSpPr/>
            <p:nvPr/>
          </p:nvSpPr>
          <p:spPr>
            <a:xfrm>
              <a:off x="7524720" y="1484280"/>
              <a:ext cx="14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1" name="Rectangle 15"/>
          <p:cNvSpPr/>
          <p:nvPr/>
        </p:nvSpPr>
        <p:spPr>
          <a:xfrm>
            <a:off x="584928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17356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5214960" y="2590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107928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6320" y="1279440"/>
            <a:ext cx="1012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笔算两位数加减两位数时，要注意什么？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908000" y="189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回忆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5280" y="22096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同数位对齐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5280" y="30020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个位算起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95280" y="379404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笔算加法，个位满十要向十位进一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95280" y="4586400"/>
            <a:ext cx="9434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笔算减法，个位不够减要从十位退一，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一当做十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72" name="Picture 3" descr="1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2"/>
          <p:cNvPicPr/>
          <p:nvPr/>
        </p:nvPicPr>
        <p:blipFill>
          <a:blip r:embed="rId2"/>
          <a:srcRect l="0" t="0" r="0" b="10373"/>
          <a:stretch/>
        </p:blipFill>
        <p:spPr>
          <a:xfrm>
            <a:off x="0" y="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3"/>
          <p:cNvPicPr/>
          <p:nvPr/>
        </p:nvPicPr>
        <p:blipFill>
          <a:blip r:embed="rId3"/>
          <a:stretch/>
        </p:blipFill>
        <p:spPr>
          <a:xfrm>
            <a:off x="441972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4"/>
          <p:cNvPicPr/>
          <p:nvPr/>
        </p:nvPicPr>
        <p:blipFill>
          <a:blip r:embed="rId4"/>
          <a:srcRect l="0" t="0" r="0" b="27087"/>
          <a:stretch/>
        </p:blipFill>
        <p:spPr>
          <a:xfrm>
            <a:off x="0" y="3505320"/>
            <a:ext cx="44956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5"/>
          <p:cNvPicPr/>
          <p:nvPr/>
        </p:nvPicPr>
        <p:blipFill>
          <a:blip r:embed="rId1"/>
          <a:srcRect l="0" t="0" r="0" b="3795"/>
          <a:stretch/>
        </p:blipFill>
        <p:spPr>
          <a:xfrm>
            <a:off x="0" y="3803760"/>
            <a:ext cx="3200400" cy="293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6"/>
          <p:cNvPicPr/>
          <p:nvPr/>
        </p:nvPicPr>
        <p:blipFill>
          <a:blip r:embed="rId2"/>
          <a:srcRect l="0" t="0" r="0" b="3067"/>
          <a:stretch/>
        </p:blipFill>
        <p:spPr>
          <a:xfrm>
            <a:off x="0" y="0"/>
            <a:ext cx="3287880" cy="321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7"/>
          <p:cNvPicPr/>
          <p:nvPr/>
        </p:nvPicPr>
        <p:blipFill>
          <a:blip r:embed="rId3"/>
          <a:srcRect l="0" t="0" r="0" b="6349"/>
          <a:stretch/>
        </p:blipFill>
        <p:spPr>
          <a:xfrm>
            <a:off x="4191120" y="0"/>
            <a:ext cx="3581280" cy="2997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505320" y="4343400"/>
            <a:ext cx="5638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上海世博会的吉祥物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海宝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98064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博园里的一个纪念品商店，上午卖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海宝，下午卖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海宝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1" name="Picture 3" descr="7"/>
          <p:cNvPicPr/>
          <p:nvPr/>
        </p:nvPicPr>
        <p:blipFill>
          <a:blip r:embed="rId1"/>
          <a:srcRect l="0" t="0" r="0" b="5497"/>
          <a:stretch/>
        </p:blipFill>
        <p:spPr>
          <a:xfrm>
            <a:off x="-380880" y="3429000"/>
            <a:ext cx="2895480" cy="2376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250920" y="249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上午和下午一共卖出多少个海宝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340000" y="328464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黑体"/>
                <a:ea typeface="宋体"/>
              </a:rPr>
              <a:t>380 + 550 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295280" y="11430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黑体"/>
                <a:ea typeface="宋体"/>
              </a:rPr>
              <a:t>380 + 550 =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2124000" y="227664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179280" y="1339920"/>
            <a:ext cx="1298520" cy="916920"/>
            <a:chOff x="179280" y="1339920"/>
            <a:chExt cx="1298520" cy="916920"/>
          </a:xfrm>
        </p:grpSpPr>
        <p:pic>
          <p:nvPicPr>
            <p:cNvPr id="87" name="Picture 25" descr="小鱼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11480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26"/>
            <p:cNvSpPr/>
            <p:nvPr/>
          </p:nvSpPr>
          <p:spPr>
            <a:xfrm>
              <a:off x="395280" y="1339920"/>
              <a:ext cx="108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9" name="Text Box 7"/>
          <p:cNvSpPr/>
          <p:nvPr/>
        </p:nvSpPr>
        <p:spPr>
          <a:xfrm>
            <a:off x="1143000" y="228600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试一试，先独立完成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219320" y="3124080"/>
            <a:ext cx="62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小组合作交流算法；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219320" y="3886200"/>
            <a:ext cx="47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全班交流、汇报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2" name="Picture 30" descr="p96-3"/>
          <p:cNvPicPr/>
          <p:nvPr/>
        </p:nvPicPr>
        <p:blipFill>
          <a:blip r:embed="rId2"/>
          <a:srcRect l="64271" t="0" r="-1206" b="0"/>
          <a:stretch/>
        </p:blipFill>
        <p:spPr>
          <a:xfrm>
            <a:off x="6477120" y="2743200"/>
            <a:ext cx="201924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871640" y="1890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Arial"/>
                <a:ea typeface="楷体_GB2312"/>
              </a:rPr>
              <a:t>笔算：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1484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230+540=         320+180=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539640" y="1413000"/>
            <a:ext cx="4175280" cy="3645720"/>
            <a:chOff x="539640" y="1413000"/>
            <a:chExt cx="4175280" cy="3645720"/>
          </a:xfrm>
        </p:grpSpPr>
        <p:grpSp>
          <p:nvGrpSpPr>
            <p:cNvPr id="96" name="Group 5"/>
            <p:cNvGrpSpPr/>
            <p:nvPr/>
          </p:nvGrpSpPr>
          <p:grpSpPr>
            <a:xfrm>
              <a:off x="539640" y="2565360"/>
              <a:ext cx="2518560" cy="2493360"/>
              <a:chOff x="539640" y="2565360"/>
              <a:chExt cx="2518560" cy="2493360"/>
            </a:xfrm>
          </p:grpSpPr>
          <p:sp>
            <p:nvSpPr>
              <p:cNvPr id="97" name="Rectangle 6"/>
              <p:cNvSpPr/>
              <p:nvPr/>
            </p:nvSpPr>
            <p:spPr>
              <a:xfrm>
                <a:off x="1249920" y="2565360"/>
                <a:ext cx="1712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黑体"/>
                    <a:ea typeface="宋体"/>
                  </a:rPr>
                  <a:t>2 3 0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黑体"/>
                    <a:ea typeface="宋体"/>
                  </a:rPr>
                  <a:t>5 4 0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98" name="Group 7"/>
              <p:cNvGrpSpPr/>
              <p:nvPr/>
            </p:nvGrpSpPr>
            <p:grpSpPr>
              <a:xfrm>
                <a:off x="539640" y="3486240"/>
                <a:ext cx="2518560" cy="916920"/>
                <a:chOff x="539640" y="3486240"/>
                <a:chExt cx="2518560" cy="916920"/>
              </a:xfrm>
            </p:grpSpPr>
            <p:sp>
              <p:nvSpPr>
                <p:cNvPr id="99" name="Rectangle 8"/>
                <p:cNvSpPr/>
                <p:nvPr/>
              </p:nvSpPr>
              <p:spPr>
                <a:xfrm>
                  <a:off x="539640" y="3486240"/>
                  <a:ext cx="10108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黑体"/>
                      <a:ea typeface="宋体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0" name="Line 9"/>
                <p:cNvSpPr/>
                <p:nvPr/>
              </p:nvSpPr>
              <p:spPr>
                <a:xfrm>
                  <a:off x="655560" y="4262400"/>
                  <a:ext cx="24026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01" name="Rectangle 10"/>
              <p:cNvSpPr/>
              <p:nvPr/>
            </p:nvSpPr>
            <p:spPr>
              <a:xfrm>
                <a:off x="1208880" y="4141800"/>
                <a:ext cx="1712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cc0000"/>
                    </a:solidFill>
                    <a:latin typeface="黑体"/>
                    <a:ea typeface="宋体"/>
                  </a:rPr>
                  <a:t>7 7 0</a:t>
                </a:r>
                <a:endParaRPr b="0" lang="en-US" sz="5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02" name="Text Box 11"/>
            <p:cNvSpPr/>
            <p:nvPr/>
          </p:nvSpPr>
          <p:spPr>
            <a:xfrm>
              <a:off x="3203640" y="1413000"/>
              <a:ext cx="151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0000"/>
                  </a:solidFill>
                  <a:latin typeface="黑体"/>
                  <a:ea typeface="宋体"/>
                </a:rPr>
                <a:t>770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4911480" y="1413000"/>
            <a:ext cx="4016520" cy="3675960"/>
            <a:chOff x="4911480" y="1413000"/>
            <a:chExt cx="4016520" cy="3675960"/>
          </a:xfrm>
        </p:grpSpPr>
        <p:sp>
          <p:nvSpPr>
            <p:cNvPr id="104" name="Text Box 13"/>
            <p:cNvSpPr/>
            <p:nvPr/>
          </p:nvSpPr>
          <p:spPr>
            <a:xfrm>
              <a:off x="7596360" y="1413000"/>
              <a:ext cx="1331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0000"/>
                  </a:solidFill>
                  <a:latin typeface="黑体"/>
                  <a:ea typeface="宋体"/>
                </a:rPr>
                <a:t>500</a:t>
              </a:r>
              <a:endParaRPr b="0" lang="en-US" sz="5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05" name="Group 14"/>
            <p:cNvGrpSpPr/>
            <p:nvPr/>
          </p:nvGrpSpPr>
          <p:grpSpPr>
            <a:xfrm>
              <a:off x="4911480" y="2565360"/>
              <a:ext cx="2541960" cy="2523600"/>
              <a:chOff x="4911480" y="2565360"/>
              <a:chExt cx="2541960" cy="2523600"/>
            </a:xfrm>
          </p:grpSpPr>
          <p:grpSp>
            <p:nvGrpSpPr>
              <p:cNvPr id="106" name="Group 15"/>
              <p:cNvGrpSpPr/>
              <p:nvPr/>
            </p:nvGrpSpPr>
            <p:grpSpPr>
              <a:xfrm>
                <a:off x="4911480" y="2565360"/>
                <a:ext cx="2541960" cy="2523600"/>
                <a:chOff x="4911480" y="2565360"/>
                <a:chExt cx="2541960" cy="2523600"/>
              </a:xfrm>
            </p:grpSpPr>
            <p:grpSp>
              <p:nvGrpSpPr>
                <p:cNvPr id="107" name="Group 16"/>
                <p:cNvGrpSpPr/>
                <p:nvPr/>
              </p:nvGrpSpPr>
              <p:grpSpPr>
                <a:xfrm>
                  <a:off x="4911480" y="2565360"/>
                  <a:ext cx="2541960" cy="1788480"/>
                  <a:chOff x="4911480" y="2565360"/>
                  <a:chExt cx="2541960" cy="1788480"/>
                </a:xfrm>
              </p:grpSpPr>
              <p:sp>
                <p:nvSpPr>
                  <p:cNvPr id="108" name="Rectangle 17"/>
                  <p:cNvSpPr/>
                  <p:nvPr/>
                </p:nvSpPr>
                <p:spPr>
                  <a:xfrm>
                    <a:off x="5533200" y="2565360"/>
                    <a:ext cx="1712520" cy="173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400" spc="-1" strike="noStrike">
                        <a:solidFill>
                          <a:srgbClr val="000000"/>
                        </a:solidFill>
                        <a:latin typeface="黑体"/>
                        <a:ea typeface="宋体"/>
                      </a:rPr>
                      <a:t>3 2 0</a:t>
                    </a:r>
                    <a:endParaRPr b="0" lang="en-US" sz="54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400" spc="-1" strike="noStrike">
                        <a:solidFill>
                          <a:srgbClr val="000000"/>
                        </a:solidFill>
                        <a:latin typeface="黑体"/>
                        <a:ea typeface="宋体"/>
                      </a:rPr>
                      <a:t>1 8 0</a:t>
                    </a:r>
                    <a:endParaRPr b="0" lang="en-US" sz="54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109" name="Rectangle 18"/>
                  <p:cNvSpPr/>
                  <p:nvPr/>
                </p:nvSpPr>
                <p:spPr>
                  <a:xfrm>
                    <a:off x="4911480" y="3436920"/>
                    <a:ext cx="57240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400" spc="-1" strike="noStrike">
                        <a:solidFill>
                          <a:srgbClr val="000000"/>
                        </a:solidFill>
                        <a:latin typeface="黑体"/>
                        <a:ea typeface="宋体"/>
                      </a:rPr>
                      <a:t>+</a:t>
                    </a:r>
                    <a:endParaRPr b="0" lang="en-US" sz="54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110" name="Line 19"/>
                  <p:cNvSpPr/>
                  <p:nvPr/>
                </p:nvSpPr>
                <p:spPr>
                  <a:xfrm>
                    <a:off x="5076720" y="4287960"/>
                    <a:ext cx="23767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111" name="Rectangle 20"/>
                <p:cNvSpPr/>
                <p:nvPr/>
              </p:nvSpPr>
              <p:spPr>
                <a:xfrm>
                  <a:off x="5533200" y="4172040"/>
                  <a:ext cx="17125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cc0000"/>
                      </a:solidFill>
                      <a:latin typeface="黑体"/>
                      <a:ea typeface="宋体"/>
                    </a:rPr>
                    <a:t>5 0 0</a:t>
                  </a:r>
                  <a:endParaRPr b="0" lang="en-US" sz="5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12" name="Rectangle 21"/>
              <p:cNvSpPr/>
              <p:nvPr/>
            </p:nvSpPr>
            <p:spPr>
              <a:xfrm>
                <a:off x="5712120" y="3768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黑体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pic>
        <p:nvPicPr>
          <p:cNvPr id="113" name="Picture 22" descr="7"/>
          <p:cNvPicPr/>
          <p:nvPr/>
        </p:nvPicPr>
        <p:blipFill>
          <a:blip r:embed="rId1"/>
          <a:srcRect l="0" t="0" r="0" b="10675"/>
          <a:stretch/>
        </p:blipFill>
        <p:spPr>
          <a:xfrm>
            <a:off x="7162920" y="5087880"/>
            <a:ext cx="198108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050920" y="333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Arial"/>
                <a:ea typeface="楷体_GB2312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5280" y="126828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笔算几百几十的加法的方法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236232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相同数位对齐；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个位加起；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19320" y="423396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位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向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百位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进一。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</dc:creator>
  <dc:description>  </dc:description>
  <cp:keywords/>
  <dc:language>en-US</dc:language>
  <cp:lastModifiedBy>陈 赫</cp:lastModifiedBy>
  <dcterms:modified xsi:type="dcterms:W3CDTF">2018-10-29T10:47:54Z</dcterms:modified>
  <cp:revision>4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