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995-B4FE-4A5D-A15E-50DDF7C8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64D-8A8D-4003-B63F-0EB6693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264-3446-4605-A4B0-FF6F11AA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205-E110-443C-876D-8E957608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E63-8635-4824-B464-EB43576B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57F-56CB-4F4E-9E35-1AA1B08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C35-5F07-4857-A9B0-327C0C3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C9B-EA6F-4E00-9B03-82755B3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692-4CB6-466C-9123-EA3480B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23E-2CC1-401B-BDE5-9E745D5F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8EF-54A2-4138-9D3C-6FC8A9A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0E9-9F26-457A-BA01-8A0F63FC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2910-C964-46F8-9483-D259529ABC8F}" type="slidenum">
              <a:rPr b="0" lang="en-US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M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678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790640" y="2606760"/>
            <a:ext cx="41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三位数的加减估算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347840" y="206064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mpact"/>
                <a:ea typeface="黑体"/>
              </a:rPr>
              <a:t>387≈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349640" y="395280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mpact"/>
                <a:ea typeface="黑体"/>
              </a:rPr>
              <a:t>196≈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714200" y="203976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mpact"/>
                <a:ea typeface="黑体"/>
              </a:rPr>
              <a:t>518≈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817520" y="395280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mpact"/>
                <a:ea typeface="黑体"/>
              </a:rPr>
              <a:t>221≈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654000" y="2300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68120" y="98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估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2879640" y="206064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39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264000" y="206064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52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2952720" y="389556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289560" y="395280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22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16000" y="657360"/>
            <a:ext cx="720108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50"/>
          <p:cNvGrpSpPr/>
          <p:nvPr/>
        </p:nvGrpSpPr>
        <p:grpSpPr>
          <a:xfrm>
            <a:off x="2195640" y="2178000"/>
            <a:ext cx="5448240" cy="4680000"/>
            <a:chOff x="2195640" y="2178000"/>
            <a:chExt cx="5448240" cy="4680000"/>
          </a:xfrm>
        </p:grpSpPr>
        <p:pic>
          <p:nvPicPr>
            <p:cNvPr id="55" name="Picture 28" descr="014"/>
            <p:cNvPicPr/>
            <p:nvPr/>
          </p:nvPicPr>
          <p:blipFill>
            <a:blip r:embed="rId1"/>
            <a:stretch/>
          </p:blipFill>
          <p:spPr>
            <a:xfrm>
              <a:off x="2195640" y="2178000"/>
              <a:ext cx="43923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30"/>
            <p:cNvSpPr/>
            <p:nvPr/>
          </p:nvSpPr>
          <p:spPr>
            <a:xfrm>
              <a:off x="2413080" y="2394000"/>
              <a:ext cx="437364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Impact"/>
                  <a:ea typeface="楷体_GB2312"/>
                </a:rPr>
                <a:t>   </a:t>
              </a:r>
              <a:r>
                <a:rPr b="1" lang="en-US" sz="4800" spc="-1" strike="noStrike">
                  <a:solidFill>
                    <a:srgbClr val="000000"/>
                  </a:solidFill>
                  <a:latin typeface="Impact"/>
                  <a:ea typeface="楷体_GB2312"/>
                </a:rPr>
                <a:t>450&gt;441</a:t>
              </a:r>
              <a:endParaRPr b="0" lang="en-US" sz="4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Impact"/>
                  <a:ea typeface="楷体_GB2312"/>
                </a:rPr>
                <a:t>答：六个年级的学生同时看巨幕电影坐不下。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57" name="Picture 31" descr="p98"/>
            <p:cNvPicPr/>
            <p:nvPr/>
          </p:nvPicPr>
          <p:blipFill>
            <a:blip r:embed="rId2"/>
            <a:srcRect l="0" t="0" r="52308" b="0"/>
            <a:stretch/>
          </p:blipFill>
          <p:spPr>
            <a:xfrm>
              <a:off x="5940360" y="3906720"/>
              <a:ext cx="1703520" cy="295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44"/>
          <p:cNvSpPr/>
          <p:nvPr/>
        </p:nvSpPr>
        <p:spPr>
          <a:xfrm>
            <a:off x="1908000" y="1177920"/>
            <a:ext cx="434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mpact"/>
                <a:ea typeface="楷体_GB2312"/>
              </a:rPr>
              <a:t>221  +  234</a:t>
            </a:r>
            <a:r>
              <a:rPr b="1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≈</a:t>
            </a:r>
            <a:r>
              <a:rPr b="1" lang="en-US" sz="5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5437440" y="12906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Impact"/>
                <a:ea typeface="楷体_GB2312"/>
              </a:rPr>
              <a:t>450 </a:t>
            </a:r>
            <a:r>
              <a:rPr b="1" lang="zh-CN" sz="5400" spc="-1" strike="noStrike">
                <a:solidFill>
                  <a:srgbClr val="0000ff"/>
                </a:solidFill>
                <a:latin typeface="Impact"/>
                <a:ea typeface="黑体"/>
              </a:rPr>
              <a:t>（个）</a:t>
            </a:r>
            <a:r>
              <a:rPr b="1" lang="zh-CN" sz="5400" spc="-1" strike="noStrike">
                <a:solidFill>
                  <a:srgbClr val="0000ff"/>
                </a:solidFill>
                <a:latin typeface="Impact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Rectangle 46"/>
          <p:cNvSpPr/>
          <p:nvPr/>
        </p:nvSpPr>
        <p:spPr>
          <a:xfrm>
            <a:off x="1949400" y="76680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Impact"/>
                <a:ea typeface="楷体_GB2312"/>
              </a:rPr>
              <a:t>220</a:t>
            </a:r>
            <a:r>
              <a:rPr b="1" lang="en-US" sz="4800" spc="-1" strike="noStrike">
                <a:solidFill>
                  <a:srgbClr val="cc0066"/>
                </a:solidFill>
                <a:latin typeface="Impact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Rectangle 47"/>
          <p:cNvSpPr/>
          <p:nvPr/>
        </p:nvSpPr>
        <p:spPr>
          <a:xfrm>
            <a:off x="3635280" y="765000"/>
            <a:ext cx="1757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Impact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Impact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Impact"/>
                <a:ea typeface="楷体_GB2312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539640" y="2060640"/>
            <a:ext cx="83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巨幕影院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44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个座位。如果两个旅行团分别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19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名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22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名团员，这两个旅行团同时看巨幕电影坐的下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0"/>
          <p:cNvGrpSpPr/>
          <p:nvPr/>
        </p:nvGrpSpPr>
        <p:grpSpPr>
          <a:xfrm>
            <a:off x="0" y="1628640"/>
            <a:ext cx="7812000" cy="4583160"/>
            <a:chOff x="0" y="1628640"/>
            <a:chExt cx="7812000" cy="4583160"/>
          </a:xfrm>
        </p:grpSpPr>
        <p:pic>
          <p:nvPicPr>
            <p:cNvPr id="64" name="Picture 13" descr="002"/>
            <p:cNvPicPr/>
            <p:nvPr/>
          </p:nvPicPr>
          <p:blipFill>
            <a:blip r:embed="rId1"/>
            <a:stretch/>
          </p:blipFill>
          <p:spPr>
            <a:xfrm>
              <a:off x="0" y="1628640"/>
              <a:ext cx="75888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5"/>
            <p:cNvSpPr/>
            <p:nvPr/>
          </p:nvSpPr>
          <p:spPr>
            <a:xfrm>
              <a:off x="711360" y="1844640"/>
              <a:ext cx="710064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66" name="Picture 11" descr="p98-1"/>
            <p:cNvPicPr/>
            <p:nvPr/>
          </p:nvPicPr>
          <p:blipFill>
            <a:blip r:embed="rId2"/>
            <a:srcRect l="0" t="0" r="53267" b="0"/>
            <a:stretch/>
          </p:blipFill>
          <p:spPr>
            <a:xfrm>
              <a:off x="181440" y="4005000"/>
              <a:ext cx="1633680" cy="22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8"/>
          <p:cNvGrpSpPr/>
          <p:nvPr/>
        </p:nvGrpSpPr>
        <p:grpSpPr>
          <a:xfrm>
            <a:off x="1979640" y="3789360"/>
            <a:ext cx="4968720" cy="1950840"/>
            <a:chOff x="1979640" y="3789360"/>
            <a:chExt cx="4968720" cy="1950840"/>
          </a:xfrm>
        </p:grpSpPr>
        <p:pic>
          <p:nvPicPr>
            <p:cNvPr id="68" name="Picture 15" descr="014"/>
            <p:cNvPicPr/>
            <p:nvPr/>
          </p:nvPicPr>
          <p:blipFill>
            <a:blip r:embed="rId3"/>
            <a:stretch/>
          </p:blipFill>
          <p:spPr>
            <a:xfrm flipH="1">
              <a:off x="1979640" y="3789360"/>
              <a:ext cx="496872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8"/>
            <p:cNvSpPr/>
            <p:nvPr/>
          </p:nvSpPr>
          <p:spPr>
            <a:xfrm>
              <a:off x="2184120" y="4165560"/>
              <a:ext cx="4746240" cy="12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441&gt; 430</a:t>
              </a:r>
              <a:endParaRPr b="0" lang="en-US" sz="4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答：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两个旅行团同时看巨幕电影坐的下。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70" name="Picture 12" descr="p98-1"/>
          <p:cNvPicPr/>
          <p:nvPr/>
        </p:nvPicPr>
        <p:blipFill>
          <a:blip r:embed="rId4"/>
          <a:srcRect l="60600" t="0" r="0" b="0"/>
          <a:stretch/>
        </p:blipFill>
        <p:spPr>
          <a:xfrm>
            <a:off x="7572240" y="4292640"/>
            <a:ext cx="1392480" cy="266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1"/>
          <p:cNvSpPr/>
          <p:nvPr/>
        </p:nvSpPr>
        <p:spPr>
          <a:xfrm>
            <a:off x="2195640" y="765000"/>
            <a:ext cx="43495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mpact"/>
                <a:ea typeface="楷体_GB2312"/>
              </a:rPr>
              <a:t>196 +  226</a:t>
            </a:r>
            <a:r>
              <a:rPr b="1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≈</a:t>
            </a:r>
            <a:r>
              <a:rPr b="1" lang="en-US" sz="5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670000" y="890640"/>
            <a:ext cx="375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Impact"/>
                <a:ea typeface="楷体_GB2312"/>
              </a:rPr>
              <a:t>430 </a:t>
            </a:r>
            <a:r>
              <a:rPr b="1" lang="zh-CN" sz="5400" spc="-1" strike="noStrike">
                <a:solidFill>
                  <a:srgbClr val="0000ff"/>
                </a:solidFill>
                <a:latin typeface="Impact"/>
                <a:ea typeface="黑体"/>
              </a:rPr>
              <a:t>（个）</a:t>
            </a:r>
            <a:r>
              <a:rPr b="1" lang="zh-CN" sz="5400" spc="-1" strike="noStrike">
                <a:solidFill>
                  <a:srgbClr val="0000ff"/>
                </a:solidFill>
                <a:latin typeface="Impact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2195640" y="333360"/>
            <a:ext cx="172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Impact"/>
                <a:ea typeface="楷体_GB2312"/>
              </a:rPr>
              <a:t>200</a:t>
            </a:r>
            <a:r>
              <a:rPr b="1" lang="en-US" sz="4800" spc="-1" strike="noStrike">
                <a:solidFill>
                  <a:srgbClr val="cc0066"/>
                </a:solidFill>
                <a:latin typeface="Impact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3859200" y="333360"/>
            <a:ext cx="175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Impact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Impact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Impact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cc0066"/>
                </a:solidFill>
                <a:latin typeface="Impact"/>
                <a:ea typeface="楷体_GB2312"/>
              </a:rPr>
              <a:t>230</a:t>
            </a:r>
            <a:r>
              <a:rPr b="1" lang="en-US" sz="4800" spc="-1" strike="noStrike">
                <a:solidFill>
                  <a:srgbClr val="cc0066"/>
                </a:solidFill>
                <a:latin typeface="Impact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2715840" y="66600"/>
            <a:ext cx="25171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mpact"/>
                <a:ea typeface="楷体_GB2312"/>
              </a:rPr>
              <a:t>P17  6.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76" name="Picture 31" descr="p100-1"/>
          <p:cNvPicPr/>
          <p:nvPr/>
        </p:nvPicPr>
        <p:blipFill>
          <a:blip r:embed="rId1"/>
          <a:stretch/>
        </p:blipFill>
        <p:spPr>
          <a:xfrm>
            <a:off x="34920" y="1155600"/>
            <a:ext cx="23511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2"/>
          <p:cNvGrpSpPr/>
          <p:nvPr/>
        </p:nvGrpSpPr>
        <p:grpSpPr>
          <a:xfrm>
            <a:off x="593640" y="3633840"/>
            <a:ext cx="2825640" cy="1315800"/>
            <a:chOff x="593640" y="3633840"/>
            <a:chExt cx="2825640" cy="1315800"/>
          </a:xfrm>
        </p:grpSpPr>
        <p:pic>
          <p:nvPicPr>
            <p:cNvPr id="78" name="Picture 33" descr="p100-3"/>
            <p:cNvPicPr/>
            <p:nvPr/>
          </p:nvPicPr>
          <p:blipFill>
            <a:blip r:embed="rId2"/>
            <a:stretch/>
          </p:blipFill>
          <p:spPr>
            <a:xfrm>
              <a:off x="644400" y="3633840"/>
              <a:ext cx="27748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34"/>
            <p:cNvSpPr/>
            <p:nvPr/>
          </p:nvSpPr>
          <p:spPr>
            <a:xfrm>
              <a:off x="593640" y="4160520"/>
              <a:ext cx="254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Impact"/>
                  <a:ea typeface="黑体"/>
                </a:rPr>
                <a:t>比 </a:t>
              </a:r>
              <a:r>
                <a:rPr b="1" lang="en-US" sz="2800" spc="-1" strike="noStrike">
                  <a:solidFill>
                    <a:srgbClr val="6600cc"/>
                  </a:solidFill>
                  <a:latin typeface="Impact"/>
                  <a:ea typeface="黑体"/>
                </a:rPr>
                <a:t>500 </a:t>
              </a:r>
              <a:r>
                <a:rPr b="1" lang="zh-CN" sz="2800" spc="-1" strike="noStrike">
                  <a:solidFill>
                    <a:srgbClr val="6600cc"/>
                  </a:solidFill>
                  <a:latin typeface="Impact"/>
                  <a:ea typeface="黑体"/>
                </a:rPr>
                <a:t>大  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" name="Group 35"/>
          <p:cNvGrpSpPr/>
          <p:nvPr/>
        </p:nvGrpSpPr>
        <p:grpSpPr>
          <a:xfrm>
            <a:off x="5756760" y="3633840"/>
            <a:ext cx="2783520" cy="1315800"/>
            <a:chOff x="5756760" y="3633840"/>
            <a:chExt cx="2783520" cy="1315800"/>
          </a:xfrm>
        </p:grpSpPr>
        <p:pic>
          <p:nvPicPr>
            <p:cNvPr id="81" name="Picture 36" descr="p100-3"/>
            <p:cNvPicPr/>
            <p:nvPr/>
          </p:nvPicPr>
          <p:blipFill>
            <a:blip r:embed="rId3"/>
            <a:stretch/>
          </p:blipFill>
          <p:spPr>
            <a:xfrm>
              <a:off x="5765760" y="3633840"/>
              <a:ext cx="277452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37"/>
            <p:cNvSpPr/>
            <p:nvPr/>
          </p:nvSpPr>
          <p:spPr>
            <a:xfrm>
              <a:off x="5756760" y="4160520"/>
              <a:ext cx="254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Impact"/>
                  <a:ea typeface="黑体"/>
                </a:rPr>
                <a:t>比 </a:t>
              </a:r>
              <a:r>
                <a:rPr b="1" lang="en-US" sz="2800" spc="-1" strike="noStrike">
                  <a:solidFill>
                    <a:srgbClr val="6600cc"/>
                  </a:solidFill>
                  <a:latin typeface="Impact"/>
                  <a:ea typeface="黑体"/>
                </a:rPr>
                <a:t>400 </a:t>
              </a:r>
              <a:r>
                <a:rPr b="1" lang="zh-CN" sz="2800" spc="-1" strike="noStrike">
                  <a:solidFill>
                    <a:srgbClr val="6600cc"/>
                  </a:solidFill>
                  <a:latin typeface="Impact"/>
                  <a:ea typeface="黑体"/>
                </a:rPr>
                <a:t>小  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5458320" y="5217840"/>
            <a:ext cx="2713680" cy="1090440"/>
            <a:chOff x="5458320" y="5217840"/>
            <a:chExt cx="2713680" cy="1090440"/>
          </a:xfrm>
        </p:grpSpPr>
        <p:pic>
          <p:nvPicPr>
            <p:cNvPr id="84" name="Picture 39" descr="p100-2"/>
            <p:cNvPicPr/>
            <p:nvPr/>
          </p:nvPicPr>
          <p:blipFill>
            <a:blip r:embed="rId4"/>
            <a:stretch/>
          </p:blipFill>
          <p:spPr>
            <a:xfrm>
              <a:off x="5504040" y="5229360"/>
              <a:ext cx="2667960" cy="107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40"/>
            <p:cNvSpPr/>
            <p:nvPr/>
          </p:nvSpPr>
          <p:spPr>
            <a:xfrm rot="20850600">
              <a:off x="5493240" y="5405040"/>
              <a:ext cx="178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525 - 239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6" name="Group 41"/>
          <p:cNvGrpSpPr/>
          <p:nvPr/>
        </p:nvGrpSpPr>
        <p:grpSpPr>
          <a:xfrm>
            <a:off x="2918880" y="4818240"/>
            <a:ext cx="2818440" cy="1801800"/>
            <a:chOff x="2918880" y="4818240"/>
            <a:chExt cx="2818440" cy="1801800"/>
          </a:xfrm>
        </p:grpSpPr>
        <p:pic>
          <p:nvPicPr>
            <p:cNvPr id="87" name="Picture 42" descr="p100-2"/>
            <p:cNvPicPr/>
            <p:nvPr/>
          </p:nvPicPr>
          <p:blipFill>
            <a:blip r:embed="rId5"/>
            <a:stretch/>
          </p:blipFill>
          <p:spPr>
            <a:xfrm flipH="1" rot="20493000">
              <a:off x="3012840" y="5207760"/>
              <a:ext cx="263016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43"/>
            <p:cNvSpPr/>
            <p:nvPr/>
          </p:nvSpPr>
          <p:spPr>
            <a:xfrm rot="20898600">
              <a:off x="3440520" y="530100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864 - 243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511560" y="5165640"/>
            <a:ext cx="2767680" cy="1118880"/>
            <a:chOff x="511560" y="5165640"/>
            <a:chExt cx="2767680" cy="1118880"/>
          </a:xfrm>
        </p:grpSpPr>
        <p:pic>
          <p:nvPicPr>
            <p:cNvPr id="90" name="Picture 45" descr="p100-2"/>
            <p:cNvPicPr/>
            <p:nvPr/>
          </p:nvPicPr>
          <p:blipFill>
            <a:blip r:embed="rId6"/>
            <a:stretch/>
          </p:blipFill>
          <p:spPr>
            <a:xfrm>
              <a:off x="611280" y="5205240"/>
              <a:ext cx="2667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6"/>
            <p:cNvSpPr/>
            <p:nvPr/>
          </p:nvSpPr>
          <p:spPr>
            <a:xfrm rot="20850600">
              <a:off x="544320" y="5373000"/>
              <a:ext cx="197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619 - 203 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2" name="Group 47"/>
          <p:cNvGrpSpPr/>
          <p:nvPr/>
        </p:nvGrpSpPr>
        <p:grpSpPr>
          <a:xfrm>
            <a:off x="3345840" y="3579840"/>
            <a:ext cx="2826360" cy="1612080"/>
            <a:chOff x="3345840" y="3579840"/>
            <a:chExt cx="2826360" cy="1612080"/>
          </a:xfrm>
        </p:grpSpPr>
        <p:pic>
          <p:nvPicPr>
            <p:cNvPr id="93" name="Picture 48" descr="p100-2"/>
            <p:cNvPicPr/>
            <p:nvPr/>
          </p:nvPicPr>
          <p:blipFill>
            <a:blip r:embed="rId7"/>
            <a:stretch/>
          </p:blipFill>
          <p:spPr>
            <a:xfrm flipH="1" rot="20835000">
              <a:off x="3429000" y="3860280"/>
              <a:ext cx="266004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9"/>
            <p:cNvSpPr/>
            <p:nvPr/>
          </p:nvSpPr>
          <p:spPr>
            <a:xfrm rot="21504600">
              <a:off x="3837240" y="3978360"/>
              <a:ext cx="178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419 + 201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5" name="Group 50"/>
          <p:cNvGrpSpPr/>
          <p:nvPr/>
        </p:nvGrpSpPr>
        <p:grpSpPr>
          <a:xfrm>
            <a:off x="2864520" y="2694600"/>
            <a:ext cx="2791440" cy="1092960"/>
            <a:chOff x="2864520" y="2694600"/>
            <a:chExt cx="2791440" cy="1092960"/>
          </a:xfrm>
        </p:grpSpPr>
        <p:pic>
          <p:nvPicPr>
            <p:cNvPr id="96" name="Picture 51" descr="p100-2"/>
            <p:cNvPicPr/>
            <p:nvPr/>
          </p:nvPicPr>
          <p:blipFill>
            <a:blip r:embed="rId8"/>
            <a:stretch/>
          </p:blipFill>
          <p:spPr>
            <a:xfrm>
              <a:off x="2987640" y="2708280"/>
              <a:ext cx="26683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52"/>
            <p:cNvSpPr/>
            <p:nvPr/>
          </p:nvSpPr>
          <p:spPr>
            <a:xfrm rot="20850600">
              <a:off x="2898360" y="2891160"/>
              <a:ext cx="187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258 + 171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8" name="Group 53"/>
          <p:cNvGrpSpPr/>
          <p:nvPr/>
        </p:nvGrpSpPr>
        <p:grpSpPr>
          <a:xfrm>
            <a:off x="5912280" y="1780560"/>
            <a:ext cx="2767680" cy="1132200"/>
            <a:chOff x="5912280" y="1780560"/>
            <a:chExt cx="2767680" cy="1132200"/>
          </a:xfrm>
        </p:grpSpPr>
        <p:pic>
          <p:nvPicPr>
            <p:cNvPr id="99" name="Picture 54" descr="p100-2"/>
            <p:cNvPicPr/>
            <p:nvPr/>
          </p:nvPicPr>
          <p:blipFill>
            <a:blip r:embed="rId9"/>
            <a:stretch/>
          </p:blipFill>
          <p:spPr>
            <a:xfrm>
              <a:off x="6012000" y="1833480"/>
              <a:ext cx="2667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55"/>
            <p:cNvSpPr/>
            <p:nvPr/>
          </p:nvSpPr>
          <p:spPr>
            <a:xfrm rot="20850600">
              <a:off x="5943960" y="1997280"/>
              <a:ext cx="206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106 + 438 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1" name="Group 56"/>
          <p:cNvGrpSpPr/>
          <p:nvPr/>
        </p:nvGrpSpPr>
        <p:grpSpPr>
          <a:xfrm>
            <a:off x="4092840" y="739800"/>
            <a:ext cx="2762280" cy="2501640"/>
            <a:chOff x="4092840" y="739800"/>
            <a:chExt cx="2762280" cy="2501640"/>
          </a:xfrm>
        </p:grpSpPr>
        <p:pic>
          <p:nvPicPr>
            <p:cNvPr id="102" name="Picture 57" descr="p100-2"/>
            <p:cNvPicPr/>
            <p:nvPr/>
          </p:nvPicPr>
          <p:blipFill>
            <a:blip r:embed="rId10"/>
            <a:stretch/>
          </p:blipFill>
          <p:spPr>
            <a:xfrm flipH="1" rot="19299600">
              <a:off x="4140000" y="1450800"/>
              <a:ext cx="26679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58"/>
            <p:cNvSpPr/>
            <p:nvPr/>
          </p:nvSpPr>
          <p:spPr>
            <a:xfrm rot="19704600">
              <a:off x="4464720" y="158544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720 - 112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4" name="Group 59"/>
          <p:cNvGrpSpPr/>
          <p:nvPr/>
        </p:nvGrpSpPr>
        <p:grpSpPr>
          <a:xfrm>
            <a:off x="2474280" y="981360"/>
            <a:ext cx="2820960" cy="1510920"/>
            <a:chOff x="2474280" y="981360"/>
            <a:chExt cx="2820960" cy="1510920"/>
          </a:xfrm>
        </p:grpSpPr>
        <p:pic>
          <p:nvPicPr>
            <p:cNvPr id="105" name="Picture 60" descr="p100-2"/>
            <p:cNvPicPr/>
            <p:nvPr/>
          </p:nvPicPr>
          <p:blipFill>
            <a:blip r:embed="rId11"/>
            <a:stretch/>
          </p:blipFill>
          <p:spPr>
            <a:xfrm rot="21021600">
              <a:off x="2555640" y="1197000"/>
              <a:ext cx="2667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61"/>
            <p:cNvSpPr/>
            <p:nvPr/>
          </p:nvSpPr>
          <p:spPr>
            <a:xfrm rot="20272200">
              <a:off x="2499480" y="1425960"/>
              <a:ext cx="197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Impact"/>
                  <a:ea typeface="黑体"/>
                </a:rPr>
                <a:t>349+  226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07" name="track 13.mp3" descr=""/>
          <p:cNvPicPr/>
          <p:nvPr/>
        </p:nvPicPr>
        <p:blipFill>
          <a:blip r:embed="rId12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56069E-006 L -0.19826 0.32208 E">
                                      <p:cBhvr>
                                        <p:cTn id="6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4971E-006 L -0.3665 0.27607 E">
                                      <p:cBhvr>
                                        <p:cTn id="7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93642E-007 L -0.57899 0.22035 E">
                                      <p:cBhvr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526E-006 L -0.29601 -0.08555 E">
                                      <p:cBhvr>
                                        <p:cTn id="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83237E-006 L -0.24046 -0.27422 E">
                                      <p:cBhvr>
                                        <p:cTn id="9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83237E-006 L 0.04358 -0.27422 E">
                                      <p:cBhvr>
                                        <p:cTn id="9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357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4724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答：动车比乘飞机大约便宜 </a:t>
            </a:r>
            <a:r>
              <a:rPr b="1" lang="en-US" sz="4400" spc="-1" strike="noStrike">
                <a:solidFill>
                  <a:srgbClr val="d60093"/>
                </a:solidFill>
                <a:latin typeface="黑体"/>
                <a:ea typeface="黑体"/>
              </a:rPr>
              <a:t>_____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324000" y="836640"/>
            <a:ext cx="8819640" cy="2663280"/>
            <a:chOff x="324000" y="836640"/>
            <a:chExt cx="8819640" cy="2663280"/>
          </a:xfrm>
        </p:grpSpPr>
        <p:pic>
          <p:nvPicPr>
            <p:cNvPr id="110" name="Picture 13" descr="p100-8"/>
            <p:cNvPicPr/>
            <p:nvPr/>
          </p:nvPicPr>
          <p:blipFill>
            <a:blip r:embed="rId1"/>
            <a:stretch/>
          </p:blipFill>
          <p:spPr>
            <a:xfrm>
              <a:off x="324000" y="1009080"/>
              <a:ext cx="20829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14"/>
            <p:cNvSpPr/>
            <p:nvPr/>
          </p:nvSpPr>
          <p:spPr>
            <a:xfrm>
              <a:off x="2987640" y="836640"/>
              <a:ext cx="6156000" cy="1749240"/>
            </a:xfrm>
            <a:prstGeom prst="ellipse">
              <a:avLst/>
            </a:prstGeom>
            <a:solidFill>
              <a:srgbClr val="e5ffff">
                <a:alpha val="5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3771720" y="903240"/>
              <a:ext cx="5167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京到沈阳，飞机票 </a:t>
              </a:r>
              <a:r>
                <a:rPr b="1" lang="en-US" sz="40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700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元，动车票</a:t>
              </a:r>
              <a:r>
                <a:rPr b="1" lang="zh-CN" sz="40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218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元。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890800" y="1671840"/>
              <a:ext cx="750960" cy="249840"/>
            </a:xfrm>
            <a:prstGeom prst="ellipse">
              <a:avLst/>
            </a:prstGeom>
            <a:solidFill>
              <a:srgbClr val="e5ffff">
                <a:alpha val="5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577600" y="1963440"/>
              <a:ext cx="374760" cy="124200"/>
            </a:xfrm>
            <a:prstGeom prst="ellipse">
              <a:avLst/>
            </a:prstGeom>
            <a:solidFill>
              <a:srgbClr val="e5ffff">
                <a:alpha val="5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5" name="Rectangle 19"/>
          <p:cNvSpPr/>
          <p:nvPr/>
        </p:nvSpPr>
        <p:spPr>
          <a:xfrm>
            <a:off x="6523200" y="4508640"/>
            <a:ext cx="186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Impact"/>
                <a:ea typeface="楷体_GB2312"/>
              </a:rPr>
              <a:t>  </a:t>
            </a:r>
            <a:r>
              <a:rPr b="1" lang="en-US" sz="6000" spc="-1" strike="noStrike">
                <a:solidFill>
                  <a:srgbClr val="0000ff"/>
                </a:solidFill>
                <a:latin typeface="Impact"/>
                <a:ea typeface="楷体_GB2312"/>
              </a:rPr>
              <a:t>500 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1405080" y="3141720"/>
            <a:ext cx="43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Impact"/>
                <a:ea typeface="楷体_GB2312"/>
              </a:rPr>
              <a:t>700 -  218 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4504680" y="3141720"/>
            <a:ext cx="499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Impact"/>
                <a:ea typeface="黑体"/>
              </a:rPr>
              <a:t>≈ </a:t>
            </a:r>
            <a:r>
              <a:rPr b="1" lang="en-US" sz="6000" spc="-1" strike="noStrike">
                <a:solidFill>
                  <a:srgbClr val="0000ff"/>
                </a:solidFill>
                <a:latin typeface="Impact"/>
                <a:ea typeface="楷体_GB2312"/>
              </a:rPr>
              <a:t>500 </a:t>
            </a:r>
            <a:r>
              <a:rPr b="1" lang="zh-CN" sz="6000" spc="-1" strike="noStrike">
                <a:solidFill>
                  <a:srgbClr val="0000ff"/>
                </a:solidFill>
                <a:latin typeface="Impact"/>
                <a:ea typeface="黑体"/>
              </a:rPr>
              <a:t>（元）</a:t>
            </a:r>
            <a:r>
              <a:rPr b="1" lang="zh-CN" sz="6000" spc="-1" strike="noStrike">
                <a:solidFill>
                  <a:srgbClr val="0000ff"/>
                </a:solidFill>
                <a:latin typeface="Impact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1446120" y="3862440"/>
            <a:ext cx="17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Impact"/>
                <a:ea typeface="楷体_GB2312"/>
              </a:rPr>
              <a:t>700   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3246480" y="386064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Impact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cc0066"/>
                </a:solidFill>
                <a:latin typeface="Impact"/>
                <a:ea typeface="楷体_GB2312"/>
              </a:rPr>
              <a:t>200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608560" y="-3240"/>
            <a:ext cx="26953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mpact"/>
                <a:ea typeface="楷体_GB2312"/>
              </a:rPr>
              <a:t>P17    7.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3645000"/>
            <a:ext cx="92520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妈妈有</a:t>
            </a:r>
            <a:r>
              <a:rPr b="1" lang="zh-CN" sz="4400" spc="-1" strike="noStrike">
                <a:solidFill>
                  <a:srgbClr val="000066"/>
                </a:solidFill>
                <a:latin typeface="Impact"/>
                <a:ea typeface="黑体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Impact"/>
                <a:ea typeface="黑体"/>
              </a:rPr>
              <a:t>400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元， 买这两样东西够吗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Impact"/>
                <a:ea typeface="黑体"/>
              </a:rPr>
              <a:t>245 + 187 </a:t>
            </a:r>
            <a:r>
              <a:rPr b="1" lang="en-US" sz="5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黑体"/>
                <a:ea typeface="黑体"/>
              </a:rPr>
              <a:t>因为</a:t>
            </a:r>
            <a:r>
              <a:rPr b="1" lang="zh-CN" sz="4800" spc="-1" strike="noStrike">
                <a:solidFill>
                  <a:srgbClr val="660066"/>
                </a:solidFill>
                <a:latin typeface="Impact"/>
                <a:ea typeface="黑体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Impact"/>
                <a:ea typeface="黑体"/>
              </a:rPr>
              <a:t>400 </a:t>
            </a:r>
            <a:r>
              <a:rPr b="1" lang="zh-CN" sz="4800" spc="-1" strike="noStrike">
                <a:solidFill>
                  <a:srgbClr val="660066"/>
                </a:solidFill>
                <a:latin typeface="黑体"/>
                <a:ea typeface="黑体"/>
              </a:rPr>
              <a:t>元</a:t>
            </a:r>
            <a:r>
              <a:rPr b="1" lang="zh-CN" sz="4800" spc="-1" strike="noStrike">
                <a:solidFill>
                  <a:srgbClr val="660066"/>
                </a:solidFill>
                <a:latin typeface="Impact"/>
                <a:ea typeface="黑体"/>
              </a:rPr>
              <a:t>＜</a:t>
            </a:r>
            <a:r>
              <a:rPr b="1" lang="en-US" sz="4800" spc="-1" strike="noStrike">
                <a:solidFill>
                  <a:srgbClr val="660066"/>
                </a:solidFill>
                <a:latin typeface="Impact"/>
                <a:ea typeface="黑体"/>
              </a:rPr>
              <a:t>440</a:t>
            </a:r>
            <a:r>
              <a:rPr b="1" lang="en-US" sz="48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黑体"/>
                <a:ea typeface="黑体"/>
              </a:rPr>
              <a:t>元，所以不够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22" name="Picture 3" descr="p100-5"/>
          <p:cNvPicPr/>
          <p:nvPr/>
        </p:nvPicPr>
        <p:blipFill>
          <a:blip r:embed="rId1"/>
          <a:stretch/>
        </p:blipFill>
        <p:spPr>
          <a:xfrm>
            <a:off x="5419800" y="1220760"/>
            <a:ext cx="1744560" cy="170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100-4"/>
          <p:cNvPicPr/>
          <p:nvPr/>
        </p:nvPicPr>
        <p:blipFill>
          <a:blip r:embed="rId2"/>
          <a:stretch/>
        </p:blipFill>
        <p:spPr>
          <a:xfrm>
            <a:off x="826920" y="765000"/>
            <a:ext cx="2170440" cy="22323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5"/>
          <p:cNvGrpSpPr/>
          <p:nvPr/>
        </p:nvGrpSpPr>
        <p:grpSpPr>
          <a:xfrm>
            <a:off x="1690560" y="2997360"/>
            <a:ext cx="1873440" cy="802440"/>
            <a:chOff x="1690560" y="2997360"/>
            <a:chExt cx="1873440" cy="802440"/>
          </a:xfrm>
        </p:grpSpPr>
        <p:pic>
          <p:nvPicPr>
            <p:cNvPr id="125" name="Picture 6" descr="p100-7"/>
            <p:cNvPicPr/>
            <p:nvPr/>
          </p:nvPicPr>
          <p:blipFill>
            <a:blip r:embed="rId3"/>
            <a:stretch/>
          </p:blipFill>
          <p:spPr>
            <a:xfrm>
              <a:off x="1690560" y="2997360"/>
              <a:ext cx="1873440" cy="6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7"/>
            <p:cNvSpPr/>
            <p:nvPr/>
          </p:nvSpPr>
          <p:spPr>
            <a:xfrm>
              <a:off x="1759680" y="3081600"/>
              <a:ext cx="1693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245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Impact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元 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5435640" y="2997360"/>
            <a:ext cx="1873080" cy="802440"/>
            <a:chOff x="5435640" y="2997360"/>
            <a:chExt cx="1873080" cy="802440"/>
          </a:xfrm>
        </p:grpSpPr>
        <p:pic>
          <p:nvPicPr>
            <p:cNvPr id="128" name="Picture 9" descr="p100-7"/>
            <p:cNvPicPr/>
            <p:nvPr/>
          </p:nvPicPr>
          <p:blipFill>
            <a:blip r:embed="rId4"/>
            <a:stretch/>
          </p:blipFill>
          <p:spPr>
            <a:xfrm>
              <a:off x="5435640" y="2997360"/>
              <a:ext cx="1873080" cy="6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10"/>
            <p:cNvSpPr/>
            <p:nvPr/>
          </p:nvSpPr>
          <p:spPr>
            <a:xfrm>
              <a:off x="5492880" y="3081600"/>
              <a:ext cx="1693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187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Impact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元 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0" name="Rectangle 11"/>
          <p:cNvSpPr/>
          <p:nvPr/>
        </p:nvSpPr>
        <p:spPr>
          <a:xfrm>
            <a:off x="2657520" y="-3240"/>
            <a:ext cx="26953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mpact"/>
                <a:ea typeface="楷体_GB2312"/>
              </a:rPr>
              <a:t>P17    8.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610160" y="4395960"/>
            <a:ext cx="30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Impact"/>
                <a:ea typeface="楷体_GB2312"/>
              </a:rPr>
              <a:t>440 </a:t>
            </a:r>
            <a:r>
              <a:rPr b="1" lang="zh-CN" sz="4400" spc="-1" strike="noStrike">
                <a:solidFill>
                  <a:srgbClr val="cc0066"/>
                </a:solidFill>
                <a:latin typeface="Impact"/>
                <a:ea typeface="黑体"/>
              </a:rPr>
              <a:t>（元）</a:t>
            </a:r>
            <a:r>
              <a:rPr b="1" lang="zh-CN" sz="4400" spc="-1" strike="noStrike">
                <a:solidFill>
                  <a:srgbClr val="cc0066"/>
                </a:solidFill>
                <a:latin typeface="Impact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1836720" y="4959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Impact"/>
                <a:ea typeface="楷体_GB2312"/>
              </a:rPr>
              <a:t>250   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102120" y="4959360"/>
            <a:ext cx="17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Impact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Impact"/>
                <a:ea typeface="楷体_GB2312"/>
              </a:rPr>
              <a:t>190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01:34:29Z</dcterms:created>
  <dc:creator>微软用户</dc:creator>
  <dc:description/>
  <dc:language>en-US</dc:language>
  <cp:lastModifiedBy>陈 赫</cp:lastModifiedBy>
  <dcterms:modified xsi:type="dcterms:W3CDTF">2018-10-29T10:52:36Z</dcterms:modified>
  <cp:revision>92</cp:revision>
  <dc:subject/>
  <dc:title>幻灯片 1</dc:title>
</cp:coreProperties>
</file>