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13.png" ContentType="image/pn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6DD-90F4-4F17-803D-C61E1F2B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7143-6668-4E47-B5BB-FBEBF76C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F55-01B9-4FB5-A347-6D60975D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887-2CF8-4204-91C4-FF05D201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AE0-EDA1-4895-90B8-018FA920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E47B-AD8D-4C2E-851A-20F720F6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E8D-639E-451F-82C4-1598401E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8D0-0E6C-4547-AFBF-52F11354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9F18-E479-4C64-9CB6-C7D2462A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7D7-0E4E-4D3D-90DE-913F2E4E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7DE6-CF8C-468B-B207-BE328145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DA59-9436-4212-B553-302E9663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BE03-BBE2-4443-A80E-6C6AB004ED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5440" y="1700280"/>
            <a:ext cx="8497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万以内的加法和减法（二）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3635280" y="3573360"/>
            <a:ext cx="2376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4900" spc="-1" strike="noStrike">
                <a:solidFill>
                  <a:srgbClr val="ff3300"/>
                </a:solidFill>
                <a:latin typeface="黑体"/>
                <a:ea typeface="黑体"/>
              </a:rPr>
              <a:t>加法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428840" y="1700280"/>
          <a:ext cx="6095880" cy="2233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505600" y="1700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类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02800" y="170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已知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36400" y="2492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鸟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27840" y="3213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爬行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7080" y="249228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Arial"/>
              </a:rPr>
              <a:t>2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57960" y="321300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Arial"/>
              </a:rPr>
              <a:t>1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8640" y="765000"/>
            <a:ext cx="15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我国湿地鸟类和爬行类一共有多少种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422100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71 + 1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11280" y="1197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71+12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835280" y="2133720"/>
            <a:ext cx="3058920" cy="1233000"/>
            <a:chOff x="1835280" y="2133720"/>
            <a:chExt cx="3058920" cy="1233000"/>
          </a:xfrm>
        </p:grpSpPr>
        <p:sp>
          <p:nvSpPr>
            <p:cNvPr id="74" name=""/>
            <p:cNvSpPr/>
            <p:nvPr/>
          </p:nvSpPr>
          <p:spPr>
            <a:xfrm>
              <a:off x="3360960" y="213372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2 7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35280" y="262692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　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 2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98880" y="2998440"/>
              <a:ext cx="26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——————————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851280" y="3213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3213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3213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9440" y="121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9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364000" y="2421000"/>
            <a:ext cx="3600720" cy="576360"/>
          </a:xfrm>
          <a:prstGeom prst="wedgeRectCallout">
            <a:avLst>
              <a:gd name="adj1" fmla="val -41333"/>
              <a:gd name="adj2" fmla="val 137444"/>
            </a:avLst>
          </a:prstGeom>
          <a:solidFill>
            <a:srgbClr val="a7c6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哪一位加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428840" y="1700280"/>
          <a:ext cx="6095880" cy="2233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2505600" y="1700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类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02800" y="170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已知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36400" y="2492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鸟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27840" y="3213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哺乳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7080" y="249228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Arial"/>
              </a:rPr>
              <a:t>2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58320" y="32130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Arial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28640" y="765000"/>
            <a:ext cx="15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我国湿地鸟类和哺乳类一共有多少种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87640" y="422100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71 + 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411280" y="1197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71+3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35280" y="2133720"/>
            <a:ext cx="3058920" cy="1233000"/>
            <a:chOff x="1835280" y="2133720"/>
            <a:chExt cx="3058920" cy="1233000"/>
          </a:xfrm>
        </p:grpSpPr>
        <p:sp>
          <p:nvSpPr>
            <p:cNvPr id="93" name=""/>
            <p:cNvSpPr/>
            <p:nvPr/>
          </p:nvSpPr>
          <p:spPr>
            <a:xfrm>
              <a:off x="3261600" y="21337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2  7 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35280" y="262692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　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3 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98880" y="2998440"/>
              <a:ext cx="26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——————————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995640" y="3213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3213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3213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89440" y="121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278136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292720" y="2060640"/>
            <a:ext cx="3597120" cy="936720"/>
          </a:xfrm>
          <a:prstGeom prst="cloudCallout">
            <a:avLst>
              <a:gd name="adj1" fmla="val -51620"/>
              <a:gd name="adj2" fmla="val 155287"/>
            </a:avLst>
          </a:prstGeom>
          <a:solidFill>
            <a:srgbClr val="a7c6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十位上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3+7=10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怎样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08000" y="1268280"/>
            <a:ext cx="25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71+9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835280" y="2133720"/>
            <a:ext cx="3058920" cy="1233000"/>
            <a:chOff x="1835280" y="2133720"/>
            <a:chExt cx="3058920" cy="1233000"/>
          </a:xfrm>
        </p:grpSpPr>
        <p:sp>
          <p:nvSpPr>
            <p:cNvPr id="104" name=""/>
            <p:cNvSpPr/>
            <p:nvPr/>
          </p:nvSpPr>
          <p:spPr>
            <a:xfrm>
              <a:off x="3360960" y="213372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2 7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35280" y="262692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　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9 0 3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98880" y="2998440"/>
              <a:ext cx="26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——————————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851280" y="3213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3640" y="3213000"/>
            <a:ext cx="5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434920" y="2421000"/>
            <a:ext cx="3600360" cy="576360"/>
          </a:xfrm>
          <a:prstGeom prst="wedgeRectCallout">
            <a:avLst>
              <a:gd name="adj1" fmla="val -41333"/>
              <a:gd name="adj2" fmla="val 137444"/>
            </a:avLst>
          </a:prstGeom>
          <a:solidFill>
            <a:srgbClr val="a7c6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百位上相加满十，怎么办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1268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么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268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44720" y="3213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3213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92360" y="414972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哪一位上的数相加满十，就要向前一位进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3500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相同数位对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2781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从个位加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268280"/>
            <a:ext cx="90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桌讨论：万以内的加法要注意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rcRect l="34553" t="0" r="37854" b="0"/>
          <a:stretch/>
        </p:blipFill>
        <p:spPr>
          <a:xfrm rot="16200000">
            <a:off x="3657600" y="-2354040"/>
            <a:ext cx="1776240" cy="8589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41767" t="3492" r="16561" b="0"/>
          <a:stretch/>
        </p:blipFill>
        <p:spPr>
          <a:xfrm rot="16200000">
            <a:off x="3100320" y="434880"/>
            <a:ext cx="2727360" cy="8426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8900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这节课，你学到了哪些内容，三位数加三位数需要注意哪些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32000" y="6066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学们：列竖式计算，看谁做得最准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117360"/>
            <a:ext cx="857160" cy="1648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349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+76=            57+75=                86+2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31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 Black"/>
                <a:ea typeface="黑体"/>
              </a:rPr>
              <a:t>湿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8000" y="83664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湿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指天然或人工形成的沼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zha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泽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z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地等带有静止或流动水体的成片浅水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湿地孕育了丰富多样的野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丹顶鹤（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hè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蜥蜴（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xī  yì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551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麋（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mí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31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狐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127640" cy="4132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07480" y="692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中国湿地部分动物种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72160" y="1974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类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63960" y="2709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鸟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39760" y="350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爬行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39760" y="4221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哺乳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42880" y="206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278136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Arial"/>
              </a:rPr>
              <a:t>2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00560" y="351468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Arial"/>
              </a:rPr>
              <a:t>1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72560" y="42339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Arial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5589720"/>
            <a:ext cx="900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哺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乳类的主要特征是胎生、哺乳，体温恒定，一般身体表面长有体毛，如狐狸麋鹿等都属于哺乳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5:48:13Z</dcterms:created>
  <dc:creator>user</dc:creator>
  <dc:description/>
  <dc:language>en-US</dc:language>
  <cp:lastModifiedBy>User</cp:lastModifiedBy>
  <dcterms:modified xsi:type="dcterms:W3CDTF">2015-10-09T03:29:58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