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9F44-4613-4B9F-8C4C-7B1A78C8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FCA4-F3CB-4E68-8EC9-58DB492C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A571-1151-47E9-AF50-69E6E0F1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CDA0-0463-4EFC-BF5A-8D9C0BAC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520D-D1EA-4AA3-A54E-A9A9BA8F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EFA3-F550-4B06-B71E-59E88DDB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CC7-6429-461D-880D-48E55801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B3CE-B7E2-45D7-B404-A0701AB2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71F3-28B2-4D4B-A91E-8EFA0425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17D6-A208-4973-A2E3-311486DB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822-4CB7-4176-8682-757EFF83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7281-B0CF-4779-BAD1-C2E12B64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1F74-BC91-4BD1-BFCA-23917A44AC96}" type="slidenum">
              <a:rPr b="0" lang="zh-CN" sz="9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914400" y="2362320"/>
            <a:ext cx="75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因数中间有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80880" y="304920"/>
            <a:ext cx="74678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结：（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） 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有什么收获？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" name="TextBox 24"/>
          <p:cNvSpPr/>
          <p:nvPr/>
        </p:nvSpPr>
        <p:spPr>
          <a:xfrm>
            <a:off x="838080" y="2438280"/>
            <a:ext cx="7467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任何数相乘都得“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838080" y="3352680"/>
            <a:ext cx="8064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计算一个因数中间有“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笔算乘法时，注意别忘记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加进位上来的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呦！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913040" y="1143000"/>
            <a:ext cx="413064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堂检测（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）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作业纸习题。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035080" y="0"/>
            <a:ext cx="507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179280"/>
            <a:ext cx="914400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学目标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与技能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一个因数为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的算理和掌握一个因数中间有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的算理，掌握计算方法，能正确地进行计算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程与方法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历因数为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因数中间有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的计算过程，体验类推、迁移的数学思想和方法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感态度与价值观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受数学与实际生活的联系，培养学生认真思考的良好习惯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0" y="549360"/>
            <a:ext cx="914400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目标：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）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理解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任何数相乘都得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（重点）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会计算因数中间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点）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76320" y="76320"/>
            <a:ext cx="92232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学指导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） 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真看课本第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例题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填空，并思考：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只小猴子盘子里的桃子都吃没了，用几表示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盘子里一共还有多少个桃子？可以怎么列算式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总结出什么规律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28600" y="304920"/>
            <a:ext cx="8474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学检测一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）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课本第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做一做。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8963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380880"/>
            <a:ext cx="92232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学指导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） 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真看课本第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例题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填空，并思考：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从题目中你知道了什么？   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需要解决什么问题？怎么列算式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怎样笔算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28600" y="304920"/>
            <a:ext cx="8474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学检测二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）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课本第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7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做一做第一题。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3725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04920" y="380880"/>
            <a:ext cx="640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学检测三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）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725400" y="1981080"/>
            <a:ext cx="1770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＝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TextBox 18"/>
          <p:cNvSpPr/>
          <p:nvPr/>
        </p:nvSpPr>
        <p:spPr>
          <a:xfrm>
            <a:off x="3327480" y="1981080"/>
            <a:ext cx="1917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607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＝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5846760" y="1981080"/>
            <a:ext cx="1782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309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＝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2133720" y="1981080"/>
            <a:ext cx="1154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宋体"/>
              </a:rPr>
              <a:t>21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宋体"/>
              </a:rPr>
              <a:t>06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" name="TextBox 27"/>
          <p:cNvSpPr/>
          <p:nvPr/>
        </p:nvSpPr>
        <p:spPr>
          <a:xfrm>
            <a:off x="4697280" y="1981080"/>
            <a:ext cx="1125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宋体"/>
              </a:rPr>
              <a:t>3035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" name="TextBox 29"/>
          <p:cNvSpPr/>
          <p:nvPr/>
        </p:nvSpPr>
        <p:spPr>
          <a:xfrm>
            <a:off x="7223040" y="1981080"/>
            <a:ext cx="1189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宋体"/>
              </a:rPr>
              <a:t>1236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5"/>
          <p:cNvSpPr/>
          <p:nvPr/>
        </p:nvSpPr>
        <p:spPr>
          <a:xfrm>
            <a:off x="2438280" y="4267080"/>
            <a:ext cx="2460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4295880" y="4267080"/>
            <a:ext cx="1901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名）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59" name="Picture 14" descr="103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21034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5"/>
          <p:cNvSpPr/>
          <p:nvPr/>
        </p:nvSpPr>
        <p:spPr>
          <a:xfrm>
            <a:off x="838080" y="327672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个方阵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学生，一共有多少名学生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4920" y="380880"/>
            <a:ext cx="815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学检测四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68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2286000" y="53341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一共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3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学生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23:53:11Z</dcterms:created>
  <dc:creator/>
  <dc:description/>
  <cp:keywords/>
  <dc:language>en-US</dc:language>
  <cp:lastModifiedBy>陈 赫</cp:lastModifiedBy>
  <dcterms:modified xsi:type="dcterms:W3CDTF">2018-10-29T13:52:41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  <property fmtid="{D5CDD505-2E9C-101B-9397-08002B2CF9AE}" pid="3" name="Version">
    <vt:r8>1</vt:r8>
  </property>
</Properties>
</file>