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21.jpeg" ContentType="image/jpe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5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6.png" ContentType="image/pn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063-99D6-4CBE-876F-FA6A972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2A7-26BF-4668-9855-A7FBC0D1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501-04BB-448F-8E1C-8D026AB7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023-91E9-4C14-B749-06AF3782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F90-2311-4F56-9ED1-639D5AA1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571E-71A5-438D-A601-32EDCC9A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251-7A6B-4CF7-9FF4-2D2B8E3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7CB-4866-440F-B0E4-9B8929B8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0044-05B6-4030-856C-BA06DBEC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1AD3-5A2E-4C11-8DB9-9060B31A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498-825D-45F6-873C-BE9424EF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066-3A91-4F04-BD9F-B64DED5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8C3-0F7D-4D1A-8653-5EEEB1A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E94F-7CEF-4D80-9DE9-D9D1232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AC7-B21A-42FA-9669-D7D2B23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21D-D10D-4879-B9CF-2CD6D850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CDBD-87BC-4AA3-910C-C8C2EF37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49C3-696A-469D-A51F-D694F859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DBEB-A4EA-42FE-94CC-59175D3C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01DE-D1F6-41A1-B4AA-1C3173B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C032-6BBD-4DA0-8F1D-8D9F080C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2C4D-E350-4D47-A13E-D6555510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DC9-A24E-482A-A452-CB0CE11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EEAB-1474-4EDB-9EE5-37D15A8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5B2B-A6FC-48F8-8B16-625E5227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F7BD-6C98-4577-9133-7C56FAE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BC86-B8F0-42FF-B851-57EC9BC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5F29-2C12-4E53-B69A-8B33ED14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C68D4-EA31-4461-B125-4EC17CA6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3CFA-7E6C-4E6A-AF1A-1B5FED4C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D9C0-6950-41B2-A153-2C3DE08C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48B7-AEE7-4B6E-85DB-D64B03D3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61A0-14D8-4858-8574-B9B6D744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A3C-611E-47A0-917B-F65D057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9FCC-943F-4E8E-85B1-2DAF024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0D0F-B717-449E-83EA-577DCC1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8639-80B7-4BA2-B751-49926834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CF23-6F47-40F3-9655-CBD3123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D06F-7C5C-4070-AA40-9C27F6E8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1ED6-C229-442C-80FA-9C51DE8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2D6A-DA2D-44ED-BF46-4B6BE3B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B936-EB37-4645-8D85-32626A2D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7814-264C-4712-B48A-7121F3F9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3CC-D23C-4F4D-A482-7DA0B71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28F-8E99-4261-B9E3-D3055867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37E-EC3A-4E10-AADA-CCF8BBB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AF8-D280-4576-B0DA-BF7D1B5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8DC-D25D-4F7C-99DE-5F12DCA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60A-CCA6-4EAB-B32A-F07075E8E9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BB1-4CAA-4457-8033-6C0196B25D1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5722-6981-4BFB-AB35-F23181C60B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C5EA-F94E-4CCB-92BA-23FEBB3F81C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image" Target="../media/image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0" y="1265040"/>
            <a:ext cx="5688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等线 Light"/>
              </a:rPr>
              <a:t>分数的简单应用（二）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8000" y="1076400"/>
            <a:ext cx="64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单元　分数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89064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987640" y="3645000"/>
            <a:ext cx="2521080" cy="2520720"/>
          </a:xfrm>
          <a:prstGeom prst="rect">
            <a:avLst/>
          </a:prstGeom>
          <a:solidFill>
            <a:srgbClr val="4f81bd"/>
          </a:solidFill>
          <a:ln w="284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2"/>
          <p:cNvGrpSpPr/>
          <p:nvPr/>
        </p:nvGrpSpPr>
        <p:grpSpPr>
          <a:xfrm>
            <a:off x="1319040" y="1127160"/>
            <a:ext cx="7357680" cy="1617120"/>
            <a:chOff x="1319040" y="1127160"/>
            <a:chExt cx="7357680" cy="1617120"/>
          </a:xfrm>
        </p:grpSpPr>
        <p:grpSp>
          <p:nvGrpSpPr>
            <p:cNvPr id="169" name="Group 27"/>
            <p:cNvGrpSpPr/>
            <p:nvPr/>
          </p:nvGrpSpPr>
          <p:grpSpPr>
            <a:xfrm>
              <a:off x="1319040" y="1127160"/>
              <a:ext cx="7357680" cy="1477800"/>
              <a:chOff x="1319040" y="1127160"/>
              <a:chExt cx="7357680" cy="1477800"/>
            </a:xfrm>
          </p:grpSpPr>
          <p:pic>
            <p:nvPicPr>
              <p:cNvPr id="170" name="Picture 19" descr="女天使副本"/>
              <p:cNvPicPr/>
              <p:nvPr/>
            </p:nvPicPr>
            <p:blipFill>
              <a:blip r:embed="rId1"/>
              <a:stretch/>
            </p:blipFill>
            <p:spPr>
              <a:xfrm flipH="1">
                <a:off x="7021080" y="1127160"/>
                <a:ext cx="1655640" cy="13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AutoShape 27"/>
              <p:cNvSpPr/>
              <p:nvPr/>
            </p:nvSpPr>
            <p:spPr>
              <a:xfrm>
                <a:off x="1319040" y="1812960"/>
                <a:ext cx="5418360" cy="792000"/>
              </a:xfrm>
              <a:prstGeom prst="wedgeRoundRectCallout">
                <a:avLst>
                  <a:gd name="adj1" fmla="val 57824"/>
                  <a:gd name="adj2" fmla="val -27787"/>
                  <a:gd name="adj3" fmla="val 16667"/>
                </a:avLst>
              </a:prstGeom>
              <a:solidFill>
                <a:srgbClr val="ffffff"/>
              </a:solidFill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用一张正方形纸，折出它的</a:t>
                </a:r>
                <a:r>
                  <a:rPr b="0" lang="en-US" sz="2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  </a:t>
                </a:r>
                <a:r>
                  <a:rPr b="0" lang="zh-CN" sz="28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，并用阴影部分表示出来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2" name="对象 11"/>
            <p:cNvGraphicFramePr/>
            <p:nvPr/>
          </p:nvGraphicFramePr>
          <p:xfrm>
            <a:off x="5771160" y="1834560"/>
            <a:ext cx="347400" cy="90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对象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71160" y="1834560"/>
                      <a:ext cx="34740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4" name="矩形 14"/>
          <p:cNvSpPr/>
          <p:nvPr/>
        </p:nvSpPr>
        <p:spPr>
          <a:xfrm>
            <a:off x="3008160" y="3673440"/>
            <a:ext cx="1206720" cy="12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"/>
          <p:cNvSpPr/>
          <p:nvPr/>
        </p:nvSpPr>
        <p:spPr>
          <a:xfrm>
            <a:off x="2975040" y="4902120"/>
            <a:ext cx="2519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8"/>
          <p:cNvSpPr/>
          <p:nvPr/>
        </p:nvSpPr>
        <p:spPr>
          <a:xfrm flipV="1">
            <a:off x="4241880" y="3637080"/>
            <a:ext cx="0" cy="25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8000" y="20484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78" name="组合 25"/>
          <p:cNvGrpSpPr/>
          <p:nvPr/>
        </p:nvGrpSpPr>
        <p:grpSpPr>
          <a:xfrm>
            <a:off x="2571840" y="4005360"/>
            <a:ext cx="3922560" cy="2232000"/>
            <a:chOff x="2571840" y="4005360"/>
            <a:chExt cx="3922560" cy="2232000"/>
          </a:xfrm>
        </p:grpSpPr>
        <p:pic>
          <p:nvPicPr>
            <p:cNvPr id="179" name="图片 26" descr=""/>
            <p:cNvPicPr/>
            <p:nvPr/>
          </p:nvPicPr>
          <p:blipFill>
            <a:blip r:embed="rId1"/>
            <a:stretch/>
          </p:blipFill>
          <p:spPr>
            <a:xfrm>
              <a:off x="2978280" y="4313160"/>
              <a:ext cx="31093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椭圆 27"/>
            <p:cNvSpPr/>
            <p:nvPr/>
          </p:nvSpPr>
          <p:spPr>
            <a:xfrm>
              <a:off x="2571840" y="4005360"/>
              <a:ext cx="3922560" cy="223200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8"/>
          <p:cNvGrpSpPr/>
          <p:nvPr/>
        </p:nvGrpSpPr>
        <p:grpSpPr>
          <a:xfrm>
            <a:off x="3873600" y="4059360"/>
            <a:ext cx="1319040" cy="2135160"/>
            <a:chOff x="3873600" y="4059360"/>
            <a:chExt cx="1319040" cy="2135160"/>
          </a:xfrm>
        </p:grpSpPr>
        <p:sp>
          <p:nvSpPr>
            <p:cNvPr id="182" name="直接连接符 29"/>
            <p:cNvSpPr/>
            <p:nvPr/>
          </p:nvSpPr>
          <p:spPr>
            <a:xfrm>
              <a:off x="3873600" y="4068720"/>
              <a:ext cx="0" cy="2125800"/>
            </a:xfrm>
            <a:prstGeom prst="line">
              <a:avLst/>
            </a:prstGeom>
            <a:ln w="28440">
              <a:solidFill>
                <a:srgbClr val="4472c4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0"/>
            <p:cNvSpPr/>
            <p:nvPr/>
          </p:nvSpPr>
          <p:spPr>
            <a:xfrm>
              <a:off x="5160960" y="4059360"/>
              <a:ext cx="31680" cy="2125800"/>
            </a:xfrm>
            <a:prstGeom prst="line">
              <a:avLst/>
            </a:prstGeom>
            <a:ln w="28440">
              <a:solidFill>
                <a:srgbClr val="4472c4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图片 4" descr=""/>
          <p:cNvPicPr/>
          <p:nvPr/>
        </p:nvPicPr>
        <p:blipFill>
          <a:blip r:embed="rId2"/>
          <a:srcRect l="0" t="0" r="67192" b="-128"/>
          <a:stretch/>
        </p:blipFill>
        <p:spPr>
          <a:xfrm>
            <a:off x="2571840" y="3994200"/>
            <a:ext cx="1295280" cy="22590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5" descr=""/>
          <p:cNvPicPr/>
          <p:nvPr/>
        </p:nvPicPr>
        <p:blipFill>
          <a:blip r:embed="rId3"/>
          <a:srcRect l="32817" t="0" r="0" b="0"/>
          <a:stretch/>
        </p:blipFill>
        <p:spPr>
          <a:xfrm>
            <a:off x="3870360" y="3998880"/>
            <a:ext cx="2654280" cy="225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对象 32"/>
          <p:cNvGraphicFramePr/>
          <p:nvPr/>
        </p:nvGraphicFramePr>
        <p:xfrm>
          <a:off x="1989000" y="4675320"/>
          <a:ext cx="317520" cy="90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对象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9000" y="4675320"/>
                    <a:ext cx="3175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对象 33"/>
          <p:cNvGraphicFramePr/>
          <p:nvPr/>
        </p:nvGraphicFramePr>
        <p:xfrm>
          <a:off x="6640560" y="4641840"/>
          <a:ext cx="347760" cy="90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对象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40560" y="4641840"/>
                    <a:ext cx="347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组合 1"/>
          <p:cNvGrpSpPr/>
          <p:nvPr/>
        </p:nvGrpSpPr>
        <p:grpSpPr>
          <a:xfrm>
            <a:off x="826920" y="1084320"/>
            <a:ext cx="7945200" cy="2656440"/>
            <a:chOff x="826920" y="1084320"/>
            <a:chExt cx="7945200" cy="2656440"/>
          </a:xfrm>
        </p:grpSpPr>
        <p:grpSp>
          <p:nvGrpSpPr>
            <p:cNvPr id="191" name="Group 27"/>
            <p:cNvGrpSpPr/>
            <p:nvPr/>
          </p:nvGrpSpPr>
          <p:grpSpPr>
            <a:xfrm>
              <a:off x="826920" y="1084320"/>
              <a:ext cx="7945200" cy="1504800"/>
              <a:chOff x="826920" y="1084320"/>
              <a:chExt cx="7945200" cy="1504800"/>
            </a:xfrm>
          </p:grpSpPr>
          <p:pic>
            <p:nvPicPr>
              <p:cNvPr id="192" name="Picture 19" descr="女天使副本"/>
              <p:cNvPicPr/>
              <p:nvPr/>
            </p:nvPicPr>
            <p:blipFill>
              <a:blip r:embed="rId8"/>
              <a:stretch/>
            </p:blipFill>
            <p:spPr>
              <a:xfrm flipH="1">
                <a:off x="7070400" y="1084320"/>
                <a:ext cx="1701720" cy="150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AutoShape 27"/>
              <p:cNvSpPr/>
              <p:nvPr/>
            </p:nvSpPr>
            <p:spPr>
              <a:xfrm>
                <a:off x="826920" y="1247760"/>
                <a:ext cx="6018480" cy="693720"/>
              </a:xfrm>
              <a:prstGeom prst="wedgeRoundRectCallout">
                <a:avLst>
                  <a:gd name="adj1" fmla="val 59745"/>
                  <a:gd name="adj2" fmla="val 74532"/>
                  <a:gd name="adj3" fmla="val 16667"/>
                </a:avLst>
              </a:prstGeom>
              <a:solidFill>
                <a:srgbClr val="ffffff"/>
              </a:solidFill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1c1c1c"/>
                    </a:solidFill>
                    <a:latin typeface="宋体"/>
                  </a:rPr>
                  <a:t>将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等线"/>
                  </a:rPr>
                  <a:t>6</a:t>
                </a:r>
                <a:r>
                  <a:rPr b="0" lang="zh-CN" sz="2400" spc="-1" strike="noStrike">
                    <a:solidFill>
                      <a:srgbClr val="1c1c1c"/>
                    </a:solidFill>
                    <a:latin typeface="宋体"/>
                  </a:rPr>
                  <a:t>个苹果平均分成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等线"/>
                  </a:rPr>
                  <a:t>3</a:t>
                </a:r>
                <a:r>
                  <a:rPr b="0" lang="zh-CN" sz="2400" spc="-1" strike="noStrike">
                    <a:solidFill>
                      <a:srgbClr val="1c1c1c"/>
                    </a:solidFill>
                    <a:latin typeface="宋体"/>
                  </a:rPr>
                  <a:t>份，写出一份占苹果总数的几分之几，两份占苹果总数的几分之几，并将苹果总数的</a:t>
                </a:r>
                <a:r>
                  <a:rPr b="0" lang="en-US" sz="2400" spc="-1" strike="noStrike">
                    <a:solidFill>
                      <a:srgbClr val="1c1c1c"/>
                    </a:solidFill>
                    <a:latin typeface="宋体"/>
                  </a:rPr>
                  <a:t>  </a:t>
                </a:r>
                <a:r>
                  <a:rPr b="0" lang="zh-CN" sz="2400" spc="-1" strike="noStrike">
                    <a:solidFill>
                      <a:srgbClr val="1c1c1c"/>
                    </a:solidFill>
                    <a:latin typeface="宋体"/>
                  </a:rPr>
                  <a:t>涂成红色，苹果总数的  涂成绿色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4" name="对象 34"/>
            <p:cNvGraphicFramePr/>
            <p:nvPr/>
          </p:nvGraphicFramePr>
          <p:xfrm>
            <a:off x="4106520" y="2434680"/>
            <a:ext cx="266400" cy="76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5" name="对象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06520" y="2434680"/>
                      <a:ext cx="266400" cy="76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对象 36"/>
            <p:cNvGraphicFramePr/>
            <p:nvPr/>
          </p:nvGraphicFramePr>
          <p:xfrm>
            <a:off x="1946520" y="2977200"/>
            <a:ext cx="291960" cy="76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7" name="对象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46520" y="2977200"/>
                      <a:ext cx="29196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258840" y="69228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尝试探索，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4"/>
          <p:cNvGrpSpPr/>
          <p:nvPr/>
        </p:nvGrpSpPr>
        <p:grpSpPr>
          <a:xfrm>
            <a:off x="647640" y="1206360"/>
            <a:ext cx="8313840" cy="909360"/>
            <a:chOff x="647640" y="1206360"/>
            <a:chExt cx="8313840" cy="909360"/>
          </a:xfrm>
        </p:grpSpPr>
        <p:sp>
          <p:nvSpPr>
            <p:cNvPr id="200" name="Text Box 12"/>
            <p:cNvSpPr/>
            <p:nvPr/>
          </p:nvSpPr>
          <p:spPr>
            <a:xfrm>
              <a:off x="647640" y="1266480"/>
              <a:ext cx="831384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等线"/>
                </a:rPr>
                <a:t>12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名学生在踢毽子，其中  是女生， 是男生。男女生各有多少人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1" name="对象 36"/>
            <p:cNvGraphicFramePr/>
            <p:nvPr/>
          </p:nvGraphicFramePr>
          <p:xfrm>
            <a:off x="5329080" y="1206360"/>
            <a:ext cx="317520" cy="90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对象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29080" y="1206360"/>
                      <a:ext cx="31752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对象 37"/>
            <p:cNvGraphicFramePr/>
            <p:nvPr/>
          </p:nvGraphicFramePr>
          <p:xfrm>
            <a:off x="7049880" y="1206360"/>
            <a:ext cx="347400" cy="90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对象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49880" y="1206360"/>
                      <a:ext cx="34740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5" name="Picture 58" descr="107"/>
          <p:cNvPicPr/>
          <p:nvPr/>
        </p:nvPicPr>
        <p:blipFill>
          <a:blip r:embed="rId5"/>
          <a:stretch/>
        </p:blipFill>
        <p:spPr>
          <a:xfrm>
            <a:off x="7205760" y="2484360"/>
            <a:ext cx="1633320" cy="16495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7"/>
          <p:cNvSpPr/>
          <p:nvPr/>
        </p:nvSpPr>
        <p:spPr>
          <a:xfrm>
            <a:off x="2125800" y="3230640"/>
            <a:ext cx="4770360" cy="693720"/>
          </a:xfrm>
          <a:prstGeom prst="wedgeRoundRectCallout">
            <a:avLst>
              <a:gd name="adj1" fmla="val 60680"/>
              <a:gd name="adj2" fmla="val -8143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说一说从题目中，你知道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7"/>
          <p:cNvGrpSpPr/>
          <p:nvPr/>
        </p:nvGrpSpPr>
        <p:grpSpPr>
          <a:xfrm>
            <a:off x="468000" y="4762440"/>
            <a:ext cx="7037640" cy="1254240"/>
            <a:chOff x="468000" y="4762440"/>
            <a:chExt cx="7037640" cy="1254240"/>
          </a:xfrm>
        </p:grpSpPr>
        <p:pic>
          <p:nvPicPr>
            <p:cNvPr id="208" name="Picture 3" descr="C:\Users\admin\Desktop\B)9`0}E~_KUNX(H4HY0_N7D_副本.png"/>
            <p:cNvPicPr/>
            <p:nvPr/>
          </p:nvPicPr>
          <p:blipFill>
            <a:blip r:embed="rId6"/>
            <a:srcRect l="0" t="-2879" r="0" b="16711"/>
            <a:stretch/>
          </p:blipFill>
          <p:spPr>
            <a:xfrm flipH="1">
              <a:off x="468000" y="4762440"/>
              <a:ext cx="1181160" cy="125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组合 6"/>
            <p:cNvGrpSpPr/>
            <p:nvPr/>
          </p:nvGrpSpPr>
          <p:grpSpPr>
            <a:xfrm>
              <a:off x="1764360" y="4979880"/>
              <a:ext cx="5741280" cy="776880"/>
              <a:chOff x="1764360" y="4979880"/>
              <a:chExt cx="5741280" cy="776880"/>
            </a:xfrm>
          </p:grpSpPr>
          <p:sp>
            <p:nvSpPr>
              <p:cNvPr id="210" name="AutoShape 27"/>
              <p:cNvSpPr/>
              <p:nvPr/>
            </p:nvSpPr>
            <p:spPr>
              <a:xfrm flipH="1">
                <a:off x="1764360" y="4992120"/>
                <a:ext cx="5741280" cy="693720"/>
              </a:xfrm>
              <a:prstGeom prst="wedgeRoundRectCallout">
                <a:avLst>
                  <a:gd name="adj1" fmla="val 61259"/>
                  <a:gd name="adj2" fmla="val 4148"/>
                  <a:gd name="adj3" fmla="val 16667"/>
                </a:avLst>
              </a:prstGeom>
              <a:solidFill>
                <a:srgbClr val="ffffff"/>
              </a:solidFill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男女生共有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人，女生占   ，男生占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1" name="对象 41"/>
              <p:cNvGraphicFramePr/>
              <p:nvPr/>
            </p:nvGraphicFramePr>
            <p:xfrm>
              <a:off x="5245200" y="4983120"/>
              <a:ext cx="269640" cy="77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2" name="对象 4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45200" y="4983120"/>
                        <a:ext cx="269640" cy="77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" name="对象 43"/>
              <p:cNvGraphicFramePr/>
              <p:nvPr/>
            </p:nvGraphicFramePr>
            <p:xfrm>
              <a:off x="6713640" y="4979880"/>
              <a:ext cx="295200" cy="774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4" name="对象 4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713640" y="4979880"/>
                        <a:ext cx="295200" cy="77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15" name="组合 9"/>
          <p:cNvGrpSpPr/>
          <p:nvPr/>
        </p:nvGrpSpPr>
        <p:grpSpPr>
          <a:xfrm>
            <a:off x="2130480" y="2843280"/>
            <a:ext cx="4753080" cy="1483560"/>
            <a:chOff x="2130480" y="2843280"/>
            <a:chExt cx="4753080" cy="1483560"/>
          </a:xfrm>
        </p:grpSpPr>
        <p:sp>
          <p:nvSpPr>
            <p:cNvPr id="216" name="AutoShape 27"/>
            <p:cNvSpPr/>
            <p:nvPr/>
          </p:nvSpPr>
          <p:spPr>
            <a:xfrm>
              <a:off x="2130480" y="2843280"/>
              <a:ext cx="4753080" cy="1483560"/>
            </a:xfrm>
            <a:prstGeom prst="wedgeRoundRectCallout">
              <a:avLst>
                <a:gd name="adj1" fmla="val 59601"/>
                <a:gd name="adj2" fmla="val -548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你能用画示意图的方式表示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“</a:t>
              </a: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其中</a:t>
              </a:r>
              <a:r>
                <a:rPr b="0" lang="en-US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是女生，</a:t>
              </a:r>
              <a:r>
                <a:rPr b="0" lang="en-US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是男生”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7" name="对象 45"/>
            <p:cNvGraphicFramePr/>
            <p:nvPr/>
          </p:nvGraphicFramePr>
          <p:xfrm>
            <a:off x="3223440" y="3535560"/>
            <a:ext cx="269640" cy="77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8" name="对象 4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23440" y="3535560"/>
                      <a:ext cx="269640" cy="77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对象 46"/>
            <p:cNvGraphicFramePr/>
            <p:nvPr/>
          </p:nvGraphicFramePr>
          <p:xfrm>
            <a:off x="4620960" y="3550680"/>
            <a:ext cx="295200" cy="772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0" name="对象 4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20960" y="3550680"/>
                      <a:ext cx="29520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7"/>
          <p:cNvSpPr/>
          <p:nvPr/>
        </p:nvSpPr>
        <p:spPr>
          <a:xfrm>
            <a:off x="1782720" y="5396040"/>
            <a:ext cx="5272200" cy="561600"/>
          </a:xfrm>
          <a:prstGeom prst="wedgeRoundRectCallout">
            <a:avLst>
              <a:gd name="adj1" fmla="val 56490"/>
              <a:gd name="adj2" fmla="val -4069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宋体"/>
                <a:ea typeface="宋体"/>
              </a:rPr>
              <a:t>说一说怎样检验答案是否正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649520" y="204840"/>
            <a:ext cx="7775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尝试探索，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563400" y="5175360"/>
            <a:ext cx="6485040" cy="654120"/>
          </a:xfrm>
          <a:prstGeom prst="wedgeRoundRectCallout">
            <a:avLst>
              <a:gd name="adj1" fmla="val 56212"/>
              <a:gd name="adj2" fmla="val 31296"/>
              <a:gd name="adj3" fmla="val 16667"/>
            </a:avLst>
          </a:prstGeom>
          <a:solidFill>
            <a:srgbClr val="ffff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宋体"/>
                <a:ea typeface="宋体"/>
              </a:rPr>
              <a:t>求男生人数还有其他方法吗？选取自己认为简便的方法求出男生的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8" descr="107"/>
          <p:cNvPicPr/>
          <p:nvPr/>
        </p:nvPicPr>
        <p:blipFill>
          <a:blip r:embed="rId1"/>
          <a:stretch/>
        </p:blipFill>
        <p:spPr>
          <a:xfrm>
            <a:off x="7223040" y="4668840"/>
            <a:ext cx="1654200" cy="167004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4"/>
          <p:cNvGrpSpPr/>
          <p:nvPr/>
        </p:nvGrpSpPr>
        <p:grpSpPr>
          <a:xfrm>
            <a:off x="1455840" y="3011400"/>
            <a:ext cx="3071880" cy="1030320"/>
            <a:chOff x="1455840" y="3011400"/>
            <a:chExt cx="3071880" cy="1030320"/>
          </a:xfrm>
        </p:grpSpPr>
        <p:sp>
          <p:nvSpPr>
            <p:cNvPr id="226" name="椭圆 1"/>
            <p:cNvSpPr/>
            <p:nvPr/>
          </p:nvSpPr>
          <p:spPr>
            <a:xfrm>
              <a:off x="1455840" y="361620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36"/>
            <p:cNvSpPr/>
            <p:nvPr/>
          </p:nvSpPr>
          <p:spPr>
            <a:xfrm>
              <a:off x="1455840" y="301140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37"/>
            <p:cNvSpPr/>
            <p:nvPr/>
          </p:nvSpPr>
          <p:spPr>
            <a:xfrm>
              <a:off x="1982880" y="362592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38"/>
            <p:cNvSpPr/>
            <p:nvPr/>
          </p:nvSpPr>
          <p:spPr>
            <a:xfrm>
              <a:off x="1981080" y="3039840"/>
              <a:ext cx="411120" cy="41112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39"/>
            <p:cNvSpPr/>
            <p:nvPr/>
          </p:nvSpPr>
          <p:spPr>
            <a:xfrm>
              <a:off x="2546280" y="361476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40"/>
            <p:cNvSpPr/>
            <p:nvPr/>
          </p:nvSpPr>
          <p:spPr>
            <a:xfrm>
              <a:off x="3059280" y="3632040"/>
              <a:ext cx="4093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41"/>
            <p:cNvSpPr/>
            <p:nvPr/>
          </p:nvSpPr>
          <p:spPr>
            <a:xfrm>
              <a:off x="4116600" y="361476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42"/>
            <p:cNvSpPr/>
            <p:nvPr/>
          </p:nvSpPr>
          <p:spPr>
            <a:xfrm>
              <a:off x="3571920" y="3624120"/>
              <a:ext cx="409320" cy="41112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43"/>
            <p:cNvSpPr/>
            <p:nvPr/>
          </p:nvSpPr>
          <p:spPr>
            <a:xfrm>
              <a:off x="2524320" y="3028680"/>
              <a:ext cx="4093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44"/>
            <p:cNvSpPr/>
            <p:nvPr/>
          </p:nvSpPr>
          <p:spPr>
            <a:xfrm>
              <a:off x="3009960" y="302868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45"/>
            <p:cNvSpPr/>
            <p:nvPr/>
          </p:nvSpPr>
          <p:spPr>
            <a:xfrm>
              <a:off x="3545280" y="303012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46"/>
            <p:cNvSpPr/>
            <p:nvPr/>
          </p:nvSpPr>
          <p:spPr>
            <a:xfrm>
              <a:off x="4108680" y="3052440"/>
              <a:ext cx="411120" cy="409680"/>
            </a:xfrm>
            <a:prstGeom prst="ellipse">
              <a:avLst/>
            </a:prstGeom>
            <a:noFill/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圆角矩形 6"/>
          <p:cNvSpPr/>
          <p:nvPr/>
        </p:nvSpPr>
        <p:spPr>
          <a:xfrm>
            <a:off x="1258920" y="2852640"/>
            <a:ext cx="3524040" cy="1401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"/>
          <p:cNvSpPr/>
          <p:nvPr/>
        </p:nvSpPr>
        <p:spPr>
          <a:xfrm>
            <a:off x="2440080" y="2865600"/>
            <a:ext cx="21960" cy="14014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47"/>
          <p:cNvSpPr/>
          <p:nvPr/>
        </p:nvSpPr>
        <p:spPr>
          <a:xfrm>
            <a:off x="3492360" y="2868480"/>
            <a:ext cx="24120" cy="14018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9"/>
          <p:cNvGrpSpPr/>
          <p:nvPr/>
        </p:nvGrpSpPr>
        <p:grpSpPr>
          <a:xfrm>
            <a:off x="1442880" y="3016080"/>
            <a:ext cx="938520" cy="1025640"/>
            <a:chOff x="1442880" y="3016080"/>
            <a:chExt cx="938520" cy="1025640"/>
          </a:xfrm>
        </p:grpSpPr>
        <p:sp>
          <p:nvSpPr>
            <p:cNvPr id="242" name="椭圆 48"/>
            <p:cNvSpPr/>
            <p:nvPr/>
          </p:nvSpPr>
          <p:spPr>
            <a:xfrm>
              <a:off x="1442880" y="3620880"/>
              <a:ext cx="411120" cy="4111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49"/>
            <p:cNvSpPr/>
            <p:nvPr/>
          </p:nvSpPr>
          <p:spPr>
            <a:xfrm>
              <a:off x="1442880" y="3016080"/>
              <a:ext cx="411120" cy="4111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50"/>
            <p:cNvSpPr/>
            <p:nvPr/>
          </p:nvSpPr>
          <p:spPr>
            <a:xfrm>
              <a:off x="1970280" y="3630600"/>
              <a:ext cx="411120" cy="4111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51"/>
            <p:cNvSpPr/>
            <p:nvPr/>
          </p:nvSpPr>
          <p:spPr>
            <a:xfrm>
              <a:off x="1970280" y="3044520"/>
              <a:ext cx="409680" cy="4111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2"/>
          <p:cNvGrpSpPr/>
          <p:nvPr/>
        </p:nvGrpSpPr>
        <p:grpSpPr>
          <a:xfrm>
            <a:off x="647640" y="1206360"/>
            <a:ext cx="8313840" cy="909720"/>
            <a:chOff x="647640" y="1206360"/>
            <a:chExt cx="8313840" cy="909720"/>
          </a:xfrm>
        </p:grpSpPr>
        <p:sp>
          <p:nvSpPr>
            <p:cNvPr id="247" name="Text Box 12"/>
            <p:cNvSpPr/>
            <p:nvPr/>
          </p:nvSpPr>
          <p:spPr>
            <a:xfrm>
              <a:off x="647640" y="1266480"/>
              <a:ext cx="831384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等线"/>
                </a:rPr>
                <a:t>12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名学生在踢毽子，其中  是女生， 是男生。男女生各有多少人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8" name="对象 54"/>
            <p:cNvGraphicFramePr/>
            <p:nvPr/>
          </p:nvGraphicFramePr>
          <p:xfrm>
            <a:off x="5329080" y="1206360"/>
            <a:ext cx="317520" cy="90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9" name="对象 5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29080" y="1206360"/>
                      <a:ext cx="31752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对象 55"/>
            <p:cNvGraphicFramePr/>
            <p:nvPr/>
          </p:nvGraphicFramePr>
          <p:xfrm>
            <a:off x="7049880" y="1206360"/>
            <a:ext cx="347400" cy="90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1" name="对象 5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49880" y="1206360"/>
                      <a:ext cx="34740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矩形 56"/>
          <p:cNvSpPr/>
          <p:nvPr/>
        </p:nvSpPr>
        <p:spPr>
          <a:xfrm>
            <a:off x="5342400" y="298116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等线"/>
                <a:ea typeface="等线"/>
              </a:rPr>
              <a:t>女生：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0000ff"/>
                </a:solidFill>
                <a:latin typeface="等线"/>
                <a:ea typeface="等线"/>
              </a:rPr>
              <a:t>÷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等线"/>
                <a:ea typeface="等线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等线"/>
                <a:ea typeface="等线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7"/>
          <p:cNvSpPr/>
          <p:nvPr/>
        </p:nvSpPr>
        <p:spPr>
          <a:xfrm>
            <a:off x="5365800" y="364176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等线"/>
                <a:ea typeface="等线"/>
              </a:rPr>
              <a:t>男生：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等线"/>
                <a:ea typeface="等线"/>
              </a:rPr>
              <a:t>×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等线"/>
                <a:ea typeface="等线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0" lang="zh-CN" sz="2800" spc="-1" strike="noStrike">
                <a:solidFill>
                  <a:srgbClr val="0000ff"/>
                </a:solidFill>
                <a:latin typeface="等线"/>
                <a:ea typeface="等线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8"/>
          <p:cNvSpPr/>
          <p:nvPr/>
        </p:nvSpPr>
        <p:spPr>
          <a:xfrm>
            <a:off x="2039040" y="4511520"/>
            <a:ext cx="34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：女生有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人，男生有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2"/>
          <p:cNvGrpSpPr/>
          <p:nvPr/>
        </p:nvGrpSpPr>
        <p:grpSpPr>
          <a:xfrm>
            <a:off x="266760" y="2286000"/>
            <a:ext cx="8088120" cy="1454040"/>
            <a:chOff x="266760" y="2286000"/>
            <a:chExt cx="8088120" cy="1454040"/>
          </a:xfrm>
        </p:grpSpPr>
        <p:sp>
          <p:nvSpPr>
            <p:cNvPr id="256" name="矩形 3"/>
            <p:cNvSpPr/>
            <p:nvPr/>
          </p:nvSpPr>
          <p:spPr>
            <a:xfrm>
              <a:off x="266760" y="2366640"/>
              <a:ext cx="8088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　　　一堆小棒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8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。拿出这堆小棒的  ，拿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 ）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" name="对象 10"/>
            <p:cNvGraphicFramePr/>
            <p:nvPr/>
          </p:nvGraphicFramePr>
          <p:xfrm>
            <a:off x="6765840" y="2286000"/>
            <a:ext cx="317160" cy="90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8" name="对象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65840" y="2286000"/>
                      <a:ext cx="31716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Rectangle 2"/>
          <p:cNvSpPr/>
          <p:nvPr/>
        </p:nvSpPr>
        <p:spPr>
          <a:xfrm>
            <a:off x="266760" y="987480"/>
            <a:ext cx="6197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课堂练习，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117960" y="38210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等线"/>
              </a:rPr>
              <a:t>18</a:t>
            </a:r>
            <a:r>
              <a:rPr b="0" lang="en-US" sz="2800" spc="-1" strike="noStrike">
                <a:solidFill>
                  <a:srgbClr val="ff0000"/>
                </a:solidFill>
                <a:latin typeface="等线"/>
                <a:ea typeface="等线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等线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等线"/>
                <a:ea typeface="等线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等线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等线"/>
                <a:ea typeface="等线"/>
              </a:rPr>
              <a:t>（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9"/>
          <p:cNvSpPr/>
          <p:nvPr/>
        </p:nvSpPr>
        <p:spPr>
          <a:xfrm>
            <a:off x="948600" y="3125880"/>
            <a:ext cx="4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等线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等线"/>
                <a:ea typeface="等线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1316880" y="193032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练习二十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804960"/>
            <a:ext cx="6197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课堂练习，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8"/>
          <p:cNvSpPr/>
          <p:nvPr/>
        </p:nvSpPr>
        <p:spPr>
          <a:xfrm>
            <a:off x="4027320" y="2236680"/>
            <a:ext cx="7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1"/>
          <p:cNvSpPr/>
          <p:nvPr/>
        </p:nvSpPr>
        <p:spPr>
          <a:xfrm>
            <a:off x="1090440" y="5049720"/>
            <a:ext cx="25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5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58"/>
          <p:cNvSpPr/>
          <p:nvPr/>
        </p:nvSpPr>
        <p:spPr>
          <a:xfrm>
            <a:off x="6548400" y="2063880"/>
            <a:ext cx="360360" cy="865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865080"/>
              <a:gd name="textAreaBottom" fmla="*/ 847800 h 865080"/>
            </a:gdLst>
            <a:ahLst/>
            <a:rect l="textAreaLeft" t="textAreaTop" r="textAreaRight" b="textAreaBottom"/>
            <a:pathLst>
              <a:path w="21600" h="51823">
                <a:moveTo>
                  <a:pt x="3600" y="0"/>
                </a:moveTo>
                <a:arcTo wR="3600" hR="3600" stAng="16200000" swAng="-5400000"/>
                <a:lnTo>
                  <a:pt x="0" y="48223"/>
                </a:lnTo>
                <a:arcTo wR="3600" hR="3600" stAng="10800000" swAng="-5400000"/>
                <a:lnTo>
                  <a:pt x="18000" y="51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839880" y="3537000"/>
            <a:ext cx="3732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想：把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平均分成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份，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　　取其中的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1"/>
          <p:cNvSpPr/>
          <p:nvPr/>
        </p:nvSpPr>
        <p:spPr>
          <a:xfrm>
            <a:off x="1090440" y="5699160"/>
            <a:ext cx="25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黑兔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6"/>
          <p:cNvGrpSpPr/>
          <p:nvPr/>
        </p:nvGrpSpPr>
        <p:grpSpPr>
          <a:xfrm>
            <a:off x="763560" y="2019240"/>
            <a:ext cx="8239320" cy="3651480"/>
            <a:chOff x="763560" y="2019240"/>
            <a:chExt cx="8239320" cy="3651480"/>
          </a:xfrm>
        </p:grpSpPr>
        <p:sp>
          <p:nvSpPr>
            <p:cNvPr id="270" name="TextBox 1"/>
            <p:cNvSpPr/>
            <p:nvPr/>
          </p:nvSpPr>
          <p:spPr>
            <a:xfrm>
              <a:off x="763560" y="2090520"/>
              <a:ext cx="7985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　　学校饲养组养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等线"/>
                </a:rPr>
                <a:t>15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只兔子。其中  是黑兔，黑兔有多少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7" descr="01"/>
            <p:cNvPicPr/>
            <p:nvPr/>
          </p:nvPicPr>
          <p:blipFill>
            <a:blip r:embed="rId1"/>
            <a:stretch/>
          </p:blipFill>
          <p:spPr>
            <a:xfrm>
              <a:off x="5148360" y="3063600"/>
              <a:ext cx="3854520" cy="2607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72" name="对象 15"/>
            <p:cNvGraphicFramePr/>
            <p:nvPr/>
          </p:nvGraphicFramePr>
          <p:xfrm>
            <a:off x="6566760" y="2019240"/>
            <a:ext cx="317520" cy="90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3" name="对象 1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66760" y="2019240"/>
                      <a:ext cx="31752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4" name="矩形 17"/>
          <p:cNvSpPr/>
          <p:nvPr/>
        </p:nvSpPr>
        <p:spPr>
          <a:xfrm>
            <a:off x="1345320" y="171288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练习二十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12640" y="836640"/>
            <a:ext cx="6197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课堂练习，巩固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657360" y="2101680"/>
            <a:ext cx="7253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在每幅图里图上颜色，分别表示它的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" descr=""/>
          <p:cNvPicPr/>
          <p:nvPr/>
        </p:nvPicPr>
        <p:blipFill>
          <a:blip r:embed="rId1"/>
          <a:srcRect l="11023" t="43165" r="2600" b="28878"/>
          <a:stretch/>
        </p:blipFill>
        <p:spPr>
          <a:xfrm>
            <a:off x="846000" y="3011400"/>
            <a:ext cx="6759720" cy="19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对象 10"/>
          <p:cNvGraphicFramePr/>
          <p:nvPr/>
        </p:nvGraphicFramePr>
        <p:xfrm>
          <a:off x="6732720" y="1943280"/>
          <a:ext cx="317520" cy="90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对象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943280"/>
                    <a:ext cx="3175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组合 49"/>
          <p:cNvGrpSpPr/>
          <p:nvPr/>
        </p:nvGrpSpPr>
        <p:grpSpPr>
          <a:xfrm>
            <a:off x="1074600" y="3532320"/>
            <a:ext cx="939960" cy="498240"/>
            <a:chOff x="1074600" y="3532320"/>
            <a:chExt cx="939960" cy="498240"/>
          </a:xfrm>
        </p:grpSpPr>
        <p:sp>
          <p:nvSpPr>
            <p:cNvPr id="281" name="圆角矩形 11"/>
            <p:cNvSpPr/>
            <p:nvPr/>
          </p:nvSpPr>
          <p:spPr>
            <a:xfrm>
              <a:off x="1074600" y="3544920"/>
              <a:ext cx="252360" cy="485640"/>
            </a:xfrm>
            <a:custGeom>
              <a:avLst/>
              <a:gdLst>
                <a:gd name="textAreaLeft" fmla="*/ 34560 w 252360"/>
                <a:gd name="textAreaRight" fmla="*/ 217800 w 252360"/>
                <a:gd name="textAreaTop" fmla="*/ 34560 h 485640"/>
                <a:gd name="textAreaBottom" fmla="*/ 451080 h 485640"/>
              </a:gdLst>
              <a:ahLst/>
              <a:rect l="textAreaLeft" t="textAreaTop" r="textAreaRight" b="textAreaBottom"/>
              <a:pathLst>
                <a:path w="21600" h="41538">
                  <a:moveTo>
                    <a:pt x="10172" y="0"/>
                  </a:moveTo>
                  <a:arcTo wR="10172" hR="10172" stAng="16200000" swAng="-5400000"/>
                  <a:lnTo>
                    <a:pt x="0" y="31366"/>
                  </a:lnTo>
                  <a:arcTo wR="10172" hR="10172" stAng="10800000" swAng="-5400000"/>
                  <a:lnTo>
                    <a:pt x="11428" y="41538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548235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21"/>
            <p:cNvSpPr/>
            <p:nvPr/>
          </p:nvSpPr>
          <p:spPr>
            <a:xfrm>
              <a:off x="1407960" y="3541680"/>
              <a:ext cx="252360" cy="485640"/>
            </a:xfrm>
            <a:custGeom>
              <a:avLst/>
              <a:gdLst>
                <a:gd name="textAreaLeft" fmla="*/ 34560 w 252360"/>
                <a:gd name="textAreaRight" fmla="*/ 217800 w 252360"/>
                <a:gd name="textAreaTop" fmla="*/ 34560 h 485640"/>
                <a:gd name="textAreaBottom" fmla="*/ 451080 h 485640"/>
              </a:gdLst>
              <a:ahLst/>
              <a:rect l="textAreaLeft" t="textAreaTop" r="textAreaRight" b="textAreaBottom"/>
              <a:pathLst>
                <a:path w="21600" h="41538">
                  <a:moveTo>
                    <a:pt x="10172" y="0"/>
                  </a:moveTo>
                  <a:arcTo wR="10172" hR="10172" stAng="16200000" swAng="-5400000"/>
                  <a:lnTo>
                    <a:pt x="0" y="31366"/>
                  </a:lnTo>
                  <a:arcTo wR="10172" hR="10172" stAng="10800000" swAng="-5400000"/>
                  <a:lnTo>
                    <a:pt x="11428" y="41538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548235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22"/>
            <p:cNvSpPr/>
            <p:nvPr/>
          </p:nvSpPr>
          <p:spPr>
            <a:xfrm>
              <a:off x="1755720" y="353232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548235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50"/>
          <p:cNvGrpSpPr/>
          <p:nvPr/>
        </p:nvGrpSpPr>
        <p:grpSpPr>
          <a:xfrm>
            <a:off x="3251160" y="3460680"/>
            <a:ext cx="965160" cy="1044720"/>
            <a:chOff x="3251160" y="3460680"/>
            <a:chExt cx="965160" cy="1044720"/>
          </a:xfrm>
        </p:grpSpPr>
        <p:sp>
          <p:nvSpPr>
            <p:cNvPr id="285" name="圆角矩形 23"/>
            <p:cNvSpPr/>
            <p:nvPr/>
          </p:nvSpPr>
          <p:spPr>
            <a:xfrm>
              <a:off x="3251160" y="3479400"/>
              <a:ext cx="252360" cy="486000"/>
            </a:xfrm>
            <a:custGeom>
              <a:avLst/>
              <a:gdLst>
                <a:gd name="textAreaLeft" fmla="*/ 34560 w 252360"/>
                <a:gd name="textAreaRight" fmla="*/ 217800 w 2523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569">
                  <a:moveTo>
                    <a:pt x="10172" y="0"/>
                  </a:moveTo>
                  <a:arcTo wR="10172" hR="10172" stAng="16200000" swAng="-5400000"/>
                  <a:lnTo>
                    <a:pt x="0" y="31397"/>
                  </a:lnTo>
                  <a:arcTo wR="10172" hR="10172" stAng="10800000" swAng="-5400000"/>
                  <a:lnTo>
                    <a:pt x="11428" y="41569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24"/>
            <p:cNvSpPr/>
            <p:nvPr/>
          </p:nvSpPr>
          <p:spPr>
            <a:xfrm>
              <a:off x="3603600" y="3473280"/>
              <a:ext cx="250560" cy="486000"/>
            </a:xfrm>
            <a:custGeom>
              <a:avLst/>
              <a:gdLst>
                <a:gd name="textAreaLeft" fmla="*/ 34560 w 250560"/>
                <a:gd name="textAreaRight" fmla="*/ 216000 w 2505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867">
                  <a:moveTo>
                    <a:pt x="10172" y="0"/>
                  </a:moveTo>
                  <a:arcTo wR="10172" hR="10172" stAng="16200000" swAng="-5400000"/>
                  <a:lnTo>
                    <a:pt x="0" y="31695"/>
                  </a:lnTo>
                  <a:arcTo wR="10172" hR="10172" stAng="10800000" swAng="-5400000"/>
                  <a:lnTo>
                    <a:pt x="11428" y="41867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25"/>
            <p:cNvSpPr/>
            <p:nvPr/>
          </p:nvSpPr>
          <p:spPr>
            <a:xfrm>
              <a:off x="3956040" y="3460680"/>
              <a:ext cx="250560" cy="486000"/>
            </a:xfrm>
            <a:custGeom>
              <a:avLst/>
              <a:gdLst>
                <a:gd name="textAreaLeft" fmla="*/ 34560 w 250560"/>
                <a:gd name="textAreaRight" fmla="*/ 216000 w 2505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867">
                  <a:moveTo>
                    <a:pt x="10172" y="0"/>
                  </a:moveTo>
                  <a:arcTo wR="10172" hR="10172" stAng="16200000" swAng="-5400000"/>
                  <a:lnTo>
                    <a:pt x="0" y="31695"/>
                  </a:lnTo>
                  <a:arcTo wR="10172" hR="10172" stAng="10800000" swAng="-5400000"/>
                  <a:lnTo>
                    <a:pt x="11428" y="41867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26"/>
            <p:cNvSpPr/>
            <p:nvPr/>
          </p:nvSpPr>
          <p:spPr>
            <a:xfrm>
              <a:off x="3963960" y="3986280"/>
              <a:ext cx="252360" cy="486000"/>
            </a:xfrm>
            <a:custGeom>
              <a:avLst/>
              <a:gdLst>
                <a:gd name="textAreaLeft" fmla="*/ 34560 w 252360"/>
                <a:gd name="textAreaRight" fmla="*/ 217800 w 2523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569">
                  <a:moveTo>
                    <a:pt x="10172" y="0"/>
                  </a:moveTo>
                  <a:arcTo wR="10172" hR="10172" stAng="16200000" swAng="-5400000"/>
                  <a:lnTo>
                    <a:pt x="0" y="31397"/>
                  </a:lnTo>
                  <a:arcTo wR="10172" hR="10172" stAng="10800000" swAng="-5400000"/>
                  <a:lnTo>
                    <a:pt x="11428" y="41569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27"/>
            <p:cNvSpPr/>
            <p:nvPr/>
          </p:nvSpPr>
          <p:spPr>
            <a:xfrm>
              <a:off x="3611520" y="4005360"/>
              <a:ext cx="252360" cy="486000"/>
            </a:xfrm>
            <a:custGeom>
              <a:avLst/>
              <a:gdLst>
                <a:gd name="textAreaLeft" fmla="*/ 34560 w 252360"/>
                <a:gd name="textAreaRight" fmla="*/ 217800 w 2523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569">
                  <a:moveTo>
                    <a:pt x="10172" y="0"/>
                  </a:moveTo>
                  <a:arcTo wR="10172" hR="10172" stAng="16200000" swAng="-5400000"/>
                  <a:lnTo>
                    <a:pt x="0" y="31397"/>
                  </a:lnTo>
                  <a:arcTo wR="10172" hR="10172" stAng="10800000" swAng="-5400000"/>
                  <a:lnTo>
                    <a:pt x="11428" y="41569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 28"/>
            <p:cNvSpPr/>
            <p:nvPr/>
          </p:nvSpPr>
          <p:spPr>
            <a:xfrm>
              <a:off x="3261960" y="4019400"/>
              <a:ext cx="250560" cy="486000"/>
            </a:xfrm>
            <a:custGeom>
              <a:avLst/>
              <a:gdLst>
                <a:gd name="textAreaLeft" fmla="*/ 34560 w 250560"/>
                <a:gd name="textAreaRight" fmla="*/ 216000 w 250560"/>
                <a:gd name="textAreaTop" fmla="*/ 34560 h 486000"/>
                <a:gd name="textAreaBottom" fmla="*/ 451440 h 486000"/>
              </a:gdLst>
              <a:ahLst/>
              <a:rect l="textAreaLeft" t="textAreaTop" r="textAreaRight" b="textAreaBottom"/>
              <a:pathLst>
                <a:path w="21600" h="41867">
                  <a:moveTo>
                    <a:pt x="10172" y="0"/>
                  </a:moveTo>
                  <a:arcTo wR="10172" hR="10172" stAng="16200000" swAng="-5400000"/>
                  <a:lnTo>
                    <a:pt x="0" y="31695"/>
                  </a:lnTo>
                  <a:arcTo wR="10172" hR="10172" stAng="10800000" swAng="-5400000"/>
                  <a:lnTo>
                    <a:pt x="11428" y="41867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0066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51"/>
          <p:cNvGrpSpPr/>
          <p:nvPr/>
        </p:nvGrpSpPr>
        <p:grpSpPr>
          <a:xfrm>
            <a:off x="5492880" y="3189240"/>
            <a:ext cx="1003320" cy="1569960"/>
            <a:chOff x="5492880" y="3189240"/>
            <a:chExt cx="1003320" cy="1569960"/>
          </a:xfrm>
        </p:grpSpPr>
        <p:sp>
          <p:nvSpPr>
            <p:cNvPr id="292" name="圆角矩形 29"/>
            <p:cNvSpPr/>
            <p:nvPr/>
          </p:nvSpPr>
          <p:spPr>
            <a:xfrm>
              <a:off x="5492880" y="320652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1"/>
            <p:cNvSpPr/>
            <p:nvPr/>
          </p:nvSpPr>
          <p:spPr>
            <a:xfrm>
              <a:off x="5856480" y="3192120"/>
              <a:ext cx="260280" cy="485640"/>
            </a:xfrm>
            <a:custGeom>
              <a:avLst/>
              <a:gdLst>
                <a:gd name="textAreaLeft" fmla="*/ 35640 w 260280"/>
                <a:gd name="textAreaRight" fmla="*/ 224640 w 26028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276">
                  <a:moveTo>
                    <a:pt x="10172" y="0"/>
                  </a:moveTo>
                  <a:arcTo wR="10172" hR="10172" stAng="16200000" swAng="-5400000"/>
                  <a:lnTo>
                    <a:pt x="0" y="30104"/>
                  </a:lnTo>
                  <a:arcTo wR="10172" hR="10172" stAng="10800000" swAng="-5400000"/>
                  <a:lnTo>
                    <a:pt x="11428" y="40276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圆角矩形 32"/>
            <p:cNvSpPr/>
            <p:nvPr/>
          </p:nvSpPr>
          <p:spPr>
            <a:xfrm>
              <a:off x="6224760" y="318924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3"/>
            <p:cNvSpPr/>
            <p:nvPr/>
          </p:nvSpPr>
          <p:spPr>
            <a:xfrm>
              <a:off x="5495760" y="373860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34"/>
            <p:cNvSpPr/>
            <p:nvPr/>
          </p:nvSpPr>
          <p:spPr>
            <a:xfrm>
              <a:off x="5864400" y="373680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圆角矩形 35"/>
            <p:cNvSpPr/>
            <p:nvPr/>
          </p:nvSpPr>
          <p:spPr>
            <a:xfrm>
              <a:off x="6228000" y="372240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圆角矩形 37"/>
            <p:cNvSpPr/>
            <p:nvPr/>
          </p:nvSpPr>
          <p:spPr>
            <a:xfrm>
              <a:off x="6237360" y="426888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圆角矩形 38"/>
            <p:cNvSpPr/>
            <p:nvPr/>
          </p:nvSpPr>
          <p:spPr>
            <a:xfrm>
              <a:off x="5869080" y="426888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圆角矩形 39"/>
            <p:cNvSpPr/>
            <p:nvPr/>
          </p:nvSpPr>
          <p:spPr>
            <a:xfrm>
              <a:off x="5505480" y="4273560"/>
              <a:ext cx="258840" cy="485640"/>
            </a:xfrm>
            <a:custGeom>
              <a:avLst/>
              <a:gdLst>
                <a:gd name="textAreaLeft" fmla="*/ 35640 w 258840"/>
                <a:gd name="textAreaRight" fmla="*/ 223200 w 258840"/>
                <a:gd name="textAreaTop" fmla="*/ 35640 h 485640"/>
                <a:gd name="textAreaBottom" fmla="*/ 450000 h 485640"/>
              </a:gdLst>
              <a:ahLst/>
              <a:rect l="textAreaLeft" t="textAreaTop" r="textAreaRight" b="textAreaBottom"/>
              <a:pathLst>
                <a:path w="21600" h="40500">
                  <a:moveTo>
                    <a:pt x="10172" y="0"/>
                  </a:moveTo>
                  <a:arcTo wR="10172" hR="10172" stAng="16200000" swAng="-5400000"/>
                  <a:lnTo>
                    <a:pt x="0" y="30328"/>
                  </a:lnTo>
                  <a:arcTo wR="10172" hR="10172" stAng="10800000" swAng="-5400000"/>
                  <a:lnTo>
                    <a:pt x="11428" y="40500"/>
                  </a:lnTo>
                  <a:arcTo wR="10172" hR="10172" stAng="5400000" swAng="-5400000"/>
                  <a:lnTo>
                    <a:pt x="21600" y="10172"/>
                  </a:lnTo>
                  <a:arcTo wR="10172" hR="10172" stAng="0" swAng="-5400000"/>
                  <a:close/>
                </a:path>
              </a:pathLst>
            </a:custGeom>
            <a:solidFill>
              <a:srgbClr val="9900ff">
                <a:alpha val="50000"/>
              </a:srgbClr>
            </a:solidFill>
            <a:ln w="12600">
              <a:solidFill>
                <a:srgbClr val="31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42"/>
          <p:cNvGrpSpPr/>
          <p:nvPr/>
        </p:nvGrpSpPr>
        <p:grpSpPr>
          <a:xfrm>
            <a:off x="920880" y="5267160"/>
            <a:ext cx="2187360" cy="1015920"/>
            <a:chOff x="920880" y="5267160"/>
            <a:chExt cx="2187360" cy="1015920"/>
          </a:xfrm>
        </p:grpSpPr>
        <p:sp>
          <p:nvSpPr>
            <p:cNvPr id="302" name="TextBox 61"/>
            <p:cNvSpPr/>
            <p:nvPr/>
          </p:nvSpPr>
          <p:spPr>
            <a:xfrm>
              <a:off x="946800" y="5267160"/>
              <a:ext cx="19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0" lang="en-US" sz="24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÷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5</a:t>
              </a:r>
              <a:r>
                <a:rPr b="0" lang="zh-CN" sz="24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61"/>
            <p:cNvSpPr/>
            <p:nvPr/>
          </p:nvSpPr>
          <p:spPr>
            <a:xfrm>
              <a:off x="920880" y="582336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×3</a:t>
              </a:r>
              <a:r>
                <a:rPr b="0" lang="zh-CN" sz="24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3"/>
          <p:cNvGrpSpPr/>
          <p:nvPr/>
        </p:nvGrpSpPr>
        <p:grpSpPr>
          <a:xfrm>
            <a:off x="3213000" y="5267160"/>
            <a:ext cx="2185920" cy="1015920"/>
            <a:chOff x="3213000" y="5267160"/>
            <a:chExt cx="2185920" cy="1015920"/>
          </a:xfrm>
        </p:grpSpPr>
        <p:sp>
          <p:nvSpPr>
            <p:cNvPr id="305" name="TextBox 61"/>
            <p:cNvSpPr/>
            <p:nvPr/>
          </p:nvSpPr>
          <p:spPr>
            <a:xfrm>
              <a:off x="3238920" y="5267160"/>
              <a:ext cx="20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÷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5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61"/>
            <p:cNvSpPr/>
            <p:nvPr/>
          </p:nvSpPr>
          <p:spPr>
            <a:xfrm>
              <a:off x="3213000" y="5823360"/>
              <a:ext cx="21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×3</a:t>
              </a:r>
              <a:r>
                <a:rPr b="0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6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6"/>
          <p:cNvGrpSpPr/>
          <p:nvPr/>
        </p:nvGrpSpPr>
        <p:grpSpPr>
          <a:xfrm>
            <a:off x="5548320" y="5276880"/>
            <a:ext cx="2185920" cy="1015920"/>
            <a:chOff x="5548320" y="5276880"/>
            <a:chExt cx="2185920" cy="1015920"/>
          </a:xfrm>
        </p:grpSpPr>
        <p:sp>
          <p:nvSpPr>
            <p:cNvPr id="308" name="TextBox 61"/>
            <p:cNvSpPr/>
            <p:nvPr/>
          </p:nvSpPr>
          <p:spPr>
            <a:xfrm>
              <a:off x="5574240" y="5276880"/>
              <a:ext cx="20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15</a:t>
              </a:r>
              <a:r>
                <a:rPr b="0" lang="en-US" sz="2400" spc="-1" strike="noStrike">
                  <a:solidFill>
                    <a:srgbClr val="9900ff"/>
                  </a:solidFill>
                  <a:latin typeface="宋体"/>
                  <a:ea typeface="宋体"/>
                </a:rPr>
                <a:t>÷</a:t>
              </a: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5</a:t>
              </a:r>
              <a:r>
                <a:rPr b="0" lang="zh-CN" sz="2400" spc="-1" strike="noStrike">
                  <a:solidFill>
                    <a:srgbClr val="9900ff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3</a:t>
              </a:r>
              <a:r>
                <a:rPr b="0" lang="zh-CN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61"/>
            <p:cNvSpPr/>
            <p:nvPr/>
          </p:nvSpPr>
          <p:spPr>
            <a:xfrm>
              <a:off x="5548320" y="5833080"/>
              <a:ext cx="21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3×3</a:t>
              </a:r>
              <a:r>
                <a:rPr b="0" lang="zh-CN" sz="2400" spc="-1" strike="noStrike">
                  <a:solidFill>
                    <a:srgbClr val="9900ff"/>
                  </a:solidFill>
                  <a:latin typeface="宋体"/>
                  <a:ea typeface="宋体"/>
                </a:rPr>
                <a:t>＝</a:t>
              </a:r>
              <a:r>
                <a:rPr b="0" lang="en-US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9</a:t>
              </a:r>
              <a:r>
                <a:rPr b="0" lang="zh-CN" sz="2400" spc="-1" strike="noStrike">
                  <a:solidFill>
                    <a:srgbClr val="9900ff"/>
                  </a:solidFill>
                  <a:latin typeface="Times New Roman"/>
                  <a:ea typeface="宋体"/>
                </a:rPr>
                <a:t>（个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矩形 52"/>
          <p:cNvSpPr/>
          <p:nvPr/>
        </p:nvSpPr>
        <p:spPr>
          <a:xfrm>
            <a:off x="1397880" y="163368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练习二十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906480" y="2276640"/>
            <a:ext cx="7283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等线"/>
                <a:ea typeface="等线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．通过这节课的学习，你有哪些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等线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还有什么疑惑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84360" y="981000"/>
            <a:ext cx="6841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全课总结，升华新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陈 赫</cp:lastModifiedBy>
  <dcterms:modified xsi:type="dcterms:W3CDTF">2018-10-30T13:26:30Z</dcterms:modified>
  <cp:revision>132</cp:revision>
  <dc:subject/>
  <dc:title>幻灯片 1</dc:title>
</cp:coreProperties>
</file>