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291F-46E0-4F53-BF7B-DFFDE2F50F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358F-9555-4411-962F-4C095ACF7A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FF2B-A2A1-4C20-B58B-DF6474AA3B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E453-FDD9-46AF-87DA-EA7EDFA15A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7E99-8D9C-43C1-B0FF-E331D950974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87A1-0E2A-4307-B6DF-6A7EE91F7D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5C4-32A8-4B34-B6B5-EE20BBB17D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22D-148E-4DA6-AC90-CA4B02A3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170-B3DE-408A-BCE0-DABFDAA8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E51-30E8-43BF-A9C7-F9A1252D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BF4-9CAB-4590-896E-70E8C421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6235-12DE-490B-AE8C-F3C41114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D92B-4625-4DCB-9B75-090A89ED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1A19-06F4-46EB-9B80-739F6DD1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D8F5-0134-4E2E-9D8E-0E225CFD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94C6-690A-4E45-AE05-C46A3524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C96E-6F74-4DC5-AD18-46FBC80D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B637-0249-411C-869C-AC39229E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D89-A454-4772-9BA1-F71CBC82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F65F-4FCC-4B19-8C79-A879369D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1581-C0BC-4491-8743-0E399B19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BD7C-3BCE-41CD-9856-E7B7CA93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5F64-AAD1-4104-81B3-2916BFA1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7E1C-4259-4C94-A68B-7FC10797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D5A-466F-4AC2-80D1-FB37EE5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184-9A7E-40D7-ABAF-AB796FAE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60E-DF46-4DDA-A935-C45C94FC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2FA-1DC2-4B5F-A5C1-772383F6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EDC-DE1F-49A1-9438-64A67611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299-BB8E-4FA4-A7A5-E5258ABA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B6D-8853-41A5-9DA9-FC975BA1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9642-B228-4203-95D5-267B1F3C54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17A6-AC50-4919-9C5D-93ED012533F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数学广角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 flipV="1">
            <a:off x="3780000" y="3430440"/>
            <a:ext cx="4537080" cy="698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348000" y="2565360"/>
            <a:ext cx="49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集合思想的认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2627280" y="278136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=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+18=4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=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1835280" y="458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两项比赛都参加的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826920" y="1773360"/>
            <a:ext cx="6121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个小朋友比赛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谁写出的带“春”字的成语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刚写出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佳写出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红写出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小佳写出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成语小刚都写出来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红写出的成语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小刚也写出来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2050920" y="4221000"/>
            <a:ext cx="60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刚和小佳一共写出多少个成语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刚和小红一共写出多少个成语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1763640" y="2276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图分析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3"/>
          <a:stretch/>
        </p:blipFill>
        <p:spPr>
          <a:xfrm>
            <a:off x="1908000" y="2924280"/>
            <a:ext cx="2876760" cy="219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4"/>
          <a:stretch/>
        </p:blipFill>
        <p:spPr>
          <a:xfrm>
            <a:off x="4932360" y="2852640"/>
            <a:ext cx="3305160" cy="22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8" name="矩形 8"/>
          <p:cNvSpPr/>
          <p:nvPr/>
        </p:nvSpPr>
        <p:spPr>
          <a:xfrm>
            <a:off x="1187280" y="299736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刚和小佳一共写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成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16+12-5=23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刚和小红一共写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成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01" name="矩形 1"/>
          <p:cNvSpPr/>
          <p:nvPr/>
        </p:nvSpPr>
        <p:spPr>
          <a:xfrm rot="18297600">
            <a:off x="6457680" y="44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9"/>
          <p:cNvSpPr/>
          <p:nvPr/>
        </p:nvSpPr>
        <p:spPr>
          <a:xfrm>
            <a:off x="1547640" y="1773360"/>
            <a:ext cx="54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学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语文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人至少订一份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学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2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语文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两种都订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多少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2771640" y="43657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+24+9=58(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353880" y="4995720"/>
            <a:ext cx="1731960" cy="13464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9"/>
          <p:cNvSpPr/>
          <p:nvPr/>
        </p:nvSpPr>
        <p:spPr>
          <a:xfrm>
            <a:off x="1258920" y="227664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解分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多少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能把数简单地相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多理解、多分析。这里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是两份报纸都订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学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计算了一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语文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又计算了一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是重复计算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281160" y="4681440"/>
            <a:ext cx="1842840" cy="14320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例.eps" descr="id:2147501035;FounderCES"/>
          <p:cNvPicPr/>
          <p:nvPr/>
        </p:nvPicPr>
        <p:blipFill>
          <a:blip r:embed="rId3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1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5"/>
          <p:cNvSpPr/>
          <p:nvPr/>
        </p:nvSpPr>
        <p:spPr>
          <a:xfrm rot="18297600">
            <a:off x="5837040" y="4483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3" name="矩形 20"/>
          <p:cNvSpPr/>
          <p:nvPr/>
        </p:nvSpPr>
        <p:spPr>
          <a:xfrm rot="18297600">
            <a:off x="5160960" y="2460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1692360" y="2268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+24+9=58(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124000" y="38606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5+24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=40(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195640" y="4653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50" descr="QQ图片20141116223805"/>
          <p:cNvPicPr/>
          <p:nvPr/>
        </p:nvPicPr>
        <p:blipFill>
          <a:blip r:embed="rId1"/>
          <a:stretch/>
        </p:blipFill>
        <p:spPr>
          <a:xfrm>
            <a:off x="1042920" y="2133720"/>
            <a:ext cx="7635960" cy="3814560"/>
          </a:xfrm>
          <a:prstGeom prst="rect">
            <a:avLst/>
          </a:prstGeom>
          <a:ln w="0">
            <a:noFill/>
          </a:ln>
        </p:spPr>
      </p:pic>
      <p:sp>
        <p:nvSpPr>
          <p:cNvPr id="228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女孩1"/>
          <p:cNvPicPr/>
          <p:nvPr/>
        </p:nvPicPr>
        <p:blipFill>
          <a:blip r:embed="rId2"/>
          <a:stretch/>
        </p:blipFill>
        <p:spPr>
          <a:xfrm>
            <a:off x="352440" y="4240080"/>
            <a:ext cx="1380960" cy="2160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116000" y="170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动物的序号填写在合适的圈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8"/>
          <p:cNvSpPr/>
          <p:nvPr/>
        </p:nvSpPr>
        <p:spPr>
          <a:xfrm>
            <a:off x="2700360" y="458136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5796000" y="508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8"/>
          <p:cNvSpPr/>
          <p:nvPr/>
        </p:nvSpPr>
        <p:spPr>
          <a:xfrm>
            <a:off x="435600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6227640" y="4797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8"/>
          <p:cNvSpPr/>
          <p:nvPr/>
        </p:nvSpPr>
        <p:spPr>
          <a:xfrm>
            <a:off x="5003640" y="4581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2987640" y="522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3492360" y="5157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8"/>
          <p:cNvSpPr/>
          <p:nvPr/>
        </p:nvSpPr>
        <p:spPr>
          <a:xfrm>
            <a:off x="5219640" y="5157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8"/>
          <p:cNvSpPr/>
          <p:nvPr/>
        </p:nvSpPr>
        <p:spPr>
          <a:xfrm>
            <a:off x="550872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4427640" y="508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7021440" cy="3147840"/>
          </a:xfrm>
          <a:prstGeom prst="rect">
            <a:avLst/>
          </a:prstGeom>
          <a:ln w="0">
            <a:noFill/>
          </a:ln>
        </p:spPr>
      </p:pic>
      <p:sp>
        <p:nvSpPr>
          <p:cNvPr id="243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971640" y="191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把下面一样的水果圈起来，在算一算一共进了（     ）中水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6"/>
          <p:cNvSpPr/>
          <p:nvPr/>
        </p:nvSpPr>
        <p:spPr>
          <a:xfrm>
            <a:off x="1116000" y="3645000"/>
            <a:ext cx="1152360" cy="1079280"/>
          </a:xfrm>
          <a:prstGeom prst="ellipse">
            <a:avLst/>
          </a:prstGeom>
          <a:noFill/>
          <a:ln w="12600">
            <a:solidFill>
              <a:srgbClr val="ff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椭圆 7"/>
          <p:cNvSpPr/>
          <p:nvPr/>
        </p:nvSpPr>
        <p:spPr>
          <a:xfrm>
            <a:off x="6443640" y="3429000"/>
            <a:ext cx="1152720" cy="1152360"/>
          </a:xfrm>
          <a:prstGeom prst="ellipse">
            <a:avLst/>
          </a:prstGeom>
          <a:noFill/>
          <a:ln w="12600">
            <a:solidFill>
              <a:srgbClr val="ff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椭圆 8"/>
          <p:cNvSpPr/>
          <p:nvPr/>
        </p:nvSpPr>
        <p:spPr>
          <a:xfrm>
            <a:off x="3203640" y="3429000"/>
            <a:ext cx="792000" cy="863640"/>
          </a:xfrm>
          <a:prstGeom prst="ellipse">
            <a:avLst/>
          </a:prstGeom>
          <a:noFill/>
          <a:ln w="12600">
            <a:solidFill>
              <a:srgbClr val="7030a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椭圆 9"/>
          <p:cNvSpPr/>
          <p:nvPr/>
        </p:nvSpPr>
        <p:spPr>
          <a:xfrm>
            <a:off x="5651640" y="3789360"/>
            <a:ext cx="792000" cy="863640"/>
          </a:xfrm>
          <a:prstGeom prst="ellipse">
            <a:avLst/>
          </a:prstGeom>
          <a:noFill/>
          <a:ln w="12600">
            <a:solidFill>
              <a:srgbClr val="7030a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椭圆 10"/>
          <p:cNvSpPr/>
          <p:nvPr/>
        </p:nvSpPr>
        <p:spPr>
          <a:xfrm>
            <a:off x="1042920" y="4797360"/>
            <a:ext cx="1368360" cy="1152720"/>
          </a:xfrm>
          <a:prstGeom prst="ellipse">
            <a:avLst/>
          </a:prstGeom>
          <a:noFill/>
          <a:ln w="12600">
            <a:solidFill>
              <a:srgbClr val="8497b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椭圆 14"/>
          <p:cNvSpPr/>
          <p:nvPr/>
        </p:nvSpPr>
        <p:spPr>
          <a:xfrm>
            <a:off x="6156360" y="4797360"/>
            <a:ext cx="1295280" cy="1152720"/>
          </a:xfrm>
          <a:prstGeom prst="ellipse">
            <a:avLst/>
          </a:prstGeom>
          <a:noFill/>
          <a:ln w="12600">
            <a:solidFill>
              <a:srgbClr val="8497b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椭圆 19"/>
          <p:cNvSpPr/>
          <p:nvPr/>
        </p:nvSpPr>
        <p:spPr>
          <a:xfrm>
            <a:off x="2484360" y="3716280"/>
            <a:ext cx="647640" cy="720720"/>
          </a:xfrm>
          <a:prstGeom prst="ellipse">
            <a:avLst/>
          </a:prstGeom>
          <a:noFill/>
          <a:ln w="12600">
            <a:solidFill>
              <a:srgbClr val="00b05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椭圆 20"/>
          <p:cNvSpPr/>
          <p:nvPr/>
        </p:nvSpPr>
        <p:spPr>
          <a:xfrm>
            <a:off x="4500720" y="4724280"/>
            <a:ext cx="647640" cy="720720"/>
          </a:xfrm>
          <a:prstGeom prst="ellipse">
            <a:avLst/>
          </a:prstGeom>
          <a:noFill/>
          <a:ln w="12600">
            <a:solidFill>
              <a:srgbClr val="00b05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8"/>
          <p:cNvSpPr/>
          <p:nvPr/>
        </p:nvSpPr>
        <p:spPr>
          <a:xfrm>
            <a:off x="3203640" y="234936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826920" y="2060640"/>
            <a:ext cx="756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学校要求，每班要选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参加跳绳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参加踢毽子比赛，你觉得三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可能会选拔多少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"/>
          <p:cNvSpPr/>
          <p:nvPr/>
        </p:nvSpPr>
        <p:spPr>
          <a:xfrm>
            <a:off x="1476360" y="422100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赛的同学最多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（    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赛的同学最少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1403280" y="3716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受集合与日常生活的密切联系，提高学习数学的兴趣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1403280" y="2708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集合思想解决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403280" y="19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集合思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16"/>
          <p:cNvSpPr/>
          <p:nvPr/>
        </p:nvSpPr>
        <p:spPr>
          <a:xfrm>
            <a:off x="582480" y="3130560"/>
            <a:ext cx="3996000" cy="2376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4686480" y="3130560"/>
            <a:ext cx="3528720" cy="24494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1590840" y="255420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0db5"/>
                </a:solidFill>
                <a:latin typeface="华文新魏"/>
                <a:ea typeface="华文新魏"/>
              </a:rPr>
              <a:t>跳绳的学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5334120" y="25542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踢毽的学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等腰三角形 13"/>
          <p:cNvSpPr/>
          <p:nvPr/>
        </p:nvSpPr>
        <p:spPr>
          <a:xfrm>
            <a:off x="1368360" y="341964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等腰三角形 21"/>
          <p:cNvSpPr/>
          <p:nvPr/>
        </p:nvSpPr>
        <p:spPr>
          <a:xfrm>
            <a:off x="2058840" y="3421080"/>
            <a:ext cx="48924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等腰三角形 22"/>
          <p:cNvSpPr/>
          <p:nvPr/>
        </p:nvSpPr>
        <p:spPr>
          <a:xfrm>
            <a:off x="2608200" y="342108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等腰三角形 23"/>
          <p:cNvSpPr/>
          <p:nvPr/>
        </p:nvSpPr>
        <p:spPr>
          <a:xfrm>
            <a:off x="3208320" y="342108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等腰三角形 24"/>
          <p:cNvSpPr/>
          <p:nvPr/>
        </p:nvSpPr>
        <p:spPr>
          <a:xfrm>
            <a:off x="1301760" y="410544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等腰三角形 25"/>
          <p:cNvSpPr/>
          <p:nvPr/>
        </p:nvSpPr>
        <p:spPr>
          <a:xfrm>
            <a:off x="2058840" y="4105440"/>
            <a:ext cx="48924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等腰三角形 26"/>
          <p:cNvSpPr/>
          <p:nvPr/>
        </p:nvSpPr>
        <p:spPr>
          <a:xfrm>
            <a:off x="2637000" y="410544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等腰三角形 27"/>
          <p:cNvSpPr/>
          <p:nvPr/>
        </p:nvSpPr>
        <p:spPr>
          <a:xfrm>
            <a:off x="3268800" y="410544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等腰三角形 28"/>
          <p:cNvSpPr/>
          <p:nvPr/>
        </p:nvSpPr>
        <p:spPr>
          <a:xfrm>
            <a:off x="1301760" y="471492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等腰三角形 29"/>
          <p:cNvSpPr/>
          <p:nvPr/>
        </p:nvSpPr>
        <p:spPr>
          <a:xfrm>
            <a:off x="5637240" y="356868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等腰三角形 30"/>
          <p:cNvSpPr/>
          <p:nvPr/>
        </p:nvSpPr>
        <p:spPr>
          <a:xfrm>
            <a:off x="6284880" y="356868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等腰三角形 31"/>
          <p:cNvSpPr/>
          <p:nvPr/>
        </p:nvSpPr>
        <p:spPr>
          <a:xfrm>
            <a:off x="7005600" y="356868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等腰三角形 32"/>
          <p:cNvSpPr/>
          <p:nvPr/>
        </p:nvSpPr>
        <p:spPr>
          <a:xfrm>
            <a:off x="4998960" y="356868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等腰三角形 33"/>
          <p:cNvSpPr/>
          <p:nvPr/>
        </p:nvSpPr>
        <p:spPr>
          <a:xfrm>
            <a:off x="5645160" y="4213080"/>
            <a:ext cx="490680" cy="427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等腰三角形 34"/>
          <p:cNvSpPr/>
          <p:nvPr/>
        </p:nvSpPr>
        <p:spPr>
          <a:xfrm>
            <a:off x="6281640" y="421632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等腰三角形 35"/>
          <p:cNvSpPr/>
          <p:nvPr/>
        </p:nvSpPr>
        <p:spPr>
          <a:xfrm>
            <a:off x="7020000" y="421632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等腰三角形 36"/>
          <p:cNvSpPr/>
          <p:nvPr/>
        </p:nvSpPr>
        <p:spPr>
          <a:xfrm>
            <a:off x="4998960" y="421632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1619280" y="177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华文新魏"/>
                <a:ea typeface="华文新魏"/>
              </a:rPr>
              <a:t>每个“     ”表示一位同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AutoShape 25"/>
          <p:cNvSpPr/>
          <p:nvPr/>
        </p:nvSpPr>
        <p:spPr>
          <a:xfrm>
            <a:off x="2987640" y="1773360"/>
            <a:ext cx="432000" cy="358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792000" y="2492280"/>
            <a:ext cx="3996000" cy="237672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17"/>
          <p:cNvSpPr/>
          <p:nvPr/>
        </p:nvSpPr>
        <p:spPr>
          <a:xfrm>
            <a:off x="4211640" y="2492280"/>
            <a:ext cx="3529080" cy="24494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951200" y="191628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0db5"/>
                </a:solidFill>
                <a:latin typeface="华文新魏"/>
                <a:ea typeface="华文新魏"/>
              </a:rPr>
              <a:t>跳绳的学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716360" y="1916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踢毽的学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等腰三角形 13"/>
          <p:cNvSpPr/>
          <p:nvPr/>
        </p:nvSpPr>
        <p:spPr>
          <a:xfrm>
            <a:off x="1577880" y="278136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等腰三角形 21"/>
          <p:cNvSpPr/>
          <p:nvPr/>
        </p:nvSpPr>
        <p:spPr>
          <a:xfrm>
            <a:off x="2268360" y="2782800"/>
            <a:ext cx="48924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等腰三角形 22"/>
          <p:cNvSpPr/>
          <p:nvPr/>
        </p:nvSpPr>
        <p:spPr>
          <a:xfrm>
            <a:off x="2817720" y="278280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等腰三角形 23"/>
          <p:cNvSpPr/>
          <p:nvPr/>
        </p:nvSpPr>
        <p:spPr>
          <a:xfrm>
            <a:off x="3417840" y="278280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等腰三角形 24"/>
          <p:cNvSpPr/>
          <p:nvPr/>
        </p:nvSpPr>
        <p:spPr>
          <a:xfrm>
            <a:off x="1511280" y="346716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等腰三角形 25"/>
          <p:cNvSpPr/>
          <p:nvPr/>
        </p:nvSpPr>
        <p:spPr>
          <a:xfrm>
            <a:off x="2268360" y="3467160"/>
            <a:ext cx="48924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等腰三角形 26"/>
          <p:cNvSpPr/>
          <p:nvPr/>
        </p:nvSpPr>
        <p:spPr>
          <a:xfrm>
            <a:off x="2846520" y="346716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等腰三角形 27"/>
          <p:cNvSpPr/>
          <p:nvPr/>
        </p:nvSpPr>
        <p:spPr>
          <a:xfrm>
            <a:off x="3478320" y="346716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等腰三角形 29"/>
          <p:cNvSpPr/>
          <p:nvPr/>
        </p:nvSpPr>
        <p:spPr>
          <a:xfrm>
            <a:off x="5235480" y="2930400"/>
            <a:ext cx="488880" cy="427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等腰三角形 30"/>
          <p:cNvSpPr/>
          <p:nvPr/>
        </p:nvSpPr>
        <p:spPr>
          <a:xfrm>
            <a:off x="5883120" y="2930400"/>
            <a:ext cx="489240" cy="427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等腰三角形 31"/>
          <p:cNvSpPr/>
          <p:nvPr/>
        </p:nvSpPr>
        <p:spPr>
          <a:xfrm>
            <a:off x="6602400" y="2930400"/>
            <a:ext cx="490680" cy="427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等腰三角形 32"/>
          <p:cNvSpPr/>
          <p:nvPr/>
        </p:nvSpPr>
        <p:spPr>
          <a:xfrm>
            <a:off x="4248000" y="3363840"/>
            <a:ext cx="489240" cy="426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等腰三角形 33"/>
          <p:cNvSpPr/>
          <p:nvPr/>
        </p:nvSpPr>
        <p:spPr>
          <a:xfrm>
            <a:off x="5638680" y="3603600"/>
            <a:ext cx="489240" cy="42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等腰三角形 34"/>
          <p:cNvSpPr/>
          <p:nvPr/>
        </p:nvSpPr>
        <p:spPr>
          <a:xfrm>
            <a:off x="6297480" y="3578400"/>
            <a:ext cx="489240" cy="42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等腰三角形 35"/>
          <p:cNvSpPr/>
          <p:nvPr/>
        </p:nvSpPr>
        <p:spPr>
          <a:xfrm>
            <a:off x="7020000" y="3573360"/>
            <a:ext cx="488880" cy="427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等腰三角形 36"/>
          <p:cNvSpPr/>
          <p:nvPr/>
        </p:nvSpPr>
        <p:spPr>
          <a:xfrm>
            <a:off x="4991040" y="357840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19"/>
          <p:cNvSpPr/>
          <p:nvPr/>
        </p:nvSpPr>
        <p:spPr>
          <a:xfrm>
            <a:off x="3487680" y="5013360"/>
            <a:ext cx="23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项都参加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7" name="直接箭头连接符 39"/>
          <p:cNvCxnSpPr/>
          <p:nvPr/>
        </p:nvCxnSpPr>
        <p:spPr>
          <a:xfrm flipV="1">
            <a:off x="4427280" y="4508280"/>
            <a:ext cx="108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8" name="Text Box 19"/>
          <p:cNvSpPr/>
          <p:nvPr/>
        </p:nvSpPr>
        <p:spPr>
          <a:xfrm>
            <a:off x="1763640" y="5732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项都参加的越多，总人数越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同侧圆角矩形 31"/>
          <p:cNvSpPr/>
          <p:nvPr/>
        </p:nvSpPr>
        <p:spPr>
          <a:xfrm>
            <a:off x="384120" y="82548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线连接符 21"/>
          <p:cNvSpPr/>
          <p:nvPr/>
        </p:nvSpPr>
        <p:spPr>
          <a:xfrm flipV="1">
            <a:off x="312840" y="1458720"/>
            <a:ext cx="207144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Oval 16"/>
          <p:cNvSpPr/>
          <p:nvPr/>
        </p:nvSpPr>
        <p:spPr>
          <a:xfrm>
            <a:off x="2073240" y="1719360"/>
            <a:ext cx="3995640" cy="237636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17"/>
          <p:cNvSpPr/>
          <p:nvPr/>
        </p:nvSpPr>
        <p:spPr>
          <a:xfrm>
            <a:off x="3476520" y="1863720"/>
            <a:ext cx="2592360" cy="20876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18"/>
          <p:cNvSpPr/>
          <p:nvPr/>
        </p:nvSpPr>
        <p:spPr>
          <a:xfrm>
            <a:off x="2239920" y="119700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0db5"/>
                </a:solidFill>
                <a:latin typeface="华文新魏"/>
                <a:ea typeface="华文新魏"/>
              </a:rPr>
              <a:t>跳绳的学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4356000" y="12002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踢毽的学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等腰三角形 21"/>
          <p:cNvSpPr/>
          <p:nvPr/>
        </p:nvSpPr>
        <p:spPr>
          <a:xfrm>
            <a:off x="2498760" y="2535120"/>
            <a:ext cx="488880" cy="427320"/>
          </a:xfrm>
          <a:prstGeom prst="triangle">
            <a:avLst>
              <a:gd name="adj" fmla="val 50000"/>
            </a:avLst>
          </a:prstGeom>
          <a:solidFill>
            <a:srgbClr val="161b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等腰三角形 22"/>
          <p:cNvSpPr/>
          <p:nvPr/>
        </p:nvSpPr>
        <p:spPr>
          <a:xfrm>
            <a:off x="3867120" y="241452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等腰三角形 26"/>
          <p:cNvSpPr/>
          <p:nvPr/>
        </p:nvSpPr>
        <p:spPr>
          <a:xfrm>
            <a:off x="4356000" y="3236760"/>
            <a:ext cx="488880" cy="427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等腰三角形 27"/>
          <p:cNvSpPr/>
          <p:nvPr/>
        </p:nvSpPr>
        <p:spPr>
          <a:xfrm>
            <a:off x="4956120" y="3236760"/>
            <a:ext cx="488880" cy="427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等腰三角形 29"/>
          <p:cNvSpPr/>
          <p:nvPr/>
        </p:nvSpPr>
        <p:spPr>
          <a:xfrm>
            <a:off x="4956120" y="207972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等腰三角形 30"/>
          <p:cNvSpPr/>
          <p:nvPr/>
        </p:nvSpPr>
        <p:spPr>
          <a:xfrm>
            <a:off x="3825720" y="2940120"/>
            <a:ext cx="490680" cy="426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等腰三角形 32"/>
          <p:cNvSpPr/>
          <p:nvPr/>
        </p:nvSpPr>
        <p:spPr>
          <a:xfrm>
            <a:off x="4356000" y="2079720"/>
            <a:ext cx="488880" cy="426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等腰三角形 33"/>
          <p:cNvSpPr/>
          <p:nvPr/>
        </p:nvSpPr>
        <p:spPr>
          <a:xfrm>
            <a:off x="5292720" y="2655720"/>
            <a:ext cx="488880" cy="427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等腰三角形 36"/>
          <p:cNvSpPr/>
          <p:nvPr/>
        </p:nvSpPr>
        <p:spPr>
          <a:xfrm>
            <a:off x="4572000" y="2655720"/>
            <a:ext cx="488880" cy="427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1"/>
          <p:cNvSpPr/>
          <p:nvPr/>
        </p:nvSpPr>
        <p:spPr>
          <a:xfrm>
            <a:off x="1547640" y="458136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赛的同学最多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（    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赛的同学最少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8"/>
          <p:cNvSpPr/>
          <p:nvPr/>
        </p:nvSpPr>
        <p:spPr>
          <a:xfrm>
            <a:off x="601200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9"/>
          <p:cNvSpPr/>
          <p:nvPr/>
        </p:nvSpPr>
        <p:spPr>
          <a:xfrm>
            <a:off x="615636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24"/>
          <p:cNvGrpSpPr/>
          <p:nvPr/>
        </p:nvGrpSpPr>
        <p:grpSpPr>
          <a:xfrm>
            <a:off x="755640" y="1844640"/>
            <a:ext cx="2108160" cy="951120"/>
            <a:chOff x="755640" y="1844640"/>
            <a:chExt cx="2108160" cy="951120"/>
          </a:xfrm>
        </p:grpSpPr>
        <p:sp>
          <p:nvSpPr>
            <p:cNvPr id="330" name="AutoShape 27"/>
            <p:cNvSpPr/>
            <p:nvPr/>
          </p:nvSpPr>
          <p:spPr>
            <a:xfrm>
              <a:off x="755640" y="1844640"/>
              <a:ext cx="2108160" cy="95112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755640" y="1844640"/>
              <a:ext cx="208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AutoShape 27"/>
          <p:cNvSpPr/>
          <p:nvPr/>
        </p:nvSpPr>
        <p:spPr>
          <a:xfrm>
            <a:off x="5435640" y="1413000"/>
            <a:ext cx="3240000" cy="1224000"/>
          </a:xfrm>
          <a:prstGeom prst="wedgeRoundRectCallout">
            <a:avLst>
              <a:gd name="adj1" fmla="val -62805"/>
              <a:gd name="adj2" fmla="val -842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定要找准重叠的部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Group 23"/>
          <p:cNvGrpSpPr/>
          <p:nvPr/>
        </p:nvGrpSpPr>
        <p:grpSpPr>
          <a:xfrm>
            <a:off x="2987640" y="1413000"/>
            <a:ext cx="2304720" cy="1871640"/>
            <a:chOff x="2987640" y="1413000"/>
            <a:chExt cx="2304720" cy="1871640"/>
          </a:xfrm>
        </p:grpSpPr>
        <p:pic>
          <p:nvPicPr>
            <p:cNvPr id="334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3997440" y="1413000"/>
              <a:ext cx="129492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2987640" y="1556640"/>
              <a:ext cx="128628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矩形 18"/>
          <p:cNvSpPr/>
          <p:nvPr/>
        </p:nvSpPr>
        <p:spPr>
          <a:xfrm>
            <a:off x="900000" y="3645000"/>
            <a:ext cx="7848720" cy="85572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决重叠问题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从条件入手进行分析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画出示意图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借助示意图进行思考。当两部分有重叠时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为了不重复地计算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应从它们的和中减去重叠部分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也可以先用其中一部分减去重叠部分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加上另一部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443640" y="76500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68360" y="4724280"/>
            <a:ext cx="1843200" cy="143352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1979640" y="1484280"/>
            <a:ext cx="547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第一种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黄明，他的爸爸黄伟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玉，他的爸爸李文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1979640" y="3643200"/>
            <a:ext cx="489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第二种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汪聪，他的爸爸汪立成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汪立成的爸爸汪华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443640" y="76500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07" name="等腰三角形 4"/>
          <p:cNvSpPr/>
          <p:nvPr/>
        </p:nvSpPr>
        <p:spPr>
          <a:xfrm>
            <a:off x="5408640" y="3141720"/>
            <a:ext cx="2062080" cy="18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等腰三角形 5"/>
          <p:cNvSpPr/>
          <p:nvPr/>
        </p:nvSpPr>
        <p:spPr>
          <a:xfrm rot="10800000">
            <a:off x="6443640" y="3141360"/>
            <a:ext cx="2062080" cy="18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6"/>
          <p:cNvSpPr/>
          <p:nvPr/>
        </p:nvSpPr>
        <p:spPr>
          <a:xfrm>
            <a:off x="6443640" y="3139920"/>
            <a:ext cx="1030320" cy="187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4257360" cy="3209760"/>
          </a:xfrm>
          <a:prstGeom prst="rect">
            <a:avLst/>
          </a:prstGeom>
          <a:ln w="0">
            <a:noFill/>
          </a:ln>
        </p:spPr>
      </p:pic>
      <p:sp>
        <p:nvSpPr>
          <p:cNvPr id="111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50" autoRev="1" fill="remov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" dur="250" autoRev="1" fill="remov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" dur="250" autoRev="1" fill="remov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3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同侧圆角矩形 18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同侧圆角矩形 1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2"/>
          <p:cNvSpPr/>
          <p:nvPr/>
        </p:nvSpPr>
        <p:spPr>
          <a:xfrm>
            <a:off x="1241280" y="522936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  <a:ea typeface="宋体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图片 55" descr="QQ图片20141116223557"/>
          <p:cNvPicPr/>
          <p:nvPr/>
        </p:nvPicPr>
        <p:blipFill>
          <a:blip r:embed="rId2"/>
          <a:stretch/>
        </p:blipFill>
        <p:spPr>
          <a:xfrm>
            <a:off x="1116000" y="3068640"/>
            <a:ext cx="7655040" cy="1866960"/>
          </a:xfrm>
          <a:prstGeom prst="rect">
            <a:avLst/>
          </a:prstGeom>
          <a:ln w="0">
            <a:noFill/>
          </a:ln>
        </p:spPr>
      </p:pic>
      <p:sp>
        <p:nvSpPr>
          <p:cNvPr id="119" name="矩形 1"/>
          <p:cNvSpPr/>
          <p:nvPr/>
        </p:nvSpPr>
        <p:spPr>
          <a:xfrm>
            <a:off x="1258920" y="177336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三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参加跳绳、踢毽比赛的学生名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735600" y="32637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卢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1701720" y="1998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陈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5075280" y="1989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2411280" y="1989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刘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4138560" y="1998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爱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3286080" y="1998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735600" y="20019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赵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5938920" y="1998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丁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7527960" y="1989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徐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1700280" y="33098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于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1030320" y="33098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刘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3373560" y="32860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杨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9"/>
          <p:cNvSpPr/>
          <p:nvPr/>
        </p:nvSpPr>
        <p:spPr>
          <a:xfrm>
            <a:off x="4199040" y="3276720"/>
            <a:ext cx="106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朱小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2479680" y="33098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1"/>
          <p:cNvSpPr/>
          <p:nvPr/>
        </p:nvSpPr>
        <p:spPr>
          <a:xfrm>
            <a:off x="5146560" y="32702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2"/>
          <p:cNvSpPr/>
          <p:nvPr/>
        </p:nvSpPr>
        <p:spPr>
          <a:xfrm>
            <a:off x="5940360" y="3284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陶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971640" y="1989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杨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接连接符 29"/>
          <p:cNvSpPr/>
          <p:nvPr/>
        </p:nvSpPr>
        <p:spPr>
          <a:xfrm>
            <a:off x="1258920" y="2359080"/>
            <a:ext cx="2424240" cy="950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接连接符 31"/>
          <p:cNvSpPr/>
          <p:nvPr/>
        </p:nvSpPr>
        <p:spPr>
          <a:xfrm flipH="1">
            <a:off x="1305000" y="2274840"/>
            <a:ext cx="1380960" cy="11192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接连接符 32"/>
          <p:cNvSpPr/>
          <p:nvPr/>
        </p:nvSpPr>
        <p:spPr>
          <a:xfrm flipH="1" flipV="1">
            <a:off x="3682800" y="2374560"/>
            <a:ext cx="1787400" cy="911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3490920" y="47260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8200" y="4276800"/>
          <a:ext cx="7634160" cy="1744560"/>
        </p:xfrm>
        <a:graphic>
          <a:graphicData uri="http://schemas.openxmlformats.org/drawingml/2006/table">
            <a:tbl>
              <a:tblPr/>
              <a:tblGrid>
                <a:gridCol w="820800"/>
                <a:gridCol w="744480"/>
                <a:gridCol w="669960"/>
                <a:gridCol w="671400"/>
                <a:gridCol w="669960"/>
                <a:gridCol w="1109520"/>
                <a:gridCol w="916200"/>
                <a:gridCol w="677880"/>
                <a:gridCol w="677880"/>
                <a:gridCol w="676080"/>
              </a:tblGrid>
              <a:tr h="87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跳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杨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刘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李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陈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王爱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马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丁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赵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徐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踢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于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周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朱晓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陶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卢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947880" y="16686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db5"/>
                </a:solidFill>
                <a:latin typeface="华文新魏"/>
                <a:ea typeface="华文新魏"/>
              </a:rPr>
              <a:t>跳绳的学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419640" y="1557360"/>
            <a:ext cx="222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华文新魏"/>
                <a:ea typeface="华文新魏"/>
              </a:rPr>
              <a:t>即参加跳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华文新魏"/>
                <a:ea typeface="华文新魏"/>
              </a:rPr>
              <a:t>又参加踢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5772240" y="1484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参加踢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学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1224000" y="3141720"/>
            <a:ext cx="154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陈东        丁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王爱华    赵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马超        徐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4014000" y="3146400"/>
            <a:ext cx="7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杨明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刘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李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5974560" y="314640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于丽         陶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周晓         卢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朱晓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9"/>
          <p:cNvSpPr/>
          <p:nvPr/>
        </p:nvSpPr>
        <p:spPr>
          <a:xfrm>
            <a:off x="584280" y="2492280"/>
            <a:ext cx="4608360" cy="2449440"/>
          </a:xfrm>
          <a:prstGeom prst="ellipse">
            <a:avLst/>
          </a:prstGeom>
          <a:noFill/>
          <a:ln w="60480">
            <a:solidFill>
              <a:srgbClr val="190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椭圆 10"/>
          <p:cNvSpPr/>
          <p:nvPr/>
        </p:nvSpPr>
        <p:spPr>
          <a:xfrm>
            <a:off x="3392640" y="2421000"/>
            <a:ext cx="4968720" cy="26636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4400640" y="5157720"/>
            <a:ext cx="7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参加跳绳和踢毽的同学一共有几人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539640" y="2421000"/>
            <a:ext cx="4680000" cy="2592360"/>
          </a:xfrm>
          <a:prstGeom prst="ellipse">
            <a:avLst/>
          </a:prstGeom>
          <a:solidFill>
            <a:srgbClr val="0000ff">
              <a:alpha val="30000"/>
            </a:srgbClr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17"/>
          <p:cNvSpPr/>
          <p:nvPr/>
        </p:nvSpPr>
        <p:spPr>
          <a:xfrm>
            <a:off x="3419640" y="2421000"/>
            <a:ext cx="4897440" cy="2663640"/>
          </a:xfrm>
          <a:prstGeom prst="ellipse">
            <a:avLst/>
          </a:prstGeom>
          <a:solidFill>
            <a:srgbClr val="ff0000">
              <a:alpha val="30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0"/>
          <p:cNvSpPr/>
          <p:nvPr/>
        </p:nvSpPr>
        <p:spPr>
          <a:xfrm>
            <a:off x="3419640" y="2781360"/>
            <a:ext cx="1800000" cy="19429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942920"/>
              <a:gd name="textAreaBottom" fmla="*/ 1943280 h 1942920"/>
            </a:gdLst>
            <a:ahLst/>
            <a:rect l="textAreaLeft" t="textAreaTop" r="textAreaRight" b="textAreaBottom"/>
            <a:pathLst>
              <a:path w="1079" h="1361">
                <a:moveTo>
                  <a:pt x="771" y="149"/>
                </a:moveTo>
                <a:cubicBezTo>
                  <a:pt x="694" y="90"/>
                  <a:pt x="583" y="14"/>
                  <a:pt x="514" y="7"/>
                </a:cubicBezTo>
                <a:cubicBezTo>
                  <a:pt x="445" y="0"/>
                  <a:pt x="408" y="62"/>
                  <a:pt x="355" y="105"/>
                </a:cubicBezTo>
                <a:cubicBezTo>
                  <a:pt x="302" y="148"/>
                  <a:pt x="244" y="205"/>
                  <a:pt x="195" y="264"/>
                </a:cubicBezTo>
                <a:cubicBezTo>
                  <a:pt x="146" y="323"/>
                  <a:pt x="91" y="381"/>
                  <a:pt x="62" y="459"/>
                </a:cubicBezTo>
                <a:cubicBezTo>
                  <a:pt x="33" y="537"/>
                  <a:pt x="0" y="628"/>
                  <a:pt x="18" y="734"/>
                </a:cubicBezTo>
                <a:cubicBezTo>
                  <a:pt x="36" y="840"/>
                  <a:pt x="80" y="994"/>
                  <a:pt x="169" y="1097"/>
                </a:cubicBezTo>
                <a:cubicBezTo>
                  <a:pt x="258" y="1200"/>
                  <a:pt x="422" y="1361"/>
                  <a:pt x="550" y="1354"/>
                </a:cubicBezTo>
                <a:cubicBezTo>
                  <a:pt x="678" y="1347"/>
                  <a:pt x="853" y="1165"/>
                  <a:pt x="940" y="1053"/>
                </a:cubicBezTo>
                <a:cubicBezTo>
                  <a:pt x="1027" y="941"/>
                  <a:pt x="1067" y="796"/>
                  <a:pt x="1073" y="681"/>
                </a:cubicBezTo>
                <a:cubicBezTo>
                  <a:pt x="1079" y="566"/>
                  <a:pt x="1025" y="451"/>
                  <a:pt x="975" y="362"/>
                </a:cubicBezTo>
                <a:cubicBezTo>
                  <a:pt x="925" y="273"/>
                  <a:pt x="848" y="208"/>
                  <a:pt x="771" y="149"/>
                </a:cubicBezTo>
                <a:close/>
              </a:path>
            </a:pathLst>
          </a:cu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0"/>
          <p:cNvSpPr/>
          <p:nvPr/>
        </p:nvSpPr>
        <p:spPr>
          <a:xfrm>
            <a:off x="539640" y="2421000"/>
            <a:ext cx="3888000" cy="265428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2654280"/>
              <a:gd name="textAreaBottom" fmla="*/ 2654640 h 2654280"/>
            </a:gdLst>
            <a:ahLst/>
            <a:rect l="textAreaLeft" t="textAreaTop" r="textAreaRight" b="textAreaBottom"/>
            <a:pathLst>
              <a:path w="2053" h="1672">
                <a:moveTo>
                  <a:pt x="2002" y="181"/>
                </a:moveTo>
                <a:cubicBezTo>
                  <a:pt x="1973" y="150"/>
                  <a:pt x="1798" y="80"/>
                  <a:pt x="1669" y="50"/>
                </a:cubicBezTo>
                <a:cubicBezTo>
                  <a:pt x="1540" y="20"/>
                  <a:pt x="1369" y="0"/>
                  <a:pt x="1230" y="0"/>
                </a:cubicBezTo>
                <a:cubicBezTo>
                  <a:pt x="1091" y="0"/>
                  <a:pt x="972" y="12"/>
                  <a:pt x="836" y="50"/>
                </a:cubicBezTo>
                <a:cubicBezTo>
                  <a:pt x="700" y="88"/>
                  <a:pt x="525" y="164"/>
                  <a:pt x="414" y="226"/>
                </a:cubicBezTo>
                <a:cubicBezTo>
                  <a:pt x="303" y="288"/>
                  <a:pt x="235" y="345"/>
                  <a:pt x="171" y="422"/>
                </a:cubicBezTo>
                <a:cubicBezTo>
                  <a:pt x="107" y="499"/>
                  <a:pt x="56" y="599"/>
                  <a:pt x="30" y="688"/>
                </a:cubicBezTo>
                <a:cubicBezTo>
                  <a:pt x="4" y="777"/>
                  <a:pt x="0" y="876"/>
                  <a:pt x="12" y="954"/>
                </a:cubicBezTo>
                <a:cubicBezTo>
                  <a:pt x="24" y="1032"/>
                  <a:pt x="52" y="1090"/>
                  <a:pt x="101" y="1158"/>
                </a:cubicBezTo>
                <a:cubicBezTo>
                  <a:pt x="150" y="1226"/>
                  <a:pt x="220" y="1298"/>
                  <a:pt x="304" y="1361"/>
                </a:cubicBezTo>
                <a:cubicBezTo>
                  <a:pt x="388" y="1424"/>
                  <a:pt x="460" y="1487"/>
                  <a:pt x="606" y="1539"/>
                </a:cubicBezTo>
                <a:cubicBezTo>
                  <a:pt x="752" y="1591"/>
                  <a:pt x="957" y="1672"/>
                  <a:pt x="1182" y="1672"/>
                </a:cubicBezTo>
                <a:cubicBezTo>
                  <a:pt x="1407" y="1672"/>
                  <a:pt x="1859" y="1591"/>
                  <a:pt x="1956" y="1542"/>
                </a:cubicBezTo>
                <a:cubicBezTo>
                  <a:pt x="2053" y="1493"/>
                  <a:pt x="1815" y="1422"/>
                  <a:pt x="1767" y="1379"/>
                </a:cubicBezTo>
                <a:cubicBezTo>
                  <a:pt x="1719" y="1336"/>
                  <a:pt x="1704" y="1322"/>
                  <a:pt x="1669" y="1282"/>
                </a:cubicBezTo>
                <a:cubicBezTo>
                  <a:pt x="1634" y="1242"/>
                  <a:pt x="1586" y="1201"/>
                  <a:pt x="1554" y="1140"/>
                </a:cubicBezTo>
                <a:cubicBezTo>
                  <a:pt x="1522" y="1079"/>
                  <a:pt x="1481" y="998"/>
                  <a:pt x="1474" y="918"/>
                </a:cubicBezTo>
                <a:cubicBezTo>
                  <a:pt x="1467" y="838"/>
                  <a:pt x="1486" y="739"/>
                  <a:pt x="1510" y="661"/>
                </a:cubicBezTo>
                <a:cubicBezTo>
                  <a:pt x="1534" y="583"/>
                  <a:pt x="1560" y="520"/>
                  <a:pt x="1616" y="449"/>
                </a:cubicBezTo>
                <a:cubicBezTo>
                  <a:pt x="1672" y="378"/>
                  <a:pt x="1782" y="281"/>
                  <a:pt x="1846" y="236"/>
                </a:cubicBezTo>
                <a:cubicBezTo>
                  <a:pt x="1910" y="191"/>
                  <a:pt x="2032" y="209"/>
                  <a:pt x="2002" y="181"/>
                </a:cubicBezTo>
                <a:close/>
              </a:path>
            </a:pathLst>
          </a:cu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0"/>
          <p:cNvSpPr/>
          <p:nvPr/>
        </p:nvSpPr>
        <p:spPr>
          <a:xfrm flipH="1">
            <a:off x="4066560" y="2421000"/>
            <a:ext cx="4249800" cy="2654280"/>
          </a:xfrm>
          <a:custGeom>
            <a:avLst/>
            <a:gdLst>
              <a:gd name="textAreaLeft" fmla="*/ -360 w 4249800"/>
              <a:gd name="textAreaRight" fmla="*/ 4249800 w 4249800"/>
              <a:gd name="textAreaTop" fmla="*/ 0 h 2654280"/>
              <a:gd name="textAreaBottom" fmla="*/ 2654640 h 2654280"/>
            </a:gdLst>
            <a:ahLst/>
            <a:rect l="textAreaLeft" t="textAreaTop" r="textAreaRight" b="textAreaBottom"/>
            <a:pathLst>
              <a:path w="2053" h="1672">
                <a:moveTo>
                  <a:pt x="2002" y="181"/>
                </a:moveTo>
                <a:cubicBezTo>
                  <a:pt x="1973" y="150"/>
                  <a:pt x="1798" y="80"/>
                  <a:pt x="1669" y="50"/>
                </a:cubicBezTo>
                <a:cubicBezTo>
                  <a:pt x="1540" y="20"/>
                  <a:pt x="1369" y="0"/>
                  <a:pt x="1230" y="0"/>
                </a:cubicBezTo>
                <a:cubicBezTo>
                  <a:pt x="1091" y="0"/>
                  <a:pt x="972" y="12"/>
                  <a:pt x="836" y="50"/>
                </a:cubicBezTo>
                <a:cubicBezTo>
                  <a:pt x="700" y="88"/>
                  <a:pt x="525" y="164"/>
                  <a:pt x="414" y="226"/>
                </a:cubicBezTo>
                <a:cubicBezTo>
                  <a:pt x="303" y="288"/>
                  <a:pt x="235" y="345"/>
                  <a:pt x="171" y="422"/>
                </a:cubicBezTo>
                <a:cubicBezTo>
                  <a:pt x="107" y="499"/>
                  <a:pt x="56" y="599"/>
                  <a:pt x="30" y="688"/>
                </a:cubicBezTo>
                <a:cubicBezTo>
                  <a:pt x="4" y="777"/>
                  <a:pt x="0" y="876"/>
                  <a:pt x="12" y="954"/>
                </a:cubicBezTo>
                <a:cubicBezTo>
                  <a:pt x="24" y="1032"/>
                  <a:pt x="52" y="1090"/>
                  <a:pt x="101" y="1158"/>
                </a:cubicBezTo>
                <a:cubicBezTo>
                  <a:pt x="150" y="1226"/>
                  <a:pt x="220" y="1298"/>
                  <a:pt x="304" y="1361"/>
                </a:cubicBezTo>
                <a:cubicBezTo>
                  <a:pt x="388" y="1424"/>
                  <a:pt x="460" y="1487"/>
                  <a:pt x="606" y="1539"/>
                </a:cubicBezTo>
                <a:cubicBezTo>
                  <a:pt x="752" y="1591"/>
                  <a:pt x="957" y="1672"/>
                  <a:pt x="1182" y="1672"/>
                </a:cubicBezTo>
                <a:cubicBezTo>
                  <a:pt x="1407" y="1672"/>
                  <a:pt x="1859" y="1591"/>
                  <a:pt x="1956" y="1542"/>
                </a:cubicBezTo>
                <a:cubicBezTo>
                  <a:pt x="2053" y="1493"/>
                  <a:pt x="1815" y="1422"/>
                  <a:pt x="1767" y="1379"/>
                </a:cubicBezTo>
                <a:cubicBezTo>
                  <a:pt x="1719" y="1336"/>
                  <a:pt x="1704" y="1322"/>
                  <a:pt x="1669" y="1282"/>
                </a:cubicBezTo>
                <a:cubicBezTo>
                  <a:pt x="1634" y="1242"/>
                  <a:pt x="1586" y="1201"/>
                  <a:pt x="1554" y="1140"/>
                </a:cubicBezTo>
                <a:cubicBezTo>
                  <a:pt x="1522" y="1079"/>
                  <a:pt x="1481" y="998"/>
                  <a:pt x="1474" y="918"/>
                </a:cubicBezTo>
                <a:cubicBezTo>
                  <a:pt x="1467" y="838"/>
                  <a:pt x="1486" y="739"/>
                  <a:pt x="1510" y="661"/>
                </a:cubicBezTo>
                <a:cubicBezTo>
                  <a:pt x="1534" y="583"/>
                  <a:pt x="1560" y="520"/>
                  <a:pt x="1616" y="449"/>
                </a:cubicBezTo>
                <a:cubicBezTo>
                  <a:pt x="1672" y="378"/>
                  <a:pt x="1782" y="281"/>
                  <a:pt x="1846" y="236"/>
                </a:cubicBezTo>
                <a:cubicBezTo>
                  <a:pt x="1910" y="191"/>
                  <a:pt x="2032" y="209"/>
                  <a:pt x="2002" y="181"/>
                </a:cubicBezTo>
                <a:close/>
              </a:path>
            </a:pathLst>
          </a:cu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1"/>
          <p:cNvSpPr/>
          <p:nvPr/>
        </p:nvSpPr>
        <p:spPr>
          <a:xfrm>
            <a:off x="2340000" y="5732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+8-3=1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5" name="矩形 5"/>
          <p:cNvSpPr/>
          <p:nvPr/>
        </p:nvSpPr>
        <p:spPr>
          <a:xfrm>
            <a:off x="971640" y="242100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学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中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没有参加比赛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他学生每人至少参加赛跑和跳绳比赛中的一种。已知参加赛跑的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加跳绳的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这两项比赛都参加的有多少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116000" y="270828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依题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参加比赛的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-10=35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参加跳绳和赛跑的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+18=43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者之差便是两项比赛都参加的人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 赫</cp:lastModifiedBy>
  <dcterms:modified xsi:type="dcterms:W3CDTF">2018-10-30T13:27:08Z</dcterms:modified>
  <cp:revision>6</cp:revision>
  <dc:subject/>
  <dc:title>幻灯片 1</dc:title>
</cp:coreProperties>
</file>