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%E5%B0%8F%E8%9B%99%E5%8F%AB.wav" ContentType="audio/x-wav"/>
  <Override PartName="/ppt/media/image16.png" ContentType="image/png"/>
  <Override PartName="/ppt/media/image18.png" ContentType="image/png"/>
  <Override PartName="/ppt/media/image15.gif" ContentType="image/gif"/>
  <Override PartName="/ppt/media/image3.jpeg" ContentType="image/jpeg"/>
  <Override PartName="/ppt/media/image14.png" ContentType="image/png"/>
  <Override PartName="/ppt/media/%E6%8C%89%E9%92%AE.wav" ContentType="audio/x-wav"/>
  <Override PartName="/ppt/media/image17.png" ContentType="image/png"/>
  <Override PartName="/ppt/media/image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9244-7F5F-4C26-9792-9FD7B9F0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46E2-B283-4E2B-A47E-BF986FC3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F85DB-8D75-4C06-B9FF-D401443B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24FB7-3564-414F-B4ED-FA8FB4FF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C604C-3F16-4172-887E-F6CC623A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D1F2A-69B9-4890-B9C9-A997B76D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09F9E-8054-45E1-A0F9-1C18F28D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BD3E3-157D-4232-871C-8525422D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4B4BE-1AAE-46AA-9CA5-9A1CF7A1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6A5C2-B46E-4C4C-A695-D0E24C43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ECBA6-0CD1-46D1-9053-1011F561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F823B-0B69-436E-BA8A-2394E148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1378-018E-496A-AE7C-B0C74A5D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3231E-622B-48A3-B49E-41AA3A1A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51BAD-8C70-4029-823E-F376AB02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AF1B9-967C-49EF-8CF8-0C9C6D70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93D97-51C6-4EBE-96F2-E17897E0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162D4-083C-4415-850A-5E6A11C3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767CB-5464-4E3B-BDEA-2540EF25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06827-5275-41CF-AC96-CA974061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4E969-8C54-4667-B06E-2344B9D1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E1C2B-E4E6-401A-A41E-1612A78A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9C64C-40D9-4669-B7BA-68DAFC4B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CBE-79BD-498E-80FD-86F5097B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400FD-444A-4CF7-BFB2-163C402D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52019-7D80-4879-BB11-36D6BC50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FDFD2-F2F3-4EFB-BF2B-64FE790C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512FF-62A2-4E7C-BCC8-150E5363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CE0FF-541A-4611-ADBC-8ABA2D47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069F0-AA57-49FF-BAB4-9BB0BFCB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DE8E5-F6E5-4A94-A424-1F2A10BF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AFD29-8307-417F-BFB7-436B8ECA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D5011-8DCB-4854-B6DE-51B6D891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264AD-BBEF-4F0C-9506-38C36D17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D05B-2FF0-4B99-A946-95759813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3BD00-BB31-45F1-B5B8-9C1986DA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C52A1-C970-4BFA-9412-FCC0A7A0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04571-BBA3-4EA1-8869-843A207F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01D05-1986-4FFF-80F8-541AB60F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84382-17AA-45AB-9901-56CDF1EE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B9D55-D0BF-4BC9-BD11-360D2AA9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A7B14-7841-419B-95EC-8B199630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0848B-76D8-4C4E-B60A-0F360174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F8B2F-DC1C-426E-8819-A787927C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E7607-ABFD-4B0A-8673-DBEC3D2B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CCCB-A772-4E80-8A56-77A83403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ADD18-79C1-491C-8AB8-5762AE8B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3E614-4411-45FB-A118-D33C04D1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8D503-566D-467E-995D-3785A25A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F6803-0A61-4398-87F4-A18CF61B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C4979-33F9-45BC-987E-EADDE901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4686-D76B-480A-AC16-9CE843A3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E2FC-2769-481B-9904-76232033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9791-B90E-40F2-94D3-C3538491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B056-E518-48D0-987A-3E63A258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ABCD-5586-4318-9737-45B49995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633D-FAEE-47CB-AE05-CD7C726F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7FB0-591C-491A-8686-ADA7746F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5A82-DE51-48BD-8C4C-34260C42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6F9B-9BCA-426C-8D0A-4CFD520C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5950-1376-4000-8FA3-AB7DB73E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B06D-EEE7-4D5F-8CA2-80846F80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4A85D-6B9A-434A-84E8-F040EBF5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99ADF-7260-435C-9447-49FD3511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05A9F-FCB9-40B3-9D92-BB213983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FADFA-784C-4372-8464-3FECAB6A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C48F8-7958-43EC-903F-4E5F9A8B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0B0F-C420-43DB-B0E7-31D53776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685E7-841D-4B34-9A84-C0417E61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2DF14-6299-4866-9E5A-2ABBA414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0666D-AC39-42E1-A712-55D264ED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36367-2A5D-477E-98B8-CB0DE75D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CFD38-712B-4DF1-9AD4-563E1239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7FDF1-DD8D-4FAC-9191-177B12B0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D64CA-40CA-47A7-9BC7-0CF4727D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B3B48-2D72-476A-93C6-710826A8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1C32C-82D5-432C-83DC-05EA1BE0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1C810-85CE-4842-A5C7-436041B7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4AED-C171-4EF1-A9F0-9428DB83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CB2C2-EEFE-4AEE-A6B2-D3B2601D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1E173-495B-4E82-A5F8-9C530EC1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B6C68-A0B7-4D0F-B91C-0F30D7D1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A1C07-895B-4425-9511-AD436709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9140D-46CA-4D98-88E4-B5DC2CCF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A2FE7-E978-46ED-8C61-4A307FC6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5B327-994A-468F-A161-6DACD904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E4664-CDE0-4D42-894B-3AFBEBBD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8DFEE-1C32-42DC-A0BA-63EF6C84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D0D11-17DD-48D7-8E65-E6851B0C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1862-0BCE-4679-85A9-4E94E48E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1A521-32B3-4A5D-A9D9-1165A762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5F489-5DF6-41C9-8423-0E3AFE19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579E0-AE4C-4295-8A2C-4482353D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5BB73-2519-4864-997C-163280F8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85570-6688-42D5-B829-F74B9440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FAB5D-ADC6-48CD-A53C-BCB1B8CE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AD16A-F60A-443A-A1E0-336F840E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98168-00E1-410A-8995-432BCE26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9C1B1-3830-44AC-87A6-62D8C171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DCE38-D3E0-4C7A-8526-040E8404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7EC1-5738-43FC-B102-1529F77A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123D2-2A23-4E00-A11D-DA03C26A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489F7-24DC-4EC3-87F6-795AA62F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4D654-2C18-4C80-8948-417E4687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AC33F-D3BC-42EF-9C07-6E1DC83B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CFE1B-C74D-497B-9ACE-4A38CEC9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ED79F-DBEA-4EB0-83D9-2F816EB8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506F4-5633-4982-9CB7-1B6EB1BB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187E9-C44C-4041-873A-323C5D42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D9236-192E-4C73-B018-A7221878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BBE89-6854-457B-B354-5D82EE89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331-566E-4E79-92A3-5DF447E3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0DD21-DB28-4D60-ABA3-ECEA14E9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3A6B4-7D73-4858-AFBF-F117F863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781BF-2A16-42D7-9F4D-DEB0E8BD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82976-B2B5-426C-89C6-C91F2906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D9EF1-F879-460F-ADF8-74549E9D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EA614-6882-497C-A6D8-353C302A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9404E-06E8-423D-8C26-563942E4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B7BEE-D09C-49B1-8C98-B032128A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0621A-1C1F-4326-90A2-6C064057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C0DB9-8E12-4797-B5B6-8352464A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A31-CB8D-4B9A-A645-0539FB61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95B6C-B2E8-4651-BD04-6D6DEFA4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A99FD-BC60-46C0-A0A4-D1E608AA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99768-D137-4278-A3B7-7990A69A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A7605-0313-49B3-87F0-75119190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CEBB6-B764-4418-8EBD-0514B6DC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982F6-6280-42FD-941E-0BAA5725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834E0-A4AC-4A66-8985-2730CC24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49C9B-0233-4F33-8524-48656E00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042A6-01D1-4E7F-9BCC-C2B6B130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2E0DF-EBF5-4292-B825-B2DD9DB4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B62-4919-48F7-B3A6-F5F99021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46F87-E1AF-405E-8E71-78AD159F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E047F-8665-4B66-9EBF-6EA41BA1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B09A7-54CB-4ED4-9BF3-6257911D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5AED4-4E31-4643-BEC2-8CCF41F6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7F953-C0D0-4E52-9911-C224456B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B6746-C2F8-4D95-814F-D257A38C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F82BF-FA94-4EB0-8B97-A4CDCEF4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D4DEA-6568-4388-BD04-46A2271A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C106E-14A6-4E91-9577-736A710F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9F4B3-284E-475C-B430-ABA5A116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ec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CFF9-2F84-4614-960B-BDB2980C3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透明logo1"/>
          <p:cNvPicPr/>
          <p:nvPr/>
        </p:nvPicPr>
        <p:blipFill>
          <a:blip r:embed="rId3"/>
          <a:stretch/>
        </p:blipFill>
        <p:spPr>
          <a:xfrm>
            <a:off x="0" y="6121440"/>
            <a:ext cx="2006640" cy="73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ec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A7BE-C75F-4C00-9B7E-B5FC28CDE6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ec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82E1-0788-4F4D-8B42-5F4672FD47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ec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0403-A6FB-40E3-9088-07C9F4E9FE23}" type="slidenum"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ec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4A3E-4671-4892-A8E8-BC848B36D4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ec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AF49-43E2-4484-9F52-B3A4E244E1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ec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D975-4B3A-43F2-BAE0-A46680A1F8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ec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3930-B0D6-46BB-9CCA-A6C21176F3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ec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C51C-B65F-4DC1-A1B4-4F8D7FB59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ec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8E99-A5FC-4A9D-A0BB-16C5AD66C8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ec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8486-BFF1-460C-9420-4F453A13A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ec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EA5D-14EE-4FBA-BB6D-D1CCE5CD30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6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&#23567;&#34521;&#21483;.wav"/><Relationship Id="rId3" Type="http://schemas.openxmlformats.org/officeDocument/2006/relationships/audio" Target="../media/&#23567;&#34521;&#21483;.wav"/><Relationship Id="rId4" Type="http://schemas.openxmlformats.org/officeDocument/2006/relationships/audio" Target="../media/&#23567;&#34521;&#21483;.wav"/><Relationship Id="rId5" Type="http://schemas.openxmlformats.org/officeDocument/2006/relationships/audio" Target="../media/&#23567;&#34521;&#21483;.wav"/><Relationship Id="rId6" Type="http://schemas.openxmlformats.org/officeDocument/2006/relationships/audio" Target="../media/&#25353;&#38062;.wav"/><Relationship Id="rId7" Type="http://schemas.openxmlformats.org/officeDocument/2006/relationships/audio" Target="../media/&#25353;&#38062;.wav"/><Relationship Id="rId8" Type="http://schemas.openxmlformats.org/officeDocument/2006/relationships/audio" Target="../media/&#25353;&#38062;.wav"/><Relationship Id="rId9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audio" Target="../media/&#25353;&#38062;.wav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WordArt 3"/>
          <p:cNvSpPr txBox="1"/>
          <p:nvPr/>
        </p:nvSpPr>
        <p:spPr>
          <a:xfrm>
            <a:off x="2771640" y="3284640"/>
            <a:ext cx="33530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角的度量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539640" y="112536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人教新课标四年级数学上册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42"/>
          <p:cNvSpPr/>
          <p:nvPr/>
        </p:nvSpPr>
        <p:spPr>
          <a:xfrm>
            <a:off x="1332000" y="1628640"/>
            <a:ext cx="6553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小明把</a:t>
            </a: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倍的放大镜放在</a:t>
            </a: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15°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角的平面图上，从放大镜中看这个角是多少度？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65" name="Text Box 43"/>
          <p:cNvSpPr/>
          <p:nvPr/>
        </p:nvSpPr>
        <p:spPr>
          <a:xfrm>
            <a:off x="1332000" y="2871720"/>
            <a:ext cx="6553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008000"/>
                </a:solidFill>
                <a:latin typeface="Times New Roman"/>
              </a:rPr>
              <a:t>分析：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角的大小决定于角的两边叉开的大小，而与角的两边长短无关。用</a:t>
            </a: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倍放大镜去看</a:t>
            </a: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15°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的角，它的两边叉开的大小没有变，所以这个角仍是</a:t>
            </a: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15°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。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66" name="Text Box 45"/>
          <p:cNvSpPr/>
          <p:nvPr/>
        </p:nvSpPr>
        <p:spPr>
          <a:xfrm>
            <a:off x="1979640" y="5027760"/>
            <a:ext cx="518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从放大镜中看这个角是</a:t>
            </a: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15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度。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567" name="Picture 46" descr="ds知识应用"/>
          <p:cNvPicPr/>
          <p:nvPr/>
        </p:nvPicPr>
        <p:blipFill>
          <a:blip r:embed="rId1"/>
          <a:stretch/>
        </p:blipFill>
        <p:spPr>
          <a:xfrm>
            <a:off x="900000" y="888840"/>
            <a:ext cx="183672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92" descr="ds知识拓展"/>
          <p:cNvPicPr/>
          <p:nvPr/>
        </p:nvPicPr>
        <p:blipFill>
          <a:blip r:embed="rId1"/>
          <a:stretch/>
        </p:blipFill>
        <p:spPr>
          <a:xfrm>
            <a:off x="900000" y="987480"/>
            <a:ext cx="1727280" cy="42552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95"/>
          <p:cNvSpPr/>
          <p:nvPr/>
        </p:nvSpPr>
        <p:spPr>
          <a:xfrm>
            <a:off x="1547640" y="1844640"/>
            <a:ext cx="561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数一数，图中一共有几个角 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570" name="Group 111"/>
          <p:cNvGrpSpPr/>
          <p:nvPr/>
        </p:nvGrpSpPr>
        <p:grpSpPr>
          <a:xfrm>
            <a:off x="2843280" y="3284640"/>
            <a:ext cx="2952720" cy="2017440"/>
            <a:chOff x="2843280" y="3284640"/>
            <a:chExt cx="2952720" cy="2017440"/>
          </a:xfrm>
        </p:grpSpPr>
        <p:sp>
          <p:nvSpPr>
            <p:cNvPr id="571" name="Line 106"/>
            <p:cNvSpPr/>
            <p:nvPr/>
          </p:nvSpPr>
          <p:spPr>
            <a:xfrm>
              <a:off x="2843280" y="5302080"/>
              <a:ext cx="2952720" cy="0"/>
            </a:xfrm>
            <a:prstGeom prst="line">
              <a:avLst/>
            </a:prstGeom>
            <a:ln w="1260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72" name="Line 107"/>
            <p:cNvSpPr/>
            <p:nvPr/>
          </p:nvSpPr>
          <p:spPr>
            <a:xfrm flipV="1">
              <a:off x="4283280" y="3284640"/>
              <a:ext cx="0" cy="2017440"/>
            </a:xfrm>
            <a:prstGeom prst="line">
              <a:avLst/>
            </a:prstGeom>
            <a:ln w="1260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73" name="Line 108"/>
            <p:cNvSpPr/>
            <p:nvPr/>
          </p:nvSpPr>
          <p:spPr>
            <a:xfrm flipH="1" flipV="1">
              <a:off x="2916000" y="4076640"/>
              <a:ext cx="1366920" cy="1225440"/>
            </a:xfrm>
            <a:prstGeom prst="line">
              <a:avLst/>
            </a:prstGeom>
            <a:ln w="1260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74" name="Line 109"/>
            <p:cNvSpPr/>
            <p:nvPr/>
          </p:nvSpPr>
          <p:spPr>
            <a:xfrm flipV="1">
              <a:off x="4283280" y="3571920"/>
              <a:ext cx="792000" cy="1728720"/>
            </a:xfrm>
            <a:prstGeom prst="line">
              <a:avLst/>
            </a:prstGeom>
            <a:ln w="1260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WordArt 2"/>
          <p:cNvSpPr txBox="1"/>
          <p:nvPr/>
        </p:nvSpPr>
        <p:spPr>
          <a:xfrm>
            <a:off x="2411280" y="1268280"/>
            <a:ext cx="4032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本课小结</a:t>
            </a:r>
            <a:endParaRPr b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1908000" y="321300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宋体"/>
              </a:rPr>
              <a:t>本节课我们主要学习了角的度量，同学们要掌握角的度量的方法，能够正确的使用量角器测量角的度数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WordArt 4"/>
          <p:cNvSpPr txBox="1"/>
          <p:nvPr/>
        </p:nvSpPr>
        <p:spPr>
          <a:xfrm>
            <a:off x="2627280" y="1341360"/>
            <a:ext cx="3352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学目标</a:t>
            </a:r>
            <a:endParaRPr b="1" lang="en-US" sz="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1979640" y="29242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本节课我们主要来学习用量角器测量角的度数，同学们要掌握用量角器测量角度的步骤，能够正确的测量一个角的度数，可以解决相关的实际问题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ds情境创设"/>
          <p:cNvPicPr/>
          <p:nvPr/>
        </p:nvPicPr>
        <p:blipFill>
          <a:blip r:embed="rId1"/>
          <a:stretch/>
        </p:blipFill>
        <p:spPr>
          <a:xfrm>
            <a:off x="900000" y="841320"/>
            <a:ext cx="1886040" cy="571680"/>
          </a:xfrm>
          <a:prstGeom prst="rect">
            <a:avLst/>
          </a:prstGeom>
          <a:ln w="0">
            <a:noFill/>
          </a:ln>
        </p:spPr>
      </p:pic>
      <p:grpSp>
        <p:nvGrpSpPr>
          <p:cNvPr id="498" name="Group 23"/>
          <p:cNvGrpSpPr/>
          <p:nvPr/>
        </p:nvGrpSpPr>
        <p:grpSpPr>
          <a:xfrm>
            <a:off x="2268000" y="1557360"/>
            <a:ext cx="4175640" cy="1445040"/>
            <a:chOff x="2268000" y="1557360"/>
            <a:chExt cx="4175640" cy="1445040"/>
          </a:xfrm>
        </p:grpSpPr>
        <p:sp>
          <p:nvSpPr>
            <p:cNvPr id="499" name="Line 15"/>
            <p:cNvSpPr/>
            <p:nvPr/>
          </p:nvSpPr>
          <p:spPr>
            <a:xfrm flipH="1">
              <a:off x="2268000" y="1557360"/>
              <a:ext cx="1008360" cy="1439640"/>
            </a:xfrm>
            <a:prstGeom prst="line">
              <a:avLst/>
            </a:prstGeom>
            <a:ln w="1908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00" name="Line 16"/>
            <p:cNvSpPr/>
            <p:nvPr/>
          </p:nvSpPr>
          <p:spPr>
            <a:xfrm>
              <a:off x="2268360" y="2997000"/>
              <a:ext cx="1440000" cy="0"/>
            </a:xfrm>
            <a:prstGeom prst="line">
              <a:avLst/>
            </a:prstGeom>
            <a:ln w="1908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01" name="Line 17"/>
            <p:cNvSpPr/>
            <p:nvPr/>
          </p:nvSpPr>
          <p:spPr>
            <a:xfrm>
              <a:off x="4645080" y="2997000"/>
              <a:ext cx="1511280" cy="0"/>
            </a:xfrm>
            <a:prstGeom prst="line">
              <a:avLst/>
            </a:prstGeom>
            <a:ln w="1908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02" name="Line 18"/>
            <p:cNvSpPr/>
            <p:nvPr/>
          </p:nvSpPr>
          <p:spPr>
            <a:xfrm flipV="1">
              <a:off x="4645080" y="1989000"/>
              <a:ext cx="1584360" cy="1008000"/>
            </a:xfrm>
            <a:prstGeom prst="line">
              <a:avLst/>
            </a:prstGeom>
            <a:ln w="1908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03" name="Text Box 19"/>
            <p:cNvSpPr/>
            <p:nvPr/>
          </p:nvSpPr>
          <p:spPr>
            <a:xfrm>
              <a:off x="2556000" y="241776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2ec2"/>
                  </a:solidFill>
                  <a:latin typeface="Times New Roman"/>
                </a:rPr>
                <a:t>1 </a:t>
              </a:r>
              <a:endParaRPr b="1" lang="en-US" sz="32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04" name="Text Box 20"/>
            <p:cNvSpPr/>
            <p:nvPr/>
          </p:nvSpPr>
          <p:spPr>
            <a:xfrm>
              <a:off x="5364000" y="242100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2ec2"/>
                  </a:solidFill>
                  <a:latin typeface="Times New Roman"/>
                </a:rPr>
                <a:t>2 </a:t>
              </a:r>
              <a:endParaRPr b="1" lang="en-US" sz="32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05" name="Arc 21"/>
            <p:cNvSpPr/>
            <p:nvPr/>
          </p:nvSpPr>
          <p:spPr>
            <a:xfrm>
              <a:off x="2556000" y="2636640"/>
              <a:ext cx="72720" cy="360360"/>
            </a:xfrm>
            <a:prstGeom prst="pie">
              <a:avLst/>
            </a:prstGeom>
            <a:noFill/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06" name="Arc 22"/>
            <p:cNvSpPr/>
            <p:nvPr/>
          </p:nvSpPr>
          <p:spPr>
            <a:xfrm>
              <a:off x="5221440" y="2636640"/>
              <a:ext cx="72720" cy="360360"/>
            </a:xfrm>
            <a:prstGeom prst="pie">
              <a:avLst/>
            </a:prstGeom>
            <a:noFill/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grpSp>
        <p:nvGrpSpPr>
          <p:cNvPr id="507" name="Group 32"/>
          <p:cNvGrpSpPr/>
          <p:nvPr/>
        </p:nvGrpSpPr>
        <p:grpSpPr>
          <a:xfrm>
            <a:off x="468360" y="3300120"/>
            <a:ext cx="5038560" cy="2981520"/>
            <a:chOff x="468360" y="3300120"/>
            <a:chExt cx="5038560" cy="2981520"/>
          </a:xfrm>
        </p:grpSpPr>
        <p:sp>
          <p:nvSpPr>
            <p:cNvPr id="508" name="AutoShape 27"/>
            <p:cNvSpPr/>
            <p:nvPr/>
          </p:nvSpPr>
          <p:spPr>
            <a:xfrm rot="220800">
              <a:off x="2773080" y="3363480"/>
              <a:ext cx="2016000" cy="1079640"/>
            </a:xfrm>
            <a:prstGeom prst="cloudCallout">
              <a:avLst>
                <a:gd name="adj1" fmla="val -74365"/>
                <a:gd name="adj2" fmla="val 61958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09" name="Text Box 24"/>
            <p:cNvSpPr/>
            <p:nvPr/>
          </p:nvSpPr>
          <p:spPr>
            <a:xfrm>
              <a:off x="2843280" y="3645000"/>
              <a:ext cx="2663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6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r>
                <a:rPr b="1" lang="zh-CN" sz="2600" spc="-1" strike="noStrike">
                  <a:solidFill>
                    <a:srgbClr val="002ec2"/>
                  </a:solidFill>
                  <a:latin typeface="Times New Roman"/>
                </a:rPr>
                <a:t>比∠</a:t>
              </a:r>
              <a:r>
                <a:rPr b="1" lang="en-US" sz="2600" spc="-1" strike="noStrike">
                  <a:solidFill>
                    <a:srgbClr val="002ec2"/>
                  </a:solidFill>
                  <a:latin typeface="Times New Roman"/>
                </a:rPr>
                <a:t>2</a:t>
              </a:r>
              <a:r>
                <a:rPr b="1" lang="zh-CN" sz="2600" spc="-1" strike="noStrike">
                  <a:solidFill>
                    <a:srgbClr val="002ec2"/>
                  </a:solidFill>
                  <a:latin typeface="Times New Roman"/>
                </a:rPr>
                <a:t>大</a:t>
              </a:r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pic>
          <p:nvPicPr>
            <p:cNvPr id="510" name="Picture 26" descr="ren11"/>
            <p:cNvPicPr/>
            <p:nvPr/>
          </p:nvPicPr>
          <p:blipFill>
            <a:blip r:embed="rId3"/>
            <a:stretch/>
          </p:blipFill>
          <p:spPr>
            <a:xfrm>
              <a:off x="468360" y="3357720"/>
              <a:ext cx="2274840" cy="29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1" name="Group 33"/>
          <p:cNvGrpSpPr/>
          <p:nvPr/>
        </p:nvGrpSpPr>
        <p:grpSpPr>
          <a:xfrm>
            <a:off x="3879720" y="3429000"/>
            <a:ext cx="5264280" cy="2924280"/>
            <a:chOff x="3879720" y="3429000"/>
            <a:chExt cx="5264280" cy="2924280"/>
          </a:xfrm>
        </p:grpSpPr>
        <p:sp>
          <p:nvSpPr>
            <p:cNvPr id="512" name="AutoShape 28"/>
            <p:cNvSpPr/>
            <p:nvPr/>
          </p:nvSpPr>
          <p:spPr>
            <a:xfrm rot="220800">
              <a:off x="3932280" y="4292640"/>
              <a:ext cx="2663640" cy="1728720"/>
            </a:xfrm>
            <a:prstGeom prst="cloudCallout">
              <a:avLst>
                <a:gd name="adj1" fmla="val 84981"/>
                <a:gd name="adj2" fmla="val -27782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pic>
          <p:nvPicPr>
            <p:cNvPr id="513" name="Picture 25" descr="ren09"/>
            <p:cNvPicPr/>
            <p:nvPr/>
          </p:nvPicPr>
          <p:blipFill>
            <a:blip r:embed="rId5"/>
            <a:stretch/>
          </p:blipFill>
          <p:spPr>
            <a:xfrm>
              <a:off x="6869160" y="3429000"/>
              <a:ext cx="2274840" cy="29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Text Box 29"/>
            <p:cNvSpPr/>
            <p:nvPr/>
          </p:nvSpPr>
          <p:spPr>
            <a:xfrm>
              <a:off x="4211640" y="4508640"/>
              <a:ext cx="23050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ec2"/>
                  </a:solidFill>
                  <a:latin typeface="Times New Roman"/>
                </a:rPr>
                <a:t>   </a:t>
              </a:r>
              <a:r>
                <a:rPr b="1" lang="zh-CN" sz="2600" spc="-1" strike="noStrike">
                  <a:solidFill>
                    <a:srgbClr val="002ec2"/>
                  </a:solidFill>
                  <a:latin typeface="Times New Roman"/>
                </a:rPr>
                <a:t>你是怎么比较的呢？大多少呢？</a:t>
              </a:r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58"/>
          <p:cNvSpPr/>
          <p:nvPr/>
        </p:nvSpPr>
        <p:spPr>
          <a:xfrm>
            <a:off x="3564000" y="51577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量角器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516" name="Picture 61" descr="01"/>
          <p:cNvPicPr/>
          <p:nvPr/>
        </p:nvPicPr>
        <p:blipFill>
          <a:blip r:embed="rId1"/>
          <a:stretch/>
        </p:blipFill>
        <p:spPr>
          <a:xfrm>
            <a:off x="1476360" y="1628640"/>
            <a:ext cx="5977080" cy="31258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63" descr="ds情境创设"/>
          <p:cNvPicPr/>
          <p:nvPr/>
        </p:nvPicPr>
        <p:blipFill>
          <a:blip r:embed="rId2"/>
          <a:stretch/>
        </p:blipFill>
        <p:spPr>
          <a:xfrm>
            <a:off x="900000" y="841320"/>
            <a:ext cx="18860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6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动画"/>
          <p:cNvPicPr/>
          <p:nvPr/>
        </p:nvPicPr>
        <p:blipFill>
          <a:blip r:embed="rId2"/>
          <a:stretch/>
        </p:blipFill>
        <p:spPr>
          <a:xfrm>
            <a:off x="7236000" y="1844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8" descr=""/>
          <p:cNvPicPr/>
          <p:nvPr/>
        </p:nvPicPr>
        <p:blipFill>
          <a:blip r:embed="rId3"/>
          <a:stretch/>
        </p:blipFill>
        <p:spPr>
          <a:xfrm>
            <a:off x="1547640" y="184464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量角器"/>
          <p:cNvPicPr/>
          <p:nvPr/>
        </p:nvPicPr>
        <p:blipFill>
          <a:blip r:embed="rId1"/>
          <a:stretch/>
        </p:blipFill>
        <p:spPr>
          <a:xfrm>
            <a:off x="1397160" y="90000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522" name="Freeform 3"/>
          <p:cNvSpPr/>
          <p:nvPr/>
        </p:nvSpPr>
        <p:spPr>
          <a:xfrm>
            <a:off x="4410000" y="1438200"/>
            <a:ext cx="3048120" cy="248616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417600" y="357120"/>
            <a:ext cx="43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用量角器量角的步骤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24" name="Freeform 5"/>
          <p:cNvSpPr/>
          <p:nvPr/>
        </p:nvSpPr>
        <p:spPr>
          <a:xfrm>
            <a:off x="4633920" y="3651120"/>
            <a:ext cx="176040" cy="28440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4950000" y="337824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1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298440" y="4811760"/>
            <a:ext cx="858852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ec2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2ec2"/>
                </a:solidFill>
                <a:latin typeface="Times New Roman"/>
                <a:ea typeface="黑体"/>
              </a:rPr>
              <a:t>把量角器放在角的上面；使量角器的中心和角的顶点重合；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331920" y="5397480"/>
            <a:ext cx="534816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ec2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2ec2"/>
                </a:solidFill>
                <a:latin typeface="Times New Roman"/>
                <a:ea typeface="黑体"/>
              </a:rPr>
              <a:t>零度刻度线和角的一条边重合；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324000" y="5950080"/>
            <a:ext cx="835020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ec2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2ec2"/>
                </a:solidFill>
                <a:latin typeface="Times New Roman"/>
                <a:ea typeface="黑体"/>
              </a:rPr>
              <a:t>角的另一条边所对的量角器上的刻度，就是这个角的度数。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29" name="Line 10"/>
          <p:cNvSpPr/>
          <p:nvPr/>
        </p:nvSpPr>
        <p:spPr>
          <a:xfrm>
            <a:off x="4438800" y="3914640"/>
            <a:ext cx="3000240" cy="9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4438800" y="3914640"/>
            <a:ext cx="3009600" cy="0"/>
          </a:xfrm>
          <a:prstGeom prst="line">
            <a:avLst/>
          </a:prstGeom>
          <a:ln w="3816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31" name="Line 12"/>
          <p:cNvSpPr/>
          <p:nvPr/>
        </p:nvSpPr>
        <p:spPr>
          <a:xfrm>
            <a:off x="4438800" y="3905280"/>
            <a:ext cx="3009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32" name="Line 13"/>
          <p:cNvSpPr/>
          <p:nvPr/>
        </p:nvSpPr>
        <p:spPr>
          <a:xfrm>
            <a:off x="4448160" y="3914640"/>
            <a:ext cx="3019320" cy="972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33" name="Freeform 14"/>
          <p:cNvSpPr/>
          <p:nvPr/>
        </p:nvSpPr>
        <p:spPr>
          <a:xfrm>
            <a:off x="5757840" y="2247840"/>
            <a:ext cx="795240" cy="16574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34" name="WordArt 15"/>
          <p:cNvSpPr txBox="1"/>
          <p:nvPr/>
        </p:nvSpPr>
        <p:spPr>
          <a:xfrm rot="2100000">
            <a:off x="5714640" y="208548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50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535" name="WordArt 16"/>
          <p:cNvSpPr txBox="1"/>
          <p:nvPr/>
        </p:nvSpPr>
        <p:spPr>
          <a:xfrm rot="2100000">
            <a:off x="5714640" y="207936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50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6" name="WordArt 17"/>
          <p:cNvSpPr txBox="1"/>
          <p:nvPr/>
        </p:nvSpPr>
        <p:spPr>
          <a:xfrm rot="2100000">
            <a:off x="5714640" y="207936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50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537" name="WordArt 18"/>
          <p:cNvSpPr txBox="1"/>
          <p:nvPr/>
        </p:nvSpPr>
        <p:spPr>
          <a:xfrm rot="2100000">
            <a:off x="5721120" y="207936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50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8" name="WordArt 19"/>
          <p:cNvSpPr txBox="1"/>
          <p:nvPr/>
        </p:nvSpPr>
        <p:spPr>
          <a:xfrm rot="2100000">
            <a:off x="5721120" y="208548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50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539" name="WordArt 20"/>
          <p:cNvSpPr txBox="1"/>
          <p:nvPr/>
        </p:nvSpPr>
        <p:spPr>
          <a:xfrm rot="5400000">
            <a:off x="6563880" y="3782880"/>
            <a:ext cx="1335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0</a:t>
            </a:r>
            <a:endParaRPr b="1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75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575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575"/>
                            </p:stCondLst>
                            <p:childTnLst>
                              <p:par>
                                <p:cTn id="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75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量角器"/>
          <p:cNvPicPr/>
          <p:nvPr/>
        </p:nvPicPr>
        <p:blipFill>
          <a:blip r:embed="rId1"/>
          <a:stretch/>
        </p:blipFill>
        <p:spPr>
          <a:xfrm>
            <a:off x="623880" y="267012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541" name="Freeform 3"/>
          <p:cNvSpPr/>
          <p:nvPr/>
        </p:nvSpPr>
        <p:spPr>
          <a:xfrm>
            <a:off x="3638520" y="2465280"/>
            <a:ext cx="3340080" cy="341784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596880" y="1341360"/>
            <a:ext cx="73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ec2"/>
                </a:solidFill>
                <a:latin typeface="黑体"/>
                <a:ea typeface="黑体"/>
              </a:rPr>
              <a:t>判断（请用手势</a:t>
            </a:r>
            <a:r>
              <a:rPr b="0" lang="zh-CN" sz="2800" spc="-1" strike="noStrike">
                <a:solidFill>
                  <a:srgbClr val="002ec2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002ec2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2ec2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2ec2"/>
                </a:solidFill>
                <a:latin typeface="黑体"/>
                <a:ea typeface="黑体"/>
              </a:rPr>
              <a:t>或</a:t>
            </a:r>
            <a:r>
              <a:rPr b="0" lang="zh-CN" sz="2800" spc="-1" strike="noStrike">
                <a:solidFill>
                  <a:srgbClr val="002ec2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002ec2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2ec2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2ec2"/>
                </a:solidFill>
                <a:latin typeface="黑体"/>
                <a:ea typeface="黑体"/>
              </a:rPr>
              <a:t>表示）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43" name="Freeform 5"/>
          <p:cNvSpPr/>
          <p:nvPr/>
        </p:nvSpPr>
        <p:spPr>
          <a:xfrm>
            <a:off x="3538440" y="1447920"/>
            <a:ext cx="676440" cy="338040"/>
          </a:xfrm>
          <a:prstGeom prst="pie">
            <a:avLst/>
          </a:prstGeom>
          <a:noFill/>
          <a:ln w="316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44" name="Line 6"/>
          <p:cNvSpPr/>
          <p:nvPr/>
        </p:nvSpPr>
        <p:spPr>
          <a:xfrm>
            <a:off x="5388120" y="1468440"/>
            <a:ext cx="398160" cy="39672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45" name="Line 7"/>
          <p:cNvSpPr/>
          <p:nvPr/>
        </p:nvSpPr>
        <p:spPr>
          <a:xfrm flipH="1">
            <a:off x="5385960" y="1468440"/>
            <a:ext cx="376200" cy="37800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546" name="Picture 8" descr="03"/>
          <p:cNvPicPr/>
          <p:nvPr/>
        </p:nvPicPr>
        <p:blipFill>
          <a:blip r:embed="rId2"/>
          <a:stretch/>
        </p:blipFill>
        <p:spPr>
          <a:xfrm>
            <a:off x="7529400" y="2327400"/>
            <a:ext cx="1121040" cy="949320"/>
          </a:xfrm>
          <a:prstGeom prst="rect">
            <a:avLst/>
          </a:prstGeom>
          <a:ln w="0">
            <a:noFill/>
          </a:ln>
        </p:spPr>
      </p:pic>
      <p:sp>
        <p:nvSpPr>
          <p:cNvPr id="547" name="AutoShape 9"/>
          <p:cNvSpPr/>
          <p:nvPr/>
        </p:nvSpPr>
        <p:spPr>
          <a:xfrm>
            <a:off x="4371840" y="2197080"/>
            <a:ext cx="2524320" cy="519120"/>
          </a:xfrm>
          <a:prstGeom prst="wedgeRoundRectCallout">
            <a:avLst>
              <a:gd name="adj1" fmla="val 54652"/>
              <a:gd name="adj2" fmla="val 97708"/>
              <a:gd name="adj3" fmla="val 16667"/>
            </a:avLst>
          </a:prstGeom>
          <a:noFill/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ec2"/>
                </a:solidFill>
                <a:latin typeface="Times New Roman"/>
                <a:ea typeface="宋体"/>
              </a:rPr>
              <a:t>这个角是</a:t>
            </a:r>
            <a:r>
              <a:rPr b="0" lang="en-US" sz="2400" spc="-1" strike="noStrike">
                <a:solidFill>
                  <a:srgbClr val="002ec2"/>
                </a:solidFill>
                <a:latin typeface="Times New Roman"/>
                <a:ea typeface="宋体"/>
              </a:rPr>
              <a:t>80 </a:t>
            </a:r>
            <a:r>
              <a:rPr b="0" lang="en-US" sz="2400" spc="-1" strike="noStrike">
                <a:solidFill>
                  <a:srgbClr val="002ec2"/>
                </a:solidFill>
                <a:latin typeface="黑体"/>
                <a:ea typeface="黑体"/>
              </a:rPr>
              <a:t>°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48" name="Freeform 10"/>
          <p:cNvSpPr/>
          <p:nvPr/>
        </p:nvSpPr>
        <p:spPr>
          <a:xfrm>
            <a:off x="3695760" y="5505480"/>
            <a:ext cx="352440" cy="39060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49" name="Text Box 11"/>
          <p:cNvSpPr/>
          <p:nvPr/>
        </p:nvSpPr>
        <p:spPr>
          <a:xfrm>
            <a:off x="533520" y="3808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基础练习</a:t>
            </a:r>
            <a:endParaRPr b="1" lang="en-US" sz="36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631800" y="830160"/>
            <a:ext cx="2416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477720" y="39852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发展练习</a:t>
            </a:r>
            <a:endParaRPr b="1" lang="en-US" sz="3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477720" y="1192320"/>
            <a:ext cx="81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ec2"/>
                </a:solidFill>
                <a:latin typeface="Times New Roman"/>
              </a:rPr>
              <a:t>你能猜出这几个角的度数吗？并说明原因。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553" name="Picture 5" descr="量角器"/>
          <p:cNvPicPr/>
          <p:nvPr/>
        </p:nvPicPr>
        <p:blipFill>
          <a:blip r:embed="rId1"/>
          <a:stretch/>
        </p:blipFill>
        <p:spPr>
          <a:xfrm>
            <a:off x="403200" y="2370240"/>
            <a:ext cx="3897360" cy="22334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量角器"/>
          <p:cNvPicPr/>
          <p:nvPr/>
        </p:nvPicPr>
        <p:blipFill>
          <a:blip r:embed="rId2"/>
          <a:stretch/>
        </p:blipFill>
        <p:spPr>
          <a:xfrm>
            <a:off x="4489560" y="2362320"/>
            <a:ext cx="3897360" cy="2233440"/>
          </a:xfrm>
          <a:prstGeom prst="rect">
            <a:avLst/>
          </a:prstGeom>
          <a:ln w="0">
            <a:noFill/>
          </a:ln>
        </p:spPr>
      </p:pic>
      <p:sp>
        <p:nvSpPr>
          <p:cNvPr id="555" name="Freeform 7"/>
          <p:cNvSpPr/>
          <p:nvPr/>
        </p:nvSpPr>
        <p:spPr>
          <a:xfrm>
            <a:off x="304920" y="3343320"/>
            <a:ext cx="2047680" cy="97164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56" name="Freeform 8"/>
          <p:cNvSpPr/>
          <p:nvPr/>
        </p:nvSpPr>
        <p:spPr>
          <a:xfrm>
            <a:off x="6429240" y="2257560"/>
            <a:ext cx="866880" cy="204768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57" name="Rectangle 9"/>
          <p:cNvSpPr/>
          <p:nvPr/>
        </p:nvSpPr>
        <p:spPr>
          <a:xfrm>
            <a:off x="1238400" y="3259080"/>
            <a:ext cx="2390760" cy="14097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58" name="Rectangle 10"/>
          <p:cNvSpPr/>
          <p:nvPr/>
        </p:nvSpPr>
        <p:spPr>
          <a:xfrm>
            <a:off x="5257800" y="3228840"/>
            <a:ext cx="2390760" cy="14097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5" descr="ds知识应用"/>
          <p:cNvPicPr/>
          <p:nvPr/>
        </p:nvPicPr>
        <p:blipFill>
          <a:blip r:embed="rId1"/>
          <a:stretch/>
        </p:blipFill>
        <p:spPr>
          <a:xfrm>
            <a:off x="900000" y="888840"/>
            <a:ext cx="1836720" cy="52416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7"/>
          <p:cNvSpPr/>
          <p:nvPr/>
        </p:nvSpPr>
        <p:spPr>
          <a:xfrm>
            <a:off x="1332000" y="1628640"/>
            <a:ext cx="22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判断正误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61" name="Text Box 16"/>
          <p:cNvSpPr/>
          <p:nvPr/>
        </p:nvSpPr>
        <p:spPr>
          <a:xfrm>
            <a:off x="1332000" y="2276640"/>
            <a:ext cx="575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角的两边越长，角就越大。</a:t>
            </a: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(          )   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62" name="Text Box 17"/>
          <p:cNvSpPr/>
          <p:nvPr/>
        </p:nvSpPr>
        <p:spPr>
          <a:xfrm>
            <a:off x="1258920" y="2924280"/>
            <a:ext cx="684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008000"/>
                </a:solidFill>
                <a:latin typeface="Times New Roman"/>
              </a:rPr>
              <a:t>分析：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角的大小决定角的两边叉开的程度，叉开得越大，角越大．角的两边是两条射线，它们是无限长的，角的大小与所画的边的长短没有关系，此题应判为错误。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63" name="Text Box 18"/>
          <p:cNvSpPr/>
          <p:nvPr/>
        </p:nvSpPr>
        <p:spPr>
          <a:xfrm>
            <a:off x="5651640" y="22734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×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2:49:41Z</dcterms:created>
  <dc:creator>fqun</dc:creator>
  <dc:description/>
  <dc:language>en-US</dc:language>
  <cp:lastModifiedBy>dreamsummit</cp:lastModifiedBy>
  <dcterms:modified xsi:type="dcterms:W3CDTF">2015-10-21T02:36:45Z</dcterms:modified>
  <cp:revision>715</cp:revision>
  <dc:subject/>
  <dc:title>PowerPoint 演示文稿</dc:title>
</cp:coreProperties>
</file>