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4.jpeg" ContentType="image/jpeg"/>
  <Override PartName="/ppt/media/image3.jpeg" ContentType="image/jpeg"/>
  <Override PartName="/ppt/media/image19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%E5%91%BC%E5%91%BC.wav" ContentType="audio/x-wav"/>
  <Override PartName="/ppt/media/image18.gif" ContentType="image/gif"/>
  <Override PartName="/ppt/media/image17.jpeg" ContentType="image/jpeg"/>
  <Override PartName="/ppt/media/image15.jpeg" ContentType="image/jpeg"/>
  <Override PartName="/ppt/media/%E5%B0%8F%E8%9B%99%E5%8F%AB.wav" ContentType="audio/x-wav"/>
  <Override PartName="/ppt/media/image14.jpeg" ContentType="image/jpeg"/>
  <Override PartName="/ppt/media/image2.jpeg" ContentType="image/jpeg"/>
  <Override PartName="/ppt/media/%E6%8C%89%E9%92%A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33B-39BE-42EF-88AD-4D0A2DB8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8E6-87D7-437F-A82E-67482F07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D10-9A8D-4C5A-A648-1E436D8F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7F3-011A-4546-BEA0-0711777D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58C-E7FA-4C00-BB01-AD1F5BC5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FB4-D5B0-446D-A599-70E4F2F7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9A2-222F-405D-B43D-E27939DB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0B3-3BDE-423E-996B-B55DE2CA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A49-1AA3-4B6E-9DE9-27852501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4D5-1A5B-4726-9FF4-56E56BC9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B70-E0FD-4CDF-A240-8F6D9FA7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F96-2F7B-44D9-9C20-0A54FFB4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3D17-E3B2-4B5C-AFCA-B1DD82D1D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&#25353;&#38062;.wav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audio" Target="../media/&#25353;&#38062;.wav"/><Relationship Id="rId8" Type="http://schemas.openxmlformats.org/officeDocument/2006/relationships/audio" Target="../media/&#25353;&#38062;.wav"/><Relationship Id="rId9" Type="http://schemas.openxmlformats.org/officeDocument/2006/relationships/audio" Target="../media/&#25353;&#38062;.wav"/><Relationship Id="rId10" Type="http://schemas.openxmlformats.org/officeDocument/2006/relationships/audio" Target="../media/&#25353;&#38062;.wav"/><Relationship Id="rId11" Type="http://schemas.openxmlformats.org/officeDocument/2006/relationships/audio" Target="../media/&#25353;&#38062;.wav"/><Relationship Id="rId12" Type="http://schemas.openxmlformats.org/officeDocument/2006/relationships/audio" Target="../media/&#25353;&#38062;.wav"/><Relationship Id="rId13" Type="http://schemas.openxmlformats.org/officeDocument/2006/relationships/audio" Target="../media/&#25353;&#38062;.wav"/><Relationship Id="rId14" Type="http://schemas.openxmlformats.org/officeDocument/2006/relationships/audio" Target="../media/&#25353;&#38062;.wav"/><Relationship Id="rId15" Type="http://schemas.openxmlformats.org/officeDocument/2006/relationships/audio" Target="../media/&#25353;&#38062;.wav"/><Relationship Id="rId16" Type="http://schemas.openxmlformats.org/officeDocument/2006/relationships/audio" Target="../media/&#25353;&#38062;.wav"/><Relationship Id="rId17" Type="http://schemas.openxmlformats.org/officeDocument/2006/relationships/audio" Target="../media/&#25353;&#38062;.wav"/><Relationship Id="rId18" Type="http://schemas.openxmlformats.org/officeDocument/2006/relationships/audio" Target="../media/&#25353;&#38062;.wav"/><Relationship Id="rId19" Type="http://schemas.openxmlformats.org/officeDocument/2006/relationships/audio" Target="../media/&#25353;&#38062;.wav"/><Relationship Id="rId20" Type="http://schemas.openxmlformats.org/officeDocument/2006/relationships/audio" Target="../media/&#25353;&#38062;.wav"/><Relationship Id="rId21" Type="http://schemas.openxmlformats.org/officeDocument/2006/relationships/audio" Target="../media/&#25353;&#38062;.wav"/><Relationship Id="rId22" Type="http://schemas.openxmlformats.org/officeDocument/2006/relationships/audio" Target="../media/&#25353;&#38062;.wav"/><Relationship Id="rId23" Type="http://schemas.openxmlformats.org/officeDocument/2006/relationships/audio" Target="../media/&#25353;&#38062;.wav"/><Relationship Id="rId24" Type="http://schemas.openxmlformats.org/officeDocument/2006/relationships/audio" Target="../media/&#25353;&#38062;.wav"/><Relationship Id="rId25" Type="http://schemas.openxmlformats.org/officeDocument/2006/relationships/audio" Target="../media/&#25353;&#38062;.wav"/><Relationship Id="rId26" Type="http://schemas.openxmlformats.org/officeDocument/2006/relationships/audio" Target="../media/&#25353;&#38062;.wav"/><Relationship Id="rId27" Type="http://schemas.openxmlformats.org/officeDocument/2006/relationships/audio" Target="../media/&#25353;&#38062;.wav"/><Relationship Id="rId28" Type="http://schemas.openxmlformats.org/officeDocument/2006/relationships/audio" Target="../media/&#25353;&#38062;.wav"/><Relationship Id="rId29" Type="http://schemas.openxmlformats.org/officeDocument/2006/relationships/audio" Target="../media/&#25353;&#38062;.wav"/><Relationship Id="rId30" Type="http://schemas.openxmlformats.org/officeDocument/2006/relationships/audio" Target="../media/&#25353;&#38062;.wav"/><Relationship Id="rId31" Type="http://schemas.openxmlformats.org/officeDocument/2006/relationships/audio" Target="../media/&#25353;&#38062;.wav"/><Relationship Id="rId32" Type="http://schemas.openxmlformats.org/officeDocument/2006/relationships/audio" Target="../media/&#25353;&#38062;.wav"/><Relationship Id="rId3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&#25353;&#38062;.wav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audio" Target="../media/&#25353;&#38062;.wav"/><Relationship Id="rId6" Type="http://schemas.openxmlformats.org/officeDocument/2006/relationships/audio" Target="../media/&#25353;&#38062;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&#25353;&#38062;.wav"/><Relationship Id="rId3" Type="http://schemas.openxmlformats.org/officeDocument/2006/relationships/audio" Target="../media/&#23567;&#34521;&#21483;.wav"/><Relationship Id="rId4" Type="http://schemas.openxmlformats.org/officeDocument/2006/relationships/audio" Target="../media/&#23567;&#34521;&#21483;.wav"/><Relationship Id="rId5" Type="http://schemas.openxmlformats.org/officeDocument/2006/relationships/audio" Target="../media/&#23567;&#34521;&#21483;.wav"/><Relationship Id="rId6" Type="http://schemas.openxmlformats.org/officeDocument/2006/relationships/audio" Target="../media/&#23567;&#34521;&#21483;.wav"/><Relationship Id="rId7" Type="http://schemas.openxmlformats.org/officeDocument/2006/relationships/audio" Target="../media/&#25353;&#38062;.wav"/><Relationship Id="rId8" Type="http://schemas.openxmlformats.org/officeDocument/2006/relationships/audio" Target="../media/&#25353;&#38062;.wav"/><Relationship Id="rId9" Type="http://schemas.openxmlformats.org/officeDocument/2006/relationships/audio" Target="../media/&#25353;&#38062;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&#25353;&#38062;.wav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gif"/><Relationship Id="rId3" Type="http://schemas.openxmlformats.org/officeDocument/2006/relationships/audio" Target="../media/&#25353;&#38062;.wav"/><Relationship Id="rId4" Type="http://schemas.openxmlformats.org/officeDocument/2006/relationships/audio" Target="../media/&#25353;&#38062;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gif"/><Relationship Id="rId3" Type="http://schemas.openxmlformats.org/officeDocument/2006/relationships/audio" Target="../media/&#25353;&#38062;.wav"/><Relationship Id="rId4" Type="http://schemas.openxmlformats.org/officeDocument/2006/relationships/audio" Target="../media/&#21628;&#21628;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audio" Target="../media/&#25353;&#38062;.wav"/><Relationship Id="rId4" Type="http://schemas.openxmlformats.org/officeDocument/2006/relationships/audio" Target="../media/&#21628;&#21628;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22.png"/><Relationship Id="rId5" Type="http://schemas.openxmlformats.org/officeDocument/2006/relationships/audio" Target="../media/&#25353;&#38062;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&#25353;&#38062;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&#25353;&#38062;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&#25353;&#38062;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60240" y="10461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90b20"/>
                </a:solidFill>
                <a:latin typeface="Times New Roman"/>
                <a:ea typeface="宋体"/>
              </a:rPr>
              <a:t>人教新课标四年级数学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3"/>
          <p:cNvSpPr/>
          <p:nvPr/>
        </p:nvSpPr>
        <p:spPr>
          <a:xfrm>
            <a:off x="2219400" y="2801880"/>
            <a:ext cx="4330800" cy="1312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3300"/>
                </a:solidFill>
                <a:latin typeface="Times New Roman"/>
              </a:rPr>
              <a:t>角的度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0JSS8D%M}8PU}7PMPET(PGD"/>
          <p:cNvPicPr/>
          <p:nvPr/>
        </p:nvPicPr>
        <p:blipFill>
          <a:blip r:embed="rId1"/>
          <a:stretch/>
        </p:blipFill>
        <p:spPr>
          <a:xfrm>
            <a:off x="673200" y="1755720"/>
            <a:ext cx="7797600" cy="4348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7505640" y="3835440"/>
            <a:ext cx="7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b20"/>
                </a:solidFill>
                <a:latin typeface="Times New Roman"/>
                <a:ea typeface="宋体"/>
              </a:rPr>
              <a:t>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886880" y="3695760"/>
            <a:ext cx="3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0b2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984480" y="623880"/>
            <a:ext cx="11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3R1J@@R3BZS((71RB)T]UJ5"/>
          <p:cNvPicPr/>
          <p:nvPr/>
        </p:nvPicPr>
        <p:blipFill>
          <a:blip r:embed="rId1"/>
          <a:stretch/>
        </p:blipFill>
        <p:spPr>
          <a:xfrm>
            <a:off x="684360" y="1152360"/>
            <a:ext cx="7789680" cy="4362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4025880" y="5935680"/>
            <a:ext cx="9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b20"/>
                </a:solidFill>
                <a:latin typeface="Times New Roman"/>
                <a:ea typeface="宋体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10160" y="579600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0b2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600200" y="279360"/>
            <a:ext cx="595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来数一数这个角是多少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051008korea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440" y="2387160"/>
            <a:ext cx="7772400" cy="27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样看起来清不清楚，读起度数来是不是很麻烦，那么我们能不能想想办法让它更方便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492360" y="723960"/>
            <a:ext cx="187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9" descr="图片2"/>
          <p:cNvPicPr/>
          <p:nvPr/>
        </p:nvPicPr>
        <p:blipFill>
          <a:blip r:embed="rId2"/>
          <a:stretch/>
        </p:blipFill>
        <p:spPr>
          <a:xfrm>
            <a:off x="6783480" y="939960"/>
            <a:ext cx="1332000" cy="18684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3" name="%E6%8C%89%E9%92%A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W@U0ZY`]D5D(F5UU5%]OU)3"/>
          <p:cNvPicPr/>
          <p:nvPr/>
        </p:nvPicPr>
        <p:blipFill>
          <a:blip r:embed="rId1"/>
          <a:stretch/>
        </p:blipFill>
        <p:spPr>
          <a:xfrm>
            <a:off x="1498680" y="1407960"/>
            <a:ext cx="6315120" cy="4069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473120" y="254160"/>
            <a:ext cx="62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把这个半圆工具标上刻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W@U0ZY`]D5D(F5UU5%]OU)3"/>
          <p:cNvPicPr/>
          <p:nvPr/>
        </p:nvPicPr>
        <p:blipFill>
          <a:blip r:embed="rId1"/>
          <a:stretch/>
        </p:blipFill>
        <p:spPr>
          <a:xfrm>
            <a:off x="704880" y="1173240"/>
            <a:ext cx="7772400" cy="5006880"/>
          </a:xfrm>
          <a:prstGeom prst="rect">
            <a:avLst/>
          </a:prstGeom>
          <a:ln w="0">
            <a:noFill/>
          </a:ln>
        </p:spPr>
      </p:pic>
      <p:sp>
        <p:nvSpPr>
          <p:cNvPr id="127" name="Line 5"/>
          <p:cNvSpPr/>
          <p:nvPr/>
        </p:nvSpPr>
        <p:spPr>
          <a:xfrm>
            <a:off x="4495680" y="5283360"/>
            <a:ext cx="3200400" cy="12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4503240" y="2165040"/>
            <a:ext cx="568440" cy="3149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L_$WM~$W9VR`F2AD46601M4"/>
          <p:cNvPicPr/>
          <p:nvPr/>
        </p:nvPicPr>
        <p:blipFill>
          <a:blip r:embed="rId1"/>
          <a:stretch/>
        </p:blipFill>
        <p:spPr>
          <a:xfrm>
            <a:off x="961920" y="1057320"/>
            <a:ext cx="7321680" cy="4349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2184480" y="228600"/>
            <a:ext cx="47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角是多少度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88840" y="3378240"/>
            <a:ext cx="77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b20"/>
                </a:solidFill>
                <a:latin typeface="Times New Roman"/>
                <a:ea typeface="宋体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70080" y="3238560"/>
            <a:ext cx="3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0b2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155600" y="57531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这样读数，是不是还有些不方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026"/>
          <p:cNvSpPr/>
          <p:nvPr/>
        </p:nvSpPr>
        <p:spPr>
          <a:xfrm>
            <a:off x="479520" y="455760"/>
            <a:ext cx="26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认识量角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27" descr="量角器"/>
          <p:cNvPicPr/>
          <p:nvPr/>
        </p:nvPicPr>
        <p:blipFill>
          <a:blip r:embed="rId1"/>
          <a:stretch/>
        </p:blipFill>
        <p:spPr>
          <a:xfrm>
            <a:off x="2114640" y="1612800"/>
            <a:ext cx="4913280" cy="2816280"/>
          </a:xfrm>
          <a:prstGeom prst="rect">
            <a:avLst/>
          </a:prstGeom>
          <a:ln w="0">
            <a:noFill/>
          </a:ln>
        </p:spPr>
      </p:pic>
      <p:sp>
        <p:nvSpPr>
          <p:cNvPr id="136" name="Oval 1028"/>
          <p:cNvSpPr/>
          <p:nvPr/>
        </p:nvSpPr>
        <p:spPr>
          <a:xfrm>
            <a:off x="4502160" y="399564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029"/>
          <p:cNvSpPr/>
          <p:nvPr/>
        </p:nvSpPr>
        <p:spPr>
          <a:xfrm>
            <a:off x="4502160" y="3976560"/>
            <a:ext cx="117360" cy="108000"/>
          </a:xfrm>
          <a:prstGeom prst="ellips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030"/>
          <p:cNvSpPr/>
          <p:nvPr/>
        </p:nvSpPr>
        <p:spPr>
          <a:xfrm>
            <a:off x="4502160" y="398304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31"/>
          <p:cNvSpPr/>
          <p:nvPr/>
        </p:nvSpPr>
        <p:spPr>
          <a:xfrm flipV="1">
            <a:off x="4578480" y="4111560"/>
            <a:ext cx="0" cy="40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32"/>
          <p:cNvSpPr/>
          <p:nvPr/>
        </p:nvSpPr>
        <p:spPr>
          <a:xfrm>
            <a:off x="3645000" y="4462560"/>
            <a:ext cx="20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量角器的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33"/>
          <p:cNvSpPr/>
          <p:nvPr/>
        </p:nvSpPr>
        <p:spPr>
          <a:xfrm flipV="1">
            <a:off x="2225520" y="4052520"/>
            <a:ext cx="4676760" cy="1908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34"/>
          <p:cNvSpPr/>
          <p:nvPr/>
        </p:nvSpPr>
        <p:spPr>
          <a:xfrm flipV="1">
            <a:off x="6032520" y="4052880"/>
            <a:ext cx="0" cy="9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35"/>
          <p:cNvSpPr/>
          <p:nvPr/>
        </p:nvSpPr>
        <p:spPr>
          <a:xfrm>
            <a:off x="5032440" y="4923000"/>
            <a:ext cx="30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036"/>
          <p:cNvSpPr/>
          <p:nvPr/>
        </p:nvSpPr>
        <p:spPr>
          <a:xfrm>
            <a:off x="2835360" y="2328840"/>
            <a:ext cx="3457440" cy="1743120"/>
          </a:xfrm>
          <a:custGeom>
            <a:avLst/>
            <a:gdLst/>
            <a:ahLst/>
            <a:rect l="l" t="t" r="r" b="b"/>
            <a:pathLst>
              <a:path w="2178" h="1098">
                <a:moveTo>
                  <a:pt x="0" y="1098"/>
                </a:moveTo>
                <a:cubicBezTo>
                  <a:pt x="2" y="1028"/>
                  <a:pt x="1" y="958"/>
                  <a:pt x="6" y="888"/>
                </a:cubicBezTo>
                <a:cubicBezTo>
                  <a:pt x="7" y="875"/>
                  <a:pt x="16" y="864"/>
                  <a:pt x="18" y="852"/>
                </a:cubicBezTo>
                <a:cubicBezTo>
                  <a:pt x="27" y="798"/>
                  <a:pt x="44" y="751"/>
                  <a:pt x="66" y="702"/>
                </a:cubicBezTo>
                <a:cubicBezTo>
                  <a:pt x="84" y="662"/>
                  <a:pt x="94" y="617"/>
                  <a:pt x="108" y="576"/>
                </a:cubicBezTo>
                <a:cubicBezTo>
                  <a:pt x="108" y="576"/>
                  <a:pt x="138" y="531"/>
                  <a:pt x="144" y="522"/>
                </a:cubicBezTo>
                <a:cubicBezTo>
                  <a:pt x="162" y="496"/>
                  <a:pt x="179" y="455"/>
                  <a:pt x="204" y="438"/>
                </a:cubicBezTo>
                <a:cubicBezTo>
                  <a:pt x="219" y="393"/>
                  <a:pt x="197" y="447"/>
                  <a:pt x="228" y="408"/>
                </a:cubicBezTo>
                <a:cubicBezTo>
                  <a:pt x="248" y="384"/>
                  <a:pt x="237" y="361"/>
                  <a:pt x="276" y="348"/>
                </a:cubicBezTo>
                <a:cubicBezTo>
                  <a:pt x="304" y="306"/>
                  <a:pt x="348" y="280"/>
                  <a:pt x="390" y="252"/>
                </a:cubicBezTo>
                <a:cubicBezTo>
                  <a:pt x="402" y="244"/>
                  <a:pt x="414" y="236"/>
                  <a:pt x="426" y="228"/>
                </a:cubicBezTo>
                <a:cubicBezTo>
                  <a:pt x="432" y="224"/>
                  <a:pt x="444" y="216"/>
                  <a:pt x="444" y="216"/>
                </a:cubicBezTo>
                <a:cubicBezTo>
                  <a:pt x="458" y="194"/>
                  <a:pt x="471" y="194"/>
                  <a:pt x="492" y="180"/>
                </a:cubicBezTo>
                <a:cubicBezTo>
                  <a:pt x="509" y="155"/>
                  <a:pt x="532" y="152"/>
                  <a:pt x="558" y="138"/>
                </a:cubicBezTo>
                <a:cubicBezTo>
                  <a:pt x="596" y="117"/>
                  <a:pt x="608" y="103"/>
                  <a:pt x="648" y="90"/>
                </a:cubicBezTo>
                <a:cubicBezTo>
                  <a:pt x="714" y="68"/>
                  <a:pt x="779" y="40"/>
                  <a:pt x="846" y="18"/>
                </a:cubicBezTo>
                <a:cubicBezTo>
                  <a:pt x="880" y="7"/>
                  <a:pt x="989" y="3"/>
                  <a:pt x="1026" y="0"/>
                </a:cubicBezTo>
                <a:cubicBezTo>
                  <a:pt x="1126" y="6"/>
                  <a:pt x="1226" y="13"/>
                  <a:pt x="1326" y="24"/>
                </a:cubicBezTo>
                <a:cubicBezTo>
                  <a:pt x="1373" y="36"/>
                  <a:pt x="1415" y="53"/>
                  <a:pt x="1458" y="72"/>
                </a:cubicBezTo>
                <a:cubicBezTo>
                  <a:pt x="1512" y="96"/>
                  <a:pt x="1567" y="112"/>
                  <a:pt x="1620" y="138"/>
                </a:cubicBezTo>
                <a:cubicBezTo>
                  <a:pt x="1644" y="150"/>
                  <a:pt x="1669" y="161"/>
                  <a:pt x="1692" y="174"/>
                </a:cubicBezTo>
                <a:cubicBezTo>
                  <a:pt x="1705" y="181"/>
                  <a:pt x="1716" y="190"/>
                  <a:pt x="1728" y="198"/>
                </a:cubicBezTo>
                <a:cubicBezTo>
                  <a:pt x="1734" y="202"/>
                  <a:pt x="1746" y="210"/>
                  <a:pt x="1746" y="210"/>
                </a:cubicBezTo>
                <a:cubicBezTo>
                  <a:pt x="1750" y="216"/>
                  <a:pt x="1752" y="223"/>
                  <a:pt x="1758" y="228"/>
                </a:cubicBezTo>
                <a:cubicBezTo>
                  <a:pt x="1763" y="232"/>
                  <a:pt x="1772" y="230"/>
                  <a:pt x="1776" y="234"/>
                </a:cubicBezTo>
                <a:cubicBezTo>
                  <a:pt x="1808" y="266"/>
                  <a:pt x="1752" y="242"/>
                  <a:pt x="1800" y="258"/>
                </a:cubicBezTo>
                <a:cubicBezTo>
                  <a:pt x="1834" y="310"/>
                  <a:pt x="1789" y="249"/>
                  <a:pt x="1830" y="282"/>
                </a:cubicBezTo>
                <a:cubicBezTo>
                  <a:pt x="1836" y="287"/>
                  <a:pt x="1837" y="295"/>
                  <a:pt x="1842" y="300"/>
                </a:cubicBezTo>
                <a:cubicBezTo>
                  <a:pt x="1847" y="305"/>
                  <a:pt x="1854" y="308"/>
                  <a:pt x="1860" y="312"/>
                </a:cubicBezTo>
                <a:cubicBezTo>
                  <a:pt x="1876" y="360"/>
                  <a:pt x="1852" y="304"/>
                  <a:pt x="1884" y="336"/>
                </a:cubicBezTo>
                <a:cubicBezTo>
                  <a:pt x="1917" y="369"/>
                  <a:pt x="1930" y="431"/>
                  <a:pt x="1968" y="456"/>
                </a:cubicBezTo>
                <a:cubicBezTo>
                  <a:pt x="1978" y="487"/>
                  <a:pt x="2000" y="517"/>
                  <a:pt x="2016" y="546"/>
                </a:cubicBezTo>
                <a:cubicBezTo>
                  <a:pt x="2027" y="565"/>
                  <a:pt x="2045" y="579"/>
                  <a:pt x="2052" y="600"/>
                </a:cubicBezTo>
                <a:cubicBezTo>
                  <a:pt x="2068" y="648"/>
                  <a:pt x="2084" y="696"/>
                  <a:pt x="2100" y="744"/>
                </a:cubicBezTo>
                <a:cubicBezTo>
                  <a:pt x="2111" y="778"/>
                  <a:pt x="2133" y="802"/>
                  <a:pt x="2142" y="840"/>
                </a:cubicBezTo>
                <a:cubicBezTo>
                  <a:pt x="2150" y="925"/>
                  <a:pt x="2178" y="1007"/>
                  <a:pt x="2178" y="1092"/>
                </a:cubicBezTo>
              </a:path>
            </a:pathLst>
          </a:custGeom>
          <a:noFill/>
          <a:ln w="507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37"/>
          <p:cNvSpPr/>
          <p:nvPr/>
        </p:nvSpPr>
        <p:spPr>
          <a:xfrm flipV="1">
            <a:off x="3178080" y="303372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38"/>
          <p:cNvSpPr/>
          <p:nvPr/>
        </p:nvSpPr>
        <p:spPr>
          <a:xfrm>
            <a:off x="2025720" y="527220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内圈刻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40"/>
          <p:cNvSpPr/>
          <p:nvPr/>
        </p:nvSpPr>
        <p:spPr>
          <a:xfrm>
            <a:off x="2111400" y="2147760"/>
            <a:ext cx="590400" cy="419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41"/>
          <p:cNvSpPr/>
          <p:nvPr/>
        </p:nvSpPr>
        <p:spPr>
          <a:xfrm>
            <a:off x="291960" y="1557360"/>
            <a:ext cx="28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外圈刻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42"/>
          <p:cNvSpPr/>
          <p:nvPr/>
        </p:nvSpPr>
        <p:spPr>
          <a:xfrm flipV="1">
            <a:off x="4568760" y="1719000"/>
            <a:ext cx="0" cy="2352600"/>
          </a:xfrm>
          <a:prstGeom prst="line">
            <a:avLst/>
          </a:prstGeom>
          <a:ln w="316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43"/>
          <p:cNvSpPr/>
          <p:nvPr/>
        </p:nvSpPr>
        <p:spPr>
          <a:xfrm flipH="1">
            <a:off x="4568400" y="2043000"/>
            <a:ext cx="2629080" cy="752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44"/>
          <p:cNvSpPr/>
          <p:nvPr/>
        </p:nvSpPr>
        <p:spPr>
          <a:xfrm>
            <a:off x="5807160" y="155736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角器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45"/>
          <p:cNvSpPr/>
          <p:nvPr/>
        </p:nvSpPr>
        <p:spPr>
          <a:xfrm flipV="1">
            <a:off x="2263680" y="4052520"/>
            <a:ext cx="4676760" cy="19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46"/>
          <p:cNvSpPr/>
          <p:nvPr/>
        </p:nvSpPr>
        <p:spPr>
          <a:xfrm flipV="1">
            <a:off x="2235240" y="4052520"/>
            <a:ext cx="4676760" cy="19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47"/>
          <p:cNvSpPr/>
          <p:nvPr/>
        </p:nvSpPr>
        <p:spPr>
          <a:xfrm flipV="1">
            <a:off x="4568760" y="1719000"/>
            <a:ext cx="0" cy="2314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48"/>
          <p:cNvSpPr/>
          <p:nvPr/>
        </p:nvSpPr>
        <p:spPr>
          <a:xfrm flipV="1">
            <a:off x="4568760" y="1719360"/>
            <a:ext cx="0" cy="22953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WordArt 1049"/>
          <p:cNvSpPr txBox="1"/>
          <p:nvPr/>
        </p:nvSpPr>
        <p:spPr>
          <a:xfrm rot="5400000">
            <a:off x="6339960" y="3973320"/>
            <a:ext cx="11448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3399ff"/>
                </a:solidFill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</p:txBody>
      </p:sp>
      <p:sp>
        <p:nvSpPr>
          <p:cNvPr id="157" name="WordArt 1053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8" name="WordArt 1054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3399ff"/>
                </a:solidFill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</p:txBody>
      </p:sp>
      <p:sp>
        <p:nvSpPr>
          <p:cNvPr id="159" name="WordArt 1055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0" name="WordArt 1056"/>
          <p:cNvSpPr txBox="1"/>
          <p:nvPr/>
        </p:nvSpPr>
        <p:spPr>
          <a:xfrm rot="5400000">
            <a:off x="6340320" y="39686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3399ff"/>
                </a:solidFill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</p:txBody>
      </p:sp>
      <p:sp>
        <p:nvSpPr>
          <p:cNvPr id="161" name="WordArt 1057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62" name="WordArt 1058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3" name="WordArt 1059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64" name="WordArt 1060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5" name="WordArt 1061"/>
          <p:cNvSpPr txBox="1"/>
          <p:nvPr/>
        </p:nvSpPr>
        <p:spPr>
          <a:xfrm rot="5400000">
            <a:off x="2487240" y="398304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166" name="WordArt 1063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3399ff"/>
                </a:solidFill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</p:txBody>
      </p:sp>
      <p:sp>
        <p:nvSpPr>
          <p:cNvPr id="167" name="WordArt 1064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8" name="WordArt 1065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3399ff"/>
                </a:solidFill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</p:txBody>
      </p:sp>
      <p:sp>
        <p:nvSpPr>
          <p:cNvPr id="169" name="WordArt 1066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0" name="WordArt 1067"/>
          <p:cNvSpPr txBox="1"/>
          <p:nvPr/>
        </p:nvSpPr>
        <p:spPr>
          <a:xfrm rot="5400000">
            <a:off x="2776680" y="3742560"/>
            <a:ext cx="23796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3399ff"/>
                </a:solidFill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</p:txBody>
      </p:sp>
      <p:sp>
        <p:nvSpPr>
          <p:cNvPr id="171" name="WordArt 1068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2" name="WordArt 1069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3" name="WordArt 1070"/>
          <p:cNvSpPr txBox="1"/>
          <p:nvPr/>
        </p:nvSpPr>
        <p:spPr>
          <a:xfrm rot="5400000">
            <a:off x="647460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4" name="WordArt 1071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75" name="WordArt 1072"/>
          <p:cNvSpPr txBox="1"/>
          <p:nvPr/>
        </p:nvSpPr>
        <p:spPr>
          <a:xfrm rot="5400000">
            <a:off x="6479280" y="3969720"/>
            <a:ext cx="2383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80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6" name="Freeform 1073"/>
          <p:cNvSpPr/>
          <p:nvPr/>
        </p:nvSpPr>
        <p:spPr>
          <a:xfrm>
            <a:off x="2219400" y="1714680"/>
            <a:ext cx="4668840" cy="2352600"/>
          </a:xfrm>
          <a:custGeom>
            <a:avLst/>
            <a:gdLst/>
            <a:ahLst/>
            <a:rect l="l" t="t" r="r" b="b"/>
            <a:pathLst>
              <a:path w="2941" h="1482">
                <a:moveTo>
                  <a:pt x="0" y="1482"/>
                </a:moveTo>
                <a:cubicBezTo>
                  <a:pt x="11" y="1329"/>
                  <a:pt x="23" y="1173"/>
                  <a:pt x="72" y="1026"/>
                </a:cubicBezTo>
                <a:cubicBezTo>
                  <a:pt x="84" y="989"/>
                  <a:pt x="92" y="933"/>
                  <a:pt x="114" y="900"/>
                </a:cubicBezTo>
                <a:cubicBezTo>
                  <a:pt x="144" y="855"/>
                  <a:pt x="168" y="804"/>
                  <a:pt x="192" y="756"/>
                </a:cubicBezTo>
                <a:cubicBezTo>
                  <a:pt x="212" y="715"/>
                  <a:pt x="269" y="650"/>
                  <a:pt x="282" y="612"/>
                </a:cubicBezTo>
                <a:cubicBezTo>
                  <a:pt x="292" y="583"/>
                  <a:pt x="305" y="563"/>
                  <a:pt x="330" y="546"/>
                </a:cubicBezTo>
                <a:cubicBezTo>
                  <a:pt x="345" y="524"/>
                  <a:pt x="368" y="501"/>
                  <a:pt x="390" y="486"/>
                </a:cubicBezTo>
                <a:cubicBezTo>
                  <a:pt x="418" y="444"/>
                  <a:pt x="402" y="458"/>
                  <a:pt x="432" y="438"/>
                </a:cubicBezTo>
                <a:cubicBezTo>
                  <a:pt x="464" y="390"/>
                  <a:pt x="444" y="410"/>
                  <a:pt x="492" y="378"/>
                </a:cubicBezTo>
                <a:cubicBezTo>
                  <a:pt x="498" y="374"/>
                  <a:pt x="510" y="366"/>
                  <a:pt x="510" y="366"/>
                </a:cubicBezTo>
                <a:cubicBezTo>
                  <a:pt x="544" y="314"/>
                  <a:pt x="499" y="375"/>
                  <a:pt x="540" y="342"/>
                </a:cubicBezTo>
                <a:cubicBezTo>
                  <a:pt x="546" y="337"/>
                  <a:pt x="546" y="329"/>
                  <a:pt x="552" y="324"/>
                </a:cubicBezTo>
                <a:cubicBezTo>
                  <a:pt x="557" y="320"/>
                  <a:pt x="564" y="321"/>
                  <a:pt x="570" y="318"/>
                </a:cubicBezTo>
                <a:cubicBezTo>
                  <a:pt x="583" y="311"/>
                  <a:pt x="606" y="294"/>
                  <a:pt x="606" y="294"/>
                </a:cubicBezTo>
                <a:cubicBezTo>
                  <a:pt x="620" y="272"/>
                  <a:pt x="633" y="272"/>
                  <a:pt x="654" y="258"/>
                </a:cubicBezTo>
                <a:cubicBezTo>
                  <a:pt x="671" y="233"/>
                  <a:pt x="694" y="230"/>
                  <a:pt x="720" y="216"/>
                </a:cubicBezTo>
                <a:cubicBezTo>
                  <a:pt x="756" y="196"/>
                  <a:pt x="791" y="175"/>
                  <a:pt x="828" y="156"/>
                </a:cubicBezTo>
                <a:cubicBezTo>
                  <a:pt x="864" y="138"/>
                  <a:pt x="900" y="120"/>
                  <a:pt x="936" y="102"/>
                </a:cubicBezTo>
                <a:cubicBezTo>
                  <a:pt x="957" y="92"/>
                  <a:pt x="981" y="94"/>
                  <a:pt x="1002" y="84"/>
                </a:cubicBezTo>
                <a:cubicBezTo>
                  <a:pt x="1064" y="53"/>
                  <a:pt x="1161" y="21"/>
                  <a:pt x="1230" y="12"/>
                </a:cubicBezTo>
                <a:cubicBezTo>
                  <a:pt x="1260" y="8"/>
                  <a:pt x="1356" y="2"/>
                  <a:pt x="1380" y="0"/>
                </a:cubicBezTo>
                <a:cubicBezTo>
                  <a:pt x="1460" y="2"/>
                  <a:pt x="1540" y="2"/>
                  <a:pt x="1620" y="6"/>
                </a:cubicBezTo>
                <a:cubicBezTo>
                  <a:pt x="1712" y="10"/>
                  <a:pt x="1818" y="38"/>
                  <a:pt x="1908" y="60"/>
                </a:cubicBezTo>
                <a:cubicBezTo>
                  <a:pt x="1964" y="74"/>
                  <a:pt x="2018" y="97"/>
                  <a:pt x="2070" y="120"/>
                </a:cubicBezTo>
                <a:cubicBezTo>
                  <a:pt x="2070" y="120"/>
                  <a:pt x="2115" y="135"/>
                  <a:pt x="2124" y="138"/>
                </a:cubicBezTo>
                <a:cubicBezTo>
                  <a:pt x="2136" y="142"/>
                  <a:pt x="2160" y="150"/>
                  <a:pt x="2160" y="150"/>
                </a:cubicBezTo>
                <a:cubicBezTo>
                  <a:pt x="2179" y="178"/>
                  <a:pt x="2215" y="188"/>
                  <a:pt x="2244" y="204"/>
                </a:cubicBezTo>
                <a:cubicBezTo>
                  <a:pt x="2257" y="211"/>
                  <a:pt x="2280" y="228"/>
                  <a:pt x="2280" y="228"/>
                </a:cubicBezTo>
                <a:cubicBezTo>
                  <a:pt x="2284" y="234"/>
                  <a:pt x="2287" y="241"/>
                  <a:pt x="2292" y="246"/>
                </a:cubicBezTo>
                <a:cubicBezTo>
                  <a:pt x="2303" y="255"/>
                  <a:pt x="2328" y="270"/>
                  <a:pt x="2328" y="270"/>
                </a:cubicBezTo>
                <a:cubicBezTo>
                  <a:pt x="2350" y="303"/>
                  <a:pt x="2327" y="277"/>
                  <a:pt x="2358" y="294"/>
                </a:cubicBezTo>
                <a:cubicBezTo>
                  <a:pt x="2371" y="301"/>
                  <a:pt x="2394" y="318"/>
                  <a:pt x="2394" y="318"/>
                </a:cubicBezTo>
                <a:cubicBezTo>
                  <a:pt x="2428" y="370"/>
                  <a:pt x="2383" y="309"/>
                  <a:pt x="2424" y="342"/>
                </a:cubicBezTo>
                <a:cubicBezTo>
                  <a:pt x="2463" y="373"/>
                  <a:pt x="2409" y="351"/>
                  <a:pt x="2454" y="366"/>
                </a:cubicBezTo>
                <a:cubicBezTo>
                  <a:pt x="2469" y="388"/>
                  <a:pt x="2492" y="411"/>
                  <a:pt x="2514" y="426"/>
                </a:cubicBezTo>
                <a:cubicBezTo>
                  <a:pt x="2518" y="432"/>
                  <a:pt x="2521" y="439"/>
                  <a:pt x="2526" y="444"/>
                </a:cubicBezTo>
                <a:cubicBezTo>
                  <a:pt x="2531" y="449"/>
                  <a:pt x="2539" y="450"/>
                  <a:pt x="2544" y="456"/>
                </a:cubicBezTo>
                <a:cubicBezTo>
                  <a:pt x="2577" y="497"/>
                  <a:pt x="2516" y="452"/>
                  <a:pt x="2568" y="486"/>
                </a:cubicBezTo>
                <a:cubicBezTo>
                  <a:pt x="2582" y="527"/>
                  <a:pt x="2563" y="483"/>
                  <a:pt x="2592" y="516"/>
                </a:cubicBezTo>
                <a:cubicBezTo>
                  <a:pt x="2615" y="543"/>
                  <a:pt x="2618" y="563"/>
                  <a:pt x="2646" y="582"/>
                </a:cubicBezTo>
                <a:cubicBezTo>
                  <a:pt x="2654" y="606"/>
                  <a:pt x="2661" y="616"/>
                  <a:pt x="2682" y="630"/>
                </a:cubicBezTo>
                <a:cubicBezTo>
                  <a:pt x="2714" y="678"/>
                  <a:pt x="2743" y="733"/>
                  <a:pt x="2784" y="774"/>
                </a:cubicBezTo>
                <a:cubicBezTo>
                  <a:pt x="2795" y="806"/>
                  <a:pt x="2786" y="787"/>
                  <a:pt x="2814" y="828"/>
                </a:cubicBezTo>
                <a:cubicBezTo>
                  <a:pt x="2837" y="863"/>
                  <a:pt x="2852" y="913"/>
                  <a:pt x="2862" y="954"/>
                </a:cubicBezTo>
                <a:cubicBezTo>
                  <a:pt x="2871" y="990"/>
                  <a:pt x="2865" y="970"/>
                  <a:pt x="2880" y="1014"/>
                </a:cubicBezTo>
                <a:cubicBezTo>
                  <a:pt x="2884" y="1026"/>
                  <a:pt x="2892" y="1050"/>
                  <a:pt x="2892" y="1050"/>
                </a:cubicBezTo>
                <a:cubicBezTo>
                  <a:pt x="2904" y="1131"/>
                  <a:pt x="2891" y="1064"/>
                  <a:pt x="2904" y="1110"/>
                </a:cubicBezTo>
                <a:cubicBezTo>
                  <a:pt x="2908" y="1126"/>
                  <a:pt x="2916" y="1158"/>
                  <a:pt x="2916" y="1158"/>
                </a:cubicBezTo>
                <a:cubicBezTo>
                  <a:pt x="2920" y="1208"/>
                  <a:pt x="2928" y="1247"/>
                  <a:pt x="2934" y="1296"/>
                </a:cubicBezTo>
                <a:cubicBezTo>
                  <a:pt x="2941" y="1434"/>
                  <a:pt x="2940" y="1372"/>
                  <a:pt x="2940" y="1482"/>
                </a:cubicBezTo>
              </a:path>
            </a:pathLst>
          </a:custGeom>
          <a:noFill/>
          <a:ln w="50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3" descr="量角器歪"/>
          <p:cNvPicPr/>
          <p:nvPr/>
        </p:nvPicPr>
        <p:blipFill>
          <a:blip r:embed="rId1"/>
          <a:stretch/>
        </p:blipFill>
        <p:spPr>
          <a:xfrm>
            <a:off x="1627200" y="812880"/>
            <a:ext cx="5829120" cy="3863880"/>
          </a:xfrm>
          <a:prstGeom prst="rect">
            <a:avLst/>
          </a:prstGeom>
          <a:ln w="0">
            <a:noFill/>
          </a:ln>
        </p:spPr>
      </p:pic>
      <p:sp>
        <p:nvSpPr>
          <p:cNvPr id="178" name="Freeform 20"/>
          <p:cNvSpPr/>
          <p:nvPr/>
        </p:nvSpPr>
        <p:spPr>
          <a:xfrm>
            <a:off x="4410000" y="1438200"/>
            <a:ext cx="3048120" cy="24861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17600" y="17928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量角器量角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4633920" y="3651120"/>
            <a:ext cx="176040" cy="28440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950000" y="3378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298440" y="48117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量角器放在角的上面；使量角器的中心和角的顶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零度刻度线和角的一条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量角器"/>
          <p:cNvPicPr/>
          <p:nvPr/>
        </p:nvPicPr>
        <p:blipFill>
          <a:blip r:embed="rId1"/>
          <a:stretch/>
        </p:blipFill>
        <p:spPr>
          <a:xfrm>
            <a:off x="1397160" y="90000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90" name="Freeform 27"/>
          <p:cNvSpPr/>
          <p:nvPr/>
        </p:nvSpPr>
        <p:spPr>
          <a:xfrm>
            <a:off x="4410000" y="1425600"/>
            <a:ext cx="3048120" cy="24861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17600" y="35712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用量角器量角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"/>
          <p:cNvSpPr/>
          <p:nvPr/>
        </p:nvSpPr>
        <p:spPr>
          <a:xfrm>
            <a:off x="4633920" y="3651120"/>
            <a:ext cx="176040" cy="28440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950000" y="3378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298440" y="48117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量角器放在角的上面；使量角器的中心和角的顶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零度刻度线和角的一条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297000" y="5921280"/>
            <a:ext cx="83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角的另一条边所对的量角器上的刻度，就是这个角的度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4438800" y="3914640"/>
            <a:ext cx="300024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2"/>
          <p:cNvSpPr/>
          <p:nvPr/>
        </p:nvSpPr>
        <p:spPr>
          <a:xfrm>
            <a:off x="4438800" y="3914640"/>
            <a:ext cx="300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4438800" y="3905280"/>
            <a:ext cx="300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4448160" y="3895560"/>
            <a:ext cx="3019320" cy="972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6"/>
          <p:cNvSpPr/>
          <p:nvPr/>
        </p:nvSpPr>
        <p:spPr>
          <a:xfrm>
            <a:off x="5757840" y="2247840"/>
            <a:ext cx="795240" cy="1657440"/>
          </a:xfrm>
          <a:custGeom>
            <a:avLst/>
            <a:gdLst/>
            <a:ahLst/>
            <a:rect l="l" t="t" r="r" b="b"/>
            <a:pathLst>
              <a:path w="485" h="1044">
                <a:moveTo>
                  <a:pt x="485" y="1044"/>
                </a:moveTo>
                <a:cubicBezTo>
                  <a:pt x="477" y="945"/>
                  <a:pt x="477" y="832"/>
                  <a:pt x="445" y="736"/>
                </a:cubicBezTo>
                <a:cubicBezTo>
                  <a:pt x="437" y="681"/>
                  <a:pt x="427" y="625"/>
                  <a:pt x="409" y="572"/>
                </a:cubicBezTo>
                <a:cubicBezTo>
                  <a:pt x="404" y="558"/>
                  <a:pt x="401" y="536"/>
                  <a:pt x="393" y="524"/>
                </a:cubicBezTo>
                <a:cubicBezTo>
                  <a:pt x="381" y="506"/>
                  <a:pt x="377" y="482"/>
                  <a:pt x="365" y="464"/>
                </a:cubicBezTo>
                <a:cubicBezTo>
                  <a:pt x="355" y="448"/>
                  <a:pt x="345" y="433"/>
                  <a:pt x="337" y="416"/>
                </a:cubicBezTo>
                <a:cubicBezTo>
                  <a:pt x="319" y="376"/>
                  <a:pt x="316" y="326"/>
                  <a:pt x="277" y="300"/>
                </a:cubicBezTo>
                <a:cubicBezTo>
                  <a:pt x="272" y="285"/>
                  <a:pt x="262" y="261"/>
                  <a:pt x="249" y="252"/>
                </a:cubicBezTo>
                <a:cubicBezTo>
                  <a:pt x="241" y="247"/>
                  <a:pt x="225" y="236"/>
                  <a:pt x="225" y="236"/>
                </a:cubicBezTo>
                <a:cubicBezTo>
                  <a:pt x="216" y="209"/>
                  <a:pt x="228" y="238"/>
                  <a:pt x="209" y="216"/>
                </a:cubicBezTo>
                <a:cubicBezTo>
                  <a:pt x="194" y="199"/>
                  <a:pt x="194" y="183"/>
                  <a:pt x="177" y="172"/>
                </a:cubicBezTo>
                <a:cubicBezTo>
                  <a:pt x="174" y="168"/>
                  <a:pt x="172" y="163"/>
                  <a:pt x="169" y="160"/>
                </a:cubicBezTo>
                <a:cubicBezTo>
                  <a:pt x="166" y="157"/>
                  <a:pt x="160" y="156"/>
                  <a:pt x="157" y="152"/>
                </a:cubicBezTo>
                <a:cubicBezTo>
                  <a:pt x="141" y="134"/>
                  <a:pt x="140" y="120"/>
                  <a:pt x="121" y="108"/>
                </a:cubicBezTo>
                <a:cubicBezTo>
                  <a:pt x="103" y="80"/>
                  <a:pt x="114" y="87"/>
                  <a:pt x="93" y="80"/>
                </a:cubicBezTo>
                <a:cubicBezTo>
                  <a:pt x="86" y="69"/>
                  <a:pt x="65" y="52"/>
                  <a:pt x="53" y="48"/>
                </a:cubicBezTo>
                <a:cubicBezTo>
                  <a:pt x="50" y="44"/>
                  <a:pt x="49" y="39"/>
                  <a:pt x="45" y="36"/>
                </a:cubicBezTo>
                <a:cubicBezTo>
                  <a:pt x="38" y="32"/>
                  <a:pt x="21" y="28"/>
                  <a:pt x="21" y="28"/>
                </a:cubicBezTo>
                <a:cubicBezTo>
                  <a:pt x="7" y="49"/>
                  <a:pt x="9" y="60"/>
                  <a:pt x="5" y="88"/>
                </a:cubicBezTo>
                <a:cubicBezTo>
                  <a:pt x="4" y="97"/>
                  <a:pt x="1" y="125"/>
                  <a:pt x="1" y="116"/>
                </a:cubicBezTo>
                <a:cubicBezTo>
                  <a:pt x="1" y="104"/>
                  <a:pt x="0" y="33"/>
                  <a:pt x="13" y="20"/>
                </a:cubicBezTo>
                <a:cubicBezTo>
                  <a:pt x="21" y="12"/>
                  <a:pt x="34" y="14"/>
                  <a:pt x="45" y="12"/>
                </a:cubicBezTo>
                <a:cubicBezTo>
                  <a:pt x="77" y="7"/>
                  <a:pt x="105" y="3"/>
                  <a:pt x="137" y="0"/>
                </a:cubicBezTo>
                <a:cubicBezTo>
                  <a:pt x="95" y="14"/>
                  <a:pt x="71" y="20"/>
                  <a:pt x="25" y="2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WordArt 17"/>
          <p:cNvSpPr txBox="1"/>
          <p:nvPr/>
        </p:nvSpPr>
        <p:spPr>
          <a:xfrm rot="2100000">
            <a:off x="571464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3" name="WordArt 18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4" name="WordArt 19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5" name="WordArt 20"/>
          <p:cNvSpPr txBox="1"/>
          <p:nvPr/>
        </p:nvSpPr>
        <p:spPr>
          <a:xfrm rot="2100000">
            <a:off x="572112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6" name="WordArt 21"/>
          <p:cNvSpPr txBox="1"/>
          <p:nvPr/>
        </p:nvSpPr>
        <p:spPr>
          <a:xfrm rot="2100000">
            <a:off x="572112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7" name="WordArt 22"/>
          <p:cNvSpPr txBox="1"/>
          <p:nvPr/>
        </p:nvSpPr>
        <p:spPr>
          <a:xfrm rot="5400000">
            <a:off x="6563880" y="3782880"/>
            <a:ext cx="133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5%B0%8F%E8%9B%99%E5%8F%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量角器"/>
          <p:cNvPicPr/>
          <p:nvPr/>
        </p:nvPicPr>
        <p:blipFill>
          <a:blip r:embed="rId1"/>
          <a:stretch/>
        </p:blipFill>
        <p:spPr>
          <a:xfrm>
            <a:off x="1517760" y="12621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09" name="Line 3"/>
          <p:cNvSpPr/>
          <p:nvPr/>
        </p:nvSpPr>
        <p:spPr>
          <a:xfrm>
            <a:off x="1533600" y="4241880"/>
            <a:ext cx="3019320" cy="9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4"/>
          <p:cNvSpPr txBox="1"/>
          <p:nvPr/>
        </p:nvSpPr>
        <p:spPr>
          <a:xfrm rot="5400000">
            <a:off x="1958760" y="414648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211" name="Line 9"/>
          <p:cNvSpPr/>
          <p:nvPr/>
        </p:nvSpPr>
        <p:spPr>
          <a:xfrm flipV="1">
            <a:off x="4554360" y="1604880"/>
            <a:ext cx="1519560" cy="2640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WordArt 10"/>
          <p:cNvSpPr txBox="1"/>
          <p:nvPr/>
        </p:nvSpPr>
        <p:spPr>
          <a:xfrm rot="2100000">
            <a:off x="5614560" y="1977840"/>
            <a:ext cx="45252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20</a:t>
            </a:r>
            <a:endParaRPr b="0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3" name="Freeform 14"/>
          <p:cNvSpPr/>
          <p:nvPr/>
        </p:nvSpPr>
        <p:spPr>
          <a:xfrm>
            <a:off x="1657440" y="1386000"/>
            <a:ext cx="4306680" cy="2863800"/>
          </a:xfrm>
          <a:custGeom>
            <a:avLst/>
            <a:gdLst/>
            <a:ahLst/>
            <a:rect l="l" t="t" r="r" b="b"/>
            <a:pathLst>
              <a:path w="2713" h="1804">
                <a:moveTo>
                  <a:pt x="0" y="1797"/>
                </a:moveTo>
                <a:cubicBezTo>
                  <a:pt x="19" y="1741"/>
                  <a:pt x="0" y="1804"/>
                  <a:pt x="0" y="1671"/>
                </a:cubicBezTo>
                <a:cubicBezTo>
                  <a:pt x="0" y="1649"/>
                  <a:pt x="2" y="1627"/>
                  <a:pt x="6" y="1605"/>
                </a:cubicBezTo>
                <a:cubicBezTo>
                  <a:pt x="8" y="1593"/>
                  <a:pt x="18" y="1569"/>
                  <a:pt x="18" y="1569"/>
                </a:cubicBezTo>
                <a:cubicBezTo>
                  <a:pt x="44" y="1384"/>
                  <a:pt x="81" y="1175"/>
                  <a:pt x="186" y="1017"/>
                </a:cubicBezTo>
                <a:cubicBezTo>
                  <a:pt x="217" y="970"/>
                  <a:pt x="213" y="913"/>
                  <a:pt x="264" y="879"/>
                </a:cubicBezTo>
                <a:cubicBezTo>
                  <a:pt x="273" y="852"/>
                  <a:pt x="297" y="833"/>
                  <a:pt x="306" y="807"/>
                </a:cubicBezTo>
                <a:cubicBezTo>
                  <a:pt x="312" y="789"/>
                  <a:pt x="321" y="769"/>
                  <a:pt x="330" y="753"/>
                </a:cubicBezTo>
                <a:cubicBezTo>
                  <a:pt x="337" y="740"/>
                  <a:pt x="342" y="725"/>
                  <a:pt x="354" y="717"/>
                </a:cubicBezTo>
                <a:cubicBezTo>
                  <a:pt x="366" y="709"/>
                  <a:pt x="390" y="693"/>
                  <a:pt x="390" y="693"/>
                </a:cubicBezTo>
                <a:cubicBezTo>
                  <a:pt x="398" y="669"/>
                  <a:pt x="423" y="647"/>
                  <a:pt x="444" y="633"/>
                </a:cubicBezTo>
                <a:cubicBezTo>
                  <a:pt x="459" y="611"/>
                  <a:pt x="482" y="588"/>
                  <a:pt x="504" y="573"/>
                </a:cubicBezTo>
                <a:cubicBezTo>
                  <a:pt x="512" y="561"/>
                  <a:pt x="536" y="534"/>
                  <a:pt x="546" y="525"/>
                </a:cubicBezTo>
                <a:cubicBezTo>
                  <a:pt x="557" y="516"/>
                  <a:pt x="582" y="501"/>
                  <a:pt x="582" y="501"/>
                </a:cubicBezTo>
                <a:cubicBezTo>
                  <a:pt x="586" y="495"/>
                  <a:pt x="588" y="488"/>
                  <a:pt x="594" y="483"/>
                </a:cubicBezTo>
                <a:cubicBezTo>
                  <a:pt x="599" y="479"/>
                  <a:pt x="608" y="481"/>
                  <a:pt x="612" y="477"/>
                </a:cubicBezTo>
                <a:cubicBezTo>
                  <a:pt x="616" y="473"/>
                  <a:pt x="614" y="464"/>
                  <a:pt x="618" y="459"/>
                </a:cubicBezTo>
                <a:cubicBezTo>
                  <a:pt x="623" y="453"/>
                  <a:pt x="630" y="451"/>
                  <a:pt x="636" y="447"/>
                </a:cubicBezTo>
                <a:cubicBezTo>
                  <a:pt x="657" y="416"/>
                  <a:pt x="683" y="398"/>
                  <a:pt x="714" y="381"/>
                </a:cubicBezTo>
                <a:cubicBezTo>
                  <a:pt x="727" y="374"/>
                  <a:pt x="750" y="357"/>
                  <a:pt x="750" y="357"/>
                </a:cubicBezTo>
                <a:cubicBezTo>
                  <a:pt x="779" y="314"/>
                  <a:pt x="738" y="367"/>
                  <a:pt x="798" y="327"/>
                </a:cubicBezTo>
                <a:cubicBezTo>
                  <a:pt x="810" y="319"/>
                  <a:pt x="834" y="303"/>
                  <a:pt x="834" y="303"/>
                </a:cubicBezTo>
                <a:cubicBezTo>
                  <a:pt x="856" y="270"/>
                  <a:pt x="833" y="296"/>
                  <a:pt x="864" y="279"/>
                </a:cubicBezTo>
                <a:cubicBezTo>
                  <a:pt x="877" y="272"/>
                  <a:pt x="900" y="255"/>
                  <a:pt x="900" y="255"/>
                </a:cubicBezTo>
                <a:cubicBezTo>
                  <a:pt x="925" y="218"/>
                  <a:pt x="980" y="203"/>
                  <a:pt x="1020" y="183"/>
                </a:cubicBezTo>
                <a:cubicBezTo>
                  <a:pt x="1044" y="171"/>
                  <a:pt x="1068" y="159"/>
                  <a:pt x="1092" y="147"/>
                </a:cubicBezTo>
                <a:cubicBezTo>
                  <a:pt x="1111" y="138"/>
                  <a:pt x="1133" y="138"/>
                  <a:pt x="1152" y="129"/>
                </a:cubicBezTo>
                <a:cubicBezTo>
                  <a:pt x="1240" y="85"/>
                  <a:pt x="1348" y="53"/>
                  <a:pt x="1446" y="39"/>
                </a:cubicBezTo>
                <a:cubicBezTo>
                  <a:pt x="1517" y="15"/>
                  <a:pt x="1593" y="20"/>
                  <a:pt x="1668" y="15"/>
                </a:cubicBezTo>
                <a:cubicBezTo>
                  <a:pt x="1713" y="7"/>
                  <a:pt x="1722" y="3"/>
                  <a:pt x="1770" y="9"/>
                </a:cubicBezTo>
                <a:cubicBezTo>
                  <a:pt x="1843" y="0"/>
                  <a:pt x="1919" y="12"/>
                  <a:pt x="1992" y="15"/>
                </a:cubicBezTo>
                <a:cubicBezTo>
                  <a:pt x="2054" y="27"/>
                  <a:pt x="2115" y="44"/>
                  <a:pt x="2178" y="51"/>
                </a:cubicBezTo>
                <a:cubicBezTo>
                  <a:pt x="2222" y="62"/>
                  <a:pt x="2265" y="67"/>
                  <a:pt x="2310" y="75"/>
                </a:cubicBezTo>
                <a:cubicBezTo>
                  <a:pt x="2385" y="89"/>
                  <a:pt x="2465" y="123"/>
                  <a:pt x="2538" y="147"/>
                </a:cubicBezTo>
                <a:cubicBezTo>
                  <a:pt x="2545" y="149"/>
                  <a:pt x="2549" y="156"/>
                  <a:pt x="2556" y="159"/>
                </a:cubicBezTo>
                <a:cubicBezTo>
                  <a:pt x="2581" y="170"/>
                  <a:pt x="2605" y="176"/>
                  <a:pt x="2628" y="189"/>
                </a:cubicBezTo>
                <a:cubicBezTo>
                  <a:pt x="2641" y="196"/>
                  <a:pt x="2650" y="208"/>
                  <a:pt x="2664" y="213"/>
                </a:cubicBezTo>
                <a:cubicBezTo>
                  <a:pt x="2676" y="217"/>
                  <a:pt x="2700" y="225"/>
                  <a:pt x="2700" y="225"/>
                </a:cubicBezTo>
                <a:cubicBezTo>
                  <a:pt x="2713" y="245"/>
                  <a:pt x="2712" y="250"/>
                  <a:pt x="2712" y="237"/>
                </a:cubicBezTo>
              </a:path>
            </a:pathLst>
          </a:custGeom>
          <a:noFill/>
          <a:ln w="507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4181400" y="3884760"/>
            <a:ext cx="542880" cy="353880"/>
          </a:xfrm>
          <a:custGeom>
            <a:avLst/>
            <a:gdLst/>
            <a:ahLst/>
            <a:rect l="l" t="t" r="r" b="b"/>
            <a:pathLst>
              <a:path w="342" h="223">
                <a:moveTo>
                  <a:pt x="0" y="223"/>
                </a:moveTo>
                <a:cubicBezTo>
                  <a:pt x="13" y="172"/>
                  <a:pt x="25" y="147"/>
                  <a:pt x="54" y="103"/>
                </a:cubicBezTo>
                <a:cubicBezTo>
                  <a:pt x="58" y="98"/>
                  <a:pt x="66" y="100"/>
                  <a:pt x="72" y="97"/>
                </a:cubicBezTo>
                <a:cubicBezTo>
                  <a:pt x="85" y="90"/>
                  <a:pt x="96" y="81"/>
                  <a:pt x="108" y="73"/>
                </a:cubicBezTo>
                <a:cubicBezTo>
                  <a:pt x="132" y="57"/>
                  <a:pt x="153" y="40"/>
                  <a:pt x="180" y="31"/>
                </a:cubicBezTo>
                <a:cubicBezTo>
                  <a:pt x="339" y="37"/>
                  <a:pt x="299" y="0"/>
                  <a:pt x="342" y="43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565360" y="8920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教学目标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36840" y="2889360"/>
            <a:ext cx="5460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0b20"/>
                </a:solidFill>
                <a:latin typeface="Times New Roman"/>
                <a:ea typeface="宋体"/>
              </a:rPr>
              <a:t>本节课我们主要来学习角的度量，同学们要掌握使用量角器测量角度的方法和步骤，能够正确的使用量角器测量角的度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3" name="%E6%8C%89%E9%92%A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量角器"/>
          <p:cNvPicPr/>
          <p:nvPr/>
        </p:nvPicPr>
        <p:blipFill>
          <a:blip r:embed="rId1"/>
          <a:stretch/>
        </p:blipFill>
        <p:spPr>
          <a:xfrm>
            <a:off x="623880" y="267012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3"/>
          <p:cNvSpPr/>
          <p:nvPr/>
        </p:nvSpPr>
        <p:spPr>
          <a:xfrm>
            <a:off x="3638520" y="2465280"/>
            <a:ext cx="3340080" cy="3417840"/>
          </a:xfrm>
          <a:custGeom>
            <a:avLst/>
            <a:gdLst/>
            <a:ahLst/>
            <a:rect l="l" t="t" r="r" b="b"/>
            <a:pathLst>
              <a:path w="2104" h="2153">
                <a:moveTo>
                  <a:pt x="350" y="0"/>
                </a:moveTo>
                <a:lnTo>
                  <a:pt x="0" y="2153"/>
                </a:lnTo>
                <a:lnTo>
                  <a:pt x="2104" y="215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5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03"/>
          <p:cNvPicPr/>
          <p:nvPr/>
        </p:nvPicPr>
        <p:blipFill>
          <a:blip r:embed="rId2"/>
          <a:stretch/>
        </p:blipFill>
        <p:spPr>
          <a:xfrm>
            <a:off x="7529400" y="1324080"/>
            <a:ext cx="1121040" cy="9493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0"/>
          <p:cNvSpPr/>
          <p:nvPr/>
        </p:nvSpPr>
        <p:spPr>
          <a:xfrm>
            <a:off x="4371840" y="1193760"/>
            <a:ext cx="252432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角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2"/>
          <p:cNvSpPr/>
          <p:nvPr/>
        </p:nvSpPr>
        <p:spPr>
          <a:xfrm>
            <a:off x="3695760" y="5505480"/>
            <a:ext cx="352440" cy="390600"/>
          </a:xfrm>
          <a:custGeom>
            <a:avLst/>
            <a:gdLst/>
            <a:ahLst/>
            <a:rect l="l" t="t" r="r" b="b"/>
            <a:pathLst>
              <a:path w="222" h="246">
                <a:moveTo>
                  <a:pt x="0" y="0"/>
                </a:moveTo>
                <a:cubicBezTo>
                  <a:pt x="46" y="5"/>
                  <a:pt x="62" y="1"/>
                  <a:pt x="96" y="24"/>
                </a:cubicBezTo>
                <a:cubicBezTo>
                  <a:pt x="118" y="57"/>
                  <a:pt x="95" y="31"/>
                  <a:pt x="126" y="48"/>
                </a:cubicBezTo>
                <a:cubicBezTo>
                  <a:pt x="139" y="55"/>
                  <a:pt x="162" y="72"/>
                  <a:pt x="162" y="72"/>
                </a:cubicBezTo>
                <a:cubicBezTo>
                  <a:pt x="169" y="92"/>
                  <a:pt x="185" y="106"/>
                  <a:pt x="192" y="126"/>
                </a:cubicBezTo>
                <a:cubicBezTo>
                  <a:pt x="205" y="165"/>
                  <a:pt x="222" y="204"/>
                  <a:pt x="222" y="24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3" name="%E6%8C%89%E9%92%AE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C%89%E9%92%A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6" descr="量角器"/>
          <p:cNvPicPr/>
          <p:nvPr/>
        </p:nvPicPr>
        <p:blipFill>
          <a:blip r:embed="rId1"/>
          <a:stretch/>
        </p:blipFill>
        <p:spPr>
          <a:xfrm>
            <a:off x="343080" y="111924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7"/>
          <p:cNvSpPr/>
          <p:nvPr/>
        </p:nvSpPr>
        <p:spPr>
          <a:xfrm>
            <a:off x="276120" y="1092240"/>
            <a:ext cx="3081600" cy="3060720"/>
          </a:xfrm>
          <a:custGeom>
            <a:avLst/>
            <a:gdLst/>
            <a:ahLst/>
            <a:rect l="l" t="t" r="r" b="b"/>
            <a:pathLst>
              <a:path w="1941" h="1928">
                <a:moveTo>
                  <a:pt x="0" y="1928"/>
                </a:moveTo>
                <a:lnTo>
                  <a:pt x="1941" y="1916"/>
                </a:lnTo>
                <a:lnTo>
                  <a:pt x="12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8" descr="20"/>
          <p:cNvPicPr/>
          <p:nvPr/>
        </p:nvPicPr>
        <p:blipFill>
          <a:blip r:embed="rId2"/>
          <a:stretch/>
        </p:blipFill>
        <p:spPr>
          <a:xfrm flipH="1">
            <a:off x="7396200" y="5067360"/>
            <a:ext cx="1349280" cy="15318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9"/>
          <p:cNvSpPr/>
          <p:nvPr/>
        </p:nvSpPr>
        <p:spPr>
          <a:xfrm>
            <a:off x="4470480" y="459252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角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0"/>
          <p:cNvSpPr/>
          <p:nvPr/>
        </p:nvSpPr>
        <p:spPr>
          <a:xfrm>
            <a:off x="2962440" y="3753000"/>
            <a:ext cx="247320" cy="390240"/>
          </a:xfrm>
          <a:custGeom>
            <a:avLst/>
            <a:gdLst/>
            <a:ahLst/>
            <a:rect l="l" t="t" r="r" b="b"/>
            <a:pathLst>
              <a:path w="156" h="246">
                <a:moveTo>
                  <a:pt x="156" y="0"/>
                </a:moveTo>
                <a:cubicBezTo>
                  <a:pt x="123" y="22"/>
                  <a:pt x="99" y="50"/>
                  <a:pt x="66" y="72"/>
                </a:cubicBezTo>
                <a:cubicBezTo>
                  <a:pt x="31" y="125"/>
                  <a:pt x="0" y="181"/>
                  <a:pt x="0" y="24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3" name="%E6%8C%89%E9%92%AE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91%BC%E5%91%B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3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6" descr="量角器"/>
          <p:cNvPicPr/>
          <p:nvPr/>
        </p:nvPicPr>
        <p:blipFill>
          <a:blip r:embed="rId1"/>
          <a:stretch/>
        </p:blipFill>
        <p:spPr>
          <a:xfrm>
            <a:off x="641520" y="1179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238" name="Freeform 7"/>
          <p:cNvSpPr/>
          <p:nvPr/>
        </p:nvSpPr>
        <p:spPr>
          <a:xfrm>
            <a:off x="3657600" y="1947960"/>
            <a:ext cx="3121200" cy="2227320"/>
          </a:xfrm>
          <a:custGeom>
            <a:avLst/>
            <a:gdLst/>
            <a:ahLst/>
            <a:rect l="l" t="t" r="r" b="b"/>
            <a:pathLst>
              <a:path w="1966" h="1403">
                <a:moveTo>
                  <a:pt x="1966" y="1403"/>
                </a:moveTo>
                <a:lnTo>
                  <a:pt x="0" y="1403"/>
                </a:lnTo>
                <a:lnTo>
                  <a:pt x="1653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729320" y="475128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角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0"/>
          <p:cNvSpPr/>
          <p:nvPr/>
        </p:nvSpPr>
        <p:spPr>
          <a:xfrm>
            <a:off x="4010040" y="3886200"/>
            <a:ext cx="114120" cy="295200"/>
          </a:xfrm>
          <a:custGeom>
            <a:avLst/>
            <a:gdLst/>
            <a:ahLst/>
            <a:rect l="l" t="t" r="r" b="b"/>
            <a:pathLst>
              <a:path w="72" h="186">
                <a:moveTo>
                  <a:pt x="0" y="0"/>
                </a:moveTo>
                <a:cubicBezTo>
                  <a:pt x="39" y="26"/>
                  <a:pt x="59" y="86"/>
                  <a:pt x="66" y="132"/>
                </a:cubicBezTo>
                <a:cubicBezTo>
                  <a:pt x="69" y="150"/>
                  <a:pt x="72" y="186"/>
                  <a:pt x="72" y="18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11" descr="图片3"/>
          <p:cNvPicPr/>
          <p:nvPr/>
        </p:nvPicPr>
        <p:blipFill>
          <a:blip r:embed="rId2"/>
          <a:srcRect l="13523" t="9525" r="12237" b="9525"/>
          <a:stretch/>
        </p:blipFill>
        <p:spPr>
          <a:xfrm>
            <a:off x="7480440" y="5262480"/>
            <a:ext cx="836640" cy="12906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3" name="%E6%8C%89%E9%92%AE.wav"/>
      </p:stSnd>
    </p:sndAc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5%91%BC%E5%91%B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量角器"/>
          <p:cNvPicPr/>
          <p:nvPr/>
        </p:nvPicPr>
        <p:blipFill>
          <a:blip r:embed="rId1"/>
          <a:stretch/>
        </p:blipFill>
        <p:spPr>
          <a:xfrm>
            <a:off x="403200" y="2370240"/>
            <a:ext cx="3897360" cy="22334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"/>
          <p:cNvSpPr/>
          <p:nvPr/>
        </p:nvSpPr>
        <p:spPr>
          <a:xfrm>
            <a:off x="477720" y="3985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观察与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477720" y="1192320"/>
            <a:ext cx="76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大小与角的两边画出的长短有关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8" descr="量角器"/>
          <p:cNvPicPr/>
          <p:nvPr/>
        </p:nvPicPr>
        <p:blipFill>
          <a:blip r:embed="rId2"/>
          <a:stretch/>
        </p:blipFill>
        <p:spPr>
          <a:xfrm>
            <a:off x="4489560" y="2362320"/>
            <a:ext cx="3897360" cy="2233440"/>
          </a:xfrm>
          <a:prstGeom prst="rect">
            <a:avLst/>
          </a:prstGeom>
          <a:ln w="0">
            <a:noFill/>
          </a:ln>
        </p:spPr>
      </p:pic>
      <p:sp>
        <p:nvSpPr>
          <p:cNvPr id="246" name="Freeform 11"/>
          <p:cNvSpPr/>
          <p:nvPr/>
        </p:nvSpPr>
        <p:spPr>
          <a:xfrm>
            <a:off x="2352600" y="3427560"/>
            <a:ext cx="1114560" cy="885600"/>
          </a:xfrm>
          <a:custGeom>
            <a:avLst/>
            <a:gdLst/>
            <a:ahLst/>
            <a:rect l="l" t="t" r="r" b="b"/>
            <a:pathLst>
              <a:path w="702" h="558">
                <a:moveTo>
                  <a:pt x="312" y="0"/>
                </a:moveTo>
                <a:lnTo>
                  <a:pt x="0" y="558"/>
                </a:lnTo>
                <a:lnTo>
                  <a:pt x="702" y="55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571680" y="5340240"/>
            <a:ext cx="81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角的大小与角的两边画出的长短</a:t>
            </a:r>
            <a:r>
              <a:rPr b="0" lang="zh-CN" sz="3200" spc="-1" strike="noStrike">
                <a:solidFill>
                  <a:srgbClr val="e90b20"/>
                </a:solidFill>
                <a:latin typeface="Times New Roman"/>
                <a:ea typeface="黑体"/>
              </a:rPr>
              <a:t>没有关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8"/>
          <p:cNvSpPr/>
          <p:nvPr/>
        </p:nvSpPr>
        <p:spPr>
          <a:xfrm>
            <a:off x="6438960" y="2502000"/>
            <a:ext cx="1949400" cy="1803240"/>
          </a:xfrm>
          <a:custGeom>
            <a:avLst/>
            <a:gdLst/>
            <a:ahLst/>
            <a:rect l="l" t="t" r="r" b="b"/>
            <a:pathLst>
              <a:path w="1228" h="1136">
                <a:moveTo>
                  <a:pt x="640" y="0"/>
                </a:moveTo>
                <a:lnTo>
                  <a:pt x="0" y="1136"/>
                </a:lnTo>
                <a:lnTo>
                  <a:pt x="1228" y="113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2514600" y="4029120"/>
            <a:ext cx="190440" cy="285840"/>
          </a:xfrm>
          <a:custGeom>
            <a:avLst/>
            <a:gdLst/>
            <a:ahLst/>
            <a:rect l="l" t="t" r="r" b="b"/>
            <a:pathLst>
              <a:path w="120" h="180">
                <a:moveTo>
                  <a:pt x="0" y="0"/>
                </a:moveTo>
                <a:cubicBezTo>
                  <a:pt x="12" y="4"/>
                  <a:pt x="25" y="5"/>
                  <a:pt x="36" y="12"/>
                </a:cubicBezTo>
                <a:cubicBezTo>
                  <a:pt x="48" y="20"/>
                  <a:pt x="72" y="36"/>
                  <a:pt x="72" y="36"/>
                </a:cubicBezTo>
                <a:cubicBezTo>
                  <a:pt x="83" y="68"/>
                  <a:pt x="103" y="93"/>
                  <a:pt x="114" y="126"/>
                </a:cubicBezTo>
                <a:cubicBezTo>
                  <a:pt x="120" y="143"/>
                  <a:pt x="114" y="162"/>
                  <a:pt x="114" y="18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20"/>
          <p:cNvSpPr/>
          <p:nvPr/>
        </p:nvSpPr>
        <p:spPr>
          <a:xfrm>
            <a:off x="6620040" y="4000680"/>
            <a:ext cx="180720" cy="295200"/>
          </a:xfrm>
          <a:custGeom>
            <a:avLst/>
            <a:gdLst/>
            <a:ahLst/>
            <a:rect l="l" t="t" r="r" b="b"/>
            <a:pathLst>
              <a:path w="114" h="186">
                <a:moveTo>
                  <a:pt x="0" y="0"/>
                </a:moveTo>
                <a:cubicBezTo>
                  <a:pt x="65" y="22"/>
                  <a:pt x="12" y="10"/>
                  <a:pt x="60" y="42"/>
                </a:cubicBezTo>
                <a:cubicBezTo>
                  <a:pt x="71" y="74"/>
                  <a:pt x="91" y="99"/>
                  <a:pt x="102" y="132"/>
                </a:cubicBezTo>
                <a:cubicBezTo>
                  <a:pt x="108" y="149"/>
                  <a:pt x="114" y="186"/>
                  <a:pt x="114" y="18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3" name="%E6%8C%89%E9%92%AE.wav"/>
      </p:stSnd>
    </p:sndAc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477720" y="3985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猜一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477720" y="1192320"/>
            <a:ext cx="81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猜出这几个角的度数吗？并说明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4" descr="量角器"/>
          <p:cNvPicPr/>
          <p:nvPr/>
        </p:nvPicPr>
        <p:blipFill>
          <a:blip r:embed="rId1"/>
          <a:stretch/>
        </p:blipFill>
        <p:spPr>
          <a:xfrm>
            <a:off x="403200" y="3005280"/>
            <a:ext cx="3897360" cy="2233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量角器"/>
          <p:cNvPicPr/>
          <p:nvPr/>
        </p:nvPicPr>
        <p:blipFill>
          <a:blip r:embed="rId2"/>
          <a:stretch/>
        </p:blipFill>
        <p:spPr>
          <a:xfrm>
            <a:off x="4489560" y="2997360"/>
            <a:ext cx="3897360" cy="2233440"/>
          </a:xfrm>
          <a:prstGeom prst="rect">
            <a:avLst/>
          </a:prstGeom>
          <a:ln w="0">
            <a:noFill/>
          </a:ln>
        </p:spPr>
      </p:pic>
      <p:sp>
        <p:nvSpPr>
          <p:cNvPr id="255" name="Freeform 6"/>
          <p:cNvSpPr/>
          <p:nvPr/>
        </p:nvSpPr>
        <p:spPr>
          <a:xfrm>
            <a:off x="304920" y="3990960"/>
            <a:ext cx="2047680" cy="971640"/>
          </a:xfrm>
          <a:custGeom>
            <a:avLst/>
            <a:gdLst/>
            <a:ahLst/>
            <a:rect l="l" t="t" r="r" b="b"/>
            <a:pathLst>
              <a:path w="1290" h="612">
                <a:moveTo>
                  <a:pt x="216" y="0"/>
                </a:moveTo>
                <a:lnTo>
                  <a:pt x="1290" y="612"/>
                </a:lnTo>
                <a:lnTo>
                  <a:pt x="0" y="6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8"/>
          <p:cNvSpPr/>
          <p:nvPr/>
        </p:nvSpPr>
        <p:spPr>
          <a:xfrm>
            <a:off x="6454800" y="3044880"/>
            <a:ext cx="1755720" cy="1895400"/>
          </a:xfrm>
          <a:custGeom>
            <a:avLst/>
            <a:gdLst/>
            <a:ahLst/>
            <a:rect l="l" t="t" r="r" b="b"/>
            <a:pathLst>
              <a:path w="546" h="1290">
                <a:moveTo>
                  <a:pt x="546" y="1284"/>
                </a:moveTo>
                <a:lnTo>
                  <a:pt x="0" y="1290"/>
                </a:lnTo>
                <a:lnTo>
                  <a:pt x="468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13"/>
          <p:cNvSpPr/>
          <p:nvPr/>
        </p:nvSpPr>
        <p:spPr>
          <a:xfrm>
            <a:off x="1857240" y="472140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19" y="44"/>
                  <a:pt x="0" y="91"/>
                  <a:pt x="0" y="14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1212840" y="3919680"/>
            <a:ext cx="2390760" cy="1409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14"/>
          <p:cNvSpPr/>
          <p:nvPr/>
        </p:nvSpPr>
        <p:spPr>
          <a:xfrm>
            <a:off x="6664320" y="4676760"/>
            <a:ext cx="108000" cy="273240"/>
          </a:xfrm>
          <a:custGeom>
            <a:avLst/>
            <a:gdLst/>
            <a:ahLst/>
            <a:rect l="l" t="t" r="r" b="b"/>
            <a:pathLst>
              <a:path w="132" h="228">
                <a:moveTo>
                  <a:pt x="0" y="0"/>
                </a:moveTo>
                <a:cubicBezTo>
                  <a:pt x="18" y="12"/>
                  <a:pt x="36" y="18"/>
                  <a:pt x="54" y="30"/>
                </a:cubicBezTo>
                <a:cubicBezTo>
                  <a:pt x="86" y="78"/>
                  <a:pt x="44" y="20"/>
                  <a:pt x="84" y="60"/>
                </a:cubicBezTo>
                <a:cubicBezTo>
                  <a:pt x="101" y="77"/>
                  <a:pt x="92" y="76"/>
                  <a:pt x="102" y="96"/>
                </a:cubicBezTo>
                <a:cubicBezTo>
                  <a:pt x="126" y="144"/>
                  <a:pt x="132" y="173"/>
                  <a:pt x="132" y="22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5257800" y="3914640"/>
            <a:ext cx="2390760" cy="14097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3" name="%E6%8C%89%E9%92%AE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051008korea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图片3"/>
          <p:cNvPicPr/>
          <p:nvPr/>
        </p:nvPicPr>
        <p:blipFill>
          <a:blip r:embed="rId2"/>
          <a:srcRect l="13523" t="9525" r="12237" b="9525"/>
          <a:stretch/>
        </p:blipFill>
        <p:spPr>
          <a:xfrm>
            <a:off x="1828800" y="2971800"/>
            <a:ext cx="49356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图片2"/>
          <p:cNvPicPr/>
          <p:nvPr/>
        </p:nvPicPr>
        <p:blipFill>
          <a:blip r:embed="rId3"/>
          <a:stretch/>
        </p:blipFill>
        <p:spPr>
          <a:xfrm>
            <a:off x="7812000" y="3124080"/>
            <a:ext cx="1332000" cy="186876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5"/>
          <p:cNvSpPr/>
          <p:nvPr/>
        </p:nvSpPr>
        <p:spPr>
          <a:xfrm>
            <a:off x="6629400" y="1066680"/>
            <a:ext cx="2057400" cy="2133720"/>
          </a:xfrm>
          <a:prstGeom prst="flowChartMagneticTape">
            <a:avLst/>
          </a:prstGeom>
          <a:solidFill>
            <a:srgbClr val="ff0000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6934320" y="1676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同学们再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2133720" y="1676520"/>
            <a:ext cx="1600200" cy="1143000"/>
          </a:xfrm>
          <a:prstGeom prst="cloudCallout">
            <a:avLst>
              <a:gd name="adj1" fmla="val -43750"/>
              <a:gd name="adj2" fmla="val 67361"/>
            </a:avLst>
          </a:prstGeom>
          <a:solidFill>
            <a:srgbClr val="00ff00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再见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WordArt 8" descr=""/>
          <p:cNvPicPr/>
          <p:nvPr/>
        </p:nvPicPr>
        <p:blipFill>
          <a:blip r:embed="rId4"/>
          <a:stretch/>
        </p:blipFill>
        <p:spPr>
          <a:xfrm>
            <a:off x="2975040" y="4809960"/>
            <a:ext cx="3120840" cy="185292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5" name="%E6%8C%89%E9%92%A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3830760"/>
          </a:xfrm>
          <a:prstGeom prst="rect">
            <a:avLst/>
          </a:prstGeom>
          <a:ln w="0">
            <a:noFill/>
          </a:ln>
        </p:spPr>
      </p:pic>
      <p:sp>
        <p:nvSpPr>
          <p:cNvPr id="46" name="Line 6"/>
          <p:cNvSpPr/>
          <p:nvPr/>
        </p:nvSpPr>
        <p:spPr>
          <a:xfrm flipV="1">
            <a:off x="4533840" y="254160"/>
            <a:ext cx="0" cy="354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7"/>
          <p:cNvSpPr/>
          <p:nvPr/>
        </p:nvSpPr>
        <p:spPr>
          <a:xfrm>
            <a:off x="4495680" y="3746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4530960" y="306000"/>
            <a:ext cx="615600" cy="348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"/>
          <p:cNvSpPr/>
          <p:nvPr/>
        </p:nvSpPr>
        <p:spPr>
          <a:xfrm flipV="1">
            <a:off x="4536720" y="421920"/>
            <a:ext cx="1224720" cy="33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4547160" y="663480"/>
            <a:ext cx="1821960" cy="31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1"/>
          <p:cNvSpPr/>
          <p:nvPr/>
        </p:nvSpPr>
        <p:spPr>
          <a:xfrm flipV="1">
            <a:off x="4549680" y="1007280"/>
            <a:ext cx="2352960" cy="277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 flipH="1">
            <a:off x="4559760" y="1405080"/>
            <a:ext cx="2788560" cy="23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4598640" y="1964520"/>
            <a:ext cx="3131280" cy="18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4"/>
          <p:cNvSpPr/>
          <p:nvPr/>
        </p:nvSpPr>
        <p:spPr>
          <a:xfrm flipH="1">
            <a:off x="4620600" y="2522880"/>
            <a:ext cx="3417120" cy="125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 flipV="1">
            <a:off x="4604040" y="3150360"/>
            <a:ext cx="3602880" cy="62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 flipH="1" flipV="1">
            <a:off x="1856160" y="1571040"/>
            <a:ext cx="2663640" cy="223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7"/>
          <p:cNvSpPr/>
          <p:nvPr/>
        </p:nvSpPr>
        <p:spPr>
          <a:xfrm flipH="1" flipV="1">
            <a:off x="2771640" y="770760"/>
            <a:ext cx="1771920" cy="306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8"/>
          <p:cNvSpPr/>
          <p:nvPr/>
        </p:nvSpPr>
        <p:spPr>
          <a:xfrm flipH="1" flipV="1">
            <a:off x="3318480" y="487440"/>
            <a:ext cx="1211760" cy="332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9"/>
          <p:cNvSpPr/>
          <p:nvPr/>
        </p:nvSpPr>
        <p:spPr>
          <a:xfrm flipH="1" flipV="1">
            <a:off x="3921480" y="306000"/>
            <a:ext cx="615600" cy="348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1563120" y="2115360"/>
            <a:ext cx="2979720" cy="170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1"/>
          <p:cNvSpPr/>
          <p:nvPr/>
        </p:nvSpPr>
        <p:spPr>
          <a:xfrm flipH="1" flipV="1">
            <a:off x="2303280" y="1162800"/>
            <a:ext cx="2213280" cy="263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1162440" y="3202200"/>
            <a:ext cx="3363120" cy="59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3"/>
          <p:cNvSpPr/>
          <p:nvPr/>
        </p:nvSpPr>
        <p:spPr>
          <a:xfrm flipH="1" flipV="1">
            <a:off x="1305000" y="2636640"/>
            <a:ext cx="3228120" cy="117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1689120" y="4076640"/>
            <a:ext cx="544824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将这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度的小角装在一个半圆内，小角的顶点和圆心重合，看一看这个半圆内能装多少个这样的小角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203040" y="4457880"/>
            <a:ext cx="11304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228600" y="5816520"/>
            <a:ext cx="1181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想一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1866960" y="5524560"/>
            <a:ext cx="358128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些小角总共是多少度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半圆是多少度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7696080" y="443232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b20"/>
                </a:solidFill>
                <a:latin typeface="华文彩云"/>
              </a:rPr>
              <a:t>18</a:t>
            </a:r>
            <a:r>
              <a:rPr b="1" lang="zh-CN" sz="3200" spc="-1" strike="noStrike">
                <a:solidFill>
                  <a:srgbClr val="e90b20"/>
                </a:solidFill>
                <a:latin typeface="华文彩云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7543800" y="5753160"/>
            <a:ext cx="13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0b20"/>
                </a:solidFill>
                <a:latin typeface="华文彩云"/>
              </a:rPr>
              <a:t>180</a:t>
            </a:r>
            <a:r>
              <a:rPr b="1" lang="zh-CN" sz="3200" spc="-1" strike="noStrike">
                <a:solidFill>
                  <a:srgbClr val="e90b20"/>
                </a:solidFill>
                <a:latin typeface="华文彩云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1" descr="SC0032"/>
          <p:cNvPicPr/>
          <p:nvPr/>
        </p:nvPicPr>
        <p:blipFill>
          <a:blip r:embed="rId2"/>
          <a:stretch/>
        </p:blipFill>
        <p:spPr>
          <a:xfrm>
            <a:off x="343080" y="533520"/>
            <a:ext cx="1076040" cy="100332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3" name="%E6%8C%89%E9%92%A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Line 4"/>
          <p:cNvSpPr/>
          <p:nvPr/>
        </p:nvSpPr>
        <p:spPr>
          <a:xfrm>
            <a:off x="3733920" y="218448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3732120" y="1335600"/>
            <a:ext cx="4727880" cy="83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8"/>
          <p:cNvSpPr/>
          <p:nvPr/>
        </p:nvSpPr>
        <p:spPr>
          <a:xfrm rot="808200">
            <a:off x="8354520" y="1341000"/>
            <a:ext cx="262080" cy="838440"/>
          </a:xfrm>
          <a:custGeom>
            <a:avLst/>
            <a:gdLst/>
            <a:ahLst/>
            <a:rect l="l" t="t" r="r" b="b"/>
            <a:pathLst>
              <a:path w="40" h="528">
                <a:moveTo>
                  <a:pt x="0" y="0"/>
                </a:moveTo>
                <a:cubicBezTo>
                  <a:pt x="12" y="80"/>
                  <a:pt x="25" y="160"/>
                  <a:pt x="32" y="248"/>
                </a:cubicBezTo>
                <a:cubicBezTo>
                  <a:pt x="39" y="336"/>
                  <a:pt x="39" y="432"/>
                  <a:pt x="40" y="52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3769200" y="1762200"/>
            <a:ext cx="478872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3795840" y="2104920"/>
            <a:ext cx="4763880" cy="54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3769920" y="2026440"/>
            <a:ext cx="478908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2"/>
          <p:cNvSpPr/>
          <p:nvPr/>
        </p:nvSpPr>
        <p:spPr>
          <a:xfrm flipV="1">
            <a:off x="3782880" y="1935360"/>
            <a:ext cx="4775760" cy="22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3821400" y="1842480"/>
            <a:ext cx="4735080" cy="31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 flipV="1">
            <a:off x="3782520" y="1659960"/>
            <a:ext cx="4773240" cy="51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5"/>
          <p:cNvSpPr/>
          <p:nvPr/>
        </p:nvSpPr>
        <p:spPr>
          <a:xfrm flipV="1">
            <a:off x="3797640" y="1582200"/>
            <a:ext cx="4735080" cy="57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3797280" y="1504080"/>
            <a:ext cx="4710240" cy="67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7"/>
          <p:cNvSpPr/>
          <p:nvPr/>
        </p:nvSpPr>
        <p:spPr>
          <a:xfrm flipV="1">
            <a:off x="3721680" y="1426680"/>
            <a:ext cx="4797720" cy="75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8"/>
          <p:cNvSpPr/>
          <p:nvPr/>
        </p:nvSpPr>
        <p:spPr>
          <a:xfrm>
            <a:off x="3708360" y="2133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8331120" y="9270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8607600" y="74916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8496360" y="18921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8582040" y="172728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190440" y="99072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将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度的小角分得更细一点，将它分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份，那么每一份的度数就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5610240" y="544824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0b2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74720" y="5587920"/>
            <a:ext cx="76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的计量单位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e90b20"/>
                </a:solidFill>
                <a:latin typeface="楷体_GB2312"/>
                <a:ea typeface="楷体_GB2312"/>
              </a:rPr>
              <a:t>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符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。把半圆分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份，每一份所对的角的大小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，记作</a:t>
            </a:r>
            <a:r>
              <a:rPr b="1" lang="en-US" sz="2400" spc="-1" strike="noStrike">
                <a:solidFill>
                  <a:srgbClr val="e90b2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7311960" y="579132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90b2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9"/>
          <p:cNvSpPr/>
          <p:nvPr/>
        </p:nvSpPr>
        <p:spPr>
          <a:xfrm>
            <a:off x="1015920" y="3772080"/>
            <a:ext cx="6591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0"/>
          <p:cNvSpPr/>
          <p:nvPr/>
        </p:nvSpPr>
        <p:spPr>
          <a:xfrm flipV="1">
            <a:off x="1016280" y="3650760"/>
            <a:ext cx="6590520" cy="115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1"/>
          <p:cNvSpPr/>
          <p:nvPr/>
        </p:nvSpPr>
        <p:spPr>
          <a:xfrm>
            <a:off x="7858080" y="3263760"/>
            <a:ext cx="3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7785000" y="342900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1" name="%E6%8C%89%E9%92%AE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VB$T~LQC6S_WCQN928J`HF"/>
          <p:cNvPicPr/>
          <p:nvPr/>
        </p:nvPicPr>
        <p:blipFill>
          <a:blip r:embed="rId1"/>
          <a:stretch/>
        </p:blipFill>
        <p:spPr>
          <a:xfrm>
            <a:off x="1716120" y="1860480"/>
            <a:ext cx="5986440" cy="3318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562040" y="469800"/>
            <a:ext cx="600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把这个半圆分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8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等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__NIXKHDIYBQ(XT}`9H(_4V"/>
          <p:cNvPicPr/>
          <p:nvPr/>
        </p:nvPicPr>
        <p:blipFill>
          <a:blip r:embed="rId1"/>
          <a:stretch/>
        </p:blipFill>
        <p:spPr>
          <a:xfrm>
            <a:off x="1828800" y="2166840"/>
            <a:ext cx="6016680" cy="3279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514600" y="431640"/>
            <a:ext cx="44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了能看得更清楚，我们把它变一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QUQ]CQ[YHX`9)L@J9O(BXNQ"/>
          <p:cNvPicPr/>
          <p:nvPr/>
        </p:nvPicPr>
        <p:blipFill>
          <a:blip r:embed="rId1"/>
          <a:stretch/>
        </p:blipFill>
        <p:spPr>
          <a:xfrm>
            <a:off x="1781280" y="2158920"/>
            <a:ext cx="5695920" cy="31813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111480" y="66024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再简化一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QUQ]CQ[YHX`9)L@J9O(BXNQ"/>
          <p:cNvPicPr/>
          <p:nvPr/>
        </p:nvPicPr>
        <p:blipFill>
          <a:blip r:embed="rId1"/>
          <a:stretch/>
        </p:blipFill>
        <p:spPr>
          <a:xfrm>
            <a:off x="2117880" y="939960"/>
            <a:ext cx="5717880" cy="3193920"/>
          </a:xfrm>
          <a:prstGeom prst="rect">
            <a:avLst/>
          </a:prstGeom>
          <a:ln w="0">
            <a:noFill/>
          </a:ln>
        </p:spPr>
      </p:pic>
      <p:sp>
        <p:nvSpPr>
          <p:cNvPr id="103" name="Line 6"/>
          <p:cNvSpPr/>
          <p:nvPr/>
        </p:nvSpPr>
        <p:spPr>
          <a:xfrm flipV="1">
            <a:off x="978120" y="5461920"/>
            <a:ext cx="3301560" cy="582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977760" y="6045120"/>
            <a:ext cx="3353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8"/>
          <p:cNvSpPr/>
          <p:nvPr/>
        </p:nvSpPr>
        <p:spPr>
          <a:xfrm flipH="1">
            <a:off x="5461560" y="5297040"/>
            <a:ext cx="1315800" cy="122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5460840" y="6515280"/>
            <a:ext cx="22352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1219320" y="4724280"/>
            <a:ext cx="67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试着用这个半圆工具量一量这两个角的度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295360" y="6205680"/>
            <a:ext cx="8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947000" y="571032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]U@U)%BEV{H`~BTZ35XT]31"/>
          <p:cNvPicPr/>
          <p:nvPr/>
        </p:nvPicPr>
        <p:blipFill>
          <a:blip r:embed="rId1"/>
          <a:stretch/>
        </p:blipFill>
        <p:spPr>
          <a:xfrm>
            <a:off x="647640" y="1751040"/>
            <a:ext cx="7988400" cy="4294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984480" y="623880"/>
            <a:ext cx="13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lus/>
    <p:sndAc>
      <p:stSnd>
        <p:snd r:embed="rId2" name="%E6%8C%89%E9%92%A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02:58:36Z</dcterms:created>
  <dc:creator>hjx</dc:creator>
  <dc:description/>
  <dc:language>en-US</dc:language>
  <cp:lastModifiedBy>xianhua</cp:lastModifiedBy>
  <dcterms:modified xsi:type="dcterms:W3CDTF">2015-09-08T09:04:20Z</dcterms:modified>
  <cp:revision>77</cp:revision>
  <dc:subject/>
  <dc:title>PowerPoint 演示文稿</dc:title>
</cp:coreProperties>
</file>