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24.png" ContentType="image/png"/>
  <Override PartName="/ppt/media/%E6%8C%89%E9%92%AE.wav" ContentType="audio/x-wav"/>
  <Override PartName="/ppt/media/image11.png" ContentType="image/png"/>
  <Override PartName="/ppt/media/image2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16.wmf" ContentType="image/x-wmf"/>
  <Override PartName="/ppt/media/image29.png" ContentType="image/png"/>
  <Override PartName="/ppt/media/image31.png" ContentType="image/png"/>
  <Override PartName="/ppt/media/image6.png" ContentType="image/png"/>
  <Override PartName="/ppt/media/image30.png" ContentType="image/png"/>
  <Override PartName="/ppt/media/image35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34A-ADB9-48A2-9CD9-900DA724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875-9606-4AF9-A80F-45A79B0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AE3-5235-4B22-9185-D8A50132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E1B-C02A-4DC1-B290-15E508C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4D4-ADCC-4A25-A992-1F1A7CDA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295-C78B-4B49-A145-E684BA31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3D1-3956-4D9D-882D-1024912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94C-FFD9-4CAA-B310-93E00BDB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502-9286-4944-9660-5E4A880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4CB-C131-4134-8821-9FD3F71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56B-6A6E-4B35-97FF-E2EFAAE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60E-882B-4C1D-8A87-32EA12F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87A-9763-4827-984C-1ED93E3F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hyperlink" Target="file:///tmp/home/.config/libreoffice/4/user/gallery/&#38083;&#22768;.wav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2492280"/>
            <a:ext cx="36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角的度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54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人教新课标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9"/>
          <p:cNvSpPr/>
          <p:nvPr/>
        </p:nvSpPr>
        <p:spPr>
          <a:xfrm>
            <a:off x="179280" y="0"/>
            <a:ext cx="1728720" cy="4005360"/>
          </a:xfrm>
          <a:prstGeom prst="cloudCallout">
            <a:avLst>
              <a:gd name="adj1" fmla="val -24472"/>
              <a:gd name="adj2" fmla="val 6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8360" y="54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测量角的大小要用什么工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0" y="4581360"/>
            <a:ext cx="139068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6842160" cy="30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3"/>
          <a:stretch/>
        </p:blipFill>
        <p:spPr>
          <a:xfrm>
            <a:off x="1403280" y="3357720"/>
            <a:ext cx="77407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042920" y="40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把半圆分成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80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等份，每一份所对应的角叫做一度角。记作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°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，读作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度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614520" y="2276640"/>
            <a:ext cx="8529480" cy="3450960"/>
            <a:chOff x="614520" y="2276640"/>
            <a:chExt cx="8529480" cy="3450960"/>
          </a:xfrm>
        </p:grpSpPr>
        <p:grpSp>
          <p:nvGrpSpPr>
            <p:cNvPr id="115" name="Group 7"/>
            <p:cNvGrpSpPr/>
            <p:nvPr/>
          </p:nvGrpSpPr>
          <p:grpSpPr>
            <a:xfrm>
              <a:off x="614520" y="2276640"/>
              <a:ext cx="6777000" cy="3450960"/>
              <a:chOff x="614520" y="2276640"/>
              <a:chExt cx="6777000" cy="3450960"/>
            </a:xfrm>
          </p:grpSpPr>
          <p:pic>
            <p:nvPicPr>
              <p:cNvPr id="116" name="Picture 8" descr="量角器"/>
              <p:cNvPicPr/>
              <p:nvPr/>
            </p:nvPicPr>
            <p:blipFill>
              <a:blip r:embed="rId1"/>
              <a:stretch/>
            </p:blipFill>
            <p:spPr>
              <a:xfrm>
                <a:off x="614520" y="2276640"/>
                <a:ext cx="6021360" cy="34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Freeform 9"/>
              <p:cNvSpPr/>
              <p:nvPr/>
            </p:nvSpPr>
            <p:spPr>
              <a:xfrm>
                <a:off x="3638880" y="5205240"/>
                <a:ext cx="3752640" cy="94680"/>
              </a:xfrm>
              <a:prstGeom prst="pie">
                <a:avLst/>
              </a:pr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Line 10"/>
            <p:cNvSpPr/>
            <p:nvPr/>
          </p:nvSpPr>
          <p:spPr>
            <a:xfrm flipV="1">
              <a:off x="7456680" y="4868640"/>
              <a:ext cx="676080" cy="29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8175600" y="4292640"/>
              <a:ext cx="9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403280" y="260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我们先来认认量角器，看谁最先记住它各部分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量角器"/>
          <p:cNvPicPr/>
          <p:nvPr/>
        </p:nvPicPr>
        <p:blipFill>
          <a:blip r:embed="rId1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835360" y="2328840"/>
            <a:ext cx="3457440" cy="1743120"/>
          </a:xfrm>
          <a:prstGeom prst="pie">
            <a:avLst/>
          </a:prstGeom>
          <a:noFill/>
          <a:ln w="507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V="1">
            <a:off x="608328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4"/>
          <p:cNvSpPr/>
          <p:nvPr/>
        </p:nvSpPr>
        <p:spPr>
          <a:xfrm>
            <a:off x="2219400" y="1714680"/>
            <a:ext cx="4668840" cy="2352600"/>
          </a:xfrm>
          <a:prstGeom prst="pie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645000" y="44625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角器的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025720" y="52722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内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807160" y="15573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5032440" y="49230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91960" y="155736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外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979640" y="76500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图片15"/>
          <p:cNvPicPr/>
          <p:nvPr/>
        </p:nvPicPr>
        <p:blipFill>
          <a:blip r:embed="rId1"/>
          <a:stretch/>
        </p:blipFill>
        <p:spPr>
          <a:xfrm>
            <a:off x="7308720" y="620640"/>
            <a:ext cx="1648080" cy="20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量角器歪"/>
          <p:cNvPicPr/>
          <p:nvPr/>
        </p:nvPicPr>
        <p:blipFill>
          <a:blip r:embed="rId2"/>
          <a:stretch/>
        </p:blipFill>
        <p:spPr>
          <a:xfrm rot="21211800">
            <a:off x="826920" y="1557000"/>
            <a:ext cx="5829480" cy="38638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7"/>
          <p:cNvSpPr/>
          <p:nvPr/>
        </p:nvSpPr>
        <p:spPr>
          <a:xfrm>
            <a:off x="3780000" y="2166840"/>
            <a:ext cx="3047760" cy="2486160"/>
          </a:xfrm>
          <a:prstGeom prst="pie">
            <a:avLst/>
          </a:pr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55480" y="52293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量角器放在角的上面；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92200" y="587700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"/>
          <p:cNvSpPr/>
          <p:nvPr/>
        </p:nvSpPr>
        <p:spPr>
          <a:xfrm>
            <a:off x="4067280" y="4365720"/>
            <a:ext cx="176040" cy="28404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211640" y="41338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5"/>
          <p:cNvPicPr/>
          <p:nvPr/>
        </p:nvPicPr>
        <p:blipFill>
          <a:blip r:embed="rId1"/>
          <a:stretch/>
        </p:blipFill>
        <p:spPr>
          <a:xfrm>
            <a:off x="7308720" y="620640"/>
            <a:ext cx="1648080" cy="20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量角器"/>
          <p:cNvPicPr/>
          <p:nvPr/>
        </p:nvPicPr>
        <p:blipFill>
          <a:blip r:embed="rId2"/>
          <a:stretch/>
        </p:blipFill>
        <p:spPr>
          <a:xfrm>
            <a:off x="1116000" y="148428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195640" y="83664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5435640" y="2781360"/>
            <a:ext cx="795240" cy="16574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4140360" y="1989000"/>
            <a:ext cx="3047760" cy="248616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6443640" y="1773360"/>
            <a:ext cx="86508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7740720" y="4148280"/>
            <a:ext cx="43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4427640" y="4149720"/>
            <a:ext cx="176040" cy="28404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716360" y="3933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98440" y="484344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97000" y="59212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角的另一条边所对应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6">
            <a:hlinkClick r:id="rId3" action="ppaction://hlinksldjump"/>
          </p:cNvPr>
          <p:cNvSpPr/>
          <p:nvPr/>
        </p:nvSpPr>
        <p:spPr>
          <a:xfrm>
            <a:off x="324000" y="907920"/>
            <a:ext cx="1584000" cy="649440"/>
          </a:xfrm>
          <a:custGeom>
            <a:avLst/>
            <a:gdLst>
              <a:gd name="textAreaLeft" fmla="*/ 41760 w 1584000"/>
              <a:gd name="textAreaRight" fmla="*/ 1542240 w 1584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2666" h="21600">
                <a:moveTo>
                  <a:pt x="0" y="0"/>
                </a:moveTo>
                <a:lnTo>
                  <a:pt x="52666" y="0"/>
                </a:lnTo>
                <a:lnTo>
                  <a:pt x="52666" y="21600"/>
                </a:lnTo>
                <a:lnTo>
                  <a:pt x="0" y="21600"/>
                </a:lnTo>
                <a:close/>
              </a:path>
              <a:path fill="lightenLess" w="52666" h="21600">
                <a:moveTo>
                  <a:pt x="0" y="0"/>
                </a:moveTo>
                <a:lnTo>
                  <a:pt x="52666" y="0"/>
                </a:lnTo>
                <a:lnTo>
                  <a:pt x="51266" y="1400"/>
                </a:lnTo>
                <a:lnTo>
                  <a:pt x="1400" y="1400"/>
                </a:lnTo>
                <a:close/>
              </a:path>
              <a:path fill="darken" w="52666" h="21600">
                <a:moveTo>
                  <a:pt x="52666" y="0"/>
                </a:moveTo>
                <a:lnTo>
                  <a:pt x="52666" y="21600"/>
                </a:lnTo>
                <a:lnTo>
                  <a:pt x="51266" y="20200"/>
                </a:lnTo>
                <a:lnTo>
                  <a:pt x="51266" y="1400"/>
                </a:lnTo>
                <a:close/>
              </a:path>
              <a:path fill="darkenLess" w="52666" h="21600">
                <a:moveTo>
                  <a:pt x="52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66" y="20200"/>
                </a:lnTo>
                <a:close/>
              </a:path>
              <a:path fill="lighten" w="52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755640" y="836640"/>
            <a:ext cx="6192720" cy="1728720"/>
          </a:xfrm>
          <a:prstGeom prst="cloudCallout">
            <a:avLst>
              <a:gd name="adj1" fmla="val 54180"/>
              <a:gd name="adj2" fmla="val -1262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用量角器量角三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042920" y="3573360"/>
            <a:ext cx="7215120" cy="2226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量角器中心点与角的顶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量角器０刻度线与角的一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看角的另一边指向刻度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826920" y="3789360"/>
            <a:ext cx="142920" cy="180180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1800"/>
              <a:gd name="textAreaBottom" fmla="*/ 1755000 h 18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6227640" y="1125360"/>
            <a:ext cx="3170520" cy="273528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注  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924360" y="2637000"/>
            <a:ext cx="934920" cy="936360"/>
          </a:xfrm>
          <a:prstGeom prst="downArrowCallout">
            <a:avLst>
              <a:gd name="adj1" fmla="val 25002"/>
              <a:gd name="adj2" fmla="val 25000"/>
              <a:gd name="adj3" fmla="val 16692"/>
              <a:gd name="adj4" fmla="val 66667"/>
            </a:avLst>
          </a:prstGeom>
          <a:solidFill>
            <a:srgbClr val="ecb2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图片15"/>
          <p:cNvPicPr/>
          <p:nvPr/>
        </p:nvPicPr>
        <p:blipFill>
          <a:blip r:embed="rId2"/>
          <a:stretch/>
        </p:blipFill>
        <p:spPr>
          <a:xfrm>
            <a:off x="7496280" y="4842000"/>
            <a:ext cx="164772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量角器"/>
          <p:cNvPicPr/>
          <p:nvPr/>
        </p:nvPicPr>
        <p:blipFill>
          <a:blip r:embed="rId3"/>
          <a:stretch/>
        </p:blipFill>
        <p:spPr>
          <a:xfrm>
            <a:off x="1547640" y="2565360"/>
            <a:ext cx="6048720" cy="34671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5"/>
          <p:cNvGrpSpPr/>
          <p:nvPr/>
        </p:nvGrpSpPr>
        <p:grpSpPr>
          <a:xfrm>
            <a:off x="1552680" y="2923920"/>
            <a:ext cx="4538520" cy="2675160"/>
            <a:chOff x="1552680" y="2923920"/>
            <a:chExt cx="4538520" cy="2675160"/>
          </a:xfrm>
        </p:grpSpPr>
        <p:sp>
          <p:nvSpPr>
            <p:cNvPr id="168" name="Line 6"/>
            <p:cNvSpPr/>
            <p:nvPr/>
          </p:nvSpPr>
          <p:spPr>
            <a:xfrm flipV="1">
              <a:off x="4572000" y="2923920"/>
              <a:ext cx="1519200" cy="26398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1552680" y="5589720"/>
              <a:ext cx="3019320" cy="9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rc 8"/>
            <p:cNvSpPr/>
            <p:nvPr/>
          </p:nvSpPr>
          <p:spPr>
            <a:xfrm flipH="1">
              <a:off x="4212360" y="5084640"/>
              <a:ext cx="608040" cy="505080"/>
            </a:xfrm>
            <a:prstGeom prst="pie">
              <a:avLst/>
            </a:pr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Freeform 9"/>
          <p:cNvSpPr/>
          <p:nvPr/>
        </p:nvSpPr>
        <p:spPr>
          <a:xfrm>
            <a:off x="1704960" y="2652840"/>
            <a:ext cx="4307040" cy="2863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227640" y="2637000"/>
            <a:ext cx="1035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20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3" name="WordArt 11"/>
          <p:cNvSpPr txBox="1"/>
          <p:nvPr/>
        </p:nvSpPr>
        <p:spPr>
          <a:xfrm rot="21423000">
            <a:off x="755640" y="5300640"/>
            <a:ext cx="358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26836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说它是多少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327480" y="2852640"/>
            <a:ext cx="498960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58920" y="5157720"/>
            <a:ext cx="75610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411280" y="5229360"/>
            <a:ext cx="1800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06728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724360" y="620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量角器"/>
          <p:cNvPicPr/>
          <p:nvPr/>
        </p:nvPicPr>
        <p:blipFill>
          <a:blip r:embed="rId1"/>
          <a:stretch/>
        </p:blipFill>
        <p:spPr>
          <a:xfrm>
            <a:off x="684360" y="2781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10"/>
          <p:cNvSpPr/>
          <p:nvPr/>
        </p:nvSpPr>
        <p:spPr>
          <a:xfrm>
            <a:off x="3635280" y="2781360"/>
            <a:ext cx="3340080" cy="341784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图片35"/>
          <p:cNvPicPr/>
          <p:nvPr/>
        </p:nvPicPr>
        <p:blipFill>
          <a:blip r:embed="rId2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2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185" name="AutoShape 13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8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804000" y="450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308720" y="2276640"/>
            <a:ext cx="136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(2)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图片35"/>
          <p:cNvPicPr/>
          <p:nvPr/>
        </p:nvPicPr>
        <p:blipFill>
          <a:blip r:embed="rId1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192" name="AutoShape 7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11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量角器"/>
          <p:cNvPicPr/>
          <p:nvPr/>
        </p:nvPicPr>
        <p:blipFill>
          <a:blip r:embed="rId2"/>
          <a:stretch/>
        </p:blipFill>
        <p:spPr>
          <a:xfrm>
            <a:off x="684360" y="234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95" name="Freeform 10"/>
          <p:cNvSpPr/>
          <p:nvPr/>
        </p:nvSpPr>
        <p:spPr>
          <a:xfrm>
            <a:off x="627120" y="2313000"/>
            <a:ext cx="3081240" cy="30607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14036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724360" y="620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80400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(3)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量角器"/>
          <p:cNvPicPr/>
          <p:nvPr/>
        </p:nvPicPr>
        <p:blipFill>
          <a:blip r:embed="rId1"/>
          <a:stretch/>
        </p:blipFill>
        <p:spPr>
          <a:xfrm>
            <a:off x="684360" y="2781360"/>
            <a:ext cx="604836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图片35"/>
          <p:cNvPicPr/>
          <p:nvPr/>
        </p:nvPicPr>
        <p:blipFill>
          <a:blip r:embed="rId2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6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203" name="AutoShape 7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4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Freeform 9"/>
          <p:cNvSpPr/>
          <p:nvPr/>
        </p:nvSpPr>
        <p:spPr>
          <a:xfrm>
            <a:off x="3708360" y="3573360"/>
            <a:ext cx="3121200" cy="22273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4067280" y="5516640"/>
            <a:ext cx="114120" cy="295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14036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796000" y="6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87708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565360" y="8920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教学目标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36840" y="2889360"/>
            <a:ext cx="5460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</a:rPr>
              <a:t>本节课我们主要来学习角的度量，同学们要掌握使用量角器测量角度的方法和步骤，能够正确的使用量角器测量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56000" y="3284640"/>
            <a:ext cx="568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403280" y="177336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角的大小与角的两边画出的长短有关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量角器"/>
          <p:cNvPicPr/>
          <p:nvPr/>
        </p:nvPicPr>
        <p:blipFill>
          <a:blip r:embed="rId1"/>
          <a:stretch/>
        </p:blipFill>
        <p:spPr>
          <a:xfrm>
            <a:off x="539640" y="3429000"/>
            <a:ext cx="3167280" cy="181440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8"/>
          <p:cNvSpPr/>
          <p:nvPr/>
        </p:nvSpPr>
        <p:spPr>
          <a:xfrm>
            <a:off x="2124000" y="4122720"/>
            <a:ext cx="1114560" cy="8859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2268360" y="4727520"/>
            <a:ext cx="190800" cy="2858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量角器"/>
          <p:cNvPicPr/>
          <p:nvPr/>
        </p:nvPicPr>
        <p:blipFill>
          <a:blip r:embed="rId2"/>
          <a:stretch/>
        </p:blipFill>
        <p:spPr>
          <a:xfrm>
            <a:off x="3851280" y="3429000"/>
            <a:ext cx="3166920" cy="181440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1"/>
          <p:cNvSpPr/>
          <p:nvPr/>
        </p:nvSpPr>
        <p:spPr>
          <a:xfrm>
            <a:off x="5432400" y="3187800"/>
            <a:ext cx="1949400" cy="18032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5613480" y="4686480"/>
            <a:ext cx="180720" cy="295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332000" y="836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图片43"/>
          <p:cNvPicPr/>
          <p:nvPr/>
        </p:nvPicPr>
        <p:blipFill>
          <a:blip r:embed="rId1"/>
          <a:stretch/>
        </p:blipFill>
        <p:spPr>
          <a:xfrm>
            <a:off x="7667640" y="4365720"/>
            <a:ext cx="103680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图片42"/>
          <p:cNvPicPr/>
          <p:nvPr/>
        </p:nvPicPr>
        <p:blipFill>
          <a:blip r:embed="rId2"/>
          <a:stretch/>
        </p:blipFill>
        <p:spPr>
          <a:xfrm>
            <a:off x="611280" y="981000"/>
            <a:ext cx="985680" cy="180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量角器"/>
          <p:cNvPicPr/>
          <p:nvPr/>
        </p:nvPicPr>
        <p:blipFill>
          <a:blip r:embed="rId3"/>
          <a:stretch/>
        </p:blipFill>
        <p:spPr>
          <a:xfrm>
            <a:off x="1908000" y="2924280"/>
            <a:ext cx="5040360" cy="2889000"/>
          </a:xfrm>
          <a:prstGeom prst="rect">
            <a:avLst/>
          </a:prstGeom>
          <a:ln w="0">
            <a:noFill/>
          </a:ln>
        </p:spPr>
      </p:pic>
      <p:sp>
        <p:nvSpPr>
          <p:cNvPr id="224" name="Line 9"/>
          <p:cNvSpPr/>
          <p:nvPr/>
        </p:nvSpPr>
        <p:spPr>
          <a:xfrm flipH="1" flipV="1">
            <a:off x="1907640" y="3429000"/>
            <a:ext cx="251964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10"/>
          <p:cNvSpPr/>
          <p:nvPr/>
        </p:nvSpPr>
        <p:spPr>
          <a:xfrm rot="500400">
            <a:off x="3850920" y="5013360"/>
            <a:ext cx="1100160" cy="720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4427640" y="5445000"/>
            <a:ext cx="27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716360" y="45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619280" y="1413000"/>
            <a:ext cx="1944720" cy="720720"/>
            <a:chOff x="1619280" y="1413000"/>
            <a:chExt cx="1944720" cy="720720"/>
          </a:xfrm>
        </p:grpSpPr>
        <p:sp>
          <p:nvSpPr>
            <p:cNvPr id="229" name="AutoShape 14"/>
            <p:cNvSpPr/>
            <p:nvPr/>
          </p:nvSpPr>
          <p:spPr>
            <a:xfrm>
              <a:off x="1619280" y="1484280"/>
              <a:ext cx="1944720" cy="6494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9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1619280" y="1413000"/>
              <a:ext cx="19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=40</a:t>
              </a:r>
              <a:r>
                <a:rPr b="1" lang="en-US" sz="3200" spc="-1" strike="noStrike" baseline="30000">
                  <a:solidFill>
                    <a:srgbClr val="ff3300"/>
                  </a:solidFill>
                  <a:latin typeface="隶书"/>
                  <a:ea typeface="隶书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27640" y="3068640"/>
            <a:ext cx="1944720" cy="792000"/>
            <a:chOff x="6227640" y="3068640"/>
            <a:chExt cx="1944720" cy="792000"/>
          </a:xfrm>
        </p:grpSpPr>
        <p:sp>
          <p:nvSpPr>
            <p:cNvPr id="232" name="AutoShape 17"/>
            <p:cNvSpPr/>
            <p:nvPr/>
          </p:nvSpPr>
          <p:spPr>
            <a:xfrm>
              <a:off x="6300720" y="3068640"/>
              <a:ext cx="1871640" cy="792000"/>
            </a:xfrm>
            <a:prstGeom prst="wedgeEllipseCallout">
              <a:avLst>
                <a:gd name="adj1" fmla="val 43212"/>
                <a:gd name="adj2" fmla="val 118537"/>
              </a:avLst>
            </a:prstGeom>
            <a:solidFill>
              <a:srgbClr val="f9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6227640" y="314064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=140</a:t>
              </a:r>
              <a:r>
                <a:rPr b="1" lang="en-US" sz="3200" spc="-1" strike="noStrike" baseline="30000">
                  <a:solidFill>
                    <a:srgbClr val="ff3300"/>
                  </a:solidFill>
                  <a:latin typeface="隶书"/>
                  <a:ea typeface="隶书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20"/>
          <p:cNvSpPr/>
          <p:nvPr/>
        </p:nvSpPr>
        <p:spPr>
          <a:xfrm>
            <a:off x="3851280" y="836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说的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0" y="1192320"/>
            <a:ext cx="86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）你能猜出这几个角的度数吗？并说明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量角器"/>
          <p:cNvPicPr/>
          <p:nvPr/>
        </p:nvPicPr>
        <p:blipFill>
          <a:blip r:embed="rId1"/>
          <a:stretch/>
        </p:blipFill>
        <p:spPr>
          <a:xfrm>
            <a:off x="539640" y="378936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量角器"/>
          <p:cNvPicPr/>
          <p:nvPr/>
        </p:nvPicPr>
        <p:blipFill>
          <a:blip r:embed="rId2"/>
          <a:stretch/>
        </p:blipFill>
        <p:spPr>
          <a:xfrm>
            <a:off x="4859280" y="3573360"/>
            <a:ext cx="3897360" cy="223380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6"/>
          <p:cNvSpPr/>
          <p:nvPr/>
        </p:nvSpPr>
        <p:spPr>
          <a:xfrm>
            <a:off x="436680" y="4762440"/>
            <a:ext cx="2047680" cy="971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6804000" y="3429000"/>
            <a:ext cx="1368360" cy="2087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1969920" y="5491080"/>
            <a:ext cx="76320" cy="228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6937200" y="5124600"/>
            <a:ext cx="209880" cy="36828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图片5"/>
          <p:cNvPicPr/>
          <p:nvPr/>
        </p:nvPicPr>
        <p:blipFill>
          <a:blip r:embed="rId3"/>
          <a:stretch/>
        </p:blipFill>
        <p:spPr>
          <a:xfrm>
            <a:off x="6227640" y="4581360"/>
            <a:ext cx="1176480" cy="165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图片2"/>
          <p:cNvPicPr/>
          <p:nvPr/>
        </p:nvPicPr>
        <p:blipFill>
          <a:blip r:embed="rId4"/>
          <a:stretch/>
        </p:blipFill>
        <p:spPr>
          <a:xfrm>
            <a:off x="1662120" y="4869000"/>
            <a:ext cx="11811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3"/>
          <p:cNvPicPr/>
          <p:nvPr/>
        </p:nvPicPr>
        <p:blipFill>
          <a:blip r:embed="rId1"/>
          <a:stretch/>
        </p:blipFill>
        <p:spPr>
          <a:xfrm>
            <a:off x="2050920" y="2924280"/>
            <a:ext cx="847800" cy="213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量角器"/>
          <p:cNvPicPr/>
          <p:nvPr/>
        </p:nvPicPr>
        <p:blipFill>
          <a:blip r:embed="rId2"/>
          <a:stretch/>
        </p:blipFill>
        <p:spPr>
          <a:xfrm>
            <a:off x="4552920" y="342756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量角器"/>
          <p:cNvPicPr/>
          <p:nvPr/>
        </p:nvPicPr>
        <p:blipFill>
          <a:blip r:embed="rId3"/>
          <a:stretch/>
        </p:blipFill>
        <p:spPr>
          <a:xfrm>
            <a:off x="484200" y="344808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4360" y="76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下面三个角中，哪个角最大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2436840" y="4181400"/>
            <a:ext cx="1676520" cy="1201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"/>
          <p:cNvSpPr/>
          <p:nvPr/>
        </p:nvSpPr>
        <p:spPr>
          <a:xfrm flipH="1">
            <a:off x="4980960" y="4129200"/>
            <a:ext cx="1523880" cy="12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2571840" y="5186520"/>
            <a:ext cx="133200" cy="190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0"/>
          <p:cNvSpPr/>
          <p:nvPr/>
        </p:nvSpPr>
        <p:spPr>
          <a:xfrm>
            <a:off x="6229440" y="5100480"/>
            <a:ext cx="104760" cy="238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3322800" y="2589120"/>
            <a:ext cx="1047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1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5780160" y="4797360"/>
            <a:ext cx="1602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54" name="Freeform 13"/>
          <p:cNvSpPr/>
          <p:nvPr/>
        </p:nvSpPr>
        <p:spPr>
          <a:xfrm>
            <a:off x="2268360" y="2205000"/>
            <a:ext cx="2362320" cy="685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2747880" y="2741760"/>
            <a:ext cx="5724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132000" y="4724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图片105"/>
          <p:cNvPicPr/>
          <p:nvPr/>
        </p:nvPicPr>
        <p:blipFill>
          <a:blip r:embed="rId1"/>
          <a:srcRect l="6328" t="0" r="4642" b="5169"/>
          <a:stretch/>
        </p:blipFill>
        <p:spPr>
          <a:xfrm>
            <a:off x="1042920" y="328464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3"/>
          <p:cNvSpPr/>
          <p:nvPr/>
        </p:nvSpPr>
        <p:spPr>
          <a:xfrm>
            <a:off x="3851280" y="3500280"/>
            <a:ext cx="2808360" cy="16560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15"/>
          <p:cNvSpPr/>
          <p:nvPr/>
        </p:nvSpPr>
        <p:spPr>
          <a:xfrm>
            <a:off x="4788000" y="4294080"/>
            <a:ext cx="71280" cy="835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916360" y="2708280"/>
            <a:ext cx="52578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这个角大约有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u=2191971760,2423717726&amp;gp=0"/>
          <p:cNvPicPr/>
          <p:nvPr/>
        </p:nvPicPr>
        <p:blipFill>
          <a:blip r:embed="rId1"/>
          <a:stretch/>
        </p:blipFill>
        <p:spPr>
          <a:xfrm>
            <a:off x="0" y="0"/>
            <a:ext cx="730872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403280" y="5157720"/>
            <a:ext cx="56167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2" name="Picture 5" descr="图片12"/>
          <p:cNvPicPr/>
          <p:nvPr/>
        </p:nvPicPr>
        <p:blipFill>
          <a:blip r:embed="rId2"/>
          <a:stretch/>
        </p:blipFill>
        <p:spPr>
          <a:xfrm>
            <a:off x="25092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图片56"/>
          <p:cNvPicPr/>
          <p:nvPr/>
        </p:nvPicPr>
        <p:blipFill>
          <a:blip r:embed="rId4"/>
          <a:stretch/>
        </p:blipFill>
        <p:spPr>
          <a:xfrm>
            <a:off x="7380360" y="4057560"/>
            <a:ext cx="1949400" cy="28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图片102"/>
          <p:cNvPicPr/>
          <p:nvPr/>
        </p:nvPicPr>
        <p:blipFill>
          <a:blip r:embed="rId5"/>
          <a:stretch/>
        </p:blipFill>
        <p:spPr>
          <a:xfrm>
            <a:off x="0" y="0"/>
            <a:ext cx="9647280" cy="4459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843280" y="5157720"/>
            <a:ext cx="4464000" cy="1224000"/>
          </a:xfrm>
          <a:prstGeom prst="cloudCallout">
            <a:avLst>
              <a:gd name="adj1" fmla="val -61773"/>
              <a:gd name="adj2" fmla="val -6102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同学们先来看两张图片</a:t>
            </a:r>
            <a:r>
              <a:rPr b="1" lang="en-US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967120" y="1955880"/>
            <a:ext cx="1839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714920" y="4365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图片12"/>
          <p:cNvPicPr/>
          <p:nvPr/>
        </p:nvPicPr>
        <p:blipFill>
          <a:blip r:embed="rId2"/>
          <a:stretch/>
        </p:blipFill>
        <p:spPr>
          <a:xfrm>
            <a:off x="826920" y="4076640"/>
            <a:ext cx="1872000" cy="20876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1042920" y="1125360"/>
            <a:ext cx="7489440" cy="1806840"/>
            <a:chOff x="1042920" y="1125360"/>
            <a:chExt cx="7489440" cy="1806840"/>
          </a:xfrm>
        </p:grpSpPr>
        <p:sp>
          <p:nvSpPr>
            <p:cNvPr id="62" name="Cloud"/>
            <p:cNvSpPr/>
            <p:nvPr/>
          </p:nvSpPr>
          <p:spPr>
            <a:xfrm>
              <a:off x="1042920" y="1125360"/>
              <a:ext cx="7489440" cy="18068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2265840" y="1197000"/>
              <a:ext cx="52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为什么同样是上坡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一个需要帮助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而另一个却看起来很轻松呢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?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请结合实际说一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67840" y="41162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556000" y="4941720"/>
            <a:ext cx="5032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093080" y="4149720"/>
            <a:ext cx="647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图片35"/>
          <p:cNvPicPr/>
          <p:nvPr/>
        </p:nvPicPr>
        <p:blipFill>
          <a:blip r:embed="rId1"/>
          <a:stretch/>
        </p:blipFill>
        <p:spPr>
          <a:xfrm>
            <a:off x="3203640" y="2708280"/>
            <a:ext cx="896760" cy="934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3"/>
          <p:cNvGrpSpPr/>
          <p:nvPr/>
        </p:nvGrpSpPr>
        <p:grpSpPr>
          <a:xfrm>
            <a:off x="1258920" y="2637000"/>
            <a:ext cx="2521080" cy="1152360"/>
            <a:chOff x="1258920" y="2637000"/>
            <a:chExt cx="2521080" cy="1152360"/>
          </a:xfrm>
        </p:grpSpPr>
        <p:sp>
          <p:nvSpPr>
            <p:cNvPr id="70" name="Line 14"/>
            <p:cNvSpPr/>
            <p:nvPr/>
          </p:nvSpPr>
          <p:spPr>
            <a:xfrm>
              <a:off x="1423080" y="2637000"/>
              <a:ext cx="235656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1258920" y="3789360"/>
              <a:ext cx="2521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4716360" y="1628640"/>
            <a:ext cx="2016360" cy="2233800"/>
            <a:chOff x="4716360" y="1628640"/>
            <a:chExt cx="2016360" cy="2233800"/>
          </a:xfrm>
        </p:grpSpPr>
        <p:sp>
          <p:nvSpPr>
            <p:cNvPr id="73" name="Line 17"/>
            <p:cNvSpPr/>
            <p:nvPr/>
          </p:nvSpPr>
          <p:spPr>
            <a:xfrm>
              <a:off x="5724360" y="1628640"/>
              <a:ext cx="1008360" cy="223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8"/>
            <p:cNvSpPr/>
            <p:nvPr/>
          </p:nvSpPr>
          <p:spPr>
            <a:xfrm>
              <a:off x="4716360" y="3860640"/>
              <a:ext cx="2016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9" descr="20060103151715388"/>
          <p:cNvPicPr/>
          <p:nvPr/>
        </p:nvPicPr>
        <p:blipFill>
          <a:blip r:embed="rId2"/>
          <a:stretch/>
        </p:blipFill>
        <p:spPr>
          <a:xfrm>
            <a:off x="6588000" y="2852640"/>
            <a:ext cx="1152720" cy="10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xiatian1_0009"/>
          <p:cNvPicPr/>
          <p:nvPr/>
        </p:nvPicPr>
        <p:blipFill>
          <a:blip r:embed="rId3"/>
          <a:stretch/>
        </p:blipFill>
        <p:spPr>
          <a:xfrm>
            <a:off x="6443640" y="765000"/>
            <a:ext cx="1650960" cy="138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1"/>
          <p:cNvSpPr/>
          <p:nvPr/>
        </p:nvSpPr>
        <p:spPr>
          <a:xfrm>
            <a:off x="1908000" y="4869000"/>
            <a:ext cx="4896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想一想谁最先到顶点</a:t>
            </a:r>
            <a:r>
              <a:rPr b="1" lang="en-US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1476360" y="1989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558000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435640" y="4365720"/>
            <a:ext cx="3311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图片22"/>
          <p:cNvPicPr/>
          <p:nvPr/>
        </p:nvPicPr>
        <p:blipFill>
          <a:blip r:embed="rId2"/>
          <a:stretch/>
        </p:blipFill>
        <p:spPr>
          <a:xfrm>
            <a:off x="7020000" y="3933720"/>
            <a:ext cx="1496880" cy="244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 flipV="1">
            <a:off x="4248000" y="1196640"/>
            <a:ext cx="4896000" cy="1944720"/>
          </a:xfrm>
          <a:prstGeom prst="cloudCallout">
            <a:avLst>
              <a:gd name="adj1" fmla="val 23407"/>
              <a:gd name="adj2" fmla="val -101106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哦！我明白了，也就是说角度越小越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图片12"/>
          <p:cNvPicPr/>
          <p:nvPr/>
        </p:nvPicPr>
        <p:blipFill>
          <a:blip r:embed="rId3"/>
          <a:stretch/>
        </p:blipFill>
        <p:spPr>
          <a:xfrm>
            <a:off x="900000" y="4508640"/>
            <a:ext cx="1871640" cy="2087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>
            <a:off x="-324000" y="1341360"/>
            <a:ext cx="5292720" cy="1441440"/>
          </a:xfrm>
          <a:prstGeom prst="cloudCallout">
            <a:avLst>
              <a:gd name="adj1" fmla="val -11129"/>
              <a:gd name="adj2" fmla="val 157490"/>
            </a:avLst>
          </a:prstGeom>
          <a:solidFill>
            <a:srgbClr val="f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看到了吗？谁的坡度小谁就先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"/>
          <p:cNvGrpSpPr/>
          <p:nvPr/>
        </p:nvGrpSpPr>
        <p:grpSpPr>
          <a:xfrm>
            <a:off x="1332000" y="3645000"/>
            <a:ext cx="2950560" cy="1445040"/>
            <a:chOff x="1332000" y="3645000"/>
            <a:chExt cx="2950560" cy="1445040"/>
          </a:xfrm>
        </p:grpSpPr>
        <p:grpSp>
          <p:nvGrpSpPr>
            <p:cNvPr id="87" name="Group 4"/>
            <p:cNvGrpSpPr/>
            <p:nvPr/>
          </p:nvGrpSpPr>
          <p:grpSpPr>
            <a:xfrm>
              <a:off x="1907640" y="3645000"/>
              <a:ext cx="2374920" cy="1152360"/>
              <a:chOff x="1907640" y="3645000"/>
              <a:chExt cx="2374920" cy="1152360"/>
            </a:xfrm>
          </p:grpSpPr>
          <p:sp>
            <p:nvSpPr>
              <p:cNvPr id="88" name="Arc 5"/>
              <p:cNvSpPr/>
              <p:nvPr/>
            </p:nvSpPr>
            <p:spPr>
              <a:xfrm>
                <a:off x="2700360" y="4365720"/>
                <a:ext cx="71280" cy="407880"/>
              </a:xfrm>
              <a:prstGeom prst="pie">
                <a:avLst/>
              </a:pr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6"/>
              <p:cNvGrpSpPr/>
              <p:nvPr/>
            </p:nvGrpSpPr>
            <p:grpSpPr>
              <a:xfrm>
                <a:off x="1907640" y="3645000"/>
                <a:ext cx="2374920" cy="1152360"/>
                <a:chOff x="1907640" y="3645000"/>
                <a:chExt cx="2374920" cy="1152360"/>
              </a:xfrm>
            </p:grpSpPr>
            <p:sp>
              <p:nvSpPr>
                <p:cNvPr id="90" name="Line 7"/>
                <p:cNvSpPr/>
                <p:nvPr/>
              </p:nvSpPr>
              <p:spPr>
                <a:xfrm flipH="1">
                  <a:off x="1907640" y="3645000"/>
                  <a:ext cx="2220120" cy="1152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8"/>
                <p:cNvSpPr/>
                <p:nvPr/>
              </p:nvSpPr>
              <p:spPr>
                <a:xfrm flipH="1">
                  <a:off x="1907640" y="4797360"/>
                  <a:ext cx="237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Text Box 9"/>
            <p:cNvSpPr/>
            <p:nvPr/>
          </p:nvSpPr>
          <p:spPr>
            <a:xfrm>
              <a:off x="1332000" y="4508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716360" y="2924280"/>
            <a:ext cx="2880000" cy="2090880"/>
            <a:chOff x="4716360" y="2924280"/>
            <a:chExt cx="2880000" cy="2090880"/>
          </a:xfrm>
        </p:grpSpPr>
        <p:sp>
          <p:nvSpPr>
            <p:cNvPr id="94" name="Arc 11"/>
            <p:cNvSpPr/>
            <p:nvPr/>
          </p:nvSpPr>
          <p:spPr>
            <a:xfrm>
              <a:off x="6012000" y="4292640"/>
              <a:ext cx="215640" cy="504720"/>
            </a:xfrm>
            <a:prstGeom prst="pie">
              <a:avLst/>
            </a:pr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2"/>
            <p:cNvGrpSpPr/>
            <p:nvPr/>
          </p:nvGrpSpPr>
          <p:grpSpPr>
            <a:xfrm>
              <a:off x="5435640" y="2924280"/>
              <a:ext cx="2160720" cy="1871280"/>
              <a:chOff x="5435640" y="2924280"/>
              <a:chExt cx="2160720" cy="1871280"/>
            </a:xfrm>
          </p:grpSpPr>
          <p:sp>
            <p:nvSpPr>
              <p:cNvPr id="96" name="Line 13"/>
              <p:cNvSpPr/>
              <p:nvPr/>
            </p:nvSpPr>
            <p:spPr>
              <a:xfrm flipH="1">
                <a:off x="5435640" y="2924280"/>
                <a:ext cx="2019960" cy="1871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4"/>
              <p:cNvSpPr/>
              <p:nvPr/>
            </p:nvSpPr>
            <p:spPr>
              <a:xfrm flipH="1">
                <a:off x="5435640" y="4795560"/>
                <a:ext cx="216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15"/>
            <p:cNvSpPr/>
            <p:nvPr/>
          </p:nvSpPr>
          <p:spPr>
            <a:xfrm>
              <a:off x="4716360" y="443376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6"/>
          <p:cNvSpPr/>
          <p:nvPr/>
        </p:nvSpPr>
        <p:spPr>
          <a:xfrm>
            <a:off x="2987640" y="1989000"/>
            <a:ext cx="525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Ｂ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大于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∠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64 1.84971E-006 L 0.38994 1.84971E-006 E">
                                      <p:cBhvr>
                                        <p:cTn id="69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51280" y="105264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图片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图片４"/>
          <p:cNvPicPr/>
          <p:nvPr/>
        </p:nvPicPr>
        <p:blipFill>
          <a:blip r:embed="rId2"/>
          <a:stretch/>
        </p:blipFill>
        <p:spPr>
          <a:xfrm>
            <a:off x="4932360" y="1628640"/>
            <a:ext cx="3241800" cy="403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图片５"/>
          <p:cNvPicPr/>
          <p:nvPr/>
        </p:nvPicPr>
        <p:blipFill>
          <a:blip r:embed="rId3"/>
          <a:stretch/>
        </p:blipFill>
        <p:spPr>
          <a:xfrm>
            <a:off x="468360" y="620640"/>
            <a:ext cx="287964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图片6"/>
          <p:cNvPicPr/>
          <p:nvPr/>
        </p:nvPicPr>
        <p:blipFill>
          <a:blip r:embed="rId4"/>
          <a:stretch/>
        </p:blipFill>
        <p:spPr>
          <a:xfrm>
            <a:off x="2700360" y="299736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>
            <a:hlinkClick r:id="rId5"/>
          </p:cNvPr>
          <p:cNvSpPr/>
          <p:nvPr/>
        </p:nvSpPr>
        <p:spPr>
          <a:xfrm>
            <a:off x="7380360" y="5805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17:56:33Z</dcterms:created>
  <dc:creator>island</dc:creator>
  <dc:description/>
  <dc:language>en-US</dc:language>
  <cp:lastModifiedBy>dreamsummit</cp:lastModifiedBy>
  <dcterms:modified xsi:type="dcterms:W3CDTF">2015-10-21T02:36:56Z</dcterms:modified>
  <cp:revision>71</cp:revision>
  <dc:subject/>
  <dc:title>幻灯片 1</dc:title>
</cp:coreProperties>
</file>