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D00-0264-4C64-B0E2-A545740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8F9-7599-4B80-9168-9DA762C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BCF-9A91-40DB-807C-D7333DC7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A81-037D-4148-9F2A-C37B2357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BAB-1F13-43CF-B4F9-1D67E626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287B-6265-4B77-BD57-30BA3126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23B9-330E-4F41-BD60-7B94C6B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102-1BEB-4181-91D6-02CFDC57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AC6-F292-4C47-B629-32096A3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38280" y="368280"/>
            <a:ext cx="787536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40C4-C830-4949-8EAB-872A23F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AC0F-6784-48C5-BF5B-094FF309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76D-E152-4C13-B804-EE8EC208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5C7C-0905-499E-A8C8-B2FC7B3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7895-D88D-44F4-AA08-B02FA3A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3F24-491A-4CF0-B394-C01E1B6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F9F5-C41D-4934-B853-44177A3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8270-1A2D-4866-A283-4DBC2B0B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D8DB-42B2-48A2-B1F0-12EA2F11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79C3-B35C-404B-A8C9-4F8816C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B546E-1EA2-4E15-A667-678C011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D92BC-1A7C-475E-A9B1-130B08C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A0DB-CF99-48B7-9E58-90BAAA4E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9F5-5F68-4DE4-9EEF-30732C5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8280" y="368280"/>
            <a:ext cx="787536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46BA-5A5D-449D-9018-E59FD6D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4E32-4A9A-479C-8916-2B13495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EA92-A26B-4DB0-8892-78FA545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C5EA-F248-451A-A98B-70FF0E8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80D6B-D657-4812-953E-62BADE6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6D26-272B-4278-B27A-933CFBFD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44900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940560"/>
            <a:ext cx="25394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AC0E-2E6F-4672-AED1-322329C9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03A-01D9-4658-B547-6300AB3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579-1AD0-4FEC-B79D-53C046F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8280" y="368280"/>
            <a:ext cx="787536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435-1541-42E7-9EAF-7B12D078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26B-50DB-48EB-8C42-4C429EF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4056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73A-7CDF-4BA0-8FF9-FC87C20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49000"/>
            <a:ext cx="384876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40560"/>
            <a:ext cx="788688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5BB-14DF-48A8-BA59-ECAD36A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860-CAF2-4BF4-B3F3-006D2DD444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A27-B712-4B47-9388-95C75E259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28560" y="1449000"/>
            <a:ext cx="78868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6e2e24"/>
              </a:buClr>
              <a:buSzPct val="8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231b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3231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6DCE-ABF9-47C1-B74A-7F2EB397D577}" type="datetime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99B-837B-4CFC-95A5-02C855DB747C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231b"/>
                </a:solidFill>
                <a:latin typeface="Baskerville Old Face"/>
              </a:rPr>
              <a:t>Click to edit the title text format</a:t>
            </a:r>
            <a:endParaRPr b="1" lang="en-US" sz="2800" spc="-1" strike="noStrike">
              <a:solidFill>
                <a:srgbClr val="53231b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C9C8-1835-4129-ACEB-3998FB78D60E}" type="datetime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99F-1651-4DF9-B1E2-7FABF3C6849D}" type="slidenum">
              <a:rPr b="0" lang="zh-CN" sz="1200" spc="-1" strike="noStrike">
                <a:solidFill>
                  <a:srgbClr val="93949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1653840" y="3033720"/>
            <a:ext cx="572436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231b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231b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53231b"/>
              </a:solidFill>
              <a:latin typeface="Calibri"/>
            </a:endParaRPr>
          </a:p>
          <a:p>
            <a:pPr lvl="1"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54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34547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43454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0800" y="316224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调查本班同学对水果的喜好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15920" y="3933720"/>
            <a:ext cx="58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Arial"/>
              </a:rPr>
              <a:t>要求：水果种类有苹果、香蕉、梨、葡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34547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434547"/>
                </a:solidFill>
                <a:latin typeface="Arial"/>
              </a:rPr>
              <a:t>每人只选一种水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420000">
            <a:off x="620280" y="1126800"/>
            <a:ext cx="457200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微软雅黑"/>
              </a:rPr>
              <a:t>一起来做任务吧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28" name=""/>
          <p:cNvSpPr/>
          <p:nvPr/>
        </p:nvSpPr>
        <p:spPr>
          <a:xfrm>
            <a:off x="620640" y="4968720"/>
            <a:ext cx="71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Arial"/>
              </a:rPr>
              <a:t>想一想：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你能用什么方法来记录结果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61240" y="623880"/>
            <a:ext cx="25398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5"/>
          <p:cNvGrpSpPr/>
          <p:nvPr/>
        </p:nvGrpSpPr>
        <p:grpSpPr>
          <a:xfrm>
            <a:off x="4299120" y="2565360"/>
            <a:ext cx="4356000" cy="1279440"/>
            <a:chOff x="4299120" y="2565360"/>
            <a:chExt cx="4356000" cy="1279440"/>
          </a:xfrm>
        </p:grpSpPr>
        <p:pic>
          <p:nvPicPr>
            <p:cNvPr id="231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131240" y="2565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AutoShape 27"/>
            <p:cNvSpPr/>
            <p:nvPr/>
          </p:nvSpPr>
          <p:spPr>
            <a:xfrm>
              <a:off x="4299120" y="3068640"/>
              <a:ext cx="2754360" cy="504720"/>
            </a:xfrm>
            <a:prstGeom prst="wedgeRoundRectCallout">
              <a:avLst>
                <a:gd name="adj1" fmla="val 55013"/>
                <a:gd name="adj2" fmla="val 37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你能得到哪些信息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4629240" y="2565360"/>
            <a:ext cx="4027320" cy="1279440"/>
            <a:chOff x="4629240" y="2565360"/>
            <a:chExt cx="4027320" cy="1279440"/>
          </a:xfrm>
        </p:grpSpPr>
        <p:pic>
          <p:nvPicPr>
            <p:cNvPr id="234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132680" y="2565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27"/>
            <p:cNvSpPr/>
            <p:nvPr/>
          </p:nvSpPr>
          <p:spPr>
            <a:xfrm>
              <a:off x="4629240" y="2852640"/>
              <a:ext cx="2425680" cy="93672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条形图和统计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各有什么特点</a:t>
              </a:r>
              <a:r>
                <a:rPr b="1" lang="en-US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53"/>
          <p:cNvGrpSpPr/>
          <p:nvPr/>
        </p:nvGrpSpPr>
        <p:grpSpPr>
          <a:xfrm>
            <a:off x="4238640" y="4835520"/>
            <a:ext cx="4913280" cy="1798560"/>
            <a:chOff x="4238640" y="4835520"/>
            <a:chExt cx="4913280" cy="1798560"/>
          </a:xfrm>
        </p:grpSpPr>
        <p:pic>
          <p:nvPicPr>
            <p:cNvPr id="237" name="Picture 51" descr="小平"/>
            <p:cNvPicPr/>
            <p:nvPr/>
          </p:nvPicPr>
          <p:blipFill>
            <a:blip r:embed="rId3"/>
            <a:stretch/>
          </p:blipFill>
          <p:spPr>
            <a:xfrm flipH="1">
              <a:off x="7129440" y="4835520"/>
              <a:ext cx="2022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27"/>
            <p:cNvSpPr/>
            <p:nvPr/>
          </p:nvSpPr>
          <p:spPr>
            <a:xfrm>
              <a:off x="4238640" y="4905360"/>
              <a:ext cx="3168720" cy="503280"/>
            </a:xfrm>
            <a:prstGeom prst="wedgeRoundRectCallout">
              <a:avLst>
                <a:gd name="adj1" fmla="val 56393"/>
                <a:gd name="adj2" fmla="val 43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晴天比阴天多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3</a:t>
              </a: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天</a:t>
              </a:r>
              <a:r>
                <a:rPr b="1" lang="en-US" sz="2000" spc="-1" strike="noStrike">
                  <a:solidFill>
                    <a:srgbClr val="434547"/>
                  </a:solidFill>
                  <a:latin typeface="宋体"/>
                  <a:ea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9"/>
          <p:cNvGrpSpPr/>
          <p:nvPr/>
        </p:nvGrpSpPr>
        <p:grpSpPr>
          <a:xfrm>
            <a:off x="4143240" y="3943440"/>
            <a:ext cx="5008680" cy="2690640"/>
            <a:chOff x="4143240" y="3943440"/>
            <a:chExt cx="5008680" cy="2690640"/>
          </a:xfrm>
        </p:grpSpPr>
        <p:pic>
          <p:nvPicPr>
            <p:cNvPr id="241" name="Picture 47" descr="小平"/>
            <p:cNvPicPr/>
            <p:nvPr/>
          </p:nvPicPr>
          <p:blipFill>
            <a:blip r:embed="rId4"/>
            <a:stretch/>
          </p:blipFill>
          <p:spPr>
            <a:xfrm flipH="1">
              <a:off x="7129440" y="4835520"/>
              <a:ext cx="2022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AutoShape 27"/>
            <p:cNvSpPr/>
            <p:nvPr/>
          </p:nvSpPr>
          <p:spPr>
            <a:xfrm>
              <a:off x="4143240" y="3943440"/>
              <a:ext cx="3460680" cy="1728720"/>
            </a:xfrm>
            <a:prstGeom prst="wedgeRoundRectCallout">
              <a:avLst>
                <a:gd name="adj1" fmla="val 54902"/>
                <a:gd name="adj2" fmla="val 33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统计表能清楚地看出数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的多少，条形图能直观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反映出数量的差异，便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比较</a:t>
              </a:r>
              <a:r>
                <a:rPr b="1" lang="en-US" sz="2000" spc="-1" strike="noStrike">
                  <a:solidFill>
                    <a:srgbClr val="434547"/>
                  </a:solidFill>
                  <a:latin typeface="宋体"/>
                  <a:ea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3" name=""/>
          <p:cNvGraphicFramePr/>
          <p:nvPr/>
        </p:nvGraphicFramePr>
        <p:xfrm>
          <a:off x="1692360" y="1557360"/>
          <a:ext cx="6192720" cy="8539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多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雷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457200" y="2565360"/>
            <a:ext cx="3243240" cy="3327480"/>
            <a:chOff x="457200" y="2565360"/>
            <a:chExt cx="3243240" cy="3327480"/>
          </a:xfrm>
        </p:grpSpPr>
        <p:pic>
          <p:nvPicPr>
            <p:cNvPr id="245" name="Picture 31" descr="未标题-2"/>
            <p:cNvPicPr/>
            <p:nvPr/>
          </p:nvPicPr>
          <p:blipFill>
            <a:blip r:embed="rId5"/>
            <a:stretch/>
          </p:blipFill>
          <p:spPr>
            <a:xfrm>
              <a:off x="457200" y="2565360"/>
              <a:ext cx="3243240" cy="332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"/>
            <p:cNvGrpSpPr/>
            <p:nvPr/>
          </p:nvGrpSpPr>
          <p:grpSpPr>
            <a:xfrm>
              <a:off x="991800" y="3119400"/>
              <a:ext cx="1914120" cy="2505960"/>
              <a:chOff x="991800" y="3119400"/>
              <a:chExt cx="1914120" cy="2505960"/>
            </a:xfrm>
          </p:grpSpPr>
          <p:sp>
            <p:nvSpPr>
              <p:cNvPr id="247" name=""/>
              <p:cNvSpPr/>
              <p:nvPr/>
            </p:nvSpPr>
            <p:spPr>
              <a:xfrm>
                <a:off x="2270160" y="4240440"/>
                <a:ext cx="217080" cy="13842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88840" y="5038920"/>
                <a:ext cx="217080" cy="5864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91800" y="3119400"/>
                <a:ext cx="217080" cy="250452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11200" y="3972600"/>
                <a:ext cx="217080" cy="16516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40320" y="3119760"/>
                <a:ext cx="217080" cy="25041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685800" y="1690560"/>
            <a:ext cx="6229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4547"/>
                </a:solidFill>
                <a:latin typeface="Calibri"/>
                <a:ea typeface="幼圆"/>
              </a:rPr>
              <a:t>1. </a:t>
            </a:r>
            <a:r>
              <a:rPr b="1" lang="zh-CN" sz="2000" spc="-1" strike="noStrike">
                <a:solidFill>
                  <a:srgbClr val="434547"/>
                </a:solidFill>
                <a:latin typeface="Calibri"/>
                <a:ea typeface="幼圆"/>
              </a:rPr>
              <a:t>统计一下本班同学出生的月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457200" y="1038240"/>
            <a:ext cx="3016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34547"/>
                </a:solidFill>
                <a:latin typeface="Calibri"/>
                <a:ea typeface="幼圆"/>
              </a:rPr>
              <a:t>（一）做一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685800" y="2416320"/>
            <a:ext cx="847080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4547"/>
                </a:solidFill>
                <a:latin typeface="Calibri"/>
                <a:ea typeface="幼圆"/>
              </a:rPr>
              <a:t>2. </a:t>
            </a:r>
            <a:r>
              <a:rPr b="1" lang="zh-CN" sz="2000" spc="-1" strike="noStrike">
                <a:solidFill>
                  <a:srgbClr val="434547"/>
                </a:solidFill>
                <a:latin typeface="Calibri"/>
                <a:ea typeface="幼圆"/>
              </a:rPr>
              <a:t>把统计出来的数据填写在统计表中，并用条形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4547"/>
                </a:solidFill>
                <a:latin typeface="Calibri"/>
                <a:ea typeface="幼圆"/>
              </a:rPr>
              <a:t>    </a:t>
            </a:r>
            <a:r>
              <a:rPr b="1" lang="zh-CN" sz="2000" spc="-1" strike="noStrike">
                <a:solidFill>
                  <a:srgbClr val="434547"/>
                </a:solidFill>
                <a:latin typeface="Calibri"/>
                <a:ea typeface="幼圆"/>
              </a:rPr>
              <a:t>表示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60280" y="3243240"/>
          <a:ext cx="8502480" cy="1133640"/>
        </p:xfrm>
        <a:graphic>
          <a:graphicData uri="http://schemas.openxmlformats.org/drawingml/2006/table">
            <a:tbl>
              <a:tblPr/>
              <a:tblGrid>
                <a:gridCol w="1143000"/>
                <a:gridCol w="612720"/>
                <a:gridCol w="614520"/>
                <a:gridCol w="612720"/>
                <a:gridCol w="614160"/>
                <a:gridCol w="613080"/>
                <a:gridCol w="612720"/>
                <a:gridCol w="614160"/>
                <a:gridCol w="612720"/>
                <a:gridCol w="614520"/>
                <a:gridCol w="612720"/>
                <a:gridCol w="612720"/>
                <a:gridCol w="612720"/>
              </a:tblGrid>
              <a:tr h="56664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出生月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十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十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>
                      <a:noFill/>
                    </a:lnR>
                    <a:lnT w="9360">
                      <a:solidFill>
                        <a:srgbClr val="0066ff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人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>
                      <a:noFill/>
                    </a:lnR>
                    <a:lnT w="5760">
                      <a:solidFill>
                        <a:srgbClr val="434547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09800" y="114768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完成条形统计图，并回相应答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30200" y="1666800"/>
            <a:ext cx="8640360" cy="4448160"/>
            <a:chOff x="430200" y="1666800"/>
            <a:chExt cx="8640360" cy="4448160"/>
          </a:xfrm>
        </p:grpSpPr>
        <p:pic>
          <p:nvPicPr>
            <p:cNvPr id="259" name="Picture 43" descr="101"/>
            <p:cNvPicPr/>
            <p:nvPr/>
          </p:nvPicPr>
          <p:blipFill>
            <a:blip r:embed="rId1"/>
            <a:stretch/>
          </p:blipFill>
          <p:spPr>
            <a:xfrm>
              <a:off x="757440" y="1879200"/>
              <a:ext cx="7707600" cy="351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组合 1"/>
            <p:cNvGrpSpPr/>
            <p:nvPr/>
          </p:nvGrpSpPr>
          <p:grpSpPr>
            <a:xfrm>
              <a:off x="430200" y="1879200"/>
              <a:ext cx="795240" cy="3845160"/>
              <a:chOff x="430200" y="1879200"/>
              <a:chExt cx="795240" cy="3845160"/>
            </a:xfrm>
          </p:grpSpPr>
          <p:sp>
            <p:nvSpPr>
              <p:cNvPr id="261" name="Rectangle 21"/>
              <p:cNvSpPr/>
              <p:nvPr/>
            </p:nvSpPr>
            <p:spPr>
              <a:xfrm>
                <a:off x="585360" y="501804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>
                <a:off x="585360" y="470412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"/>
              <p:cNvSpPr/>
              <p:nvPr/>
            </p:nvSpPr>
            <p:spPr>
              <a:xfrm>
                <a:off x="585360" y="439020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21"/>
              <p:cNvSpPr/>
              <p:nvPr/>
            </p:nvSpPr>
            <p:spPr>
              <a:xfrm>
                <a:off x="585360" y="407628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21"/>
              <p:cNvSpPr/>
              <p:nvPr/>
            </p:nvSpPr>
            <p:spPr>
              <a:xfrm>
                <a:off x="585360" y="376236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21"/>
              <p:cNvSpPr/>
              <p:nvPr/>
            </p:nvSpPr>
            <p:spPr>
              <a:xfrm>
                <a:off x="585360" y="344844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1"/>
              <p:cNvSpPr/>
              <p:nvPr/>
            </p:nvSpPr>
            <p:spPr>
              <a:xfrm>
                <a:off x="585360" y="313452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1"/>
              <p:cNvSpPr/>
              <p:nvPr/>
            </p:nvSpPr>
            <p:spPr>
              <a:xfrm>
                <a:off x="585360" y="282060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585360" y="250668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1"/>
              <p:cNvSpPr/>
              <p:nvPr/>
            </p:nvSpPr>
            <p:spPr>
              <a:xfrm>
                <a:off x="585360" y="2192760"/>
                <a:ext cx="4550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430200" y="1879200"/>
                <a:ext cx="795240" cy="70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</a:t>
                </a:r>
                <a:r>
                  <a:rPr b="1" lang="en-US" sz="16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757440" y="1666800"/>
              <a:ext cx="12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34547"/>
                  </a:solidFill>
                  <a:latin typeface="Arial"/>
                </a:rPr>
                <a:t>人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038800" y="5328360"/>
              <a:ext cx="85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Arial"/>
                </a:rPr>
                <a:t>月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72"/>
            <p:cNvGrpSpPr/>
            <p:nvPr/>
          </p:nvGrpSpPr>
          <p:grpSpPr>
            <a:xfrm>
              <a:off x="1010880" y="5329800"/>
              <a:ext cx="8059680" cy="785160"/>
              <a:chOff x="1010880" y="5329800"/>
              <a:chExt cx="8059680" cy="785160"/>
            </a:xfrm>
          </p:grpSpPr>
          <p:sp>
            <p:nvSpPr>
              <p:cNvPr id="275" name="Rectangle 21"/>
              <p:cNvSpPr/>
              <p:nvPr/>
            </p:nvSpPr>
            <p:spPr>
              <a:xfrm>
                <a:off x="101088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9920" indent="-3499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9920" indent="-3499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1"/>
              <p:cNvSpPr/>
              <p:nvPr/>
            </p:nvSpPr>
            <p:spPr>
              <a:xfrm>
                <a:off x="158580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1"/>
              <p:cNvSpPr/>
              <p:nvPr/>
            </p:nvSpPr>
            <p:spPr>
              <a:xfrm>
                <a:off x="216072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28320" indent="-3283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1"/>
              <p:cNvSpPr/>
              <p:nvPr/>
            </p:nvSpPr>
            <p:spPr>
              <a:xfrm>
                <a:off x="273204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1000"/>
              </a:bodyPr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四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1"/>
              <p:cNvSpPr/>
              <p:nvPr/>
            </p:nvSpPr>
            <p:spPr>
              <a:xfrm>
                <a:off x="327420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五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1"/>
              <p:cNvSpPr/>
              <p:nvPr/>
            </p:nvSpPr>
            <p:spPr>
              <a:xfrm>
                <a:off x="388404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六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1"/>
              <p:cNvSpPr/>
              <p:nvPr/>
            </p:nvSpPr>
            <p:spPr>
              <a:xfrm>
                <a:off x="443592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1"/>
              <p:cNvSpPr/>
              <p:nvPr/>
            </p:nvSpPr>
            <p:spPr>
              <a:xfrm>
                <a:off x="501084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八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21"/>
              <p:cNvSpPr/>
              <p:nvPr/>
            </p:nvSpPr>
            <p:spPr>
              <a:xfrm>
                <a:off x="556092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4640" indent="-2246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21"/>
              <p:cNvSpPr/>
              <p:nvPr/>
            </p:nvSpPr>
            <p:spPr>
              <a:xfrm>
                <a:off x="6157080" y="5329800"/>
                <a:ext cx="607680" cy="57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1000"/>
              </a:bodyPr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3440" indent="-2534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1"/>
              <p:cNvSpPr/>
              <p:nvPr/>
            </p:nvSpPr>
            <p:spPr>
              <a:xfrm>
                <a:off x="6728040" y="5329800"/>
                <a:ext cx="607680" cy="78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2000"/>
              </a:bodyPr>
              <a:p>
                <a:pPr marL="257040" indent="-2570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7040" indent="-2570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7040" indent="-2570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57040" indent="-25704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21"/>
              <p:cNvSpPr/>
              <p:nvPr/>
            </p:nvSpPr>
            <p:spPr>
              <a:xfrm>
                <a:off x="7283880" y="5329800"/>
                <a:ext cx="607680" cy="78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1000"/>
              </a:bodyPr>
              <a:p>
                <a:pPr marL="217800" indent="-2178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7800" indent="-2178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7800" indent="-2178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     </a:t>
                </a:r>
                <a:r>
                  <a:rPr b="1" lang="zh-CN" sz="1400" spc="-1" strike="noStrike">
                    <a:solidFill>
                      <a:srgbClr val="434547"/>
                    </a:solidFill>
                    <a:latin typeface="Calibri"/>
                    <a:ea typeface="幼圆"/>
                  </a:rPr>
                  <a:t>月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17800" indent="-21780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21"/>
              <p:cNvSpPr/>
              <p:nvPr/>
            </p:nvSpPr>
            <p:spPr>
              <a:xfrm>
                <a:off x="7941960" y="5329800"/>
                <a:ext cx="112860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57120" indent="-3571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57120" indent="-357120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11280" y="3862440"/>
            <a:ext cx="4440240" cy="2519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457200" y="1487520"/>
            <a:ext cx="7972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34547"/>
                </a:solidFill>
                <a:latin typeface="Calibri"/>
                <a:ea typeface="幼圆"/>
              </a:rPr>
              <a:t>（二）根据表中数据绘制条形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8520" y="6218280"/>
            <a:ext cx="5280120" cy="557280"/>
            <a:chOff x="1298520" y="6218280"/>
            <a:chExt cx="5280120" cy="557280"/>
          </a:xfrm>
        </p:grpSpPr>
        <p:sp>
          <p:nvSpPr>
            <p:cNvPr id="292" name="Rectangle 21"/>
            <p:cNvSpPr/>
            <p:nvPr/>
          </p:nvSpPr>
          <p:spPr>
            <a:xfrm>
              <a:off x="5810040" y="6218280"/>
              <a:ext cx="768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盆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260"/>
            <p:cNvGrpSpPr/>
            <p:nvPr/>
          </p:nvGrpSpPr>
          <p:grpSpPr>
            <a:xfrm>
              <a:off x="1298520" y="6418440"/>
              <a:ext cx="4487760" cy="357120"/>
              <a:chOff x="1298520" y="6418440"/>
              <a:chExt cx="4487760" cy="357120"/>
            </a:xfrm>
          </p:grpSpPr>
          <p:sp>
            <p:nvSpPr>
              <p:cNvPr id="294" name="Rectangle 21"/>
              <p:cNvSpPr/>
              <p:nvPr/>
            </p:nvSpPr>
            <p:spPr>
              <a:xfrm>
                <a:off x="129852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1"/>
              <p:cNvSpPr/>
              <p:nvPr/>
            </p:nvSpPr>
            <p:spPr>
              <a:xfrm>
                <a:off x="166680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21"/>
              <p:cNvSpPr/>
              <p:nvPr/>
            </p:nvSpPr>
            <p:spPr>
              <a:xfrm>
                <a:off x="2036880" y="641844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1"/>
              <p:cNvSpPr/>
              <p:nvPr/>
            </p:nvSpPr>
            <p:spPr>
              <a:xfrm>
                <a:off x="2405160" y="6418440"/>
                <a:ext cx="4302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21"/>
              <p:cNvSpPr/>
              <p:nvPr/>
            </p:nvSpPr>
            <p:spPr>
              <a:xfrm>
                <a:off x="277488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3144960" y="641844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21"/>
              <p:cNvSpPr/>
              <p:nvPr/>
            </p:nvSpPr>
            <p:spPr>
              <a:xfrm>
                <a:off x="3513240" y="641844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21"/>
              <p:cNvSpPr/>
              <p:nvPr/>
            </p:nvSpPr>
            <p:spPr>
              <a:xfrm>
                <a:off x="388296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21"/>
              <p:cNvSpPr/>
              <p:nvPr/>
            </p:nvSpPr>
            <p:spPr>
              <a:xfrm>
                <a:off x="425124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21"/>
              <p:cNvSpPr/>
              <p:nvPr/>
            </p:nvSpPr>
            <p:spPr>
              <a:xfrm>
                <a:off x="4619520" y="6418440"/>
                <a:ext cx="42876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1"/>
              <p:cNvSpPr/>
              <p:nvPr/>
            </p:nvSpPr>
            <p:spPr>
              <a:xfrm>
                <a:off x="4989600" y="641844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1"/>
              <p:cNvSpPr/>
              <p:nvPr/>
            </p:nvSpPr>
            <p:spPr>
              <a:xfrm>
                <a:off x="5357880" y="6418440"/>
                <a:ext cx="42840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marL="349920" indent="-349920"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2060"/>
                    </a:solidFill>
                    <a:latin typeface="Calibri"/>
                    <a:ea typeface="幼圆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944640" y="3862440"/>
            <a:ext cx="770040" cy="2430360"/>
            <a:chOff x="944640" y="3862440"/>
            <a:chExt cx="770040" cy="2430360"/>
          </a:xfrm>
        </p:grpSpPr>
        <p:sp>
          <p:nvSpPr>
            <p:cNvPr id="307" name="Rectangle 21"/>
            <p:cNvSpPr/>
            <p:nvPr/>
          </p:nvSpPr>
          <p:spPr>
            <a:xfrm>
              <a:off x="944640" y="5864400"/>
              <a:ext cx="7682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红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944640" y="5381640"/>
              <a:ext cx="768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黄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1"/>
            <p:cNvSpPr/>
            <p:nvPr/>
          </p:nvSpPr>
          <p:spPr>
            <a:xfrm>
              <a:off x="944640" y="4899240"/>
              <a:ext cx="7682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蓝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1"/>
            <p:cNvSpPr/>
            <p:nvPr/>
          </p:nvSpPr>
          <p:spPr>
            <a:xfrm>
              <a:off x="944640" y="4416480"/>
              <a:ext cx="768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粉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1"/>
            <p:cNvSpPr/>
            <p:nvPr/>
          </p:nvSpPr>
          <p:spPr>
            <a:xfrm>
              <a:off x="944640" y="3862440"/>
              <a:ext cx="77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Calibri"/>
                  <a:ea typeface="幼圆"/>
                </a:rPr>
                <a:t>颜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57120" indent="-3571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矩形 176"/>
          <p:cNvSpPr/>
          <p:nvPr/>
        </p:nvSpPr>
        <p:spPr>
          <a:xfrm>
            <a:off x="1539720" y="5848200"/>
            <a:ext cx="2943360" cy="241560"/>
          </a:xfrm>
          <a:prstGeom prst="rect">
            <a:avLst/>
          </a:prstGeom>
          <a:solidFill>
            <a:srgbClr val="cc0066">
              <a:alpha val="50000"/>
            </a:srgbClr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77"/>
          <p:cNvSpPr/>
          <p:nvPr/>
        </p:nvSpPr>
        <p:spPr>
          <a:xfrm>
            <a:off x="1539720" y="5369040"/>
            <a:ext cx="2587680" cy="24120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78"/>
          <p:cNvSpPr/>
          <p:nvPr/>
        </p:nvSpPr>
        <p:spPr>
          <a:xfrm>
            <a:off x="1539720" y="4875120"/>
            <a:ext cx="1841760" cy="241560"/>
          </a:xfrm>
          <a:prstGeom prst="rect">
            <a:avLst/>
          </a:prstGeom>
          <a:solidFill>
            <a:srgbClr val="0066ff">
              <a:alpha val="50000"/>
            </a:srgbClr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79"/>
          <p:cNvSpPr/>
          <p:nvPr/>
        </p:nvSpPr>
        <p:spPr>
          <a:xfrm>
            <a:off x="1525680" y="4386240"/>
            <a:ext cx="2193840" cy="241200"/>
          </a:xfrm>
          <a:prstGeom prst="rect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85"/>
          <p:cNvSpPr/>
          <p:nvPr/>
        </p:nvSpPr>
        <p:spPr>
          <a:xfrm flipH="1">
            <a:off x="4494240" y="5845320"/>
            <a:ext cx="1440" cy="25380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86"/>
          <p:cNvSpPr/>
          <p:nvPr/>
        </p:nvSpPr>
        <p:spPr>
          <a:xfrm flipH="1">
            <a:off x="4130280" y="5348160"/>
            <a:ext cx="1800" cy="252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87"/>
          <p:cNvSpPr/>
          <p:nvPr/>
        </p:nvSpPr>
        <p:spPr>
          <a:xfrm flipH="1">
            <a:off x="3368160" y="4867200"/>
            <a:ext cx="3240" cy="2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88"/>
          <p:cNvSpPr/>
          <p:nvPr/>
        </p:nvSpPr>
        <p:spPr>
          <a:xfrm flipH="1">
            <a:off x="3749760" y="4379760"/>
            <a:ext cx="1440" cy="25272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68"/>
          <p:cNvGrpSpPr/>
          <p:nvPr/>
        </p:nvGrpSpPr>
        <p:grpSpPr>
          <a:xfrm>
            <a:off x="5114880" y="0"/>
            <a:ext cx="3708360" cy="1557360"/>
            <a:chOff x="5114880" y="0"/>
            <a:chExt cx="3708360" cy="1557360"/>
          </a:xfrm>
        </p:grpSpPr>
        <p:pic>
          <p:nvPicPr>
            <p:cNvPr id="321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299360" y="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AutoShape 27"/>
            <p:cNvSpPr/>
            <p:nvPr/>
          </p:nvSpPr>
          <p:spPr>
            <a:xfrm>
              <a:off x="5114880" y="647640"/>
              <a:ext cx="2147760" cy="909720"/>
            </a:xfrm>
            <a:prstGeom prst="wedgeRoundRectCallout">
              <a:avLst>
                <a:gd name="adj1" fmla="val 61379"/>
                <a:gd name="adj2" fmla="val 58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你能提出哪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数学问题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67"/>
          <p:cNvGrpSpPr/>
          <p:nvPr/>
        </p:nvGrpSpPr>
        <p:grpSpPr>
          <a:xfrm>
            <a:off x="-28440" y="2805120"/>
            <a:ext cx="4142880" cy="1279440"/>
            <a:chOff x="-28440" y="2805120"/>
            <a:chExt cx="4142880" cy="1279440"/>
          </a:xfrm>
        </p:grpSpPr>
        <p:pic>
          <p:nvPicPr>
            <p:cNvPr id="324" name="Picture 19" descr="女天使副本"/>
            <p:cNvPicPr/>
            <p:nvPr/>
          </p:nvPicPr>
          <p:blipFill>
            <a:blip r:embed="rId3"/>
            <a:stretch/>
          </p:blipFill>
          <p:spPr>
            <a:xfrm>
              <a:off x="-28440" y="2805120"/>
              <a:ext cx="1521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AutoShape 27"/>
            <p:cNvSpPr/>
            <p:nvPr/>
          </p:nvSpPr>
          <p:spPr>
            <a:xfrm>
              <a:off x="1534680" y="3236760"/>
              <a:ext cx="2579760" cy="576360"/>
            </a:xfrm>
            <a:prstGeom prst="wedgeRoundRectCallout">
              <a:avLst>
                <a:gd name="adj1" fmla="val -59837"/>
                <a:gd name="adj2" fmla="val 35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一共有多少盆花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72"/>
          <p:cNvGrpSpPr/>
          <p:nvPr/>
        </p:nvGrpSpPr>
        <p:grpSpPr>
          <a:xfrm>
            <a:off x="5699160" y="3236760"/>
            <a:ext cx="3193920" cy="2639880"/>
            <a:chOff x="5699160" y="3236760"/>
            <a:chExt cx="3193920" cy="2639880"/>
          </a:xfrm>
        </p:grpSpPr>
        <p:pic>
          <p:nvPicPr>
            <p:cNvPr id="327" name="Picture 270" descr="小平"/>
            <p:cNvPicPr/>
            <p:nvPr/>
          </p:nvPicPr>
          <p:blipFill>
            <a:blip r:embed="rId4"/>
            <a:stretch/>
          </p:blipFill>
          <p:spPr>
            <a:xfrm flipH="1">
              <a:off x="6784560" y="4171680"/>
              <a:ext cx="1917720" cy="17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27"/>
            <p:cNvSpPr/>
            <p:nvPr/>
          </p:nvSpPr>
          <p:spPr>
            <a:xfrm>
              <a:off x="5699160" y="3236760"/>
              <a:ext cx="3193920" cy="925560"/>
            </a:xfrm>
            <a:prstGeom prst="wedgeRoundRectCallout">
              <a:avLst>
                <a:gd name="adj1" fmla="val -2268"/>
                <a:gd name="adj2" fmla="val 690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8</a:t>
              </a:r>
              <a:r>
                <a:rPr b="1" lang="zh-CN" sz="2000" spc="-1" strike="noStrike">
                  <a:solidFill>
                    <a:srgbClr val="53231b"/>
                  </a:solidFill>
                  <a:latin typeface="Calibri"/>
                  <a:ea typeface="幼圆"/>
                </a:rPr>
                <a:t>＋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7</a:t>
              </a:r>
              <a:r>
                <a:rPr b="1" lang="zh-CN" sz="2000" spc="-1" strike="noStrike">
                  <a:solidFill>
                    <a:srgbClr val="53231b"/>
                  </a:solidFill>
                  <a:latin typeface="Calibri"/>
                  <a:ea typeface="幼圆"/>
                </a:rPr>
                <a:t>＋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5</a:t>
              </a:r>
              <a:r>
                <a:rPr b="1" lang="zh-CN" sz="2000" spc="-1" strike="noStrike">
                  <a:solidFill>
                    <a:srgbClr val="53231b"/>
                  </a:solidFill>
                  <a:latin typeface="Calibri"/>
                  <a:ea typeface="幼圆"/>
                </a:rPr>
                <a:t>＋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6</a:t>
              </a:r>
              <a:r>
                <a:rPr b="1" lang="zh-CN" sz="2000" spc="-1" strike="noStrike">
                  <a:solidFill>
                    <a:srgbClr val="53231b"/>
                  </a:solidFill>
                  <a:latin typeface="Calibri"/>
                  <a:ea typeface="幼圆"/>
                </a:rPr>
                <a:t>＝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26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（盆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答：一共有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26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盆花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1500120" y="2227320"/>
          <a:ext cx="609588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颜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红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黄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蓝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粉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34547"/>
                          </a:solidFill>
                          <a:latin typeface="Calibri"/>
                          <a:ea typeface="幼圆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53231b"/>
              </a:solidFill>
              <a:latin typeface="Baskerville Old Face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71400" y="2422440"/>
            <a:ext cx="798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Calibri"/>
                <a:ea typeface="幼圆"/>
              </a:rPr>
              <a:t>作业：</a:t>
            </a:r>
            <a:r>
              <a:rPr b="1" lang="zh-CN" sz="3200" spc="-1" strike="noStrike">
                <a:solidFill>
                  <a:srgbClr val="434547"/>
                </a:solidFill>
                <a:latin typeface="Calibri"/>
                <a:ea typeface="幼圆"/>
              </a:rPr>
              <a:t>第</a:t>
            </a:r>
            <a:r>
              <a:rPr b="1" lang="en-US" sz="3200" spc="-1" strike="noStrike">
                <a:solidFill>
                  <a:srgbClr val="434547"/>
                </a:solidFill>
                <a:latin typeface="Calibri"/>
                <a:ea typeface="幼圆"/>
              </a:rPr>
              <a:t>100</a:t>
            </a:r>
            <a:r>
              <a:rPr b="1" lang="zh-CN" sz="3200" spc="-1" strike="noStrike">
                <a:solidFill>
                  <a:srgbClr val="434547"/>
                </a:solidFill>
                <a:latin typeface="Calibri"/>
                <a:ea typeface="幼圆"/>
              </a:rPr>
              <a:t>页练习十九，第</a:t>
            </a:r>
            <a:r>
              <a:rPr b="1" lang="en-US" sz="3200" spc="-1" strike="noStrike">
                <a:solidFill>
                  <a:srgbClr val="434547"/>
                </a:solidFill>
                <a:latin typeface="Calibri"/>
                <a:ea typeface="幼圆"/>
              </a:rPr>
              <a:t>1</a:t>
            </a:r>
            <a:r>
              <a:rPr b="1" lang="zh-CN" sz="3200" spc="-1" strike="noStrike">
                <a:solidFill>
                  <a:srgbClr val="434547"/>
                </a:solidFill>
                <a:latin typeface="Calibri"/>
                <a:ea typeface="幼圆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8280" y="606240"/>
            <a:ext cx="7875360" cy="69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e09e7"/>
                </a:solidFill>
                <a:latin typeface="Baskerville Old Face"/>
              </a:rPr>
              <a:t>根据收集的数据制成统计表</a:t>
            </a:r>
            <a:endParaRPr b="1" lang="en-US" sz="3600" spc="-1" strike="noStrike">
              <a:solidFill>
                <a:srgbClr val="53231b"/>
              </a:solidFill>
              <a:latin typeface="Baskerville Old Face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47800" y="2422440"/>
          <a:ext cx="7469280" cy="1692360"/>
        </p:xfrm>
        <a:graphic>
          <a:graphicData uri="http://schemas.openxmlformats.org/drawingml/2006/table">
            <a:tbl>
              <a:tblPr/>
              <a:tblGrid>
                <a:gridCol w="1492200"/>
                <a:gridCol w="1494000"/>
                <a:gridCol w="1493640"/>
                <a:gridCol w="1492200"/>
                <a:gridCol w="1497240"/>
              </a:tblGrid>
              <a:tr h="84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水果种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苹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香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葡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>
                      <a:noFill/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数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434547"/>
                      </a:solidFill>
                    </a:lnL>
                    <a:lnR>
                      <a:noFill/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92280" y="1303200"/>
            <a:ext cx="57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四年级学生对四种水果的喜好情况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4457880"/>
            <a:ext cx="166680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微软雅黑"/>
              </a:rPr>
              <a:t>思考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34" name=""/>
          <p:cNvSpPr/>
          <p:nvPr/>
        </p:nvSpPr>
        <p:spPr>
          <a:xfrm>
            <a:off x="2305080" y="45212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从这个表里面，你能得到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7800" y="5472000"/>
            <a:ext cx="74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4547"/>
                </a:solidFill>
                <a:latin typeface="Arial"/>
              </a:rPr>
              <a:t>你能将表格用一种比较直观的图形来表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189160" y="3249720"/>
            <a:ext cx="4968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条形统计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37" name=""/>
          <p:cNvSpPr/>
          <p:nvPr/>
        </p:nvSpPr>
        <p:spPr>
          <a:xfrm>
            <a:off x="2766960" y="2701800"/>
            <a:ext cx="37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6000" y="2427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4547"/>
                </a:solidFill>
                <a:latin typeface="黑体"/>
                <a:ea typeface="黑体"/>
              </a:rPr>
              <a:t>第七单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3231b"/>
                </a:solidFill>
                <a:latin typeface="Baskerville Old Face"/>
              </a:rPr>
              <a:t>  </a:t>
            </a:r>
            <a:r>
              <a:rPr b="1" lang="zh-CN" sz="3200" spc="-1" strike="noStrike">
                <a:solidFill>
                  <a:srgbClr val="53231b"/>
                </a:solidFill>
                <a:latin typeface="Baskerville Old Face"/>
              </a:rPr>
              <a:t>探究新知</a:t>
            </a:r>
            <a:endParaRPr b="1" lang="en-US" sz="3200" spc="-1" strike="noStrike">
              <a:solidFill>
                <a:srgbClr val="53231b"/>
              </a:solidFill>
              <a:latin typeface="Baskerville Old Face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876240" y="1530360"/>
            <a:ext cx="7323120" cy="3023640"/>
            <a:chOff x="876240" y="1530360"/>
            <a:chExt cx="7323120" cy="3023640"/>
          </a:xfrm>
        </p:grpSpPr>
        <p:grpSp>
          <p:nvGrpSpPr>
            <p:cNvPr id="141" name="Group 11"/>
            <p:cNvGrpSpPr/>
            <p:nvPr/>
          </p:nvGrpSpPr>
          <p:grpSpPr>
            <a:xfrm>
              <a:off x="876240" y="1530360"/>
              <a:ext cx="6124680" cy="3023640"/>
              <a:chOff x="876240" y="1530360"/>
              <a:chExt cx="6124680" cy="3023640"/>
            </a:xfrm>
          </p:grpSpPr>
          <p:pic>
            <p:nvPicPr>
              <p:cNvPr id="142" name="Picture 7" descr="95"/>
              <p:cNvPicPr/>
              <p:nvPr/>
            </p:nvPicPr>
            <p:blipFill>
              <a:blip r:embed="rId1"/>
              <a:stretch/>
            </p:blipFill>
            <p:spPr>
              <a:xfrm>
                <a:off x="884160" y="1530360"/>
                <a:ext cx="4862520" cy="251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" name="Group 10"/>
              <p:cNvGrpSpPr/>
              <p:nvPr/>
            </p:nvGrpSpPr>
            <p:grpSpPr>
              <a:xfrm>
                <a:off x="876240" y="4122360"/>
                <a:ext cx="6124680" cy="431640"/>
                <a:chOff x="876240" y="4122360"/>
                <a:chExt cx="6124680" cy="431640"/>
              </a:xfrm>
            </p:grpSpPr>
            <p:pic>
              <p:nvPicPr>
                <p:cNvPr id="144" name="Picture 8" descr="96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76240" y="4122360"/>
                  <a:ext cx="490536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Rectangle 9"/>
                <p:cNvSpPr/>
                <p:nvPr/>
              </p:nvSpPr>
              <p:spPr>
                <a:xfrm>
                  <a:off x="1168200" y="4141440"/>
                  <a:ext cx="5832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434547"/>
                      </a:solidFill>
                      <a:latin typeface="Arial"/>
                    </a:rPr>
                    <a:t>晴           阴              多云              阵雨           雷阵雨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46" name="Picture 12" descr="97"/>
            <p:cNvPicPr/>
            <p:nvPr/>
          </p:nvPicPr>
          <p:blipFill>
            <a:blip r:embed="rId3"/>
            <a:stretch/>
          </p:blipFill>
          <p:spPr>
            <a:xfrm>
              <a:off x="6429240" y="2206440"/>
              <a:ext cx="1770120" cy="233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Box 1"/>
          <p:cNvSpPr/>
          <p:nvPr/>
        </p:nvSpPr>
        <p:spPr>
          <a:xfrm>
            <a:off x="876240" y="5054760"/>
            <a:ext cx="7893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幼圆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幼圆"/>
              </a:rPr>
              <a:t>这个月的每种天气各有多少天？你能把它们清楚地表示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94,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6"/>
          <p:cNvGrpSpPr/>
          <p:nvPr/>
        </p:nvGrpSpPr>
        <p:grpSpPr>
          <a:xfrm>
            <a:off x="638280" y="4089240"/>
            <a:ext cx="4176720" cy="1800360"/>
            <a:chOff x="638280" y="4089240"/>
            <a:chExt cx="4176720" cy="1800360"/>
          </a:xfrm>
        </p:grpSpPr>
        <p:pic>
          <p:nvPicPr>
            <p:cNvPr id="149" name="Picture 24" descr="80"/>
            <p:cNvPicPr/>
            <p:nvPr/>
          </p:nvPicPr>
          <p:blipFill>
            <a:blip r:embed="rId1"/>
            <a:stretch/>
          </p:blipFill>
          <p:spPr>
            <a:xfrm>
              <a:off x="638280" y="408924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27"/>
            <p:cNvSpPr/>
            <p:nvPr/>
          </p:nvSpPr>
          <p:spPr>
            <a:xfrm>
              <a:off x="2293920" y="4305240"/>
              <a:ext cx="2521080" cy="576000"/>
            </a:xfrm>
            <a:prstGeom prst="wedgeRoundRectCallout">
              <a:avLst>
                <a:gd name="adj1" fmla="val -60074"/>
                <a:gd name="adj2" fmla="val -7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我用统计表表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8280" y="368280"/>
            <a:ext cx="78753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3231b"/>
                </a:solidFill>
                <a:latin typeface="Baskerville Old Face"/>
              </a:rPr>
              <a:t>  </a:t>
            </a:r>
            <a:r>
              <a:rPr b="1" lang="zh-CN" sz="3200" spc="-1" strike="noStrike">
                <a:solidFill>
                  <a:srgbClr val="53231b"/>
                </a:solidFill>
                <a:latin typeface="Baskerville Old Face"/>
              </a:rPr>
              <a:t>探究新知</a:t>
            </a:r>
            <a:endParaRPr b="1" lang="en-US" sz="3200" spc="-1" strike="noStrike">
              <a:solidFill>
                <a:srgbClr val="53231b"/>
              </a:solidFill>
              <a:latin typeface="Baskerville Old Face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1190520" y="1065240"/>
            <a:ext cx="7323120" cy="3023640"/>
            <a:chOff x="1190520" y="1065240"/>
            <a:chExt cx="7323120" cy="3023640"/>
          </a:xfrm>
        </p:grpSpPr>
        <p:grpSp>
          <p:nvGrpSpPr>
            <p:cNvPr id="153" name="Group 11"/>
            <p:cNvGrpSpPr/>
            <p:nvPr/>
          </p:nvGrpSpPr>
          <p:grpSpPr>
            <a:xfrm>
              <a:off x="1190520" y="1065240"/>
              <a:ext cx="6124680" cy="3023640"/>
              <a:chOff x="1190520" y="1065240"/>
              <a:chExt cx="6124680" cy="3023640"/>
            </a:xfrm>
          </p:grpSpPr>
          <p:pic>
            <p:nvPicPr>
              <p:cNvPr id="154" name="Picture 7" descr="95"/>
              <p:cNvPicPr/>
              <p:nvPr/>
            </p:nvPicPr>
            <p:blipFill>
              <a:blip r:embed="rId2"/>
              <a:stretch/>
            </p:blipFill>
            <p:spPr>
              <a:xfrm>
                <a:off x="1198440" y="1065240"/>
                <a:ext cx="4862520" cy="2517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5" name="Group 10"/>
              <p:cNvGrpSpPr/>
              <p:nvPr/>
            </p:nvGrpSpPr>
            <p:grpSpPr>
              <a:xfrm>
                <a:off x="1190520" y="3657240"/>
                <a:ext cx="6124680" cy="431640"/>
                <a:chOff x="1190520" y="3657240"/>
                <a:chExt cx="6124680" cy="431640"/>
              </a:xfrm>
            </p:grpSpPr>
            <p:pic>
              <p:nvPicPr>
                <p:cNvPr id="156" name="Picture 8" descr="96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90520" y="3657240"/>
                  <a:ext cx="4905360" cy="43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Rectangle 9"/>
                <p:cNvSpPr/>
                <p:nvPr/>
              </p:nvSpPr>
              <p:spPr>
                <a:xfrm>
                  <a:off x="1482480" y="3676320"/>
                  <a:ext cx="5832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434547"/>
                      </a:solidFill>
                      <a:latin typeface="Arial"/>
                    </a:rPr>
                    <a:t>晴           阴               多云           阵雨              雷阵雨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8" name="Picture 12" descr="97"/>
            <p:cNvPicPr/>
            <p:nvPr/>
          </p:nvPicPr>
          <p:blipFill>
            <a:blip r:embed="rId4"/>
            <a:stretch/>
          </p:blipFill>
          <p:spPr>
            <a:xfrm>
              <a:off x="6743520" y="1741320"/>
              <a:ext cx="1770120" cy="23346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9" name=""/>
          <p:cNvGraphicFramePr/>
          <p:nvPr/>
        </p:nvGraphicFramePr>
        <p:xfrm>
          <a:off x="2316240" y="5491080"/>
          <a:ext cx="6192720" cy="8539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多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雷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00440" y="5126040"/>
            <a:ext cx="489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11400" y="4927680"/>
            <a:ext cx="43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34547"/>
                </a:solidFill>
                <a:latin typeface="Arial"/>
              </a:rPr>
              <a:t>北京市</a:t>
            </a:r>
            <a:r>
              <a:rPr b="0" lang="zh-CN" sz="2000" spc="-1" strike="noStrike">
                <a:solidFill>
                  <a:srgbClr val="434547"/>
                </a:solidFill>
                <a:latin typeface="Arial"/>
              </a:rPr>
              <a:t>2012</a:t>
            </a:r>
            <a:r>
              <a:rPr b="0" lang="zh-CN" sz="2000" spc="-1" strike="noStrike">
                <a:solidFill>
                  <a:srgbClr val="434547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434547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434547"/>
                </a:solidFill>
                <a:latin typeface="Arial"/>
              </a:rPr>
              <a:t>月的天气情况统计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7"/>
          <p:cNvGrpSpPr/>
          <p:nvPr/>
        </p:nvGrpSpPr>
        <p:grpSpPr>
          <a:xfrm>
            <a:off x="2244600" y="4186080"/>
            <a:ext cx="2695680" cy="2410560"/>
            <a:chOff x="2244600" y="4186080"/>
            <a:chExt cx="2695680" cy="2410560"/>
          </a:xfrm>
        </p:grpSpPr>
        <p:pic>
          <p:nvPicPr>
            <p:cNvPr id="164" name="Picture 25" descr="98"/>
            <p:cNvPicPr/>
            <p:nvPr/>
          </p:nvPicPr>
          <p:blipFill>
            <a:blip r:embed="rId1"/>
            <a:stretch/>
          </p:blipFill>
          <p:spPr>
            <a:xfrm>
              <a:off x="2244600" y="4186080"/>
              <a:ext cx="269568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26"/>
            <p:cNvSpPr/>
            <p:nvPr/>
          </p:nvSpPr>
          <p:spPr>
            <a:xfrm>
              <a:off x="2961360" y="6259320"/>
              <a:ext cx="159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4547"/>
                  </a:solidFill>
                  <a:latin typeface="Arial"/>
                </a:rPr>
                <a:t>晴  阴  多云 阵雨 雷阵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1"/>
          <p:cNvGrpSpPr/>
          <p:nvPr/>
        </p:nvGrpSpPr>
        <p:grpSpPr>
          <a:xfrm>
            <a:off x="1042920" y="1484280"/>
            <a:ext cx="6124680" cy="2592360"/>
            <a:chOff x="1042920" y="1484280"/>
            <a:chExt cx="6124680" cy="2592360"/>
          </a:xfrm>
        </p:grpSpPr>
        <p:pic>
          <p:nvPicPr>
            <p:cNvPr id="167" name="Picture 32" descr="95"/>
            <p:cNvPicPr/>
            <p:nvPr/>
          </p:nvPicPr>
          <p:blipFill>
            <a:blip r:embed="rId2"/>
            <a:stretch/>
          </p:blipFill>
          <p:spPr>
            <a:xfrm>
              <a:off x="1050840" y="1484280"/>
              <a:ext cx="417024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33"/>
            <p:cNvGrpSpPr/>
            <p:nvPr/>
          </p:nvGrpSpPr>
          <p:grpSpPr>
            <a:xfrm>
              <a:off x="1042920" y="3645000"/>
              <a:ext cx="6124680" cy="431640"/>
              <a:chOff x="1042920" y="3645000"/>
              <a:chExt cx="6124680" cy="431640"/>
            </a:xfrm>
          </p:grpSpPr>
          <p:pic>
            <p:nvPicPr>
              <p:cNvPr id="169" name="Picture 34" descr="96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3645000"/>
                <a:ext cx="4905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Rectangle 35"/>
              <p:cNvSpPr/>
              <p:nvPr/>
            </p:nvSpPr>
            <p:spPr>
              <a:xfrm>
                <a:off x="1334880" y="3664080"/>
                <a:ext cx="58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34547"/>
                    </a:solidFill>
                    <a:latin typeface="Arial"/>
                  </a:rPr>
                  <a:t>晴      阴      多云      阵雨     雷阵雨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003640" y="4340160"/>
            <a:ext cx="3502080" cy="1422360"/>
            <a:chOff x="5003640" y="4340160"/>
            <a:chExt cx="3502080" cy="1422360"/>
          </a:xfrm>
        </p:grpSpPr>
        <p:sp>
          <p:nvSpPr>
            <p:cNvPr id="172" name="AutoShape 27"/>
            <p:cNvSpPr/>
            <p:nvPr/>
          </p:nvSpPr>
          <p:spPr>
            <a:xfrm>
              <a:off x="5003640" y="4744800"/>
              <a:ext cx="1871640" cy="503280"/>
            </a:xfrm>
            <a:prstGeom prst="wedgeRoundRectCallout">
              <a:avLst>
                <a:gd name="adj1" fmla="val 61958"/>
                <a:gd name="adj2" fmla="val 383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我用圆圈表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6838920" y="4340160"/>
              <a:ext cx="1666800" cy="14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4233960" y="3664080"/>
            <a:ext cx="4825440" cy="1414440"/>
            <a:chOff x="4233960" y="3664080"/>
            <a:chExt cx="4825440" cy="1414440"/>
          </a:xfrm>
        </p:grpSpPr>
        <p:pic>
          <p:nvPicPr>
            <p:cNvPr id="176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535520" y="36640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27"/>
            <p:cNvSpPr/>
            <p:nvPr/>
          </p:nvSpPr>
          <p:spPr>
            <a:xfrm>
              <a:off x="4233960" y="4321440"/>
              <a:ext cx="3239640" cy="576000"/>
            </a:xfrm>
            <a:prstGeom prst="wedgeRoundRectCallout">
              <a:avLst>
                <a:gd name="adj1" fmla="val 56564"/>
                <a:gd name="adj2" fmla="val 3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还可以用条形图来表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1"/>
          <p:cNvGrpSpPr/>
          <p:nvPr/>
        </p:nvGrpSpPr>
        <p:grpSpPr>
          <a:xfrm>
            <a:off x="1701720" y="1268280"/>
            <a:ext cx="5744880" cy="2520720"/>
            <a:chOff x="1701720" y="1268280"/>
            <a:chExt cx="5744880" cy="2520720"/>
          </a:xfrm>
        </p:grpSpPr>
        <p:pic>
          <p:nvPicPr>
            <p:cNvPr id="179" name="Picture 32" descr="95"/>
            <p:cNvPicPr/>
            <p:nvPr/>
          </p:nvPicPr>
          <p:blipFill>
            <a:blip r:embed="rId2"/>
            <a:stretch/>
          </p:blipFill>
          <p:spPr>
            <a:xfrm>
              <a:off x="1708920" y="1268280"/>
              <a:ext cx="3911760" cy="209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Group 33"/>
            <p:cNvGrpSpPr/>
            <p:nvPr/>
          </p:nvGrpSpPr>
          <p:grpSpPr>
            <a:xfrm>
              <a:off x="1701720" y="3369240"/>
              <a:ext cx="5744880" cy="419760"/>
              <a:chOff x="1701720" y="3369240"/>
              <a:chExt cx="5744880" cy="419760"/>
            </a:xfrm>
          </p:grpSpPr>
          <p:pic>
            <p:nvPicPr>
              <p:cNvPr id="181" name="Picture 34" descr="96"/>
              <p:cNvPicPr/>
              <p:nvPr/>
            </p:nvPicPr>
            <p:blipFill>
              <a:blip r:embed="rId3"/>
              <a:stretch/>
            </p:blipFill>
            <p:spPr>
              <a:xfrm>
                <a:off x="1701720" y="3369240"/>
                <a:ext cx="4601160" cy="41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35"/>
              <p:cNvSpPr/>
              <p:nvPr/>
            </p:nvSpPr>
            <p:spPr>
              <a:xfrm>
                <a:off x="1975320" y="3387600"/>
                <a:ext cx="547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34547"/>
                    </a:solidFill>
                    <a:latin typeface="Arial"/>
                  </a:rPr>
                  <a:t>晴          阴            多云            阵雨           雷阵雨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1320840" y="4186080"/>
            <a:ext cx="457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44520" y="4186080"/>
            <a:ext cx="4572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93800" y="3429000"/>
            <a:ext cx="3821040" cy="3011400"/>
            <a:chOff x="793800" y="3429000"/>
            <a:chExt cx="3821040" cy="3011400"/>
          </a:xfrm>
        </p:grpSpPr>
        <p:pic>
          <p:nvPicPr>
            <p:cNvPr id="186" name="Picture 31" descr="未标题-2"/>
            <p:cNvPicPr/>
            <p:nvPr/>
          </p:nvPicPr>
          <p:blipFill>
            <a:blip r:embed="rId4"/>
            <a:stretch/>
          </p:blipFill>
          <p:spPr>
            <a:xfrm>
              <a:off x="793800" y="3429000"/>
              <a:ext cx="3821040" cy="301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423440" y="3930480"/>
              <a:ext cx="2255040" cy="2268000"/>
              <a:chOff x="1423440" y="3930480"/>
              <a:chExt cx="2255040" cy="2268000"/>
            </a:xfrm>
          </p:grpSpPr>
          <p:sp>
            <p:nvSpPr>
              <p:cNvPr id="188" name=""/>
              <p:cNvSpPr/>
              <p:nvPr/>
            </p:nvSpPr>
            <p:spPr>
              <a:xfrm>
                <a:off x="2929680" y="4944960"/>
                <a:ext cx="255960" cy="12528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2520" y="5667840"/>
                <a:ext cx="255960" cy="5306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23440" y="3930480"/>
                <a:ext cx="255960" cy="226692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7720" y="4702680"/>
                <a:ext cx="255960" cy="14950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22800" y="3930840"/>
                <a:ext cx="255960" cy="22662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4"/>
          <p:cNvGrpSpPr/>
          <p:nvPr/>
        </p:nvGrpSpPr>
        <p:grpSpPr>
          <a:xfrm>
            <a:off x="1763640" y="3070080"/>
            <a:ext cx="2400480" cy="2086560"/>
            <a:chOff x="1763640" y="3070080"/>
            <a:chExt cx="2400480" cy="2086560"/>
          </a:xfrm>
        </p:grpSpPr>
        <p:pic>
          <p:nvPicPr>
            <p:cNvPr id="195" name="Picture 35" descr="98"/>
            <p:cNvPicPr/>
            <p:nvPr/>
          </p:nvPicPr>
          <p:blipFill>
            <a:blip r:embed="rId1"/>
            <a:stretch/>
          </p:blipFill>
          <p:spPr>
            <a:xfrm>
              <a:off x="1763640" y="3070080"/>
              <a:ext cx="240048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36"/>
            <p:cNvSpPr/>
            <p:nvPr/>
          </p:nvSpPr>
          <p:spPr>
            <a:xfrm>
              <a:off x="2360160" y="484956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4547"/>
                  </a:solidFill>
                  <a:latin typeface="Arial"/>
                </a:rPr>
                <a:t>晴  阴  多云  阵雨 雷阵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43"/>
          <p:cNvGrpSpPr/>
          <p:nvPr/>
        </p:nvGrpSpPr>
        <p:grpSpPr>
          <a:xfrm>
            <a:off x="5219640" y="5097600"/>
            <a:ext cx="3846600" cy="1349280"/>
            <a:chOff x="5219640" y="5097600"/>
            <a:chExt cx="3846600" cy="1349280"/>
          </a:xfrm>
        </p:grpSpPr>
        <p:pic>
          <p:nvPicPr>
            <p:cNvPr id="198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542000" y="50976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AutoShape 27"/>
            <p:cNvSpPr/>
            <p:nvPr/>
          </p:nvSpPr>
          <p:spPr>
            <a:xfrm>
              <a:off x="5219640" y="5510520"/>
              <a:ext cx="2303640" cy="936360"/>
            </a:xfrm>
            <a:prstGeom prst="wedgeRoundRectCallout">
              <a:avLst>
                <a:gd name="adj1" fmla="val 58041"/>
                <a:gd name="adj2" fmla="val 83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他们把数据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表示清楚了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47"/>
          <p:cNvGrpSpPr/>
          <p:nvPr/>
        </p:nvGrpSpPr>
        <p:grpSpPr>
          <a:xfrm>
            <a:off x="-30240" y="5084640"/>
            <a:ext cx="5178240" cy="1501920"/>
            <a:chOff x="-30240" y="5084640"/>
            <a:chExt cx="5178240" cy="1501920"/>
          </a:xfrm>
        </p:grpSpPr>
        <p:sp>
          <p:nvSpPr>
            <p:cNvPr id="201" name="AutoShape 27"/>
            <p:cNvSpPr/>
            <p:nvPr/>
          </p:nvSpPr>
          <p:spPr>
            <a:xfrm>
              <a:off x="1590120" y="5222880"/>
              <a:ext cx="3557880" cy="1296720"/>
            </a:xfrm>
            <a:prstGeom prst="wedgeRoundRectCallout">
              <a:avLst>
                <a:gd name="adj1" fmla="val -56009"/>
                <a:gd name="adj2" fmla="val -15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很清楚，我知道这个月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9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晴，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6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天阴，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9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天多云，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5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阵雨，</a:t>
              </a:r>
              <a:r>
                <a:rPr b="1" lang="en-US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2</a:t>
              </a:r>
              <a:r>
                <a:rPr b="1" lang="zh-CN" sz="2000" spc="-1" strike="noStrike">
                  <a:solidFill>
                    <a:srgbClr val="434547"/>
                  </a:solidFill>
                  <a:latin typeface="Calibri"/>
                  <a:ea typeface="幼圆"/>
                </a:rPr>
                <a:t>天雷阵雨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45" descr="小平"/>
            <p:cNvPicPr/>
            <p:nvPr/>
          </p:nvPicPr>
          <p:blipFill>
            <a:blip r:embed="rId3"/>
            <a:stretch/>
          </p:blipFill>
          <p:spPr>
            <a:xfrm>
              <a:off x="-30240" y="5084640"/>
              <a:ext cx="1685520" cy="1501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3" name=""/>
          <p:cNvGraphicFramePr/>
          <p:nvPr/>
        </p:nvGraphicFramePr>
        <p:xfrm>
          <a:off x="1692360" y="1557360"/>
          <a:ext cx="6192720" cy="8539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多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雷阵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天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3231b"/>
                          </a:solidFill>
                          <a:latin typeface="Calibri"/>
                          <a:ea typeface="幼圆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4" name=""/>
          <p:cNvGrpSpPr/>
          <p:nvPr/>
        </p:nvGrpSpPr>
        <p:grpSpPr>
          <a:xfrm>
            <a:off x="4295880" y="2112840"/>
            <a:ext cx="4025880" cy="3041640"/>
            <a:chOff x="4295880" y="2112840"/>
            <a:chExt cx="4025880" cy="3041640"/>
          </a:xfrm>
        </p:grpSpPr>
        <p:pic>
          <p:nvPicPr>
            <p:cNvPr id="205" name="Picture 31" descr="未标题-2"/>
            <p:cNvPicPr/>
            <p:nvPr/>
          </p:nvPicPr>
          <p:blipFill>
            <a:blip r:embed="rId4"/>
            <a:stretch/>
          </p:blipFill>
          <p:spPr>
            <a:xfrm>
              <a:off x="4295880" y="2112840"/>
              <a:ext cx="4025880" cy="30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"/>
            <p:cNvGrpSpPr/>
            <p:nvPr/>
          </p:nvGrpSpPr>
          <p:grpSpPr>
            <a:xfrm>
              <a:off x="4959360" y="2619360"/>
              <a:ext cx="2376000" cy="2290680"/>
              <a:chOff x="4959360" y="2619360"/>
              <a:chExt cx="2376000" cy="2290680"/>
            </a:xfrm>
          </p:grpSpPr>
          <p:sp>
            <p:nvSpPr>
              <p:cNvPr id="207" name=""/>
              <p:cNvSpPr/>
              <p:nvPr/>
            </p:nvSpPr>
            <p:spPr>
              <a:xfrm>
                <a:off x="6546240" y="3643920"/>
                <a:ext cx="269640" cy="12654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65720" y="4374000"/>
                <a:ext cx="269640" cy="5360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59360" y="2619360"/>
                <a:ext cx="269640" cy="22896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80280" y="3399480"/>
                <a:ext cx="269640" cy="15098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12360" y="2619720"/>
                <a:ext cx="269640" cy="228888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0"/>
          <p:cNvGrpSpPr/>
          <p:nvPr/>
        </p:nvGrpSpPr>
        <p:grpSpPr>
          <a:xfrm>
            <a:off x="4859280" y="981000"/>
            <a:ext cx="4013280" cy="1279440"/>
            <a:chOff x="4859280" y="981000"/>
            <a:chExt cx="4013280" cy="1279440"/>
          </a:xfrm>
        </p:grpSpPr>
        <p:pic>
          <p:nvPicPr>
            <p:cNvPr id="214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348320" y="981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27"/>
            <p:cNvSpPr/>
            <p:nvPr/>
          </p:nvSpPr>
          <p:spPr>
            <a:xfrm>
              <a:off x="4859280" y="1268280"/>
              <a:ext cx="2411280" cy="93672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这两种方法，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种表示更清楚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122400" y="1530360"/>
            <a:ext cx="4601520" cy="1682640"/>
            <a:chOff x="122400" y="1530360"/>
            <a:chExt cx="4601520" cy="1682640"/>
          </a:xfrm>
        </p:grpSpPr>
        <p:sp>
          <p:nvSpPr>
            <p:cNvPr id="217" name="AutoShape 27"/>
            <p:cNvSpPr/>
            <p:nvPr/>
          </p:nvSpPr>
          <p:spPr>
            <a:xfrm>
              <a:off x="1576080" y="1530360"/>
              <a:ext cx="3147840" cy="936720"/>
            </a:xfrm>
            <a:prstGeom prst="wedgeRoundRectCallout">
              <a:avLst>
                <a:gd name="adj1" fmla="val -56782"/>
                <a:gd name="adj2" fmla="val -4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条形图更清楚，不用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34547"/>
                  </a:solidFill>
                  <a:latin typeface="楷体_GB2312"/>
                  <a:ea typeface="幼圆"/>
                </a:rPr>
                <a:t>就能知道具体的数据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24" descr="小平"/>
            <p:cNvPicPr/>
            <p:nvPr/>
          </p:nvPicPr>
          <p:blipFill>
            <a:blip r:embed="rId2"/>
            <a:stretch/>
          </p:blipFill>
          <p:spPr>
            <a:xfrm>
              <a:off x="122400" y="1649520"/>
              <a:ext cx="1758600" cy="156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4"/>
          <p:cNvGrpSpPr/>
          <p:nvPr/>
        </p:nvGrpSpPr>
        <p:grpSpPr>
          <a:xfrm>
            <a:off x="1763640" y="3070080"/>
            <a:ext cx="2400480" cy="2086560"/>
            <a:chOff x="1763640" y="3070080"/>
            <a:chExt cx="2400480" cy="2086560"/>
          </a:xfrm>
        </p:grpSpPr>
        <p:pic>
          <p:nvPicPr>
            <p:cNvPr id="220" name="Picture 35" descr="98"/>
            <p:cNvPicPr/>
            <p:nvPr/>
          </p:nvPicPr>
          <p:blipFill>
            <a:blip r:embed="rId3"/>
            <a:stretch/>
          </p:blipFill>
          <p:spPr>
            <a:xfrm>
              <a:off x="1763640" y="3070080"/>
              <a:ext cx="240048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36"/>
            <p:cNvSpPr/>
            <p:nvPr/>
          </p:nvSpPr>
          <p:spPr>
            <a:xfrm>
              <a:off x="2360160" y="484956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34547"/>
                  </a:solidFill>
                  <a:latin typeface="Arial"/>
                </a:rPr>
                <a:t>晴  阴  多云  阵雨 雷阵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294080" y="2435400"/>
            <a:ext cx="3640320" cy="2719080"/>
            <a:chOff x="4294080" y="2435400"/>
            <a:chExt cx="3640320" cy="2719080"/>
          </a:xfrm>
        </p:grpSpPr>
        <p:pic>
          <p:nvPicPr>
            <p:cNvPr id="223" name="Picture 31" descr="未标题-2"/>
            <p:cNvPicPr/>
            <p:nvPr/>
          </p:nvPicPr>
          <p:blipFill>
            <a:blip r:embed="rId4"/>
            <a:stretch/>
          </p:blipFill>
          <p:spPr>
            <a:xfrm>
              <a:off x="4294080" y="2435400"/>
              <a:ext cx="3640320" cy="271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4894200" y="2888280"/>
              <a:ext cx="2148480" cy="2047680"/>
              <a:chOff x="4894200" y="2888280"/>
              <a:chExt cx="2148480" cy="2047680"/>
            </a:xfrm>
          </p:grpSpPr>
          <p:sp>
            <p:nvSpPr>
              <p:cNvPr id="225" name=""/>
              <p:cNvSpPr/>
              <p:nvPr/>
            </p:nvSpPr>
            <p:spPr>
              <a:xfrm>
                <a:off x="6329160" y="3804120"/>
                <a:ext cx="243720" cy="113112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98960" y="4456800"/>
                <a:ext cx="243720" cy="4791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94200" y="2888280"/>
                <a:ext cx="243720" cy="20466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65080" y="3585600"/>
                <a:ext cx="243720" cy="13496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46400" y="2888640"/>
                <a:ext cx="243720" cy="204624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/>
  <dcterms:modified xsi:type="dcterms:W3CDTF">2014-12-02T11:18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