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7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069-1290-468E-A823-D250FD9EAB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1D8A-2714-4EA0-B5C2-65930D5CB7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F43C-29EF-42F6-9D0E-204B44CE98C6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F99-2417-4005-BF04-012EA1AD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F5D-3E4D-48CA-BDC7-A13B5472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384-1A43-4BA6-8F93-2A496290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E0E-0AB4-438F-A681-11EA5640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2E5A-9CBC-443C-BEB8-7BBC600D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160-EA56-4C8C-8AFE-0FC34E2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1D3A-5ECD-4789-B8B2-0B83D78B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FCF-05D1-4910-B101-BA4E1A5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E58-12A5-435B-AF52-AA9FCCAC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802-1724-4EBC-93DA-A164A586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6649-23DF-4FA2-8EB7-16B8028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025-E191-43C5-B464-8A4CD6A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C32-39B2-499F-B8D8-B870332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F69E-E784-4094-850D-C3507F1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C9BE-5C1A-4A6D-9D41-D0AB4928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8CB5-D66F-42F9-82E0-13953EC3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142C-DECA-463C-BB70-A9476878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10A-38DD-4FF2-BAD3-8FF50A94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297-6076-4111-B144-5976EA4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137-9DD0-4160-B88A-BD920B79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A2F-EEBF-4843-8076-88B953D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37A-7F92-4FCF-AB08-BBAE32F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E0D-2E4A-4B2C-BF36-E9216E7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72E-B18C-4C26-A7E3-D9CAE2AC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3FCD-C8D7-4744-A157-EB5075E8D3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5C80-4F52-4C60-B01A-ABE6AB42499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小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>
            <a:off x="3635280" y="3500280"/>
            <a:ext cx="3816360" cy="180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419640" y="256536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小数乘小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4" descr="例5"/>
          <p:cNvPicPr/>
          <p:nvPr/>
        </p:nvPicPr>
        <p:blipFill>
          <a:blip r:embed="rId1"/>
          <a:stretch/>
        </p:blipFill>
        <p:spPr>
          <a:xfrm>
            <a:off x="179280" y="2238480"/>
            <a:ext cx="8839440" cy="4091040"/>
          </a:xfrm>
          <a:prstGeom prst="rect">
            <a:avLst/>
          </a:prstGeom>
          <a:ln w="0">
            <a:noFill/>
          </a:ln>
        </p:spPr>
      </p:pic>
      <p:sp>
        <p:nvSpPr>
          <p:cNvPr id="244" name="Line 18"/>
          <p:cNvSpPr/>
          <p:nvPr/>
        </p:nvSpPr>
        <p:spPr>
          <a:xfrm>
            <a:off x="4932360" y="30909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684360" y="6330960"/>
            <a:ext cx="42116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曲线 23"/>
          <p:cNvSpPr/>
          <p:nvPr/>
        </p:nvSpPr>
        <p:spPr>
          <a:xfrm flipH="1" rot="10800000">
            <a:off x="5076720" y="6292440"/>
            <a:ext cx="3600720" cy="71640"/>
          </a:xfrm>
          <a:custGeom>
            <a:avLst/>
            <a:gdLst>
              <a:gd name="textAreaLeft" fmla="*/ 360 w 3600720"/>
              <a:gd name="textAreaRight" fmla="*/ 3601440 w 36007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21175"/>
                </a:moveTo>
                <a:cubicBezTo>
                  <a:pt x="174" y="16580"/>
                  <a:pt x="591" y="212"/>
                  <a:pt x="986" y="282"/>
                </a:cubicBezTo>
                <a:cubicBezTo>
                  <a:pt x="1381" y="353"/>
                  <a:pt x="1582" y="21493"/>
                  <a:pt x="1975" y="21493"/>
                </a:cubicBezTo>
                <a:cubicBezTo>
                  <a:pt x="2367" y="21493"/>
                  <a:pt x="2558" y="282"/>
                  <a:pt x="2946" y="282"/>
                </a:cubicBezTo>
                <a:cubicBezTo>
                  <a:pt x="3333" y="282"/>
                  <a:pt x="3522" y="21493"/>
                  <a:pt x="3914" y="21493"/>
                </a:cubicBezTo>
                <a:cubicBezTo>
                  <a:pt x="4306" y="21493"/>
                  <a:pt x="4508" y="282"/>
                  <a:pt x="4903" y="282"/>
                </a:cubicBezTo>
                <a:cubicBezTo>
                  <a:pt x="5297" y="282"/>
                  <a:pt x="5499" y="21493"/>
                  <a:pt x="5892" y="21493"/>
                </a:cubicBezTo>
                <a:cubicBezTo>
                  <a:pt x="6284" y="21493"/>
                  <a:pt x="6470" y="353"/>
                  <a:pt x="6862" y="282"/>
                </a:cubicBezTo>
                <a:cubicBezTo>
                  <a:pt x="7255" y="212"/>
                  <a:pt x="7459" y="21175"/>
                  <a:pt x="7851" y="21175"/>
                </a:cubicBezTo>
                <a:cubicBezTo>
                  <a:pt x="8244" y="21175"/>
                  <a:pt x="8425" y="282"/>
                  <a:pt x="8820" y="282"/>
                </a:cubicBezTo>
                <a:cubicBezTo>
                  <a:pt x="9214" y="282"/>
                  <a:pt x="9430" y="21246"/>
                  <a:pt x="9829" y="21175"/>
                </a:cubicBezTo>
                <a:cubicBezTo>
                  <a:pt x="10228" y="21105"/>
                  <a:pt x="10432" y="0"/>
                  <a:pt x="10820" y="0"/>
                </a:cubicBezTo>
                <a:cubicBezTo>
                  <a:pt x="11208" y="0"/>
                  <a:pt x="11376" y="21175"/>
                  <a:pt x="11768" y="21175"/>
                </a:cubicBezTo>
                <a:cubicBezTo>
                  <a:pt x="12160" y="21175"/>
                  <a:pt x="12378" y="0"/>
                  <a:pt x="12777" y="0"/>
                </a:cubicBezTo>
                <a:cubicBezTo>
                  <a:pt x="13176" y="0"/>
                  <a:pt x="13373" y="21175"/>
                  <a:pt x="13766" y="21175"/>
                </a:cubicBezTo>
                <a:cubicBezTo>
                  <a:pt x="14158" y="21175"/>
                  <a:pt x="14344" y="0"/>
                  <a:pt x="14737" y="0"/>
                </a:cubicBezTo>
                <a:cubicBezTo>
                  <a:pt x="15129" y="0"/>
                  <a:pt x="15331" y="21105"/>
                  <a:pt x="15725" y="21175"/>
                </a:cubicBezTo>
                <a:cubicBezTo>
                  <a:pt x="16120" y="21246"/>
                  <a:pt x="16322" y="282"/>
                  <a:pt x="16714" y="282"/>
                </a:cubicBezTo>
                <a:cubicBezTo>
                  <a:pt x="17106" y="282"/>
                  <a:pt x="17295" y="21175"/>
                  <a:pt x="17683" y="21175"/>
                </a:cubicBezTo>
                <a:cubicBezTo>
                  <a:pt x="18070" y="21175"/>
                  <a:pt x="18261" y="282"/>
                  <a:pt x="18653" y="282"/>
                </a:cubicBezTo>
                <a:cubicBezTo>
                  <a:pt x="19046" y="282"/>
                  <a:pt x="19250" y="21175"/>
                  <a:pt x="19642" y="21175"/>
                </a:cubicBezTo>
                <a:cubicBezTo>
                  <a:pt x="20035" y="21175"/>
                  <a:pt x="20218" y="212"/>
                  <a:pt x="20611" y="282"/>
                </a:cubicBezTo>
                <a:cubicBezTo>
                  <a:pt x="21003" y="353"/>
                  <a:pt x="21200" y="21600"/>
                  <a:pt x="21600" y="2149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1077840" y="1569960"/>
            <a:ext cx="680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洲野狗的最高速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的最高速度是非洲野狗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的最高速度是多少千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3" descr="信息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910040" y="2741760"/>
            <a:ext cx="3794400" cy="326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4" descr="信息2"/>
          <p:cNvPicPr/>
          <p:nvPr/>
        </p:nvPicPr>
        <p:blipFill>
          <a:blip r:embed="rId3"/>
          <a:stretch/>
        </p:blipFill>
        <p:spPr>
          <a:xfrm>
            <a:off x="684360" y="5915160"/>
            <a:ext cx="4303440" cy="355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5" descr="信息3"/>
          <p:cNvPicPr/>
          <p:nvPr/>
        </p:nvPicPr>
        <p:blipFill>
          <a:blip r:embed="rId4"/>
          <a:stretch/>
        </p:blipFill>
        <p:spPr>
          <a:xfrm>
            <a:off x="4998960" y="5915160"/>
            <a:ext cx="3756240" cy="35532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26"/>
          <p:cNvGrpSpPr/>
          <p:nvPr/>
        </p:nvGrpSpPr>
        <p:grpSpPr>
          <a:xfrm>
            <a:off x="2187720" y="1093680"/>
            <a:ext cx="6570000" cy="1344600"/>
            <a:chOff x="2187720" y="1093680"/>
            <a:chExt cx="6570000" cy="1344600"/>
          </a:xfrm>
        </p:grpSpPr>
        <p:pic>
          <p:nvPicPr>
            <p:cNvPr id="252" name="Picture 18" descr="男天使"/>
            <p:cNvPicPr/>
            <p:nvPr/>
          </p:nvPicPr>
          <p:blipFill>
            <a:blip r:embed="rId5"/>
            <a:stretch/>
          </p:blipFill>
          <p:spPr>
            <a:xfrm>
              <a:off x="7308360" y="1093680"/>
              <a:ext cx="1449360" cy="13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8" descr="00"/>
            <p:cNvPicPr/>
            <p:nvPr/>
          </p:nvPicPr>
          <p:blipFill>
            <a:blip r:embed="rId6"/>
            <a:stretch/>
          </p:blipFill>
          <p:spPr>
            <a:xfrm>
              <a:off x="2187720" y="1300320"/>
              <a:ext cx="52066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56348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333 -0.143704 E">
                                      <p:cBhvr>
                                        <p:cTn id="49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5347 -0.53213 E">
                                      <p:cBhvr>
                                        <p:cTn id="50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346597 -0.458611 E">
                                      <p:cBhvr>
                                        <p:cTn id="50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04-3"/>
          <p:cNvPicPr/>
          <p:nvPr/>
        </p:nvPicPr>
        <p:blipFill>
          <a:blip r:embed="rId1"/>
          <a:stretch/>
        </p:blipFill>
        <p:spPr>
          <a:xfrm>
            <a:off x="3938760" y="4560840"/>
            <a:ext cx="1387440" cy="1693800"/>
          </a:xfrm>
          <a:prstGeom prst="rect">
            <a:avLst/>
          </a:prstGeom>
          <a:ln w="0">
            <a:noFill/>
          </a:ln>
        </p:spPr>
      </p:pic>
      <p:sp>
        <p:nvSpPr>
          <p:cNvPr id="257" name="矩形 2"/>
          <p:cNvSpPr/>
          <p:nvPr/>
        </p:nvSpPr>
        <p:spPr>
          <a:xfrm>
            <a:off x="1068480" y="1700280"/>
            <a:ext cx="68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洲野狗的最高速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的最高速度是非洲野狗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的最高速度是多少千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7" descr="P7算错"/>
          <p:cNvPicPr/>
          <p:nvPr/>
        </p:nvPicPr>
        <p:blipFill>
          <a:blip r:embed="rId2"/>
          <a:srcRect l="12387" t="0" r="0" b="0"/>
          <a:stretch/>
        </p:blipFill>
        <p:spPr>
          <a:xfrm>
            <a:off x="5786280" y="3727440"/>
            <a:ext cx="1946520" cy="2062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431640" y="4838760"/>
            <a:ext cx="36910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验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下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776320" y="3424320"/>
            <a:ext cx="15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1" descr="00-0"/>
          <p:cNvPicPr/>
          <p:nvPr/>
        </p:nvPicPr>
        <p:blipFill>
          <a:blip r:embed="rId3"/>
          <a:stretch/>
        </p:blipFill>
        <p:spPr>
          <a:xfrm>
            <a:off x="858960" y="4091040"/>
            <a:ext cx="3162240" cy="81288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63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同侧圆角矩形 11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同侧圆角矩形 1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04-3"/>
          <p:cNvPicPr/>
          <p:nvPr/>
        </p:nvPicPr>
        <p:blipFill>
          <a:blip r:embed="rId1"/>
          <a:stretch/>
        </p:blipFill>
        <p:spPr>
          <a:xfrm>
            <a:off x="566640" y="3309840"/>
            <a:ext cx="1389240" cy="1693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P7算错"/>
          <p:cNvPicPr/>
          <p:nvPr/>
        </p:nvPicPr>
        <p:blipFill>
          <a:blip r:embed="rId2"/>
          <a:srcRect l="12387" t="0" r="0" b="0"/>
          <a:stretch/>
        </p:blipFill>
        <p:spPr>
          <a:xfrm>
            <a:off x="2079720" y="3527280"/>
            <a:ext cx="1946160" cy="2062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85680" y="2979720"/>
            <a:ext cx="15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2"/>
          <p:cNvSpPr/>
          <p:nvPr/>
        </p:nvSpPr>
        <p:spPr>
          <a:xfrm>
            <a:off x="5068800" y="3362400"/>
            <a:ext cx="16668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   5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2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4213080" y="3379680"/>
            <a:ext cx="1395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验算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5427720" y="5272200"/>
            <a:ext cx="1439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2540160" y="5003640"/>
            <a:ext cx="1439640" cy="584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2340360" y="583560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鸵鸟的最高速度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4566960" y="297972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2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5427720" y="4373640"/>
            <a:ext cx="1439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2"/>
          <p:cNvSpPr/>
          <p:nvPr/>
        </p:nvSpPr>
        <p:spPr>
          <a:xfrm>
            <a:off x="1666800" y="1352520"/>
            <a:ext cx="680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洲野狗的最高速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的最高速度是非洲野狗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鸵鸟的最高速度是多少千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78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同侧圆角矩形 16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同侧圆角矩形 17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8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258920" y="26258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长方形的机器零件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4m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25m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的周长和面积各是多少平方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1"/>
          <p:cNvSpPr/>
          <p:nvPr/>
        </p:nvSpPr>
        <p:spPr>
          <a:xfrm>
            <a:off x="1116000" y="2924280"/>
            <a:ext cx="6985080" cy="1068840"/>
          </a:xfrm>
          <a:prstGeom prst="rect">
            <a:avLst/>
          </a:prstGeom>
          <a:solidFill>
            <a:srgbClr val="4472c4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长方形的周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宽）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长方形的面积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宽，利用周长和面积公式计算出结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9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258920" y="26258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长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4+0.2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2=1.1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450800" y="38401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4×0.25=0.08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平方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0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398600" y="2637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名跳高运动员能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5m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名运动员跳的高度是他跳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另一名运动员能跳多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0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1"/>
          <p:cNvSpPr/>
          <p:nvPr/>
        </p:nvSpPr>
        <p:spPr>
          <a:xfrm>
            <a:off x="1258920" y="2806560"/>
            <a:ext cx="6985080" cy="1068840"/>
          </a:xfrm>
          <a:prstGeom prst="rect">
            <a:avLst/>
          </a:prstGeom>
          <a:solidFill>
            <a:srgbClr val="4472c4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中已知一名跳高运动员能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5m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5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就是求另一名运动员跳的高度。求一个数的几倍是多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用这个数乘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1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504800" y="3141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15×1.2=2.5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名运动员能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58m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321" name="矩形 10"/>
          <p:cNvSpPr/>
          <p:nvPr/>
        </p:nvSpPr>
        <p:spPr>
          <a:xfrm>
            <a:off x="2141640" y="191772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4×0.0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小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2468520" y="24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"/>
          <p:cNvSpPr/>
          <p:nvPr/>
        </p:nvSpPr>
        <p:spPr>
          <a:xfrm rot="18297600">
            <a:off x="5160960" y="3186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826920" y="270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解决小数乘小数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826920" y="177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笔算小数乘小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826920" y="371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的迁移类推能力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渗透转化思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333" name="矩形 19"/>
          <p:cNvSpPr/>
          <p:nvPr/>
        </p:nvSpPr>
        <p:spPr>
          <a:xfrm>
            <a:off x="1042920" y="2565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认真观察算式的特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考虑问题不全面。这道题中第一个因数的末尾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个因数的末尾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4×5=2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积的末尾会出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基于小数的基本性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中末尾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去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35" name="矩形 19"/>
          <p:cNvSpPr/>
          <p:nvPr/>
        </p:nvSpPr>
        <p:spPr>
          <a:xfrm>
            <a:off x="1943280" y="393372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4×0.0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小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7"/>
          <p:cNvSpPr/>
          <p:nvPr/>
        </p:nvSpPr>
        <p:spPr>
          <a:xfrm>
            <a:off x="1763640" y="190656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4×0.0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积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小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34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15"/>
          <p:cNvSpPr/>
          <p:nvPr/>
        </p:nvSpPr>
        <p:spPr>
          <a:xfrm rot="18297600">
            <a:off x="4513320" y="46569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4" name="矩形 20"/>
          <p:cNvSpPr/>
          <p:nvPr/>
        </p:nvSpPr>
        <p:spPr>
          <a:xfrm rot="18297600">
            <a:off x="4649760" y="2244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6" name="TextBox 25"/>
          <p:cNvSpPr/>
          <p:nvPr/>
        </p:nvSpPr>
        <p:spPr>
          <a:xfrm>
            <a:off x="2268360" y="43639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8"/>
          <p:cNvSpPr/>
          <p:nvPr/>
        </p:nvSpPr>
        <p:spPr>
          <a:xfrm>
            <a:off x="2124000" y="2389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56280" y="75240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263520" y="4722840"/>
            <a:ext cx="2120760" cy="1647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269720"/>
            <a:ext cx="5621400" cy="1360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给下面各题的积点上小数点吗？</a:t>
            </a:r>
            <a:endParaRPr b="0" lang="en-US" sz="3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76280" y="2943360"/>
            <a:ext cx="190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8.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 0.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7 8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086280" y="2943360"/>
            <a:ext cx="226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7 2.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× 0.0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2 9 1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056280" y="2943360"/>
            <a:ext cx="22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1 6.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× 0.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9 9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728640" y="4208400"/>
            <a:ext cx="172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6703920" y="4208400"/>
            <a:ext cx="172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3321000" y="420840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1557360" y="4616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7554960" y="46148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4184640" y="46864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964640" y="4362480"/>
            <a:ext cx="36036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同侧圆角矩形 13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96 0.00347 C -0.06753 0.02777 -0.06128 0.05277 -0.05538 0.05231 C -0.04965 0.05185 -0.04514 0.00069 -0.03958 3.33333E-006 C -0.03403 -0.0007 -0.02899 0.04884 -0.02239 0.04884 C -0.0158 0.04884 -0.00799 0.0243 -8.33333E-007 3.33333E-006 E">
                                      <p:cBhvr>
                                        <p:cTn id="777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2.96296E-006 C -0.11302 0.02407 -0.1073 0.04861 -0.10052 0.04907 C -0.0941 0.05 -0.08646 0.00208 -0.07969 0.00324 C -0.07327 0.0044 -0.06771 0.05694 -0.06146 0.05602 C -0.05521 0.05486 -0.04931 -0.00371 -0.04184 -0.00324 C -0.03507 -0.00232 -0.02535 0.05833 -0.01841 0.05926 C -0.01146 0.06018 -0.00573 0.02963 3.61111E-006 2.96296E-006 E">
                                      <p:cBhvr>
                                        <p:cTn id="784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0509 C -0.07899 0.0375 -0.0717 0.0713 -0.06493 0.0706 C -0.05833 0.06991 -0.0526 0.00116 -0.04635 -3.7037E-007 C -0.03993 -0.00023 -0.03403 0.06551 -0.02604 0.06551 C -0.0184 0.06551 -0.00938 0.0331 8.33333E-007 -3.7037E-007 E">
                                      <p:cBhvr>
                                        <p:cTn id="79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848200" y="75240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84200" y="4681440"/>
            <a:ext cx="2120760" cy="1648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685800" y="2249640"/>
            <a:ext cx="7543800" cy="2771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5"/>
          <p:cNvSpPr/>
          <p:nvPr/>
        </p:nvSpPr>
        <p:spPr>
          <a:xfrm>
            <a:off x="3278160" y="4248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212720" y="42480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221080" y="4227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229080" y="4248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020720" y="4227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.0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26040" y="752400"/>
            <a:ext cx="2470320" cy="1728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0" y="4653000"/>
            <a:ext cx="2120760" cy="1647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1469520"/>
            <a:ext cx="548964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计算对吗？把不对的改正过来。</a:t>
            </a:r>
            <a:endParaRPr b="0" lang="en-US" sz="3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712880" y="2513160"/>
            <a:ext cx="161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× 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 2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7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8 7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1857240" y="3714840"/>
            <a:ext cx="15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1744560" y="4794120"/>
            <a:ext cx="154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111640" y="2498760"/>
            <a:ext cx="161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 6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× 4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8 2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6 5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7 3 8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5219640" y="371484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5165640" y="4803840"/>
            <a:ext cx="16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9"/>
          <p:cNvSpPr/>
          <p:nvPr/>
        </p:nvSpPr>
        <p:spPr>
          <a:xfrm>
            <a:off x="2843280" y="51166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2595600" y="51800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11"/>
          <p:cNvSpPr/>
          <p:nvPr/>
        </p:nvSpPr>
        <p:spPr>
          <a:xfrm>
            <a:off x="5543640" y="51084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6388200" y="4898880"/>
            <a:ext cx="288720" cy="2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13"/>
          <p:cNvSpPr/>
          <p:nvPr/>
        </p:nvSpPr>
        <p:spPr>
          <a:xfrm>
            <a:off x="5975280" y="5165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同侧圆角矩形 13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8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0.00139 C 0.09375 0.01666 0.08541 0.03217 0.07656 0.03148 C 0.06788 0.03102 0.05729 3.33333E-006 0.04913 3.33333E-006 C 0.04097 3.33333E-006 0.03559 0.02986 0.02725 0.02986 C 0.01909 0.02986 0.00937 0.01458 3.61111E-006 3.33333E-006 E">
                                      <p:cBhvr>
                                        <p:cTn id="836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8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0324 C -0.07969 0.03171 -0.07257 0.06042 -0.06511 0.0588 C -0.05764 0.05833 -0.04862 0 -0.04184 0 C -0.0349 0 -0.03039 0.05556 -0.02344 0.05556 C -0.0165 0.05556 -0.00834 0.02755 4.72222E-006 0 E">
                                      <p:cBhvr>
                                        <p:cTn id="84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1642680" y="1702800"/>
            <a:ext cx="11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71640" y="2637000"/>
          <a:ext cx="7216560" cy="2522520"/>
        </p:xfrm>
        <a:graphic>
          <a:graphicData uri="http://schemas.openxmlformats.org/drawingml/2006/table">
            <a:tbl>
              <a:tblPr/>
              <a:tblGrid>
                <a:gridCol w="1584360"/>
                <a:gridCol w="1952640"/>
                <a:gridCol w="1935000"/>
                <a:gridCol w="1744560"/>
              </a:tblGrid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商品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色 拉 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饼 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大 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单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．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.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数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.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8.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总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同侧圆角矩形 4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2644920" y="4581360"/>
            <a:ext cx="14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77.4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444920" y="4581360"/>
            <a:ext cx="14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3.4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227640" y="47466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6.72</a:t>
            </a:r>
            <a:r>
              <a:rPr b="0" lang="zh-CN" sz="1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27280" y="162828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西服面料，每米的售价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.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买这样的面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，应付多少元？</a:t>
            </a:r>
            <a:endParaRPr b="0" lang="en-US" sz="3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071800" y="3559320"/>
            <a:ext cx="50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华文新魏"/>
                <a:ea typeface="华文新魏"/>
              </a:rPr>
              <a:t>58.5×5.2=304.2(</a:t>
            </a:r>
            <a:r>
              <a:rPr b="0" lang="zh-CN" sz="4400" spc="-1" strike="noStrike">
                <a:solidFill>
                  <a:srgbClr val="cc6600"/>
                </a:solidFill>
                <a:latin typeface="华文新魏"/>
                <a:ea typeface="华文新魏"/>
              </a:rPr>
              <a:t>元</a:t>
            </a:r>
            <a:r>
              <a:rPr b="0" lang="en-US" sz="4400" spc="-1" strike="noStrike">
                <a:solidFill>
                  <a:srgbClr val="cc6600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625120" y="4495680"/>
            <a:ext cx="34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应付</a:t>
            </a:r>
            <a:r>
              <a:rPr b="0" lang="en-US" sz="4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4.2</a:t>
            </a:r>
            <a:r>
              <a:rPr b="0" lang="zh-CN" sz="4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420840" y="4669200"/>
            <a:ext cx="8281800" cy="1410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倍数是小数的实际问题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个数的倍数无论是小数还是整数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都用乘法计算。</a:t>
            </a:r>
            <a:br>
              <a:rPr sz="2400"/>
            </a:b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.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数乘法的验算方法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①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调换两个因数的位置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重新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②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计算器验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40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AutoShape 27"/>
          <p:cNvSpPr/>
          <p:nvPr/>
        </p:nvSpPr>
        <p:spPr>
          <a:xfrm>
            <a:off x="6059520" y="1011240"/>
            <a:ext cx="2627280" cy="15606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数乘小数</a:t>
            </a:r>
            <a:r>
              <a:rPr b="0" lang="en-US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转化成整数乘法计算</a:t>
            </a:r>
            <a:r>
              <a:rPr b="0" lang="en-US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再看因数中一共有几位小数</a:t>
            </a:r>
            <a:r>
              <a:rPr b="0" lang="en-US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就从积的右边起数出几位</a:t>
            </a:r>
            <a:r>
              <a:rPr b="0" lang="en-US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点上小数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40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矩形 21"/>
          <p:cNvSpPr/>
          <p:nvPr/>
        </p:nvSpPr>
        <p:spPr>
          <a:xfrm>
            <a:off x="468360" y="3195720"/>
            <a:ext cx="828036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乘法的计算方法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按整数乘法算出积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看因数中一共有几位小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从积的右边数出几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点上小数点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小数位数如果不够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前面用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补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末尾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去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0"/>
          <p:cNvSpPr/>
          <p:nvPr/>
        </p:nvSpPr>
        <p:spPr>
          <a:xfrm>
            <a:off x="803160" y="2913120"/>
            <a:ext cx="7539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一个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 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 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长方形宣传栏刷油漆，一共需要多少千克油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2798640" y="907920"/>
            <a:ext cx="5403600" cy="2005200"/>
            <a:chOff x="2798640" y="907920"/>
            <a:chExt cx="5403600" cy="2005200"/>
          </a:xfrm>
        </p:grpSpPr>
        <p:pic>
          <p:nvPicPr>
            <p:cNvPr id="101" name="Picture 12" descr="例2"/>
            <p:cNvPicPr/>
            <p:nvPr/>
          </p:nvPicPr>
          <p:blipFill>
            <a:blip r:embed="rId1"/>
            <a:stretch/>
          </p:blipFill>
          <p:spPr>
            <a:xfrm>
              <a:off x="5345640" y="940320"/>
              <a:ext cx="2856600" cy="19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04"/>
            <p:cNvPicPr/>
            <p:nvPr/>
          </p:nvPicPr>
          <p:blipFill>
            <a:blip r:embed="rId2"/>
            <a:stretch/>
          </p:blipFill>
          <p:spPr>
            <a:xfrm>
              <a:off x="2798640" y="907920"/>
              <a:ext cx="2661840" cy="107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同侧圆角矩形 7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535200" y="3990960"/>
            <a:ext cx="444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宣传栏的面积有多大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1" descr="04"/>
          <p:cNvPicPr/>
          <p:nvPr/>
        </p:nvPicPr>
        <p:blipFill>
          <a:blip r:embed="rId3"/>
          <a:stretch/>
        </p:blipFill>
        <p:spPr>
          <a:xfrm>
            <a:off x="4545000" y="4756320"/>
            <a:ext cx="3278160" cy="3632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9"/>
          <p:cNvGrpSpPr/>
          <p:nvPr/>
        </p:nvGrpSpPr>
        <p:grpSpPr>
          <a:xfrm>
            <a:off x="466560" y="4703760"/>
            <a:ext cx="3438360" cy="1312560"/>
            <a:chOff x="466560" y="4703760"/>
            <a:chExt cx="3438360" cy="1312560"/>
          </a:xfrm>
        </p:grpSpPr>
        <p:pic>
          <p:nvPicPr>
            <p:cNvPr id="108" name="Picture 10" descr="04"/>
            <p:cNvPicPr/>
            <p:nvPr/>
          </p:nvPicPr>
          <p:blipFill>
            <a:blip r:embed="rId4"/>
            <a:stretch/>
          </p:blipFill>
          <p:spPr>
            <a:xfrm>
              <a:off x="466560" y="4756320"/>
              <a:ext cx="1072080" cy="12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5" descr="00"/>
            <p:cNvPicPr/>
            <p:nvPr/>
          </p:nvPicPr>
          <p:blipFill>
            <a:blip r:embed="rId5"/>
            <a:stretch/>
          </p:blipFill>
          <p:spPr>
            <a:xfrm>
              <a:off x="1366200" y="4703760"/>
              <a:ext cx="2538720" cy="83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Oval 16"/>
          <p:cNvSpPr/>
          <p:nvPr/>
        </p:nvSpPr>
        <p:spPr>
          <a:xfrm>
            <a:off x="4500720" y="4576680"/>
            <a:ext cx="76500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400720" y="4576680"/>
            <a:ext cx="7189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0"/>
          <p:cNvSpPr/>
          <p:nvPr/>
        </p:nvSpPr>
        <p:spPr>
          <a:xfrm>
            <a:off x="1736640" y="1609560"/>
            <a:ext cx="4545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宣传栏的面积有多大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7" descr="04"/>
          <p:cNvPicPr/>
          <p:nvPr/>
        </p:nvPicPr>
        <p:blipFill>
          <a:blip r:embed="rId1"/>
          <a:stretch/>
        </p:blipFill>
        <p:spPr>
          <a:xfrm>
            <a:off x="2906640" y="2529000"/>
            <a:ext cx="3278160" cy="363600"/>
          </a:xfrm>
          <a:prstGeom prst="rect">
            <a:avLst/>
          </a:prstGeom>
          <a:ln w="0">
            <a:noFill/>
          </a:ln>
        </p:spPr>
      </p:pic>
      <p:sp>
        <p:nvSpPr>
          <p:cNvPr id="114" name="Line 53"/>
          <p:cNvSpPr/>
          <p:nvPr/>
        </p:nvSpPr>
        <p:spPr>
          <a:xfrm>
            <a:off x="3583080" y="370044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61"/>
          <p:cNvSpPr/>
          <p:nvPr/>
        </p:nvSpPr>
        <p:spPr>
          <a:xfrm flipH="1">
            <a:off x="3536640" y="473544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1557360" y="3414600"/>
            <a:ext cx="15746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   0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3718080" y="42609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÷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3402000" y="3159000"/>
            <a:ext cx="4229280" cy="1979640"/>
          </a:xfrm>
          <a:prstGeom prst="rect">
            <a:avLst/>
          </a:prstGeom>
          <a:noFill/>
          <a:ln cap="rnd" w="57240">
            <a:solidFill>
              <a:srgbClr val="0563c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3762360" y="324972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1782720" y="44496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53"/>
          <p:cNvSpPr/>
          <p:nvPr/>
        </p:nvSpPr>
        <p:spPr>
          <a:xfrm>
            <a:off x="3581280" y="4172040"/>
            <a:ext cx="215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3760920" y="37209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4616280" y="237024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5697360" y="3414600"/>
            <a:ext cx="15750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    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9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5923080" y="44496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27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同侧圆角矩形 19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同侧圆角矩形 2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1" descr="00"/>
          <p:cNvPicPr/>
          <p:nvPr/>
        </p:nvPicPr>
        <p:blipFill>
          <a:blip r:embed="rId1"/>
          <a:stretch/>
        </p:blipFill>
        <p:spPr>
          <a:xfrm>
            <a:off x="2709720" y="2463840"/>
            <a:ext cx="3436920" cy="425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1736640" y="1628640"/>
            <a:ext cx="414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需要多少千克油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4616280" y="237024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7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53"/>
          <p:cNvSpPr/>
          <p:nvPr/>
        </p:nvSpPr>
        <p:spPr>
          <a:xfrm>
            <a:off x="3583080" y="370044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61"/>
          <p:cNvSpPr/>
          <p:nvPr/>
        </p:nvSpPr>
        <p:spPr>
          <a:xfrm flipH="1">
            <a:off x="3536640" y="473544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1062000" y="3414600"/>
            <a:ext cx="20700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9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      0.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2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3718080" y="42609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÷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3402000" y="3159000"/>
            <a:ext cx="4319640" cy="1979640"/>
          </a:xfrm>
          <a:prstGeom prst="rect">
            <a:avLst/>
          </a:prstGeom>
          <a:noFill/>
          <a:ln cap="rnd" w="57240">
            <a:solidFill>
              <a:srgbClr val="0563c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3762360" y="324972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1557360" y="444960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53"/>
          <p:cNvSpPr/>
          <p:nvPr/>
        </p:nvSpPr>
        <p:spPr>
          <a:xfrm>
            <a:off x="3581280" y="4172040"/>
            <a:ext cx="215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3760920" y="37209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5427720" y="3414600"/>
            <a:ext cx="20257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9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        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7 2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5878440" y="444960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45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同侧圆角矩形 19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同侧圆角矩形 2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0"/>
          <p:cNvGrpSpPr/>
          <p:nvPr/>
        </p:nvGrpSpPr>
        <p:grpSpPr>
          <a:xfrm>
            <a:off x="212760" y="2111400"/>
            <a:ext cx="8319960" cy="3552840"/>
            <a:chOff x="212760" y="2111400"/>
            <a:chExt cx="8319960" cy="3552840"/>
          </a:xfrm>
        </p:grpSpPr>
        <p:pic>
          <p:nvPicPr>
            <p:cNvPr id="149" name="Picture 17" descr="00-2"/>
            <p:cNvPicPr/>
            <p:nvPr/>
          </p:nvPicPr>
          <p:blipFill>
            <a:blip r:embed="rId1"/>
            <a:stretch/>
          </p:blipFill>
          <p:spPr>
            <a:xfrm>
              <a:off x="212760" y="2111400"/>
              <a:ext cx="8319960" cy="35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32"/>
            <p:cNvSpPr/>
            <p:nvPr/>
          </p:nvSpPr>
          <p:spPr>
            <a:xfrm>
              <a:off x="1009440" y="3279960"/>
              <a:ext cx="7166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按照整数乘法算出积，再点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_______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点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_______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，看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_______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中一共有几位小数，就从积的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_______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起数出几位，点上小数点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068480" y="170028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乘法应该怎样计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5734080" y="325764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1608120" y="388764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2"/>
          <p:cNvSpPr/>
          <p:nvPr/>
        </p:nvSpPr>
        <p:spPr>
          <a:xfrm>
            <a:off x="3948120" y="388764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2"/>
          <p:cNvSpPr/>
          <p:nvPr/>
        </p:nvSpPr>
        <p:spPr>
          <a:xfrm>
            <a:off x="2967120" y="434664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右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57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同侧圆角矩形 12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同侧圆角矩形 13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2360520" y="1608120"/>
            <a:ext cx="18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0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480960" y="15559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竖式计算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86800" y="2544840"/>
            <a:ext cx="160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0.0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接连接符 8"/>
          <p:cNvSpPr/>
          <p:nvPr/>
        </p:nvSpPr>
        <p:spPr>
          <a:xfrm>
            <a:off x="1530360" y="3745080"/>
            <a:ext cx="207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2054160" y="3708360"/>
            <a:ext cx="102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 2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10"/>
          <p:cNvGrpSpPr/>
          <p:nvPr/>
        </p:nvGrpSpPr>
        <p:grpSpPr>
          <a:xfrm>
            <a:off x="3419640" y="2637000"/>
            <a:ext cx="1721880" cy="398880"/>
            <a:chOff x="3419640" y="2637000"/>
            <a:chExt cx="1721880" cy="398880"/>
          </a:xfrm>
        </p:grpSpPr>
        <p:sp>
          <p:nvSpPr>
            <p:cNvPr id="166" name="矩形 11"/>
            <p:cNvSpPr/>
            <p:nvPr/>
          </p:nvSpPr>
          <p:spPr>
            <a:xfrm>
              <a:off x="4351320" y="2637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两位小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接连接符 12"/>
            <p:cNvSpPr/>
            <p:nvPr/>
          </p:nvSpPr>
          <p:spPr>
            <a:xfrm>
              <a:off x="3419640" y="2867040"/>
              <a:ext cx="727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13"/>
          <p:cNvGrpSpPr/>
          <p:nvPr/>
        </p:nvGrpSpPr>
        <p:grpSpPr>
          <a:xfrm>
            <a:off x="3408480" y="3201840"/>
            <a:ext cx="1733040" cy="398880"/>
            <a:chOff x="3408480" y="3201840"/>
            <a:chExt cx="1733040" cy="398880"/>
          </a:xfrm>
        </p:grpSpPr>
        <p:sp>
          <p:nvSpPr>
            <p:cNvPr id="169" name="矩形 14"/>
            <p:cNvSpPr/>
            <p:nvPr/>
          </p:nvSpPr>
          <p:spPr>
            <a:xfrm>
              <a:off x="4351320" y="32018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两位小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5"/>
            <p:cNvSpPr/>
            <p:nvPr/>
          </p:nvSpPr>
          <p:spPr>
            <a:xfrm>
              <a:off x="3408480" y="3431880"/>
              <a:ext cx="738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16"/>
          <p:cNvGrpSpPr/>
          <p:nvPr/>
        </p:nvGrpSpPr>
        <p:grpSpPr>
          <a:xfrm>
            <a:off x="3408480" y="3814920"/>
            <a:ext cx="1989360" cy="398880"/>
            <a:chOff x="3408480" y="3814920"/>
            <a:chExt cx="1989360" cy="398880"/>
          </a:xfrm>
        </p:grpSpPr>
        <p:sp>
          <p:nvSpPr>
            <p:cNvPr id="172" name="矩形 17"/>
            <p:cNvSpPr/>
            <p:nvPr/>
          </p:nvSpPr>
          <p:spPr>
            <a:xfrm>
              <a:off x="4323960" y="38149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  ）位小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8"/>
            <p:cNvSpPr/>
            <p:nvPr/>
          </p:nvSpPr>
          <p:spPr>
            <a:xfrm>
              <a:off x="3408480" y="4046040"/>
              <a:ext cx="738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矩形 24"/>
          <p:cNvSpPr/>
          <p:nvPr/>
        </p:nvSpPr>
        <p:spPr>
          <a:xfrm>
            <a:off x="4320360" y="3824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6"/>
          <p:cNvSpPr/>
          <p:nvPr/>
        </p:nvSpPr>
        <p:spPr>
          <a:xfrm>
            <a:off x="1198440" y="2400480"/>
            <a:ext cx="4680000" cy="2232000"/>
          </a:xfrm>
          <a:prstGeom prst="rect">
            <a:avLst/>
          </a:prstGeom>
          <a:noFill/>
          <a:ln w="28440">
            <a:solidFill>
              <a:srgbClr val="e6b9b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直接箭头连接符 28"/>
          <p:cNvCxnSpPr>
            <a:stCxn id="175" idx="3"/>
          </p:cNvCxnSpPr>
          <p:nvPr/>
        </p:nvCxnSpPr>
        <p:spPr>
          <a:xfrm>
            <a:off x="5892480" y="351612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77" name="组合 30"/>
          <p:cNvGrpSpPr/>
          <p:nvPr/>
        </p:nvGrpSpPr>
        <p:grpSpPr>
          <a:xfrm>
            <a:off x="6527880" y="2535120"/>
            <a:ext cx="2077920" cy="1714680"/>
            <a:chOff x="6527880" y="2535120"/>
            <a:chExt cx="2077920" cy="1714680"/>
          </a:xfrm>
        </p:grpSpPr>
        <p:sp>
          <p:nvSpPr>
            <p:cNvPr id="178" name="TextBox 36"/>
            <p:cNvSpPr/>
            <p:nvPr/>
          </p:nvSpPr>
          <p:spPr>
            <a:xfrm>
              <a:off x="6606000" y="2535120"/>
              <a:ext cx="1611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5 6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0.0 4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接连接符 37"/>
            <p:cNvSpPr/>
            <p:nvPr/>
          </p:nvSpPr>
          <p:spPr>
            <a:xfrm>
              <a:off x="6527880" y="3735360"/>
              <a:ext cx="207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38"/>
            <p:cNvSpPr/>
            <p:nvPr/>
          </p:nvSpPr>
          <p:spPr>
            <a:xfrm>
              <a:off x="7267680" y="3699000"/>
              <a:ext cx="1022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 2 4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34"/>
          <p:cNvSpPr/>
          <p:nvPr/>
        </p:nvSpPr>
        <p:spPr>
          <a:xfrm>
            <a:off x="7041600" y="3700440"/>
            <a:ext cx="37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9"/>
          <p:cNvSpPr/>
          <p:nvPr/>
        </p:nvSpPr>
        <p:spPr>
          <a:xfrm>
            <a:off x="6834600" y="3706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44"/>
          <p:cNvSpPr/>
          <p:nvPr/>
        </p:nvSpPr>
        <p:spPr>
          <a:xfrm>
            <a:off x="6562080" y="3700440"/>
            <a:ext cx="37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4216680" y="1604880"/>
            <a:ext cx="166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02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36"/>
          <p:cNvGrpSpPr/>
          <p:nvPr/>
        </p:nvGrpSpPr>
        <p:grpSpPr>
          <a:xfrm>
            <a:off x="250920" y="4508640"/>
            <a:ext cx="3816360" cy="1800000"/>
            <a:chOff x="250920" y="4508640"/>
            <a:chExt cx="3816360" cy="1800000"/>
          </a:xfrm>
        </p:grpSpPr>
        <p:pic>
          <p:nvPicPr>
            <p:cNvPr id="186" name="Picture 34" descr="女孩1"/>
            <p:cNvPicPr/>
            <p:nvPr/>
          </p:nvPicPr>
          <p:blipFill>
            <a:blip r:embed="rId1"/>
            <a:stretch/>
          </p:blipFill>
          <p:spPr>
            <a:xfrm>
              <a:off x="250920" y="450864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27"/>
            <p:cNvSpPr/>
            <p:nvPr/>
          </p:nvSpPr>
          <p:spPr>
            <a:xfrm>
              <a:off x="1474920" y="4724280"/>
              <a:ext cx="2592360" cy="1325160"/>
            </a:xfrm>
            <a:prstGeom prst="wedgeRoundRectCallout">
              <a:avLst>
                <a:gd name="adj1" fmla="val -58143"/>
                <a:gd name="adj2" fmla="val -187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乘得的积的小数位数不够，怎样点小数点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39"/>
          <p:cNvGrpSpPr/>
          <p:nvPr/>
        </p:nvGrpSpPr>
        <p:grpSpPr>
          <a:xfrm>
            <a:off x="4356000" y="4579920"/>
            <a:ext cx="4260600" cy="1414440"/>
            <a:chOff x="4356000" y="4579920"/>
            <a:chExt cx="4260600" cy="1414440"/>
          </a:xfrm>
        </p:grpSpPr>
        <p:pic>
          <p:nvPicPr>
            <p:cNvPr id="189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092720" y="45799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27"/>
            <p:cNvSpPr/>
            <p:nvPr/>
          </p:nvSpPr>
          <p:spPr>
            <a:xfrm>
              <a:off x="4356000" y="5011560"/>
              <a:ext cx="2700360" cy="935280"/>
            </a:xfrm>
            <a:prstGeom prst="wedgeRoundRectCallout">
              <a:avLst>
                <a:gd name="adj1" fmla="val 57231"/>
                <a:gd name="adj2" fmla="val 2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在前面用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补足，再点小数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92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同侧圆角矩形 40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同侧圆角矩形 41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8"/>
          <p:cNvSpPr/>
          <p:nvPr/>
        </p:nvSpPr>
        <p:spPr>
          <a:xfrm>
            <a:off x="2637720" y="3276720"/>
            <a:ext cx="37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6"/>
          <p:cNvSpPr/>
          <p:nvPr/>
        </p:nvSpPr>
        <p:spPr>
          <a:xfrm>
            <a:off x="2998080" y="3276720"/>
            <a:ext cx="37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7"/>
          <p:cNvSpPr/>
          <p:nvPr/>
        </p:nvSpPr>
        <p:spPr>
          <a:xfrm>
            <a:off x="2845440" y="3311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2795760" y="1468440"/>
            <a:ext cx="18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2640960" y="2109960"/>
            <a:ext cx="160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0.0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5"/>
          <p:cNvSpPr/>
          <p:nvPr/>
        </p:nvSpPr>
        <p:spPr>
          <a:xfrm>
            <a:off x="2684520" y="3309840"/>
            <a:ext cx="207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3189240" y="3273480"/>
            <a:ext cx="102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宋体"/>
              </a:rPr>
              <a:t>2 8 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7"/>
          <p:cNvGrpSpPr/>
          <p:nvPr/>
        </p:nvGrpSpPr>
        <p:grpSpPr>
          <a:xfrm>
            <a:off x="4697280" y="2216160"/>
            <a:ext cx="1722240" cy="398880"/>
            <a:chOff x="4697280" y="2216160"/>
            <a:chExt cx="1722240" cy="398880"/>
          </a:xfrm>
        </p:grpSpPr>
        <p:sp>
          <p:nvSpPr>
            <p:cNvPr id="203" name="矩形 11"/>
            <p:cNvSpPr/>
            <p:nvPr/>
          </p:nvSpPr>
          <p:spPr>
            <a:xfrm>
              <a:off x="5629320" y="2216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两位小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直接连接符 12"/>
            <p:cNvSpPr/>
            <p:nvPr/>
          </p:nvSpPr>
          <p:spPr>
            <a:xfrm>
              <a:off x="4697280" y="2446200"/>
              <a:ext cx="727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10"/>
          <p:cNvGrpSpPr/>
          <p:nvPr/>
        </p:nvGrpSpPr>
        <p:grpSpPr>
          <a:xfrm>
            <a:off x="4686480" y="2781360"/>
            <a:ext cx="1733040" cy="398880"/>
            <a:chOff x="4686480" y="2781360"/>
            <a:chExt cx="1733040" cy="398880"/>
          </a:xfrm>
        </p:grpSpPr>
        <p:sp>
          <p:nvSpPr>
            <p:cNvPr id="206" name="矩形 14"/>
            <p:cNvSpPr/>
            <p:nvPr/>
          </p:nvSpPr>
          <p:spPr>
            <a:xfrm>
              <a:off x="5629320" y="2781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两位小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接连接符 15"/>
            <p:cNvSpPr/>
            <p:nvPr/>
          </p:nvSpPr>
          <p:spPr>
            <a:xfrm>
              <a:off x="4686480" y="3011400"/>
              <a:ext cx="738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13"/>
          <p:cNvGrpSpPr/>
          <p:nvPr/>
        </p:nvGrpSpPr>
        <p:grpSpPr>
          <a:xfrm>
            <a:off x="4686480" y="3394080"/>
            <a:ext cx="1840320" cy="398880"/>
            <a:chOff x="4686480" y="3394080"/>
            <a:chExt cx="1840320" cy="398880"/>
          </a:xfrm>
        </p:grpSpPr>
        <p:sp>
          <p:nvSpPr>
            <p:cNvPr id="209" name="矩形 17"/>
            <p:cNvSpPr/>
            <p:nvPr/>
          </p:nvSpPr>
          <p:spPr>
            <a:xfrm>
              <a:off x="5671080" y="3394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四位小数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接连接符 18"/>
            <p:cNvSpPr/>
            <p:nvPr/>
          </p:nvSpPr>
          <p:spPr>
            <a:xfrm>
              <a:off x="4686480" y="3625200"/>
              <a:ext cx="738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直接连接符 19"/>
          <p:cNvSpPr/>
          <p:nvPr/>
        </p:nvSpPr>
        <p:spPr>
          <a:xfrm>
            <a:off x="3908520" y="3381480"/>
            <a:ext cx="303120" cy="43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618440" y="1479600"/>
            <a:ext cx="145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0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30"/>
          <p:cNvGrpSpPr/>
          <p:nvPr/>
        </p:nvGrpSpPr>
        <p:grpSpPr>
          <a:xfrm>
            <a:off x="395280" y="3838680"/>
            <a:ext cx="4464000" cy="1800000"/>
            <a:chOff x="395280" y="3838680"/>
            <a:chExt cx="4464000" cy="1800000"/>
          </a:xfrm>
        </p:grpSpPr>
        <p:pic>
          <p:nvPicPr>
            <p:cNvPr id="214" name="Picture 28" descr="女孩1"/>
            <p:cNvPicPr/>
            <p:nvPr/>
          </p:nvPicPr>
          <p:blipFill>
            <a:blip r:embed="rId1"/>
            <a:stretch/>
          </p:blipFill>
          <p:spPr>
            <a:xfrm>
              <a:off x="395280" y="383868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27"/>
            <p:cNvSpPr/>
            <p:nvPr/>
          </p:nvSpPr>
          <p:spPr>
            <a:xfrm>
              <a:off x="1619280" y="4054320"/>
              <a:ext cx="3240000" cy="936720"/>
            </a:xfrm>
            <a:prstGeom prst="wedgeRoundRectCallout">
              <a:avLst>
                <a:gd name="adj1" fmla="val -56518"/>
                <a:gd name="adj2" fmla="val -5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乘积末尾有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情况下，应该注意什么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3338640" y="4773600"/>
            <a:ext cx="5292720" cy="1414440"/>
            <a:chOff x="3338640" y="4773600"/>
            <a:chExt cx="5292720" cy="1414440"/>
          </a:xfrm>
        </p:grpSpPr>
        <p:pic>
          <p:nvPicPr>
            <p:cNvPr id="217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107480" y="47736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AutoShape 27"/>
            <p:cNvSpPr/>
            <p:nvPr/>
          </p:nvSpPr>
          <p:spPr>
            <a:xfrm>
              <a:off x="3338640" y="5205600"/>
              <a:ext cx="3732120" cy="934920"/>
            </a:xfrm>
            <a:prstGeom prst="wedgeRoundRectCallout">
              <a:avLst>
                <a:gd name="adj1" fmla="val 55231"/>
                <a:gd name="adj2" fmla="val 2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先在前面补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占位，点上小数点，再将末尾的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划掉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20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同侧圆角矩形 29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同侧圆角矩形 3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5"/>
          <p:cNvSpPr/>
          <p:nvPr/>
        </p:nvSpPr>
        <p:spPr>
          <a:xfrm>
            <a:off x="457200" y="137484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比较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小数乘法应怎样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注意些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6156360" y="2685960"/>
            <a:ext cx="2960640" cy="18828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127080" y="2685960"/>
            <a:ext cx="2933640" cy="18828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"/>
          <p:cNvSpPr/>
          <p:nvPr/>
        </p:nvSpPr>
        <p:spPr>
          <a:xfrm>
            <a:off x="3059280" y="2685960"/>
            <a:ext cx="3097080" cy="18828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3" descr="10"/>
          <p:cNvPicPr/>
          <p:nvPr/>
        </p:nvPicPr>
        <p:blipFill>
          <a:blip r:embed="rId1"/>
          <a:stretch/>
        </p:blipFill>
        <p:spPr>
          <a:xfrm>
            <a:off x="179280" y="2743200"/>
            <a:ext cx="266724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4" descr="11"/>
          <p:cNvPicPr/>
          <p:nvPr/>
        </p:nvPicPr>
        <p:blipFill>
          <a:blip r:embed="rId2"/>
          <a:stretch/>
        </p:blipFill>
        <p:spPr>
          <a:xfrm>
            <a:off x="2940120" y="2792520"/>
            <a:ext cx="3076560" cy="172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5" descr="12"/>
          <p:cNvPicPr/>
          <p:nvPr/>
        </p:nvPicPr>
        <p:blipFill>
          <a:blip r:embed="rId3"/>
          <a:stretch/>
        </p:blipFill>
        <p:spPr>
          <a:xfrm>
            <a:off x="6227640" y="2859120"/>
            <a:ext cx="2741760" cy="16542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39"/>
          <p:cNvGrpSpPr/>
          <p:nvPr/>
        </p:nvGrpSpPr>
        <p:grpSpPr>
          <a:xfrm>
            <a:off x="-95400" y="4375080"/>
            <a:ext cx="4826160" cy="1800360"/>
            <a:chOff x="-95400" y="4375080"/>
            <a:chExt cx="4826160" cy="1800360"/>
          </a:xfrm>
        </p:grpSpPr>
        <p:pic>
          <p:nvPicPr>
            <p:cNvPr id="231" name="Picture 37" descr="女孩1"/>
            <p:cNvPicPr/>
            <p:nvPr/>
          </p:nvPicPr>
          <p:blipFill>
            <a:blip r:embed="rId4"/>
            <a:stretch/>
          </p:blipFill>
          <p:spPr>
            <a:xfrm>
              <a:off x="-95400" y="437508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AutoShape 27"/>
            <p:cNvSpPr/>
            <p:nvPr/>
          </p:nvSpPr>
          <p:spPr>
            <a:xfrm>
              <a:off x="1128600" y="4591080"/>
              <a:ext cx="3602160" cy="129672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应先按照整数乘法计算，再根据两个因数小数位数的总和，确定积的小数点位置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43"/>
          <p:cNvGrpSpPr/>
          <p:nvPr/>
        </p:nvGrpSpPr>
        <p:grpSpPr>
          <a:xfrm>
            <a:off x="4400640" y="4883040"/>
            <a:ext cx="4716360" cy="1414440"/>
            <a:chOff x="4400640" y="4883040"/>
            <a:chExt cx="4716360" cy="1414440"/>
          </a:xfrm>
        </p:grpSpPr>
        <p:pic>
          <p:nvPicPr>
            <p:cNvPr id="234" name="Picture 15" descr="男天使"/>
            <p:cNvPicPr/>
            <p:nvPr/>
          </p:nvPicPr>
          <p:blipFill>
            <a:blip r:embed="rId5"/>
            <a:stretch/>
          </p:blipFill>
          <p:spPr>
            <a:xfrm>
              <a:off x="7593120" y="48830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27"/>
            <p:cNvSpPr/>
            <p:nvPr/>
          </p:nvSpPr>
          <p:spPr>
            <a:xfrm>
              <a:off x="4400640" y="5314680"/>
              <a:ext cx="3156120" cy="935280"/>
            </a:xfrm>
            <a:prstGeom prst="wedgeRoundRectCallout">
              <a:avLst>
                <a:gd name="adj1" fmla="val 56185"/>
                <a:gd name="adj2" fmla="val 2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积的位数不够时，要添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占位，再点小数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44"/>
          <p:cNvGrpSpPr/>
          <p:nvPr/>
        </p:nvGrpSpPr>
        <p:grpSpPr>
          <a:xfrm>
            <a:off x="-108000" y="4394160"/>
            <a:ext cx="4826160" cy="1800360"/>
            <a:chOff x="-108000" y="4394160"/>
            <a:chExt cx="4826160" cy="1800360"/>
          </a:xfrm>
        </p:grpSpPr>
        <p:pic>
          <p:nvPicPr>
            <p:cNvPr id="237" name="Picture 45" descr="女孩1"/>
            <p:cNvPicPr/>
            <p:nvPr/>
          </p:nvPicPr>
          <p:blipFill>
            <a:blip r:embed="rId6"/>
            <a:stretch/>
          </p:blipFill>
          <p:spPr>
            <a:xfrm>
              <a:off x="-108000" y="439416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7"/>
            <p:cNvSpPr/>
            <p:nvPr/>
          </p:nvSpPr>
          <p:spPr>
            <a:xfrm>
              <a:off x="1116000" y="4610160"/>
              <a:ext cx="3602160" cy="129672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注意！乘积末尾有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，要先点上小数点，再去掉末尾的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哦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40" name="直线连接符 21"/>
            <p:cNvSpPr/>
            <p:nvPr/>
          </p:nvSpPr>
          <p:spPr>
            <a:xfrm flipV="1">
              <a:off x="395280" y="149220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同侧圆角矩形 20"/>
            <p:cNvSpPr/>
            <p:nvPr/>
          </p:nvSpPr>
          <p:spPr>
            <a:xfrm>
              <a:off x="395280" y="8366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同侧圆角矩形 21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1-10T03:44:48Z</dcterms:modified>
  <cp:revision>2</cp:revision>
  <dc:subject/>
  <dc:title>PowerPoint 演示文稿</dc:title>
</cp:coreProperties>
</file>