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3.jpeg" ContentType="image/jpeg"/>
  <Override PartName="/ppt/media/image22.wmf" ContentType="image/x-wmf"/>
  <Override PartName="/ppt/media/image21.png" ContentType="image/png"/>
  <Override PartName="/ppt/media/image19.wmf" ContentType="image/x-wmf"/>
  <Override PartName="/ppt/media/image8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5.png" ContentType="image/png"/>
  <Override PartName="/ppt/media/image28.png" ContentType="image/png"/>
  <Override PartName="/ppt/media/image31.wmf" ContentType="image/x-wmf"/>
  <Override PartName="/ppt/media/image33.png" ContentType="image/png"/>
  <Override PartName="/ppt/media/image3.png" ContentType="image/png"/>
  <Override PartName="/ppt/media/image11.wmf" ContentType="image/x-wmf"/>
  <Override PartName="/ppt/media/image30.wmf" ContentType="image/x-wmf"/>
  <Override PartName="/ppt/media/image13.wmf" ContentType="image/x-wmf"/>
  <Override PartName="/ppt/media/image27.jpeg" ContentType="image/jpeg"/>
  <Override PartName="/ppt/media/image32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15.png" ContentType="image/png"/>
  <Override PartName="/ppt/media/image24.jpeg" ContentType="image/jpeg"/>
  <Override PartName="/ppt/media/image16.png" ContentType="image/png"/>
  <Override PartName="/ppt/media/image26.jpeg" ContentType="image/jpeg"/>
  <Override PartName="/ppt/media/image18.wmf" ContentType="image/x-wmf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BACC-BABD-401E-8606-349C4286D7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357E-113A-402C-AA6B-8248DCE919C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612-429B-4558-B2BD-FB808C4C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27D-B49B-49AE-8F93-3CB1EEE4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2B1-FCDD-47E7-9982-DC23826A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307-3C95-4FC1-B7F5-E6842F80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D224-5987-4A4F-84A6-55B37F76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36DA-BC58-4FC2-860D-EE614345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9266-C084-4682-9F2F-82028B05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B7C2-00A3-4EED-ACEB-6FA03F94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0DA5-9572-4173-BBD4-EA39D17E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603D-2020-4C7A-B9C9-C3519443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91D0-5CD6-4CE4-A2B4-7729A2A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227-5716-47B1-BF02-57133477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C112-7392-4AC1-87B1-5651A0D4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1785-C245-4555-9C8F-6A83B2D2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33E0-2503-423E-990B-18C1EFD1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2014-78A6-4C13-8E36-CE85BD9B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30C5-497A-42D6-84AC-198EAF5D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0EC8-923C-4D35-BD9E-AB9F8468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E528-E5B8-47F1-B598-A8869918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AE24-409A-49C3-8582-60DB6550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563D-CFCD-4245-B82D-21BFA1B4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CABC-62CE-4B0A-ADE5-19AEE64D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CBD-EA18-4302-BEEB-557B00C8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9A5C-35E6-4AD0-9BC6-AAB013CA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6E4A-40AE-49C2-82E0-873F7FEE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81B0-1233-4F51-90BB-A1A1AA6E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8DEA9-798A-4DDC-A513-97954FB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714A1-AECD-40FD-B245-9BC95972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9F3C8-5852-4F4A-A70E-55584C9C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4570-B9AA-4202-9779-CFBA8DAC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6CEF-C365-42F3-97B9-971F25A4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59D49-5FFB-4E42-9EA0-68D16EDD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0A545-695F-41C2-AAB6-99CEFE9B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822-548F-4994-AD64-1DEF6CC3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617D-37B1-4A35-965D-B04A554A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3399-340A-4675-B0B8-4216FB2D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76ED-CBDB-4858-A156-80D9887A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0850-D6D7-4EA3-9CB7-A89FFD02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4419-3148-485A-AEDF-1E004D71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DD912-8FBF-4623-A450-1BFE8E4F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CB8F1-F4E7-4756-9403-42EEF300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BBF31-F3B8-44CF-BBC5-FFDB8244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C71E-49B6-4E26-96D5-EC5EAF0C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794CD-8BB7-43F4-B9DB-2E7455B1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E37-0B5C-4CEB-9010-4C53A2E1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180E-FC50-4190-BE13-37A2270D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EED0C-7ADC-4D3A-97CC-E07C033F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D5912-690E-4064-A421-54AB531F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567D0-B1EC-46A6-B676-92E1275D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8FD0A-1E09-4FBC-99CD-054F575D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14CF1-2D5B-4BCF-89CD-615D344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604F-BD25-46C9-AE38-8B4E2579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33395-33B8-4463-833F-9731E85A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7A69-0987-48AF-B317-DE14B9C4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90B30-7034-4BD0-9106-014E30A2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AC8-A06D-4271-9483-2730543C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745D8-6055-4F1F-9191-111F1889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1B905-CDA5-4D48-8859-54F6E92B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DDD7A-4C39-4FC6-85CE-33E35B43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89DE7-EB5F-4310-B9C8-8279464C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63794-F994-4DB5-A852-D4496150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3FADB-F5E1-42BC-BABA-E44E072B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F636C-1CF8-48CF-AC84-342198FF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26C5-142A-4324-96B2-E3087A87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BDBD0-B8D4-4B16-B12D-7D10AAAC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BDC52-36D8-4652-BC64-6B51C21B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C32-C7F9-4546-B98F-AF644495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C3D8-DA73-4F96-BBD2-E1578279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6B629-E553-4693-A4D7-855B9569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67EA3-EDEB-46A5-8014-6CA81EC9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7F2C3-2AC1-4805-85B3-28901A64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A7C8-CA3E-4EB3-989F-CBCEA52C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5C2A4-F717-4BF8-856F-3CA2F987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B61A6-C49C-49A7-959B-FCAE64F7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FAF02-A192-4790-A57B-E99F979F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D431A-7F49-4F06-BF1E-E0CBB22F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63A98-E70B-412F-BA49-FE8BFE19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D3A-981C-4D14-A310-5554CDEE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0CE86-E9FF-40C6-B73B-9CEF0C85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7ED68-47D9-4B4E-9081-8E9172F2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D439F-2CA7-476F-881D-5B94D8B3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592C2-51EF-4255-B4AF-6D8AEFAA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E7424-9883-44D4-B2BC-62609C8E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211CE-035B-4A3F-98A3-1F88D4F3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DE7D0-5BC2-4659-83AB-F41F835D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AF9BE-D26A-41C8-89FC-2649D28B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69AE0-8F5E-4DEE-B02F-028C46C2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A23E8-189B-43C2-A627-0A7FA530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D05-3CF7-4F3B-8100-29F3D79C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D86B7-0833-42C9-9242-2A83FBE1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7D90F-1DFD-423B-A68C-A04350C0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28581-10FD-4D76-9499-FC22C809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988F-A4AA-4AED-BB5D-AB06E2F1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35F4B-E936-4BC5-90C1-73E31474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5D47D-F7DC-4EC4-A5AB-A131EB0E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50040-DF35-48F7-B619-82F2A61D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800D-61A1-497F-BCB0-BA57CEF334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059E-53E5-40D1-9B6B-57015BF9A959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82E7-2A30-453B-930E-3400658B67D6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7088-600B-430C-BBDF-3FC1257A2C4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B870-86FA-4820-8084-ADA4CFD62CD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1EF0-3DB5-4082-BF64-E0457429C0F7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5A11-82FC-45B9-AA52-2718F8AC19F3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1B67-7ED8-4008-B0A9-71E8F2399233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wmf"/><Relationship Id="rId9" Type="http://schemas.openxmlformats.org/officeDocument/2006/relationships/image" Target="../media/image8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简易方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线连接符 21"/>
          <p:cNvSpPr/>
          <p:nvPr/>
        </p:nvSpPr>
        <p:spPr>
          <a:xfrm>
            <a:off x="2959200" y="3533760"/>
            <a:ext cx="5769000" cy="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6"/>
          <p:cNvSpPr/>
          <p:nvPr/>
        </p:nvSpPr>
        <p:spPr>
          <a:xfrm>
            <a:off x="2948040" y="2706840"/>
            <a:ext cx="578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字母表示数量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497" name="同侧圆角矩形 15"/>
          <p:cNvGrpSpPr/>
          <p:nvPr/>
        </p:nvGrpSpPr>
        <p:grpSpPr>
          <a:xfrm>
            <a:off x="469800" y="1311120"/>
            <a:ext cx="1998720" cy="510840"/>
            <a:chOff x="469800" y="1311120"/>
            <a:chExt cx="1998720" cy="510840"/>
          </a:xfrm>
        </p:grpSpPr>
        <p:pic>
          <p:nvPicPr>
            <p:cNvPr id="498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311120"/>
              <a:ext cx="199872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93560" y="1334880"/>
              <a:ext cx="1949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直线连接符 21"/>
          <p:cNvSpPr/>
          <p:nvPr/>
        </p:nvSpPr>
        <p:spPr>
          <a:xfrm flipV="1">
            <a:off x="433440" y="1989000"/>
            <a:ext cx="20700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1187280" y="2649600"/>
            <a:ext cx="71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书馆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故事书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天借出</a:t>
            </a:r>
            <a:r>
              <a:rPr b="0" i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还剩下多少本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504" name="同侧圆角矩形 1"/>
          <p:cNvGrpSpPr/>
          <p:nvPr/>
        </p:nvGrpSpPr>
        <p:grpSpPr>
          <a:xfrm>
            <a:off x="469800" y="1182600"/>
            <a:ext cx="1998720" cy="517680"/>
            <a:chOff x="469800" y="1182600"/>
            <a:chExt cx="1998720" cy="517680"/>
          </a:xfrm>
        </p:grpSpPr>
        <p:pic>
          <p:nvPicPr>
            <p:cNvPr id="505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1182600"/>
              <a:ext cx="19987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493560" y="1209600"/>
              <a:ext cx="19497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7" name="直线连接符 21"/>
          <p:cNvSpPr/>
          <p:nvPr/>
        </p:nvSpPr>
        <p:spPr>
          <a:xfrm flipV="1">
            <a:off x="539640" y="174312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511" name="TextBox 21"/>
          <p:cNvSpPr/>
          <p:nvPr/>
        </p:nvSpPr>
        <p:spPr>
          <a:xfrm>
            <a:off x="1116000" y="2649600"/>
            <a:ext cx="6985080" cy="1373760"/>
          </a:xfrm>
          <a:prstGeom prst="rect">
            <a:avLst/>
          </a:prstGeom>
          <a:solidFill>
            <a:srgbClr val="e48312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题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知数量关系式为“剩下的本数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本数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借出的本数”“借出的本数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天借出的本数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数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故事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天借出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还剩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0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13" name="同侧圆角矩形 15"/>
          <p:cNvGrpSpPr/>
          <p:nvPr/>
        </p:nvGrpSpPr>
        <p:grpSpPr>
          <a:xfrm>
            <a:off x="469800" y="1182600"/>
            <a:ext cx="1998720" cy="517680"/>
            <a:chOff x="469800" y="1182600"/>
            <a:chExt cx="1998720" cy="517680"/>
          </a:xfrm>
        </p:grpSpPr>
        <p:pic>
          <p:nvPicPr>
            <p:cNvPr id="514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182600"/>
              <a:ext cx="19987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493560" y="1209600"/>
              <a:ext cx="19497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直线连接符 21"/>
          <p:cNvSpPr/>
          <p:nvPr/>
        </p:nvSpPr>
        <p:spPr>
          <a:xfrm flipV="1">
            <a:off x="468360" y="1736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18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矩形 1"/>
          <p:cNvSpPr/>
          <p:nvPr/>
        </p:nvSpPr>
        <p:spPr>
          <a:xfrm>
            <a:off x="1747800" y="2836800"/>
            <a:ext cx="61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还剩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00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21" name="同侧圆角矩形 15"/>
          <p:cNvGrpSpPr/>
          <p:nvPr/>
        </p:nvGrpSpPr>
        <p:grpSpPr>
          <a:xfrm>
            <a:off x="463680" y="1225440"/>
            <a:ext cx="1998360" cy="510840"/>
            <a:chOff x="463680" y="1225440"/>
            <a:chExt cx="1998360" cy="510840"/>
          </a:xfrm>
        </p:grpSpPr>
        <p:pic>
          <p:nvPicPr>
            <p:cNvPr id="522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3680" y="1225440"/>
              <a:ext cx="199836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487440" y="1248840"/>
              <a:ext cx="19494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直线连接符 21"/>
          <p:cNvSpPr/>
          <p:nvPr/>
        </p:nvSpPr>
        <p:spPr>
          <a:xfrm flipV="1">
            <a:off x="446040" y="174312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10"/>
          <p:cNvSpPr/>
          <p:nvPr/>
        </p:nvSpPr>
        <p:spPr>
          <a:xfrm>
            <a:off x="1258920" y="2655720"/>
            <a:ext cx="653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具店里原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支铅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卖掉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盒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式子表示文具店里剩下的铅笔数。</a:t>
            </a:r>
            <a:r>
              <a:rPr b="0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这个式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出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具店里剩下多少铅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528" name="同侧圆角矩形 1"/>
          <p:cNvGrpSpPr/>
          <p:nvPr/>
        </p:nvGrpSpPr>
        <p:grpSpPr>
          <a:xfrm>
            <a:off x="469800" y="1182600"/>
            <a:ext cx="1998720" cy="517680"/>
            <a:chOff x="469800" y="1182600"/>
            <a:chExt cx="1998720" cy="517680"/>
          </a:xfrm>
        </p:grpSpPr>
        <p:pic>
          <p:nvPicPr>
            <p:cNvPr id="529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1182600"/>
              <a:ext cx="19987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493560" y="1209600"/>
              <a:ext cx="19497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1" name="直线连接符 21"/>
          <p:cNvSpPr/>
          <p:nvPr/>
        </p:nvSpPr>
        <p:spPr>
          <a:xfrm flipV="1">
            <a:off x="539640" y="174312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535" name="TextBox 21"/>
          <p:cNvSpPr/>
          <p:nvPr/>
        </p:nvSpPr>
        <p:spPr>
          <a:xfrm>
            <a:off x="1461960" y="2649600"/>
            <a:ext cx="6985080" cy="1800360"/>
          </a:xfrm>
          <a:prstGeom prst="rect">
            <a:avLst/>
          </a:prstGeom>
          <a:solidFill>
            <a:srgbClr val="e48312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用每盒铅笔的数量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出卖掉了多少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去卖掉的铅笔数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出文具店里剩下的铅笔数量即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代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求出的算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出文具店里剩下多少铅笔即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37" name="同侧圆角矩形 15"/>
          <p:cNvGrpSpPr/>
          <p:nvPr/>
        </p:nvGrpSpPr>
        <p:grpSpPr>
          <a:xfrm>
            <a:off x="469800" y="1182600"/>
            <a:ext cx="1998720" cy="512640"/>
            <a:chOff x="469800" y="1182600"/>
            <a:chExt cx="1998720" cy="512640"/>
          </a:xfrm>
        </p:grpSpPr>
        <p:pic>
          <p:nvPicPr>
            <p:cNvPr id="538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182600"/>
              <a:ext cx="1998720" cy="5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493560" y="1206000"/>
              <a:ext cx="19497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直线连接符 21"/>
          <p:cNvSpPr/>
          <p:nvPr/>
        </p:nvSpPr>
        <p:spPr>
          <a:xfrm flipV="1">
            <a:off x="468360" y="169992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1"/>
          <p:cNvSpPr/>
          <p:nvPr/>
        </p:nvSpPr>
        <p:spPr>
          <a:xfrm>
            <a:off x="1747800" y="2836800"/>
            <a:ext cx="61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(200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具店里剩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支铅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547" name="矩形 10"/>
          <p:cNvSpPr/>
          <p:nvPr/>
        </p:nvSpPr>
        <p:spPr>
          <a:xfrm>
            <a:off x="1739880" y="1795320"/>
            <a:ext cx="54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共汽车上原来有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青少年宫站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上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又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下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车上有乘客多少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同侧圆角矩形 11"/>
          <p:cNvGrpSpPr/>
          <p:nvPr/>
        </p:nvGrpSpPr>
        <p:grpSpPr>
          <a:xfrm>
            <a:off x="444600" y="1109520"/>
            <a:ext cx="2000160" cy="510840"/>
            <a:chOff x="444600" y="1109520"/>
            <a:chExt cx="2000160" cy="510840"/>
          </a:xfrm>
        </p:grpSpPr>
        <p:pic>
          <p:nvPicPr>
            <p:cNvPr id="549" name="同侧圆角矩形 11" descr=""/>
            <p:cNvPicPr/>
            <p:nvPr/>
          </p:nvPicPr>
          <p:blipFill>
            <a:blip r:embed="rId3"/>
            <a:stretch/>
          </p:blipFill>
          <p:spPr>
            <a:xfrm>
              <a:off x="444600" y="1109520"/>
              <a:ext cx="200016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471600" y="11314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54" name="矩形 15"/>
          <p:cNvSpPr/>
          <p:nvPr/>
        </p:nvSpPr>
        <p:spPr>
          <a:xfrm>
            <a:off x="2268360" y="36990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现在车上有乘客</a:t>
            </a:r>
            <a:r>
              <a:rPr b="0" i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+5-6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10"/>
          <p:cNvSpPr/>
          <p:nvPr/>
        </p:nvSpPr>
        <p:spPr>
          <a:xfrm>
            <a:off x="755640" y="1809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同侧圆角矩形 15"/>
          <p:cNvGrpSpPr/>
          <p:nvPr/>
        </p:nvGrpSpPr>
        <p:grpSpPr>
          <a:xfrm>
            <a:off x="433440" y="1116000"/>
            <a:ext cx="1998720" cy="510840"/>
            <a:chOff x="433440" y="1116000"/>
            <a:chExt cx="1998720" cy="510840"/>
          </a:xfrm>
        </p:grpSpPr>
        <p:pic>
          <p:nvPicPr>
            <p:cNvPr id="558" name="同侧圆角矩形 15" descr=""/>
            <p:cNvPicPr/>
            <p:nvPr/>
          </p:nvPicPr>
          <p:blipFill>
            <a:blip r:embed="rId1"/>
            <a:stretch/>
          </p:blipFill>
          <p:spPr>
            <a:xfrm>
              <a:off x="433440" y="1116000"/>
              <a:ext cx="19987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458640" y="113796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562" name="矩形 19"/>
          <p:cNvSpPr/>
          <p:nvPr/>
        </p:nvSpPr>
        <p:spPr>
          <a:xfrm>
            <a:off x="1116000" y="2852640"/>
            <a:ext cx="6624720" cy="947160"/>
          </a:xfrm>
          <a:prstGeom prst="rect">
            <a:avLst/>
          </a:prstGeom>
          <a:solidFill>
            <a:srgbClr val="92d05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错误解答错在没有准确地表示出现在车上的乘客人数。用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x+5-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这里的人表示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单位名称。所以这里的单位名称“人”要写在括号外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x+5-6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表示现在车上有的乘客。加上小括号再写单位名称是把“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x+5-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看作一个整体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这样才符合题目要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grpSp>
        <p:nvGrpSpPr>
          <p:cNvPr id="566" name="同侧圆角矩形 12"/>
          <p:cNvGrpSpPr/>
          <p:nvPr/>
        </p:nvGrpSpPr>
        <p:grpSpPr>
          <a:xfrm>
            <a:off x="469800" y="1116000"/>
            <a:ext cx="1998720" cy="510840"/>
            <a:chOff x="469800" y="1116000"/>
            <a:chExt cx="1998720" cy="510840"/>
          </a:xfrm>
        </p:grpSpPr>
        <p:pic>
          <p:nvPicPr>
            <p:cNvPr id="567" name="同侧圆角矩形 12" descr=""/>
            <p:cNvPicPr/>
            <p:nvPr/>
          </p:nvPicPr>
          <p:blipFill>
            <a:blip r:embed="rId3"/>
            <a:stretch/>
          </p:blipFill>
          <p:spPr>
            <a:xfrm>
              <a:off x="469800" y="1116000"/>
              <a:ext cx="199872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493560" y="113796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15"/>
          <p:cNvSpPr/>
          <p:nvPr/>
        </p:nvSpPr>
        <p:spPr>
          <a:xfrm rot="18297600">
            <a:off x="5343120" y="4812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20"/>
          <p:cNvSpPr/>
          <p:nvPr/>
        </p:nvSpPr>
        <p:spPr>
          <a:xfrm rot="18297600">
            <a:off x="5166720" y="25887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3" name="矩形 14"/>
          <p:cNvSpPr/>
          <p:nvPr/>
        </p:nvSpPr>
        <p:spPr>
          <a:xfrm>
            <a:off x="1835280" y="18223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现在车上有乘客</a:t>
            </a:r>
            <a:r>
              <a:rPr b="0" i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+5-6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16"/>
          <p:cNvSpPr/>
          <p:nvPr/>
        </p:nvSpPr>
        <p:spPr>
          <a:xfrm>
            <a:off x="1650960" y="423720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a39b4e"/>
                </a:solidFill>
                <a:latin typeface="华文新魏"/>
                <a:ea typeface="华文新魏"/>
              </a:rPr>
              <a:t>答：现在车上有乘客（</a:t>
            </a:r>
            <a:r>
              <a:rPr b="0" i="1" sz="3600" spc="-1" strike="noStrike">
                <a:solidFill>
                  <a:srgbClr val="a39b4e"/>
                </a:solidFill>
                <a:latin typeface="华文新魏"/>
                <a:ea typeface="华文新魏"/>
              </a:rPr>
              <a:t>x</a:t>
            </a:r>
            <a:r>
              <a:rPr b="0" sz="3600" spc="-1" strike="noStrike">
                <a:solidFill>
                  <a:srgbClr val="a39b4e"/>
                </a:solidFill>
                <a:latin typeface="华文新魏"/>
                <a:ea typeface="华文新魏"/>
              </a:rPr>
              <a:t>+5-6</a:t>
            </a:r>
            <a:r>
              <a:rPr b="0" i="1" sz="3600" spc="-1" strike="noStrike">
                <a:solidFill>
                  <a:srgbClr val="a39b4e"/>
                </a:solidFill>
                <a:latin typeface="华文新魏"/>
                <a:ea typeface="华文新魏"/>
              </a:rPr>
              <a:t>）</a:t>
            </a:r>
            <a:r>
              <a:rPr b="0" sz="3600" spc="-1" strike="noStrike">
                <a:solidFill>
                  <a:srgbClr val="a39b4e"/>
                </a:solidFill>
                <a:latin typeface="华文新魏"/>
                <a:ea typeface="华文新魏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3"/>
          <p:cNvSpPr/>
          <p:nvPr/>
        </p:nvSpPr>
        <p:spPr>
          <a:xfrm>
            <a:off x="1042920" y="155736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填一填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5219640" y="3714840"/>
            <a:ext cx="37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5" descr=""/>
          <p:cNvPicPr/>
          <p:nvPr/>
        </p:nvPicPr>
        <p:blipFill>
          <a:blip r:embed="rId1"/>
          <a:srcRect l="0" t="9694" r="0" b="0"/>
          <a:stretch/>
        </p:blipFill>
        <p:spPr>
          <a:xfrm>
            <a:off x="612720" y="2044800"/>
            <a:ext cx="7846920" cy="407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8" name="Object 6"/>
          <p:cNvGraphicFramePr/>
          <p:nvPr/>
        </p:nvGraphicFramePr>
        <p:xfrm>
          <a:off x="2050920" y="5661000"/>
          <a:ext cx="714600" cy="38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5661000"/>
                    <a:ext cx="7146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Object 7"/>
          <p:cNvGraphicFramePr/>
          <p:nvPr/>
        </p:nvGraphicFramePr>
        <p:xfrm>
          <a:off x="6372360" y="5661000"/>
          <a:ext cx="714240" cy="3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72360" y="5661000"/>
                    <a:ext cx="7142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2" name="同侧圆角矩形 8"/>
          <p:cNvGrpSpPr/>
          <p:nvPr/>
        </p:nvGrpSpPr>
        <p:grpSpPr>
          <a:xfrm>
            <a:off x="469800" y="1036800"/>
            <a:ext cx="1998720" cy="516960"/>
            <a:chOff x="469800" y="1036800"/>
            <a:chExt cx="1998720" cy="516960"/>
          </a:xfrm>
        </p:grpSpPr>
        <p:pic>
          <p:nvPicPr>
            <p:cNvPr id="583" name="同侧圆角矩形 8" descr=""/>
            <p:cNvPicPr/>
            <p:nvPr/>
          </p:nvPicPr>
          <p:blipFill>
            <a:blip r:embed="rId6"/>
            <a:stretch/>
          </p:blipFill>
          <p:spPr>
            <a:xfrm>
              <a:off x="469800" y="1036800"/>
              <a:ext cx="1998720" cy="5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493560" y="106344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同侧圆角矩形 23"/>
          <p:cNvGrpSpPr/>
          <p:nvPr/>
        </p:nvGrpSpPr>
        <p:grpSpPr>
          <a:xfrm>
            <a:off x="450720" y="1238400"/>
            <a:ext cx="2000520" cy="517320"/>
            <a:chOff x="450720" y="1238400"/>
            <a:chExt cx="2000520" cy="517320"/>
          </a:xfrm>
        </p:grpSpPr>
        <p:pic>
          <p:nvPicPr>
            <p:cNvPr id="357" name="同侧圆角矩形 23" descr=""/>
            <p:cNvPicPr/>
            <p:nvPr/>
          </p:nvPicPr>
          <p:blipFill>
            <a:blip r:embed="rId1"/>
            <a:stretch/>
          </p:blipFill>
          <p:spPr>
            <a:xfrm>
              <a:off x="450720" y="1238400"/>
              <a:ext cx="20005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77720" y="1265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7"/>
          <p:cNvSpPr/>
          <p:nvPr/>
        </p:nvSpPr>
        <p:spPr>
          <a:xfrm>
            <a:off x="808200" y="29750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字母的取值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含有字母式子的值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含有字母的式子表示数量关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线连接符 21"/>
          <p:cNvSpPr/>
          <p:nvPr/>
        </p:nvSpPr>
        <p:spPr>
          <a:xfrm flipV="1">
            <a:off x="484200" y="1844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939960" y="43657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动参与学习，获得积极的学习体验，激发学习新知识的兴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493560" y="1628640"/>
            <a:ext cx="804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有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平均分成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做游戏，每组（              ）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一支钢笔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可以买（             ）支钢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汽车每分钟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可以行（             ）千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同侧圆角矩形 8"/>
          <p:cNvGrpSpPr/>
          <p:nvPr/>
        </p:nvGrpSpPr>
        <p:grpSpPr>
          <a:xfrm>
            <a:off x="433440" y="1011240"/>
            <a:ext cx="1998720" cy="519120"/>
            <a:chOff x="433440" y="1011240"/>
            <a:chExt cx="1998720" cy="519120"/>
          </a:xfrm>
        </p:grpSpPr>
        <p:pic>
          <p:nvPicPr>
            <p:cNvPr id="588" name="同侧圆角矩形 8" descr=""/>
            <p:cNvPicPr/>
            <p:nvPr/>
          </p:nvPicPr>
          <p:blipFill>
            <a:blip r:embed="rId1"/>
            <a:stretch/>
          </p:blipFill>
          <p:spPr>
            <a:xfrm>
              <a:off x="433440" y="101124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455760" y="103680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直线连接符 21"/>
          <p:cNvSpPr/>
          <p:nvPr/>
        </p:nvSpPr>
        <p:spPr>
          <a:xfrm flipV="1">
            <a:off x="468360" y="160164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5"/>
          <p:cNvSpPr/>
          <p:nvPr/>
        </p:nvSpPr>
        <p:spPr>
          <a:xfrm>
            <a:off x="971640" y="2492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÷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6"/>
          <p:cNvSpPr/>
          <p:nvPr/>
        </p:nvSpPr>
        <p:spPr>
          <a:xfrm>
            <a:off x="6732720" y="31892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÷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7"/>
          <p:cNvSpPr/>
          <p:nvPr/>
        </p:nvSpPr>
        <p:spPr>
          <a:xfrm>
            <a:off x="1216080" y="5477040"/>
            <a:ext cx="10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5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611280" y="1916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果园里有桃树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，每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，一共有（            ）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一只熊猫每天吃食物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一只大象每天吃的食物是熊猫的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，一只大象每天吃（             ）千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5" name="同侧圆角矩形 8"/>
          <p:cNvGrpSpPr/>
          <p:nvPr/>
        </p:nvGrpSpPr>
        <p:grpSpPr>
          <a:xfrm>
            <a:off x="469800" y="1060560"/>
            <a:ext cx="1998720" cy="519120"/>
            <a:chOff x="469800" y="1060560"/>
            <a:chExt cx="1998720" cy="519120"/>
          </a:xfrm>
        </p:grpSpPr>
        <p:pic>
          <p:nvPicPr>
            <p:cNvPr id="596" name="同侧圆角矩形 8" descr=""/>
            <p:cNvPicPr/>
            <p:nvPr/>
          </p:nvPicPr>
          <p:blipFill>
            <a:blip r:embed="rId1"/>
            <a:stretch/>
          </p:blipFill>
          <p:spPr>
            <a:xfrm>
              <a:off x="469800" y="106056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493560" y="1087560"/>
              <a:ext cx="1949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直线连接符 21"/>
          <p:cNvSpPr/>
          <p:nvPr/>
        </p:nvSpPr>
        <p:spPr>
          <a:xfrm flipV="1">
            <a:off x="468360" y="169992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矩形 4"/>
          <p:cNvSpPr/>
          <p:nvPr/>
        </p:nvSpPr>
        <p:spPr>
          <a:xfrm>
            <a:off x="1676520" y="2859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矩形 5"/>
          <p:cNvSpPr/>
          <p:nvPr/>
        </p:nvSpPr>
        <p:spPr>
          <a:xfrm>
            <a:off x="1785960" y="5040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7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484200" y="2120760"/>
            <a:ext cx="81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妈妈今年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，是小红的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，小红今年（            ）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老师用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了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笔记本，平均每个（               ）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同侧圆角矩形 8"/>
          <p:cNvGrpSpPr/>
          <p:nvPr/>
        </p:nvGrpSpPr>
        <p:grpSpPr>
          <a:xfrm>
            <a:off x="433440" y="1023840"/>
            <a:ext cx="1998720" cy="519120"/>
            <a:chOff x="433440" y="1023840"/>
            <a:chExt cx="1998720" cy="519120"/>
          </a:xfrm>
        </p:grpSpPr>
        <p:pic>
          <p:nvPicPr>
            <p:cNvPr id="603" name="同侧圆角矩形 8" descr=""/>
            <p:cNvPicPr/>
            <p:nvPr/>
          </p:nvPicPr>
          <p:blipFill>
            <a:blip r:embed="rId1"/>
            <a:stretch/>
          </p:blipFill>
          <p:spPr>
            <a:xfrm>
              <a:off x="433440" y="102384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58640" y="1049400"/>
              <a:ext cx="1949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5" name="直线连接符 21"/>
          <p:cNvSpPr/>
          <p:nvPr/>
        </p:nvSpPr>
        <p:spPr>
          <a:xfrm flipV="1">
            <a:off x="433440" y="1628640"/>
            <a:ext cx="20700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矩形 11"/>
          <p:cNvSpPr/>
          <p:nvPr/>
        </p:nvSpPr>
        <p:spPr>
          <a:xfrm>
            <a:off x="1332000" y="2986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÷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12"/>
          <p:cNvSpPr/>
          <p:nvPr/>
        </p:nvSpPr>
        <p:spPr>
          <a:xfrm>
            <a:off x="1312920" y="45086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÷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4"/>
          <p:cNvSpPr/>
          <p:nvPr/>
        </p:nvSpPr>
        <p:spPr>
          <a:xfrm>
            <a:off x="555480" y="31100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用含有字母的式子表示甲、乙两地之间的距离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9" name="组合 3"/>
          <p:cNvGrpSpPr/>
          <p:nvPr/>
        </p:nvGrpSpPr>
        <p:grpSpPr>
          <a:xfrm>
            <a:off x="574560" y="1047600"/>
            <a:ext cx="8174160" cy="1556280"/>
            <a:chOff x="574560" y="1047600"/>
            <a:chExt cx="8174160" cy="1556280"/>
          </a:xfrm>
        </p:grpSpPr>
        <p:sp>
          <p:nvSpPr>
            <p:cNvPr id="610" name="Text Box 3"/>
            <p:cNvSpPr/>
            <p:nvPr/>
          </p:nvSpPr>
          <p:spPr>
            <a:xfrm>
              <a:off x="574560" y="1047600"/>
              <a:ext cx="8174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客车的速度是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千米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/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时，货车的速度是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5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千米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/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时，两车同时从甲、乙两地相对开出，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小时后相遇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11" name="Object 6"/>
            <p:cNvGraphicFramePr/>
            <p:nvPr/>
          </p:nvGraphicFramePr>
          <p:xfrm>
            <a:off x="3708000" y="1669680"/>
            <a:ext cx="343440" cy="39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08000" y="1669680"/>
                      <a:ext cx="34344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3" name="组合 5"/>
          <p:cNvGrpSpPr/>
          <p:nvPr/>
        </p:nvGrpSpPr>
        <p:grpSpPr>
          <a:xfrm>
            <a:off x="739800" y="4530600"/>
            <a:ext cx="8370720" cy="581400"/>
            <a:chOff x="739800" y="4530600"/>
            <a:chExt cx="8370720" cy="581400"/>
          </a:xfrm>
        </p:grpSpPr>
        <p:sp>
          <p:nvSpPr>
            <p:cNvPr id="614" name="Text Box 5"/>
            <p:cNvSpPr/>
            <p:nvPr/>
          </p:nvSpPr>
          <p:spPr>
            <a:xfrm>
              <a:off x="739800" y="4530600"/>
              <a:ext cx="83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当            时，甲、乙两地之间的距离是多少千米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15" name="Object 9"/>
            <p:cNvGraphicFramePr/>
            <p:nvPr/>
          </p:nvGraphicFramePr>
          <p:xfrm>
            <a:off x="2266920" y="4566240"/>
            <a:ext cx="1245240" cy="52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6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6920" y="4566240"/>
                      <a:ext cx="1245240" cy="52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7" name="同侧圆角矩形 10"/>
          <p:cNvGrpSpPr/>
          <p:nvPr/>
        </p:nvGrpSpPr>
        <p:grpSpPr>
          <a:xfrm>
            <a:off x="469800" y="1000080"/>
            <a:ext cx="1998720" cy="517680"/>
            <a:chOff x="469800" y="1000080"/>
            <a:chExt cx="1998720" cy="517680"/>
          </a:xfrm>
        </p:grpSpPr>
        <p:pic>
          <p:nvPicPr>
            <p:cNvPr id="618" name="同侧圆角矩形 10" descr=""/>
            <p:cNvPicPr/>
            <p:nvPr/>
          </p:nvPicPr>
          <p:blipFill>
            <a:blip r:embed="rId5"/>
            <a:stretch/>
          </p:blipFill>
          <p:spPr>
            <a:xfrm>
              <a:off x="469800" y="1000080"/>
              <a:ext cx="19987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493560" y="1023840"/>
              <a:ext cx="1949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直线连接符 21"/>
          <p:cNvSpPr/>
          <p:nvPr/>
        </p:nvSpPr>
        <p:spPr>
          <a:xfrm flipV="1">
            <a:off x="484200" y="155700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12"/>
          <p:cNvSpPr/>
          <p:nvPr/>
        </p:nvSpPr>
        <p:spPr>
          <a:xfrm>
            <a:off x="3106800" y="3656160"/>
            <a:ext cx="22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65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13"/>
          <p:cNvSpPr/>
          <p:nvPr/>
        </p:nvSpPr>
        <p:spPr>
          <a:xfrm>
            <a:off x="2065320" y="5607000"/>
            <a:ext cx="57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×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5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65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6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千米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同侧圆角矩形 12"/>
          <p:cNvGrpSpPr/>
          <p:nvPr/>
        </p:nvGrpSpPr>
        <p:grpSpPr>
          <a:xfrm>
            <a:off x="469800" y="1170000"/>
            <a:ext cx="1998720" cy="519120"/>
            <a:chOff x="469800" y="1170000"/>
            <a:chExt cx="1998720" cy="519120"/>
          </a:xfrm>
        </p:grpSpPr>
        <p:pic>
          <p:nvPicPr>
            <p:cNvPr id="624" name="同侧圆角矩形 12" descr=""/>
            <p:cNvPicPr/>
            <p:nvPr/>
          </p:nvPicPr>
          <p:blipFill>
            <a:blip r:embed="rId1"/>
            <a:stretch/>
          </p:blipFill>
          <p:spPr>
            <a:xfrm>
              <a:off x="469800" y="117000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493560" y="119556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课堂小结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直线连接符 21"/>
          <p:cNvSpPr/>
          <p:nvPr/>
        </p:nvSpPr>
        <p:spPr>
          <a:xfrm flipV="1">
            <a:off x="533520" y="1734840"/>
            <a:ext cx="207144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628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AutoShape 27"/>
          <p:cNvSpPr/>
          <p:nvPr/>
        </p:nvSpPr>
        <p:spPr>
          <a:xfrm>
            <a:off x="6051600" y="1622520"/>
            <a:ext cx="2627280" cy="108576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意的数也可以是小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632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4" name="矩形 21"/>
          <p:cNvSpPr/>
          <p:nvPr/>
        </p:nvSpPr>
        <p:spPr>
          <a:xfrm>
            <a:off x="539640" y="3672000"/>
            <a:ext cx="821052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含有字母的式子可以表示数量关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15"/>
          <p:cNvSpPr/>
          <p:nvPr/>
        </p:nvSpPr>
        <p:spPr>
          <a:xfrm>
            <a:off x="539640" y="4508640"/>
            <a:ext cx="8280360" cy="520560"/>
          </a:xfrm>
          <a:prstGeom prst="rect">
            <a:avLst/>
          </a:prstGeom>
          <a:solidFill>
            <a:srgbClr val="a39b4e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含有字母的式子不仅可以表示数量关系</a:t>
            </a:r>
            <a:r>
              <a:rPr b="0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也可以表示数量。给出式子中字母的值</a:t>
            </a:r>
            <a:r>
              <a:rPr b="0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就可以算出这个式子的值是多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3"/>
          <p:cNvGrpSpPr/>
          <p:nvPr/>
        </p:nvGrpSpPr>
        <p:grpSpPr>
          <a:xfrm>
            <a:off x="324000" y="1413000"/>
            <a:ext cx="8685000" cy="3024000"/>
            <a:chOff x="324000" y="1413000"/>
            <a:chExt cx="8685000" cy="3024000"/>
          </a:xfrm>
        </p:grpSpPr>
        <p:pic>
          <p:nvPicPr>
            <p:cNvPr id="365" name="Picture 4" descr=""/>
            <p:cNvPicPr/>
            <p:nvPr/>
          </p:nvPicPr>
          <p:blipFill>
            <a:blip r:embed="rId1"/>
            <a:stretch/>
          </p:blipFill>
          <p:spPr>
            <a:xfrm>
              <a:off x="2555280" y="2132280"/>
              <a:ext cx="1944720" cy="23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5" descr=""/>
            <p:cNvPicPr/>
            <p:nvPr/>
          </p:nvPicPr>
          <p:blipFill>
            <a:blip r:embed="rId2"/>
            <a:stretch/>
          </p:blipFill>
          <p:spPr>
            <a:xfrm>
              <a:off x="5075280" y="2133000"/>
              <a:ext cx="2016000" cy="22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AutoShape 6"/>
            <p:cNvSpPr/>
            <p:nvPr/>
          </p:nvSpPr>
          <p:spPr>
            <a:xfrm>
              <a:off x="324000" y="1559520"/>
              <a:ext cx="2016000" cy="862560"/>
            </a:xfrm>
            <a:prstGeom prst="wedgeRoundRectCallout">
              <a:avLst>
                <a:gd name="adj1" fmla="val 88958"/>
                <a:gd name="adj2" fmla="val 8480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6875640" y="1413000"/>
              <a:ext cx="2087640" cy="935640"/>
            </a:xfrm>
            <a:prstGeom prst="wedgeRoundRectCallout">
              <a:avLst>
                <a:gd name="adj1" fmla="val -57324"/>
                <a:gd name="adj2" fmla="val 9138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 Box 8"/>
            <p:cNvSpPr/>
            <p:nvPr/>
          </p:nvSpPr>
          <p:spPr>
            <a:xfrm>
              <a:off x="6947280" y="1485360"/>
              <a:ext cx="206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岁时，爸     爸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Text Box 9"/>
          <p:cNvSpPr/>
          <p:nvPr/>
        </p:nvSpPr>
        <p:spPr>
          <a:xfrm>
            <a:off x="539640" y="1557360"/>
            <a:ext cx="165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比小红大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1541520" y="48610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讲讲从情境图中你能得到哪些信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2" name="Object 28"/>
          <p:cNvGraphicFramePr/>
          <p:nvPr/>
        </p:nvGraphicFramePr>
        <p:xfrm>
          <a:off x="7920000" y="1952640"/>
          <a:ext cx="766800" cy="24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00" y="1952640"/>
                    <a:ext cx="766800" cy="2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4" name="同侧圆角矩形 14"/>
          <p:cNvGrpSpPr/>
          <p:nvPr/>
        </p:nvGrpSpPr>
        <p:grpSpPr>
          <a:xfrm>
            <a:off x="549360" y="1011240"/>
            <a:ext cx="1998720" cy="512280"/>
            <a:chOff x="549360" y="1011240"/>
            <a:chExt cx="1998720" cy="512280"/>
          </a:xfrm>
        </p:grpSpPr>
        <p:pic>
          <p:nvPicPr>
            <p:cNvPr id="375" name="同侧圆角矩形 14" descr=""/>
            <p:cNvPicPr/>
            <p:nvPr/>
          </p:nvPicPr>
          <p:blipFill>
            <a:blip r:embed="rId5"/>
            <a:stretch/>
          </p:blipFill>
          <p:spPr>
            <a:xfrm>
              <a:off x="549360" y="101124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73120" y="103464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468360" y="2438280"/>
          <a:ext cx="8066160" cy="2595600"/>
        </p:xfrm>
        <a:graphic>
          <a:graphicData uri="http://schemas.openxmlformats.org/drawingml/2006/table">
            <a:tbl>
              <a:tblPr/>
              <a:tblGrid>
                <a:gridCol w="4059360"/>
                <a:gridCol w="4006800"/>
              </a:tblGrid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小红的年龄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爸爸的年龄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Text Box 43"/>
          <p:cNvSpPr/>
          <p:nvPr/>
        </p:nvSpPr>
        <p:spPr>
          <a:xfrm>
            <a:off x="461880" y="1673280"/>
            <a:ext cx="840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表格补充完整（列出算式并求出结果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1157400" y="545472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格中的省略号表示什么意思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 Box 45"/>
          <p:cNvSpPr/>
          <p:nvPr/>
        </p:nvSpPr>
        <p:spPr>
          <a:xfrm>
            <a:off x="5508720" y="2943360"/>
            <a:ext cx="27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+ 30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46"/>
          <p:cNvSpPr/>
          <p:nvPr/>
        </p:nvSpPr>
        <p:spPr>
          <a:xfrm>
            <a:off x="5508720" y="35035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+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=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47"/>
          <p:cNvSpPr/>
          <p:nvPr/>
        </p:nvSpPr>
        <p:spPr>
          <a:xfrm>
            <a:off x="5219640" y="4022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+ 30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4" name="Object 28"/>
          <p:cNvGraphicFramePr/>
          <p:nvPr/>
        </p:nvGraphicFramePr>
        <p:xfrm>
          <a:off x="2124000" y="4713120"/>
          <a:ext cx="7668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713120"/>
                    <a:ext cx="7668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29"/>
          <p:cNvGraphicFramePr/>
          <p:nvPr/>
        </p:nvGraphicFramePr>
        <p:xfrm>
          <a:off x="6156360" y="4713120"/>
          <a:ext cx="766800" cy="2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4713120"/>
                    <a:ext cx="7668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组合 5"/>
          <p:cNvGrpSpPr/>
          <p:nvPr/>
        </p:nvGrpSpPr>
        <p:grpSpPr>
          <a:xfrm>
            <a:off x="395280" y="1093680"/>
            <a:ext cx="2071800" cy="661680"/>
            <a:chOff x="395280" y="1093680"/>
            <a:chExt cx="2071800" cy="661680"/>
          </a:xfrm>
        </p:grpSpPr>
        <p:sp>
          <p:nvSpPr>
            <p:cNvPr id="389" name="直线连接符 21"/>
            <p:cNvSpPr/>
            <p:nvPr/>
          </p:nvSpPr>
          <p:spPr>
            <a:xfrm flipV="1">
              <a:off x="395280" y="1749240"/>
              <a:ext cx="207180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0" name="同侧圆角矩形 14"/>
            <p:cNvGrpSpPr/>
            <p:nvPr/>
          </p:nvGrpSpPr>
          <p:grpSpPr>
            <a:xfrm>
              <a:off x="396000" y="1093680"/>
              <a:ext cx="1999800" cy="516240"/>
              <a:chOff x="396000" y="1093680"/>
              <a:chExt cx="1999800" cy="516240"/>
            </a:xfrm>
          </p:grpSpPr>
          <p:pic>
            <p:nvPicPr>
              <p:cNvPr id="391" name="同侧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396000" y="1093680"/>
                <a:ext cx="199980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420120" y="1121040"/>
                <a:ext cx="195048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3" name="同侧圆角矩形 15"/>
          <p:cNvGrpSpPr/>
          <p:nvPr/>
        </p:nvGrpSpPr>
        <p:grpSpPr>
          <a:xfrm>
            <a:off x="365040" y="1127160"/>
            <a:ext cx="2006640" cy="512280"/>
            <a:chOff x="365040" y="1127160"/>
            <a:chExt cx="2006640" cy="512280"/>
          </a:xfrm>
        </p:grpSpPr>
        <p:pic>
          <p:nvPicPr>
            <p:cNvPr id="394" name="同侧圆角矩形 15" descr=""/>
            <p:cNvPicPr/>
            <p:nvPr/>
          </p:nvPicPr>
          <p:blipFill>
            <a:blip r:embed="rId6"/>
            <a:stretch/>
          </p:blipFill>
          <p:spPr>
            <a:xfrm>
              <a:off x="365040" y="1127160"/>
              <a:ext cx="200664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393840" y="115056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480960" y="1698480"/>
          <a:ext cx="8066160" cy="2597400"/>
        </p:xfrm>
        <a:graphic>
          <a:graphicData uri="http://schemas.openxmlformats.org/drawingml/2006/table">
            <a:tbl>
              <a:tblPr/>
              <a:tblGrid>
                <a:gridCol w="4059360"/>
                <a:gridCol w="4006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小红的年龄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爸爸的年龄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Text Box 45"/>
          <p:cNvSpPr/>
          <p:nvPr/>
        </p:nvSpPr>
        <p:spPr>
          <a:xfrm>
            <a:off x="5521320" y="2201760"/>
            <a:ext cx="27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+ 30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5521320" y="2763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+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=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5232240" y="32828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+ 30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0" name="Object 27"/>
          <p:cNvGraphicFramePr/>
          <p:nvPr/>
        </p:nvGraphicFramePr>
        <p:xfrm>
          <a:off x="6168960" y="3973680"/>
          <a:ext cx="766800" cy="24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8960" y="3973680"/>
                    <a:ext cx="766800" cy="2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28"/>
          <p:cNvGraphicFramePr/>
          <p:nvPr/>
        </p:nvGraphicFramePr>
        <p:xfrm>
          <a:off x="2136600" y="3973680"/>
          <a:ext cx="766800" cy="24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3973680"/>
                    <a:ext cx="766800" cy="2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组合 4" descr=""/>
          <p:cNvPicPr/>
          <p:nvPr/>
        </p:nvPicPr>
        <p:blipFill>
          <a:blip r:embed="rId5"/>
          <a:stretch/>
        </p:blipFill>
        <p:spPr>
          <a:xfrm>
            <a:off x="4867200" y="4743360"/>
            <a:ext cx="3971880" cy="1508040"/>
          </a:xfrm>
          <a:prstGeom prst="rect">
            <a:avLst/>
          </a:prstGeom>
          <a:ln w="0">
            <a:noFill/>
          </a:ln>
        </p:spPr>
      </p:pic>
      <p:grpSp>
        <p:nvGrpSpPr>
          <p:cNvPr id="405" name="组合 8"/>
          <p:cNvGrpSpPr/>
          <p:nvPr/>
        </p:nvGrpSpPr>
        <p:grpSpPr>
          <a:xfrm>
            <a:off x="1587960" y="4780080"/>
            <a:ext cx="3017520" cy="520560"/>
            <a:chOff x="1587960" y="4780080"/>
            <a:chExt cx="3017520" cy="520560"/>
          </a:xfrm>
        </p:grpSpPr>
        <p:graphicFrame>
          <p:nvGraphicFramePr>
            <p:cNvPr id="406" name="Object 33"/>
            <p:cNvGraphicFramePr/>
            <p:nvPr/>
          </p:nvGraphicFramePr>
          <p:xfrm>
            <a:off x="3525840" y="4805280"/>
            <a:ext cx="1079640" cy="471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07" name="Object 3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25840" y="4805280"/>
                      <a:ext cx="107964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矩形 7"/>
            <p:cNvSpPr/>
            <p:nvPr/>
          </p:nvSpPr>
          <p:spPr>
            <a:xfrm>
              <a:off x="1587960" y="4780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爸爸的年龄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9" name="组合 5"/>
          <p:cNvGrpSpPr/>
          <p:nvPr/>
        </p:nvGrpSpPr>
        <p:grpSpPr>
          <a:xfrm>
            <a:off x="358920" y="1050840"/>
            <a:ext cx="2071440" cy="661680"/>
            <a:chOff x="358920" y="1050840"/>
            <a:chExt cx="2071440" cy="661680"/>
          </a:xfrm>
        </p:grpSpPr>
        <p:sp>
          <p:nvSpPr>
            <p:cNvPr id="410" name="直线连接符 21"/>
            <p:cNvSpPr/>
            <p:nvPr/>
          </p:nvSpPr>
          <p:spPr>
            <a:xfrm flipV="1">
              <a:off x="358920" y="1706400"/>
              <a:ext cx="207144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1" name="同侧圆角矩形 18"/>
            <p:cNvGrpSpPr/>
            <p:nvPr/>
          </p:nvGrpSpPr>
          <p:grpSpPr>
            <a:xfrm>
              <a:off x="359640" y="1050840"/>
              <a:ext cx="1999440" cy="516600"/>
              <a:chOff x="359640" y="1050840"/>
              <a:chExt cx="1999440" cy="516600"/>
            </a:xfrm>
          </p:grpSpPr>
          <p:pic>
            <p:nvPicPr>
              <p:cNvPr id="412" name="同侧圆角矩形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59640" y="1050840"/>
                <a:ext cx="1999440" cy="5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383760" y="1078200"/>
                <a:ext cx="1950120" cy="48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4" name="同侧圆角矩形 19"/>
          <p:cNvGrpSpPr/>
          <p:nvPr/>
        </p:nvGrpSpPr>
        <p:grpSpPr>
          <a:xfrm>
            <a:off x="317520" y="1122480"/>
            <a:ext cx="1998720" cy="517320"/>
            <a:chOff x="317520" y="1122480"/>
            <a:chExt cx="1998720" cy="517320"/>
          </a:xfrm>
        </p:grpSpPr>
        <p:pic>
          <p:nvPicPr>
            <p:cNvPr id="415" name="同侧圆角矩形 19" descr=""/>
            <p:cNvPicPr/>
            <p:nvPr/>
          </p:nvPicPr>
          <p:blipFill>
            <a:blip r:embed="rId9"/>
            <a:stretch/>
          </p:blipFill>
          <p:spPr>
            <a:xfrm>
              <a:off x="317520" y="1122480"/>
              <a:ext cx="19987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343080" y="11494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7"/>
          <p:cNvSpPr/>
          <p:nvPr/>
        </p:nvSpPr>
        <p:spPr>
          <a:xfrm>
            <a:off x="582480" y="301932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871560" y="1844640"/>
            <a:ext cx="6983280" cy="2531160"/>
            <a:chOff x="871560" y="1844640"/>
            <a:chExt cx="6983280" cy="2531160"/>
          </a:xfrm>
        </p:grpSpPr>
        <p:sp>
          <p:nvSpPr>
            <p:cNvPr id="419" name="Text Box 6"/>
            <p:cNvSpPr/>
            <p:nvPr/>
          </p:nvSpPr>
          <p:spPr>
            <a:xfrm>
              <a:off x="871560" y="1844640"/>
              <a:ext cx="698328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当爸爸年龄表示为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时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想一想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  可以是哪些数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  可以是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0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吗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20" name="Object 7"/>
            <p:cNvGraphicFramePr/>
            <p:nvPr/>
          </p:nvGraphicFramePr>
          <p:xfrm>
            <a:off x="4363200" y="1844640"/>
            <a:ext cx="766080" cy="43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63200" y="1844640"/>
                      <a:ext cx="76608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2" name="Object 8"/>
          <p:cNvGraphicFramePr/>
          <p:nvPr/>
        </p:nvGraphicFramePr>
        <p:xfrm>
          <a:off x="1787400" y="2924280"/>
          <a:ext cx="360360" cy="39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7400" y="2924280"/>
                    <a:ext cx="3603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9"/>
          <p:cNvGraphicFramePr/>
          <p:nvPr/>
        </p:nvGraphicFramePr>
        <p:xfrm>
          <a:off x="1878120" y="3882960"/>
          <a:ext cx="360360" cy="39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8120" y="3882960"/>
                    <a:ext cx="3603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6" name="组合 5"/>
          <p:cNvGrpSpPr/>
          <p:nvPr/>
        </p:nvGrpSpPr>
        <p:grpSpPr>
          <a:xfrm>
            <a:off x="393840" y="1052640"/>
            <a:ext cx="2071440" cy="659880"/>
            <a:chOff x="393840" y="1052640"/>
            <a:chExt cx="2071440" cy="659880"/>
          </a:xfrm>
        </p:grpSpPr>
        <p:sp>
          <p:nvSpPr>
            <p:cNvPr id="427" name="直线连接符 21"/>
            <p:cNvSpPr/>
            <p:nvPr/>
          </p:nvSpPr>
          <p:spPr>
            <a:xfrm flipV="1">
              <a:off x="393840" y="1706400"/>
              <a:ext cx="207144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8" name="同侧圆角矩形 12"/>
            <p:cNvGrpSpPr/>
            <p:nvPr/>
          </p:nvGrpSpPr>
          <p:grpSpPr>
            <a:xfrm>
              <a:off x="396360" y="1052640"/>
              <a:ext cx="1999440" cy="513720"/>
              <a:chOff x="396360" y="1052640"/>
              <a:chExt cx="1999440" cy="513720"/>
            </a:xfrm>
          </p:grpSpPr>
          <p:pic>
            <p:nvPicPr>
              <p:cNvPr id="429" name="同侧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360" y="1052640"/>
                <a:ext cx="199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18680" y="1075680"/>
                <a:ext cx="195012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1" name="同侧圆角矩形 13"/>
          <p:cNvGrpSpPr/>
          <p:nvPr/>
        </p:nvGrpSpPr>
        <p:grpSpPr>
          <a:xfrm>
            <a:off x="396720" y="1054080"/>
            <a:ext cx="1998720" cy="512280"/>
            <a:chOff x="396720" y="1054080"/>
            <a:chExt cx="1998720" cy="512280"/>
          </a:xfrm>
        </p:grpSpPr>
        <p:pic>
          <p:nvPicPr>
            <p:cNvPr id="432" name="同侧圆角矩形 13" descr=""/>
            <p:cNvPicPr/>
            <p:nvPr/>
          </p:nvPicPr>
          <p:blipFill>
            <a:blip r:embed="rId8"/>
            <a:stretch/>
          </p:blipFill>
          <p:spPr>
            <a:xfrm>
              <a:off x="396720" y="105408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419040" y="10774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4"/>
          <p:cNvGrpSpPr/>
          <p:nvPr/>
        </p:nvGrpSpPr>
        <p:grpSpPr>
          <a:xfrm>
            <a:off x="684360" y="4653000"/>
            <a:ext cx="8280360" cy="581400"/>
            <a:chOff x="684360" y="4653000"/>
            <a:chExt cx="8280360" cy="581400"/>
          </a:xfrm>
        </p:grpSpPr>
        <p:sp>
          <p:nvSpPr>
            <p:cNvPr id="435" name="Text Box 5"/>
            <p:cNvSpPr/>
            <p:nvPr/>
          </p:nvSpPr>
          <p:spPr>
            <a:xfrm>
              <a:off x="684360" y="4653000"/>
              <a:ext cx="828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当小红的年龄           时，爸爸的年龄是多少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36" name="Object 5"/>
            <p:cNvGraphicFramePr/>
            <p:nvPr/>
          </p:nvGraphicFramePr>
          <p:xfrm>
            <a:off x="3204360" y="4725000"/>
            <a:ext cx="1188720" cy="504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7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04360" y="4725000"/>
                      <a:ext cx="118872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8" name="组合 3"/>
          <p:cNvGrpSpPr/>
          <p:nvPr/>
        </p:nvGrpSpPr>
        <p:grpSpPr>
          <a:xfrm>
            <a:off x="2147760" y="5586480"/>
            <a:ext cx="5053680" cy="581400"/>
            <a:chOff x="2147760" y="5586480"/>
            <a:chExt cx="5053680" cy="581400"/>
          </a:xfrm>
        </p:grpSpPr>
        <p:graphicFrame>
          <p:nvGraphicFramePr>
            <p:cNvPr id="439" name="Object 7"/>
            <p:cNvGraphicFramePr/>
            <p:nvPr/>
          </p:nvGraphicFramePr>
          <p:xfrm>
            <a:off x="2147760" y="5586480"/>
            <a:ext cx="4105800" cy="574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47760" y="5586480"/>
                      <a:ext cx="4105800" cy="57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1" name="文本框 2"/>
            <p:cNvSpPr/>
            <p:nvPr/>
          </p:nvSpPr>
          <p:spPr>
            <a:xfrm>
              <a:off x="6289200" y="55864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岁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2835360" y="2776680"/>
            <a:ext cx="1923840" cy="2266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5041800" y="2921040"/>
            <a:ext cx="1057320" cy="10764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5"/>
          <p:cNvSpPr/>
          <p:nvPr/>
        </p:nvSpPr>
        <p:spPr>
          <a:xfrm>
            <a:off x="1071720" y="158580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月球上，人能举起的物体的质量是地球上的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6"/>
          <p:cNvSpPr/>
          <p:nvPr/>
        </p:nvSpPr>
        <p:spPr>
          <a:xfrm flipH="1" flipV="1">
            <a:off x="599040" y="2704320"/>
            <a:ext cx="2235240" cy="1204920"/>
          </a:xfrm>
          <a:prstGeom prst="wedgeRoundRectCallout">
            <a:avLst>
              <a:gd name="adj1" fmla="val -69393"/>
              <a:gd name="adj2" fmla="val -4214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地球上我只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举起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 kg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6218280" y="2681280"/>
            <a:ext cx="2089080" cy="1509840"/>
          </a:xfrm>
          <a:prstGeom prst="wedgeRoundRectCallout">
            <a:avLst>
              <a:gd name="adj1" fmla="val -58490"/>
              <a:gd name="adj2" fmla="val 11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月球上你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个大力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746280" y="558468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中小朋友在月球上能举起的质量是多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8" name="组合 5"/>
          <p:cNvGrpSpPr/>
          <p:nvPr/>
        </p:nvGrpSpPr>
        <p:grpSpPr>
          <a:xfrm>
            <a:off x="369720" y="1076400"/>
            <a:ext cx="2071800" cy="661680"/>
            <a:chOff x="369720" y="1076400"/>
            <a:chExt cx="2071800" cy="661680"/>
          </a:xfrm>
        </p:grpSpPr>
        <p:sp>
          <p:nvSpPr>
            <p:cNvPr id="449" name="直线连接符 21"/>
            <p:cNvSpPr/>
            <p:nvPr/>
          </p:nvSpPr>
          <p:spPr>
            <a:xfrm flipV="1">
              <a:off x="369720" y="1731960"/>
              <a:ext cx="207180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0" name="同侧圆角矩形 12"/>
            <p:cNvGrpSpPr/>
            <p:nvPr/>
          </p:nvGrpSpPr>
          <p:grpSpPr>
            <a:xfrm>
              <a:off x="371520" y="1076400"/>
              <a:ext cx="1999800" cy="514440"/>
              <a:chOff x="371520" y="1076400"/>
              <a:chExt cx="1999800" cy="514440"/>
            </a:xfrm>
          </p:grpSpPr>
          <p:pic>
            <p:nvPicPr>
              <p:cNvPr id="451" name="同侧圆角矩形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71520" y="1076400"/>
                <a:ext cx="1999800" cy="51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394560" y="1098720"/>
                <a:ext cx="195048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53" name="同侧圆角矩形 13"/>
          <p:cNvGrpSpPr/>
          <p:nvPr/>
        </p:nvGrpSpPr>
        <p:grpSpPr>
          <a:xfrm>
            <a:off x="341280" y="1073160"/>
            <a:ext cx="2000160" cy="510840"/>
            <a:chOff x="341280" y="1073160"/>
            <a:chExt cx="2000160" cy="510840"/>
          </a:xfrm>
        </p:grpSpPr>
        <p:pic>
          <p:nvPicPr>
            <p:cNvPr id="454" name="同侧圆角矩形 13" descr=""/>
            <p:cNvPicPr/>
            <p:nvPr/>
          </p:nvPicPr>
          <p:blipFill>
            <a:blip r:embed="rId4"/>
            <a:stretch/>
          </p:blipFill>
          <p:spPr>
            <a:xfrm>
              <a:off x="341280" y="1073160"/>
              <a:ext cx="200016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368280" y="109512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755640" y="2205000"/>
          <a:ext cx="7054920" cy="2725920"/>
        </p:xfrm>
        <a:graphic>
          <a:graphicData uri="http://schemas.openxmlformats.org/drawingml/2006/table">
            <a:tbl>
              <a:tblPr/>
              <a:tblGrid>
                <a:gridCol w="3549600"/>
                <a:gridCol w="350532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在地球上能举起物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的质量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kg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在月球上能举起物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的质量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kg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7" name="Object 25"/>
          <p:cNvGraphicFramePr/>
          <p:nvPr/>
        </p:nvGraphicFramePr>
        <p:xfrm>
          <a:off x="2124000" y="4624560"/>
          <a:ext cx="766800" cy="2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624560"/>
                    <a:ext cx="76680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27"/>
          <p:cNvGraphicFramePr/>
          <p:nvPr/>
        </p:nvGraphicFramePr>
        <p:xfrm>
          <a:off x="5580000" y="3195720"/>
          <a:ext cx="1079640" cy="37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195720"/>
                    <a:ext cx="10796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28"/>
          <p:cNvGraphicFramePr/>
          <p:nvPr/>
        </p:nvGraphicFramePr>
        <p:xfrm>
          <a:off x="5548320" y="3645000"/>
          <a:ext cx="123516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48320" y="3645000"/>
                    <a:ext cx="1235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9"/>
          <p:cNvGraphicFramePr/>
          <p:nvPr/>
        </p:nvGraphicFramePr>
        <p:xfrm>
          <a:off x="5443560" y="4076640"/>
          <a:ext cx="136512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4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3560" y="4076640"/>
                    <a:ext cx="1365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30"/>
          <p:cNvGraphicFramePr/>
          <p:nvPr/>
        </p:nvGraphicFramePr>
        <p:xfrm>
          <a:off x="5676840" y="4653000"/>
          <a:ext cx="766800" cy="24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6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76840" y="4653000"/>
                    <a:ext cx="766800" cy="2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7" name="组合 5"/>
          <p:cNvGrpSpPr/>
          <p:nvPr/>
        </p:nvGrpSpPr>
        <p:grpSpPr>
          <a:xfrm>
            <a:off x="355680" y="1160640"/>
            <a:ext cx="2071440" cy="661320"/>
            <a:chOff x="355680" y="1160640"/>
            <a:chExt cx="2071440" cy="661320"/>
          </a:xfrm>
        </p:grpSpPr>
        <p:sp>
          <p:nvSpPr>
            <p:cNvPr id="468" name="直线连接符 21"/>
            <p:cNvSpPr/>
            <p:nvPr/>
          </p:nvSpPr>
          <p:spPr>
            <a:xfrm flipV="1">
              <a:off x="357480" y="1815840"/>
              <a:ext cx="206964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9" name="同侧圆角矩形 15"/>
            <p:cNvGrpSpPr/>
            <p:nvPr/>
          </p:nvGrpSpPr>
          <p:grpSpPr>
            <a:xfrm>
              <a:off x="355680" y="1160640"/>
              <a:ext cx="1997280" cy="516240"/>
              <a:chOff x="355680" y="1160640"/>
              <a:chExt cx="1997280" cy="516240"/>
            </a:xfrm>
          </p:grpSpPr>
          <p:pic>
            <p:nvPicPr>
              <p:cNvPr id="470" name="同侧圆角矩形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5680" y="1160640"/>
                <a:ext cx="1997280" cy="5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>
                <a:off x="382680" y="1187640"/>
                <a:ext cx="1947960" cy="48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2" name="同侧圆角矩形 16"/>
          <p:cNvGrpSpPr/>
          <p:nvPr/>
        </p:nvGrpSpPr>
        <p:grpSpPr>
          <a:xfrm>
            <a:off x="328680" y="1195560"/>
            <a:ext cx="2000160" cy="517320"/>
            <a:chOff x="328680" y="1195560"/>
            <a:chExt cx="2000160" cy="517320"/>
          </a:xfrm>
        </p:grpSpPr>
        <p:pic>
          <p:nvPicPr>
            <p:cNvPr id="473" name="同侧圆角矩形 16" descr=""/>
            <p:cNvPicPr/>
            <p:nvPr/>
          </p:nvPicPr>
          <p:blipFill>
            <a:blip r:embed="rId12"/>
            <a:stretch/>
          </p:blipFill>
          <p:spPr>
            <a:xfrm>
              <a:off x="328680" y="1195560"/>
              <a:ext cx="20001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353880" y="1222200"/>
              <a:ext cx="19497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1152360" cy="18781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1224000" cy="1828800"/>
          </a:xfrm>
          <a:prstGeom prst="rect">
            <a:avLst/>
          </a:prstGeom>
          <a:ln w="0">
            <a:noFill/>
          </a:ln>
        </p:spPr>
      </p:pic>
      <p:sp>
        <p:nvSpPr>
          <p:cNvPr id="477" name="AutoShape 5"/>
          <p:cNvSpPr/>
          <p:nvPr/>
        </p:nvSpPr>
        <p:spPr>
          <a:xfrm flipH="1" flipV="1">
            <a:off x="610200" y="1839960"/>
            <a:ext cx="2305080" cy="792000"/>
          </a:xfrm>
          <a:prstGeom prst="wedgeRoundRectCallout">
            <a:avLst>
              <a:gd name="adj1" fmla="val -51046"/>
              <a:gd name="adj2" fmla="val -1052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人在地球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举起物体的质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6"/>
          <p:cNvSpPr/>
          <p:nvPr/>
        </p:nvSpPr>
        <p:spPr>
          <a:xfrm flipH="1" flipV="1">
            <a:off x="5795280" y="1196280"/>
            <a:ext cx="2376360" cy="863640"/>
          </a:xfrm>
          <a:prstGeom prst="wedgeRoundRectCallout">
            <a:avLst>
              <a:gd name="adj1" fmla="val 45657"/>
              <a:gd name="adj2" fmla="val -112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在月球上能举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质量就是（   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4572000" y="4292640"/>
            <a:ext cx="3240000" cy="860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省略乘号时，一般把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在字母的前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0" name="对象 1"/>
          <p:cNvGraphicFramePr/>
          <p:nvPr/>
        </p:nvGraphicFramePr>
        <p:xfrm>
          <a:off x="755640" y="1979640"/>
          <a:ext cx="23328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979640"/>
                    <a:ext cx="2332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2" name="组合 2"/>
          <p:cNvGrpSpPr/>
          <p:nvPr/>
        </p:nvGrpSpPr>
        <p:grpSpPr>
          <a:xfrm>
            <a:off x="1187280" y="4869000"/>
            <a:ext cx="3816360" cy="581400"/>
            <a:chOff x="1187280" y="4869000"/>
            <a:chExt cx="3816360" cy="581400"/>
          </a:xfrm>
        </p:grpSpPr>
        <p:sp>
          <p:nvSpPr>
            <p:cNvPr id="483" name="Text Box 7"/>
            <p:cNvSpPr/>
            <p:nvPr/>
          </p:nvSpPr>
          <p:spPr>
            <a:xfrm>
              <a:off x="1401840" y="4869000"/>
              <a:ext cx="360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6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写成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84" name="对象 10"/>
            <p:cNvGraphicFramePr/>
            <p:nvPr/>
          </p:nvGraphicFramePr>
          <p:xfrm>
            <a:off x="1187280" y="5012280"/>
            <a:ext cx="349560" cy="257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5" name="对象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87280" y="5012280"/>
                      <a:ext cx="34956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6" name="对象 11"/>
            <p:cNvGraphicFramePr/>
            <p:nvPr/>
          </p:nvGraphicFramePr>
          <p:xfrm>
            <a:off x="4025520" y="5013000"/>
            <a:ext cx="349560" cy="257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7" name="对象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25520" y="5013000"/>
                      <a:ext cx="34956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88" name="组合 5"/>
          <p:cNvGrpSpPr/>
          <p:nvPr/>
        </p:nvGrpSpPr>
        <p:grpSpPr>
          <a:xfrm>
            <a:off x="395280" y="1125360"/>
            <a:ext cx="2071800" cy="660240"/>
            <a:chOff x="395280" y="1125360"/>
            <a:chExt cx="2071800" cy="660240"/>
          </a:xfrm>
        </p:grpSpPr>
        <p:sp>
          <p:nvSpPr>
            <p:cNvPr id="489" name="直线连接符 21"/>
            <p:cNvSpPr/>
            <p:nvPr/>
          </p:nvSpPr>
          <p:spPr>
            <a:xfrm flipV="1">
              <a:off x="395280" y="1779480"/>
              <a:ext cx="2071800" cy="6120"/>
            </a:xfrm>
            <a:prstGeom prst="line">
              <a:avLst/>
            </a:prstGeom>
            <a:ln w="38160">
              <a:solidFill>
                <a:srgbClr val="f3b56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0" name="同侧圆角矩形 17"/>
            <p:cNvGrpSpPr/>
            <p:nvPr/>
          </p:nvGrpSpPr>
          <p:grpSpPr>
            <a:xfrm>
              <a:off x="396000" y="1125360"/>
              <a:ext cx="1999800" cy="514080"/>
              <a:chOff x="396000" y="1125360"/>
              <a:chExt cx="1999800" cy="514080"/>
            </a:xfrm>
          </p:grpSpPr>
          <p:pic>
            <p:nvPicPr>
              <p:cNvPr id="491" name="同侧圆角矩形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396000" y="1125360"/>
                <a:ext cx="199980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420120" y="1148040"/>
                <a:ext cx="195048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3" name="同侧圆角矩形 18"/>
          <p:cNvGrpSpPr/>
          <p:nvPr/>
        </p:nvGrpSpPr>
        <p:grpSpPr>
          <a:xfrm>
            <a:off x="396720" y="1158840"/>
            <a:ext cx="1998720" cy="517320"/>
            <a:chOff x="396720" y="1158840"/>
            <a:chExt cx="1998720" cy="517320"/>
          </a:xfrm>
        </p:grpSpPr>
        <p:pic>
          <p:nvPicPr>
            <p:cNvPr id="494" name="同侧圆角矩形 18" descr=""/>
            <p:cNvPicPr/>
            <p:nvPr/>
          </p:nvPicPr>
          <p:blipFill>
            <a:blip r:embed="rId10"/>
            <a:stretch/>
          </p:blipFill>
          <p:spPr>
            <a:xfrm>
              <a:off x="396720" y="1158840"/>
              <a:ext cx="1998720" cy="5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20840" y="118548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13:20:05Z</dcterms:created>
  <dc:creator/>
  <dc:description/>
  <dc:language>en-US</dc:language>
  <cp:lastModifiedBy>陈 赫</cp:lastModifiedBy>
  <dcterms:modified xsi:type="dcterms:W3CDTF">2018-11-18T02:59:5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