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6.wmf" ContentType="image/x-wmf"/>
  <Override PartName="/ppt/media/image25.wmf" ContentType="image/x-wmf"/>
  <Override PartName="/ppt/media/image15.jpeg" ContentType="image/jpeg"/>
  <Override PartName="/ppt/media/image16.png" ContentType="image/png"/>
  <Override PartName="/ppt/media/image18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5500-4A22-4BC0-8585-3F8841CB12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99A8-2354-495C-AEBA-1BF4C82C92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C64E-CBE2-40A9-8159-452B6D24CD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F82F-E67E-4FFC-ABF4-C065BC647E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D6AC-7C4E-4441-96D2-50C5A625C9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073B-D765-4812-A69F-8BB97CD345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D8D-4DCA-46C5-A82F-316DDC01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837-75DA-4487-A958-D06CD738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34F-FD85-497B-9138-BCDA2DA7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51C-FFA4-4660-AEAF-922B5E13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3F5D-0BDF-4C00-B78F-B03FEE12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1795-E599-4440-B0AC-69E9503B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C06F-DF61-4F15-A385-C75BABF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28C9-D5BB-4EAB-ABEB-4510735C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E45D-9C3D-4F77-B157-431BBDEF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5F01-DFB6-4B4C-83D1-6EF2FEB6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ED60-B255-4B52-A34F-66A2BA1F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345-6911-4FB1-B846-8073BFCC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DFF-3F9C-4F0D-9341-8FAE7982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6AA1-E4CF-4385-B077-4170487C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F9E4-6D61-4CDC-BC0C-164EAD6A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E297-3414-4FD1-A4ED-BB847331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334E-ECFD-4130-BE6D-C6077B61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45A6-EC6A-4C6B-BDF5-757DCF00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42F0-9A60-4F21-828F-7F68EBAC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AC91-1647-49A7-9AFB-981EA190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F5AF-10A9-4FA3-950E-924C2F83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EF4B-99FC-45F2-B5D6-0C4EFF40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FC2-7D8E-4621-BB40-BD26DDB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D5F6-6D0A-410D-BD74-2659E841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119B-F8C1-4BAC-A563-49FF0F7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B0EF-EC17-49EF-8F2E-CB007E8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07A8-8277-49C9-8C30-092F7B23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76F8-3117-4EA5-BB99-325129AF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95B9-065B-4C43-93A2-F6CE3648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4AFF-BA19-46D3-89AB-7135AA06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26F7F-03D4-4080-81F9-A1AB4E88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E216-2471-4488-BF4B-981DE9FE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018C-450C-40C3-A273-5C445730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DCE-C958-4045-BFA8-7BE61406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D81D-CFAA-470E-830A-F4E3D196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438B-7993-4A06-872A-E725AB77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3385-19B5-479B-8443-830A2464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64DC6-B178-4529-91DE-3D3A5A48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357B-6EE9-4F6F-AFB7-4709E0CB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45CC-03B8-4D97-BC99-2E38740D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0A7C-1DD2-4583-ABEB-8BDAEF52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24F9-5DC3-4F15-B923-8566DDBA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E629-E0FC-422E-99E5-C1947407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4EC7-3E30-4C5F-A180-226DE1C5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F2A-9CF6-42A3-B3ED-7F00C4A5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73610-42A6-4792-9E31-7D2CA002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F4ED9-A630-482C-B9F2-F71B85F8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AF66A-BB56-42C8-8F85-8DFF1CED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E91EB-13C5-436F-A214-8778BC0A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BCC2A-FE86-497C-952D-6BD88EB9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4789-9E96-45E3-9C50-76E61EB0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F44F7-4435-42F0-B381-B55CEFF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FA42-04FA-465C-9D14-DD34B00D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C1423-41F4-4B53-90EC-86C1465D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7FD5D-0666-45ED-A0EF-ACE27BDF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3D9-6BF5-4839-BF01-2EDC56C4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CC0F7-7FCF-47AE-8950-6388C34F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29608-383A-4B51-A9FC-DE52FFE9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C9861-9A32-40D0-B2B2-4F71F707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9E01-4305-44C3-A1B2-1F79956F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DE923-BB86-45DE-AC11-8B0946FC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9CD8-6C31-428E-A560-FFB40E45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9BA9D-11B1-4840-96CB-10105981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8A5A5-6B67-4B1F-A2BB-345F11BF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10E99-0A64-48D8-A953-AD492E6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5B65A-2B41-41E2-A804-EB19BF5C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2BC-B620-43F5-B753-C294015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93210-6165-4C75-9F19-28BF0DB8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134E7-608A-42F1-A3D8-2B754C76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FCAC7-32A6-44F9-9782-50B33FDB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457EE-F592-4913-A2D2-0B02ACC4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4A7AA-D69A-4A0E-A771-C65B421D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F29B4-6A3E-459D-9DB3-796B0B13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8121E-7AC5-4049-AE9A-A46334DE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E8DA1-C574-4F44-8608-1472AFEB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7BE1C-5C88-47F3-95F0-217FC1E8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D8856-BFC8-4A5E-B4C0-CA036700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4F0-3C9D-40E5-B989-A2B4FC3A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ED60E-895C-423A-801A-E818C83D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4EFAE-BFCA-4167-B6EF-1F44DCA5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DDF4C-0B09-4A1D-8312-93E029FA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03A3E-B7EB-4F71-81CA-C090214D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A171B-953C-463F-814B-39E48DAB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7B810-FF17-442F-998A-8A3E7DA5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944AB-D49F-4C61-9B48-DABBD0BA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EBF43-281C-4E7D-8E8C-A39CBF29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B82D6-A306-438E-8596-0831DFE3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0CD33-D8B9-413D-9D30-15B09227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224-B5F8-408B-BDF0-DDC7246C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9FC1C-C384-4278-9C30-B8EA2D2B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4E304-453F-498A-B694-0E95CDBE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8B1CC-A1C5-4EB8-A933-C8CF596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F5345-259D-4986-ADE8-207899C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5650E-A286-4311-BF6C-BF14261B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DFAA9-9CD7-4CE6-A026-958D276D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E6809-CCD2-4F43-A64F-B810F530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07B7-4885-461A-B114-A6BE7B3837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9674-C016-4682-AD9C-D1FFF853C6F9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10D9-A22D-46B1-A081-D042964FAF07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1E65-41F9-4AEA-900E-12087E549A8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245D-C008-4B8A-B8C7-C71066211B96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6EC4-E871-4E14-AF5C-07917A3382D9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FDBB-D3EE-4D6E-894E-B59D7ECCC6F2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6326-BACF-4EDD-9164-9E7B98AE1CE3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简易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线连接符 21"/>
          <p:cNvSpPr/>
          <p:nvPr/>
        </p:nvSpPr>
        <p:spPr>
          <a:xfrm>
            <a:off x="3851280" y="3516480"/>
            <a:ext cx="4537080" cy="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6"/>
          <p:cNvSpPr/>
          <p:nvPr/>
        </p:nvSpPr>
        <p:spPr>
          <a:xfrm>
            <a:off x="3843360" y="2685960"/>
            <a:ext cx="454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4  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方程的意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"/>
          <p:cNvPicPr/>
          <p:nvPr/>
        </p:nvPicPr>
        <p:blipFill>
          <a:blip r:embed="rId1"/>
          <a:srcRect l="29302" t="34428" r="44240" b="30640"/>
          <a:stretch/>
        </p:blipFill>
        <p:spPr>
          <a:xfrm>
            <a:off x="696960" y="1687680"/>
            <a:ext cx="3684600" cy="245412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1"/>
          <p:cNvSpPr/>
          <p:nvPr/>
        </p:nvSpPr>
        <p:spPr>
          <a:xfrm>
            <a:off x="1065600" y="435780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25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2"/>
          <a:stretch/>
        </p:blipFill>
        <p:spPr>
          <a:xfrm>
            <a:off x="4599000" y="1916280"/>
            <a:ext cx="4076640" cy="2028600"/>
          </a:xfrm>
          <a:prstGeom prst="rect">
            <a:avLst/>
          </a:prstGeom>
          <a:ln w="0">
            <a:noFill/>
          </a:ln>
        </p:spPr>
      </p:pic>
      <p:sp>
        <p:nvSpPr>
          <p:cNvPr id="453" name="文本框 1"/>
          <p:cNvSpPr/>
          <p:nvPr/>
        </p:nvSpPr>
        <p:spPr>
          <a:xfrm>
            <a:off x="5987520" y="41418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2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1187280" y="5084640"/>
            <a:ext cx="71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25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2.4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，含有未知数的等式就是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程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同侧圆角矩形 17"/>
          <p:cNvGrpSpPr/>
          <p:nvPr/>
        </p:nvGrpSpPr>
        <p:grpSpPr>
          <a:xfrm>
            <a:off x="433440" y="1158840"/>
            <a:ext cx="1998720" cy="510840"/>
            <a:chOff x="433440" y="1158840"/>
            <a:chExt cx="1998720" cy="510840"/>
          </a:xfrm>
        </p:grpSpPr>
        <p:pic>
          <p:nvPicPr>
            <p:cNvPr id="456" name="同侧圆角矩形 17" descr=""/>
            <p:cNvPicPr/>
            <p:nvPr/>
          </p:nvPicPr>
          <p:blipFill>
            <a:blip r:embed="rId3"/>
            <a:stretch/>
          </p:blipFill>
          <p:spPr>
            <a:xfrm>
              <a:off x="433440" y="1158840"/>
              <a:ext cx="199872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458640" y="1182240"/>
              <a:ext cx="19497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直线连接符 21"/>
          <p:cNvSpPr/>
          <p:nvPr/>
        </p:nvSpPr>
        <p:spPr>
          <a:xfrm flipV="1">
            <a:off x="433440" y="1724040"/>
            <a:ext cx="20700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460" name="同侧圆角矩形 15"/>
          <p:cNvGrpSpPr/>
          <p:nvPr/>
        </p:nvGrpSpPr>
        <p:grpSpPr>
          <a:xfrm>
            <a:off x="426960" y="1249200"/>
            <a:ext cx="1998720" cy="519120"/>
            <a:chOff x="426960" y="1249200"/>
            <a:chExt cx="1998720" cy="519120"/>
          </a:xfrm>
        </p:grpSpPr>
        <p:pic>
          <p:nvPicPr>
            <p:cNvPr id="461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26960" y="124920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453960" y="12747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直线连接符 21"/>
          <p:cNvSpPr/>
          <p:nvPr/>
        </p:nvSpPr>
        <p:spPr>
          <a:xfrm flipV="1">
            <a:off x="433440" y="1844640"/>
            <a:ext cx="20700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1739880" y="20415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写式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466" name="ZM271.eps" descr="id:2147502258;FounderCES"/>
          <p:cNvPicPr/>
          <p:nvPr/>
        </p:nvPicPr>
        <p:blipFill>
          <a:blip r:embed="rId4"/>
          <a:stretch/>
        </p:blipFill>
        <p:spPr>
          <a:xfrm>
            <a:off x="2428920" y="2852640"/>
            <a:ext cx="4900680" cy="23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468" name="同侧圆角矩形 1"/>
          <p:cNvGrpSpPr/>
          <p:nvPr/>
        </p:nvGrpSpPr>
        <p:grpSpPr>
          <a:xfrm>
            <a:off x="469800" y="1122480"/>
            <a:ext cx="1998720" cy="510840"/>
            <a:chOff x="469800" y="1122480"/>
            <a:chExt cx="1998720" cy="510840"/>
          </a:xfrm>
        </p:grpSpPr>
        <p:pic>
          <p:nvPicPr>
            <p:cNvPr id="469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122480"/>
              <a:ext cx="19987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493560" y="1144080"/>
              <a:ext cx="19497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475" name="TextBox 21"/>
          <p:cNvSpPr/>
          <p:nvPr/>
        </p:nvSpPr>
        <p:spPr>
          <a:xfrm>
            <a:off x="1258920" y="2806560"/>
            <a:ext cx="6985080" cy="1068840"/>
          </a:xfrm>
          <a:prstGeom prst="rect">
            <a:avLst/>
          </a:prstGeom>
          <a:solidFill>
            <a:srgbClr val="e48312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平的指针在中间，说明左右平衡，也就是左右相等。左边是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的和，右边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的和，列成式子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=50+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477" name="同侧圆角矩形 15"/>
          <p:cNvGrpSpPr/>
          <p:nvPr/>
        </p:nvGrpSpPr>
        <p:grpSpPr>
          <a:xfrm>
            <a:off x="444600" y="1109520"/>
            <a:ext cx="2000160" cy="510840"/>
            <a:chOff x="444600" y="1109520"/>
            <a:chExt cx="2000160" cy="510840"/>
          </a:xfrm>
        </p:grpSpPr>
        <p:pic>
          <p:nvPicPr>
            <p:cNvPr id="478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44600" y="1109520"/>
              <a:ext cx="200016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71600" y="1131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482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2784600" y="3228840"/>
            <a:ext cx="34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+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=50+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485" name="同侧圆角矩形 15"/>
          <p:cNvGrpSpPr/>
          <p:nvPr/>
        </p:nvGrpSpPr>
        <p:grpSpPr>
          <a:xfrm>
            <a:off x="469800" y="1109520"/>
            <a:ext cx="1998720" cy="510840"/>
            <a:chOff x="469800" y="1109520"/>
            <a:chExt cx="1998720" cy="510840"/>
          </a:xfrm>
        </p:grpSpPr>
        <p:pic>
          <p:nvPicPr>
            <p:cNvPr id="486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10952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93560" y="1131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1503360" y="2025720"/>
            <a:ext cx="34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4"/>
          <a:stretch/>
        </p:blipFill>
        <p:spPr>
          <a:xfrm>
            <a:off x="1562040" y="3068640"/>
            <a:ext cx="67248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493" name="同侧圆角矩形 1"/>
          <p:cNvGrpSpPr/>
          <p:nvPr/>
        </p:nvGrpSpPr>
        <p:grpSpPr>
          <a:xfrm>
            <a:off x="469800" y="1116000"/>
            <a:ext cx="1998720" cy="510840"/>
            <a:chOff x="469800" y="1116000"/>
            <a:chExt cx="1998720" cy="510840"/>
          </a:xfrm>
        </p:grpSpPr>
        <p:pic>
          <p:nvPicPr>
            <p:cNvPr id="494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116000"/>
              <a:ext cx="19987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3560" y="11379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21"/>
          <p:cNvSpPr/>
          <p:nvPr/>
        </p:nvSpPr>
        <p:spPr>
          <a:xfrm>
            <a:off x="1116000" y="2924280"/>
            <a:ext cx="6985080" cy="1556280"/>
          </a:xfrm>
          <a:prstGeom prst="rect">
            <a:avLst/>
          </a:prstGeom>
          <a:solidFill>
            <a:srgbClr val="e48312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合花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木兰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木兰花比百合花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关系式“百合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3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木兰花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方程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02" name="同侧圆角矩形 15"/>
          <p:cNvGrpSpPr/>
          <p:nvPr/>
        </p:nvGrpSpPr>
        <p:grpSpPr>
          <a:xfrm>
            <a:off x="469800" y="1109520"/>
            <a:ext cx="1998720" cy="510840"/>
            <a:chOff x="469800" y="1109520"/>
            <a:chExt cx="1998720" cy="510840"/>
          </a:xfrm>
        </p:grpSpPr>
        <p:pic>
          <p:nvPicPr>
            <p:cNvPr id="503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10952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493560" y="1131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0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2784600" y="3228840"/>
            <a:ext cx="34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512" name="矩形 10"/>
          <p:cNvSpPr/>
          <p:nvPr/>
        </p:nvSpPr>
        <p:spPr>
          <a:xfrm>
            <a:off x="1739880" y="1795320"/>
            <a:ext cx="48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5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􀳫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同侧圆角矩形 11"/>
          <p:cNvGrpSpPr/>
          <p:nvPr/>
        </p:nvGrpSpPr>
        <p:grpSpPr>
          <a:xfrm>
            <a:off x="463680" y="1109520"/>
            <a:ext cx="1998360" cy="510840"/>
            <a:chOff x="463680" y="1109520"/>
            <a:chExt cx="1998360" cy="510840"/>
          </a:xfrm>
        </p:grpSpPr>
        <p:pic>
          <p:nvPicPr>
            <p:cNvPr id="514" name="同侧圆角矩形 11" descr=""/>
            <p:cNvPicPr/>
            <p:nvPr/>
          </p:nvPicPr>
          <p:blipFill>
            <a:blip r:embed="rId3"/>
            <a:stretch/>
          </p:blipFill>
          <p:spPr>
            <a:xfrm>
              <a:off x="463680" y="1109520"/>
              <a:ext cx="199836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488880" y="1131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1"/>
          <p:cNvSpPr/>
          <p:nvPr/>
        </p:nvSpPr>
        <p:spPr>
          <a:xfrm rot="18297600">
            <a:off x="6140160" y="3835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19" name="矩形 15"/>
          <p:cNvSpPr/>
          <p:nvPr/>
        </p:nvSpPr>
        <p:spPr>
          <a:xfrm>
            <a:off x="3720960" y="22431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同侧圆角矩形 15"/>
          <p:cNvGrpSpPr/>
          <p:nvPr/>
        </p:nvGrpSpPr>
        <p:grpSpPr>
          <a:xfrm>
            <a:off x="469800" y="1109520"/>
            <a:ext cx="1998720" cy="510840"/>
            <a:chOff x="469800" y="1109520"/>
            <a:chExt cx="1998720" cy="510840"/>
          </a:xfrm>
        </p:grpSpPr>
        <p:pic>
          <p:nvPicPr>
            <p:cNvPr id="523" name="同侧圆角矩形 15" descr=""/>
            <p:cNvPicPr/>
            <p:nvPr/>
          </p:nvPicPr>
          <p:blipFill>
            <a:blip r:embed="rId1"/>
            <a:stretch/>
          </p:blipFill>
          <p:spPr>
            <a:xfrm>
              <a:off x="469800" y="110952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93560" y="1131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527" name="矩形 19"/>
          <p:cNvSpPr/>
          <p:nvPr/>
        </p:nvSpPr>
        <p:spPr>
          <a:xfrm>
            <a:off x="1049400" y="299412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+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虽然含有未知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只是一个式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能构成等式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5=1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虽然是等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是它不含有未知数。因此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都不是方程。方程要具备两个条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①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含有未知数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必须是等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16"/>
          <p:cNvSpPr/>
          <p:nvPr/>
        </p:nvSpPr>
        <p:spPr>
          <a:xfrm>
            <a:off x="1739880" y="4010040"/>
            <a:ext cx="48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5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􀳫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14"/>
          <p:cNvSpPr/>
          <p:nvPr/>
        </p:nvSpPr>
        <p:spPr>
          <a:xfrm>
            <a:off x="1660680" y="1833480"/>
            <a:ext cx="48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5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􀳫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grpSp>
        <p:nvGrpSpPr>
          <p:cNvPr id="533" name="同侧圆角矩形 12"/>
          <p:cNvGrpSpPr/>
          <p:nvPr/>
        </p:nvGrpSpPr>
        <p:grpSpPr>
          <a:xfrm>
            <a:off x="469800" y="1096920"/>
            <a:ext cx="1998720" cy="519120"/>
            <a:chOff x="469800" y="1096920"/>
            <a:chExt cx="1998720" cy="519120"/>
          </a:xfrm>
        </p:grpSpPr>
        <p:pic>
          <p:nvPicPr>
            <p:cNvPr id="534" name="同侧圆角矩形 12" descr=""/>
            <p:cNvPicPr/>
            <p:nvPr/>
          </p:nvPicPr>
          <p:blipFill>
            <a:blip r:embed="rId3"/>
            <a:stretch/>
          </p:blipFill>
          <p:spPr>
            <a:xfrm>
              <a:off x="469800" y="109692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493560" y="112248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0"/>
          <p:cNvSpPr/>
          <p:nvPr/>
        </p:nvSpPr>
        <p:spPr>
          <a:xfrm rot="18297600">
            <a:off x="624672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0" name="矩形 24"/>
          <p:cNvSpPr/>
          <p:nvPr/>
        </p:nvSpPr>
        <p:spPr>
          <a:xfrm>
            <a:off x="3720960" y="236700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26"/>
          <p:cNvSpPr/>
          <p:nvPr/>
        </p:nvSpPr>
        <p:spPr>
          <a:xfrm>
            <a:off x="3838680" y="45482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同侧圆角矩形 23"/>
          <p:cNvGrpSpPr/>
          <p:nvPr/>
        </p:nvGrpSpPr>
        <p:grpSpPr>
          <a:xfrm>
            <a:off x="450720" y="981000"/>
            <a:ext cx="2000520" cy="519120"/>
            <a:chOff x="450720" y="981000"/>
            <a:chExt cx="2000520" cy="519120"/>
          </a:xfrm>
        </p:grpSpPr>
        <p:pic>
          <p:nvPicPr>
            <p:cNvPr id="357" name="同侧圆角矩形 23" descr=""/>
            <p:cNvPicPr/>
            <p:nvPr/>
          </p:nvPicPr>
          <p:blipFill>
            <a:blip r:embed="rId1"/>
            <a:stretch/>
          </p:blipFill>
          <p:spPr>
            <a:xfrm>
              <a:off x="450720" y="98100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77720" y="100656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7"/>
          <p:cNvSpPr/>
          <p:nvPr/>
        </p:nvSpPr>
        <p:spPr>
          <a:xfrm>
            <a:off x="808200" y="2637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确等式和方程之间的区别与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方程的意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817560" y="3500280"/>
            <a:ext cx="746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判断哪些是方程，哪些是等式，能根据具体情境列出方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187280" y="1614600"/>
            <a:ext cx="604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是方程吗？你是怎样想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909720" y="2708280"/>
            <a:ext cx="7146720" cy="3932280"/>
          </a:xfrm>
          <a:prstGeom prst="rect">
            <a:avLst/>
          </a:prstGeom>
          <a:solidFill>
            <a:srgbClr val="ffffff"/>
          </a:solidFill>
          <a:ln w="1584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               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                       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             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＝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        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同侧圆角矩形 8"/>
          <p:cNvGrpSpPr/>
          <p:nvPr/>
        </p:nvGrpSpPr>
        <p:grpSpPr>
          <a:xfrm>
            <a:off x="469800" y="1073160"/>
            <a:ext cx="1998720" cy="510840"/>
            <a:chOff x="469800" y="1073160"/>
            <a:chExt cx="1998720" cy="510840"/>
          </a:xfrm>
        </p:grpSpPr>
        <p:pic>
          <p:nvPicPr>
            <p:cNvPr id="545" name="同侧圆角矩形 8" descr=""/>
            <p:cNvPicPr/>
            <p:nvPr/>
          </p:nvPicPr>
          <p:blipFill>
            <a:blip r:embed="rId1"/>
            <a:stretch/>
          </p:blipFill>
          <p:spPr>
            <a:xfrm>
              <a:off x="469800" y="1073160"/>
              <a:ext cx="199872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493560" y="109512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7" name="直线连接符 21"/>
          <p:cNvSpPr/>
          <p:nvPr/>
        </p:nvSpPr>
        <p:spPr>
          <a:xfrm flipV="1">
            <a:off x="433440" y="1587240"/>
            <a:ext cx="20700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26"/>
          <p:cNvSpPr/>
          <p:nvPr/>
        </p:nvSpPr>
        <p:spPr>
          <a:xfrm>
            <a:off x="1258920" y="162864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出方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103" descr="89"/>
          <p:cNvPicPr/>
          <p:nvPr/>
        </p:nvPicPr>
        <p:blipFill>
          <a:blip r:embed="rId1"/>
          <a:stretch/>
        </p:blipFill>
        <p:spPr>
          <a:xfrm>
            <a:off x="684360" y="2637000"/>
            <a:ext cx="3152520" cy="1798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4" descr="90"/>
          <p:cNvPicPr/>
          <p:nvPr/>
        </p:nvPicPr>
        <p:blipFill>
          <a:blip r:embed="rId2"/>
          <a:stretch/>
        </p:blipFill>
        <p:spPr>
          <a:xfrm>
            <a:off x="4354560" y="2637000"/>
            <a:ext cx="4121280" cy="16189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05"/>
          <p:cNvSpPr/>
          <p:nvPr/>
        </p:nvSpPr>
        <p:spPr>
          <a:xfrm>
            <a:off x="1332720" y="4851360"/>
            <a:ext cx="26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106"/>
          <p:cNvSpPr/>
          <p:nvPr/>
        </p:nvSpPr>
        <p:spPr>
          <a:xfrm>
            <a:off x="5583600" y="4724280"/>
            <a:ext cx="16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同侧圆角矩形 7"/>
          <p:cNvGrpSpPr/>
          <p:nvPr/>
        </p:nvGrpSpPr>
        <p:grpSpPr>
          <a:xfrm>
            <a:off x="414360" y="1011240"/>
            <a:ext cx="2004840" cy="519120"/>
            <a:chOff x="414360" y="1011240"/>
            <a:chExt cx="2004840" cy="519120"/>
          </a:xfrm>
        </p:grpSpPr>
        <p:pic>
          <p:nvPicPr>
            <p:cNvPr id="554" name="同侧圆角矩形 7" descr=""/>
            <p:cNvPicPr/>
            <p:nvPr/>
          </p:nvPicPr>
          <p:blipFill>
            <a:blip r:embed="rId3"/>
            <a:stretch/>
          </p:blipFill>
          <p:spPr>
            <a:xfrm>
              <a:off x="414360" y="1011240"/>
              <a:ext cx="20048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44280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6" name="直线连接符 21"/>
          <p:cNvSpPr/>
          <p:nvPr/>
        </p:nvSpPr>
        <p:spPr>
          <a:xfrm flipV="1">
            <a:off x="442800" y="158868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7561080" cy="17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对象 13"/>
          <p:cNvGraphicFramePr/>
          <p:nvPr/>
        </p:nvGraphicFramePr>
        <p:xfrm>
          <a:off x="2124000" y="4292640"/>
          <a:ext cx="14400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对象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4292640"/>
                    <a:ext cx="1440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对象 14"/>
          <p:cNvGraphicFramePr/>
          <p:nvPr/>
        </p:nvGraphicFramePr>
        <p:xfrm>
          <a:off x="5292720" y="4292640"/>
          <a:ext cx="2087640" cy="4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1" name="对象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2720" y="4292640"/>
                    <a:ext cx="20876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2" name="同侧圆角矩形 4"/>
          <p:cNvGrpSpPr/>
          <p:nvPr/>
        </p:nvGrpSpPr>
        <p:grpSpPr>
          <a:xfrm>
            <a:off x="450720" y="1011240"/>
            <a:ext cx="2000520" cy="519120"/>
            <a:chOff x="450720" y="1011240"/>
            <a:chExt cx="2000520" cy="519120"/>
          </a:xfrm>
        </p:grpSpPr>
        <p:pic>
          <p:nvPicPr>
            <p:cNvPr id="563" name="同侧圆角矩形 4" descr=""/>
            <p:cNvPicPr/>
            <p:nvPr/>
          </p:nvPicPr>
          <p:blipFill>
            <a:blip r:embed="rId6"/>
            <a:stretch/>
          </p:blipFill>
          <p:spPr>
            <a:xfrm>
              <a:off x="450720" y="101124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47628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直线连接符 21"/>
          <p:cNvSpPr/>
          <p:nvPr/>
        </p:nvSpPr>
        <p:spPr>
          <a:xfrm flipV="1">
            <a:off x="468360" y="162864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未命名2"/>
          <p:cNvPicPr/>
          <p:nvPr/>
        </p:nvPicPr>
        <p:blipFill>
          <a:blip r:embed="rId1"/>
          <a:stretch/>
        </p:blipFill>
        <p:spPr>
          <a:xfrm>
            <a:off x="484200" y="1998720"/>
            <a:ext cx="4392720" cy="3549600"/>
          </a:xfrm>
          <a:prstGeom prst="rect">
            <a:avLst/>
          </a:prstGeom>
          <a:ln w="0">
            <a:noFill/>
          </a:ln>
        </p:spPr>
      </p:pic>
      <p:sp>
        <p:nvSpPr>
          <p:cNvPr id="567" name="Line 3"/>
          <p:cNvSpPr/>
          <p:nvPr/>
        </p:nvSpPr>
        <p:spPr>
          <a:xfrm>
            <a:off x="2195640" y="4889520"/>
            <a:ext cx="365040" cy="6588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1519200" y="5548320"/>
            <a:ext cx="46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是等式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可能是方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5"/>
          <p:cNvSpPr/>
          <p:nvPr/>
        </p:nvSpPr>
        <p:spPr>
          <a:xfrm>
            <a:off x="4876920" y="2860560"/>
            <a:ext cx="3814560" cy="2028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7180200" y="35830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7"/>
          <p:cNvSpPr/>
          <p:nvPr/>
        </p:nvSpPr>
        <p:spPr>
          <a:xfrm>
            <a:off x="5235480" y="3726000"/>
            <a:ext cx="1800360" cy="936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1301760" y="3870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是方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1255680" y="1413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式子是方程吗？为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771480" y="3222720"/>
            <a:ext cx="504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843120" y="4518000"/>
            <a:ext cx="5029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6" name="同侧圆角矩形 11"/>
          <p:cNvGrpSpPr/>
          <p:nvPr/>
        </p:nvGrpSpPr>
        <p:grpSpPr>
          <a:xfrm>
            <a:off x="401760" y="1011240"/>
            <a:ext cx="2000160" cy="519120"/>
            <a:chOff x="401760" y="1011240"/>
            <a:chExt cx="2000160" cy="519120"/>
          </a:xfrm>
        </p:grpSpPr>
        <p:pic>
          <p:nvPicPr>
            <p:cNvPr id="577" name="同侧圆角矩形 11" descr=""/>
            <p:cNvPicPr/>
            <p:nvPr/>
          </p:nvPicPr>
          <p:blipFill>
            <a:blip r:embed="rId2"/>
            <a:stretch/>
          </p:blipFill>
          <p:spPr>
            <a:xfrm>
              <a:off x="401760" y="1011240"/>
              <a:ext cx="20001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42696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26"/>
          <p:cNvSpPr/>
          <p:nvPr/>
        </p:nvSpPr>
        <p:spPr>
          <a:xfrm>
            <a:off x="826920" y="1628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用方程表示下面的数量关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13" descr="91"/>
          <p:cNvPicPr/>
          <p:nvPr/>
        </p:nvPicPr>
        <p:blipFill>
          <a:blip r:embed="rId1"/>
          <a:stretch/>
        </p:blipFill>
        <p:spPr>
          <a:xfrm>
            <a:off x="826920" y="2637000"/>
            <a:ext cx="4553280" cy="1800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92"/>
          <p:cNvPicPr/>
          <p:nvPr/>
        </p:nvPicPr>
        <p:blipFill>
          <a:blip r:embed="rId2"/>
          <a:stretch/>
        </p:blipFill>
        <p:spPr>
          <a:xfrm>
            <a:off x="5851440" y="2225520"/>
            <a:ext cx="2105280" cy="1438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971640" y="429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16"/>
          <p:cNvSpPr/>
          <p:nvPr/>
        </p:nvSpPr>
        <p:spPr>
          <a:xfrm>
            <a:off x="2293200" y="40258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方每天跑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k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17"/>
          <p:cNvSpPr/>
          <p:nvPr/>
        </p:nvSpPr>
        <p:spPr>
          <a:xfrm>
            <a:off x="5380200" y="3895560"/>
            <a:ext cx="299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分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小朋友，每人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颗，正好分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18"/>
          <p:cNvSpPr/>
          <p:nvPr/>
        </p:nvSpPr>
        <p:spPr>
          <a:xfrm>
            <a:off x="1972800" y="4797360"/>
            <a:ext cx="17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s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19"/>
          <p:cNvSpPr/>
          <p:nvPr/>
        </p:nvSpPr>
        <p:spPr>
          <a:xfrm>
            <a:off x="5929920" y="544212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2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同侧圆角矩形 10"/>
          <p:cNvGrpSpPr/>
          <p:nvPr/>
        </p:nvGrpSpPr>
        <p:grpSpPr>
          <a:xfrm>
            <a:off x="426960" y="1011240"/>
            <a:ext cx="1998720" cy="519120"/>
            <a:chOff x="426960" y="1011240"/>
            <a:chExt cx="1998720" cy="519120"/>
          </a:xfrm>
        </p:grpSpPr>
        <p:pic>
          <p:nvPicPr>
            <p:cNvPr id="589" name="同侧圆角矩形 10" descr=""/>
            <p:cNvPicPr/>
            <p:nvPr/>
          </p:nvPicPr>
          <p:blipFill>
            <a:blip r:embed="rId3"/>
            <a:stretch/>
          </p:blipFill>
          <p:spPr>
            <a:xfrm>
              <a:off x="426960" y="101124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45252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直线连接符 21"/>
          <p:cNvSpPr/>
          <p:nvPr/>
        </p:nvSpPr>
        <p:spPr>
          <a:xfrm flipV="1">
            <a:off x="392040" y="162360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同侧圆角矩形 12"/>
          <p:cNvGrpSpPr/>
          <p:nvPr/>
        </p:nvGrpSpPr>
        <p:grpSpPr>
          <a:xfrm>
            <a:off x="469800" y="1116000"/>
            <a:ext cx="1998720" cy="517680"/>
            <a:chOff x="469800" y="1116000"/>
            <a:chExt cx="1998720" cy="517680"/>
          </a:xfrm>
        </p:grpSpPr>
        <p:pic>
          <p:nvPicPr>
            <p:cNvPr id="593" name="同侧圆角矩形 12" descr=""/>
            <p:cNvPicPr/>
            <p:nvPr/>
          </p:nvPicPr>
          <p:blipFill>
            <a:blip r:embed="rId1"/>
            <a:stretch/>
          </p:blipFill>
          <p:spPr>
            <a:xfrm>
              <a:off x="469800" y="1116000"/>
              <a:ext cx="19987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493560" y="114156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直线连接符 21"/>
          <p:cNvSpPr/>
          <p:nvPr/>
        </p:nvSpPr>
        <p:spPr>
          <a:xfrm flipV="1">
            <a:off x="455760" y="1701720"/>
            <a:ext cx="207144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597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AutoShape 27"/>
          <p:cNvSpPr/>
          <p:nvPr/>
        </p:nvSpPr>
        <p:spPr>
          <a:xfrm>
            <a:off x="6051600" y="1484280"/>
            <a:ext cx="2627280" cy="171144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方程的依据有两点：一是要有等号，二是要有未知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601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矩形 21"/>
          <p:cNvSpPr/>
          <p:nvPr/>
        </p:nvSpPr>
        <p:spPr>
          <a:xfrm>
            <a:off x="455760" y="3882960"/>
            <a:ext cx="821052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含有未知数的等式叫做方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15"/>
          <p:cNvSpPr/>
          <p:nvPr/>
        </p:nvSpPr>
        <p:spPr>
          <a:xfrm>
            <a:off x="455760" y="4724280"/>
            <a:ext cx="8280360" cy="581400"/>
          </a:xfrm>
          <a:prstGeom prst="rect">
            <a:avLst/>
          </a:prstGeom>
          <a:solidFill>
            <a:srgbClr val="a39b4e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i="1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.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与等式之间的关系：等式包括方程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不一定是方程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而方程必定是等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34"/>
          <p:cNvGrpSpPr/>
          <p:nvPr/>
        </p:nvGrpSpPr>
        <p:grpSpPr>
          <a:xfrm>
            <a:off x="2771640" y="2629080"/>
            <a:ext cx="3805200" cy="580320"/>
            <a:chOff x="2771640" y="2629080"/>
            <a:chExt cx="3805200" cy="580320"/>
          </a:xfrm>
        </p:grpSpPr>
        <p:sp>
          <p:nvSpPr>
            <p:cNvPr id="365" name="Rectangle 32"/>
            <p:cNvSpPr/>
            <p:nvPr/>
          </p:nvSpPr>
          <p:spPr>
            <a:xfrm>
              <a:off x="2771640" y="2633400"/>
              <a:ext cx="1295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5281560" y="2629080"/>
              <a:ext cx="1295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7" name="图片 1" descr=""/>
          <p:cNvPicPr/>
          <p:nvPr/>
        </p:nvPicPr>
        <p:blipFill>
          <a:blip r:embed="rId1"/>
          <a:stretch/>
        </p:blipFill>
        <p:spPr>
          <a:xfrm>
            <a:off x="2124000" y="1655640"/>
            <a:ext cx="5550120" cy="346392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2"/>
          <p:cNvSpPr/>
          <p:nvPr/>
        </p:nvSpPr>
        <p:spPr>
          <a:xfrm>
            <a:off x="3412800" y="5445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知道天平的用途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同侧圆角矩形 9"/>
          <p:cNvGrpSpPr/>
          <p:nvPr/>
        </p:nvGrpSpPr>
        <p:grpSpPr>
          <a:xfrm>
            <a:off x="109440" y="1023840"/>
            <a:ext cx="2000520" cy="512640"/>
            <a:chOff x="109440" y="1023840"/>
            <a:chExt cx="2000520" cy="512640"/>
          </a:xfrm>
        </p:grpSpPr>
        <p:pic>
          <p:nvPicPr>
            <p:cNvPr id="370" name="同侧圆角矩形 9" descr=""/>
            <p:cNvPicPr/>
            <p:nvPr/>
          </p:nvPicPr>
          <p:blipFill>
            <a:blip r:embed="rId2"/>
            <a:stretch/>
          </p:blipFill>
          <p:spPr>
            <a:xfrm>
              <a:off x="109440" y="1023840"/>
              <a:ext cx="2000520" cy="5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35000" y="1047240"/>
              <a:ext cx="1949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直线连接符 21"/>
          <p:cNvSpPr/>
          <p:nvPr/>
        </p:nvSpPr>
        <p:spPr>
          <a:xfrm flipV="1">
            <a:off x="-9360" y="1655640"/>
            <a:ext cx="207144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2" descr=""/>
          <p:cNvPicPr/>
          <p:nvPr/>
        </p:nvPicPr>
        <p:blipFill>
          <a:blip r:embed="rId1"/>
          <a:stretch/>
        </p:blipFill>
        <p:spPr>
          <a:xfrm>
            <a:off x="2014560" y="1698480"/>
            <a:ext cx="5041800" cy="3168720"/>
          </a:xfrm>
          <a:prstGeom prst="rect">
            <a:avLst/>
          </a:prstGeom>
          <a:ln w="0">
            <a:noFill/>
          </a:ln>
        </p:spPr>
      </p:pic>
      <p:grpSp>
        <p:nvGrpSpPr>
          <p:cNvPr id="374" name="组合 3"/>
          <p:cNvGrpSpPr/>
          <p:nvPr/>
        </p:nvGrpSpPr>
        <p:grpSpPr>
          <a:xfrm>
            <a:off x="250920" y="4869000"/>
            <a:ext cx="4897440" cy="1296720"/>
            <a:chOff x="250920" y="4869000"/>
            <a:chExt cx="4897440" cy="1296720"/>
          </a:xfrm>
        </p:grpSpPr>
        <p:sp>
          <p:nvSpPr>
            <p:cNvPr id="375" name="椭圆形标注 1"/>
            <p:cNvSpPr/>
            <p:nvPr/>
          </p:nvSpPr>
          <p:spPr>
            <a:xfrm>
              <a:off x="250920" y="4869000"/>
              <a:ext cx="4897440" cy="1296720"/>
            </a:xfrm>
            <a:prstGeom prst="wedgeEllipseCallout">
              <a:avLst>
                <a:gd name="adj1" fmla="val -49166"/>
                <a:gd name="adj2" fmla="val 63226"/>
              </a:avLst>
            </a:prstGeom>
            <a:solidFill>
              <a:srgbClr val="ffffff"/>
            </a:solidFill>
            <a:ln w="15840">
              <a:solidFill>
                <a:srgbClr val="a75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ffff"/>
                  </a:solidFill>
                  <a:latin typeface="Calibri"/>
                </a:rPr>
                <a:t>态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2"/>
            <p:cNvSpPr/>
            <p:nvPr/>
          </p:nvSpPr>
          <p:spPr>
            <a:xfrm>
              <a:off x="1557720" y="5085000"/>
              <a:ext cx="231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现在这种状态，你能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个式子来表示吗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文本框 4"/>
          <p:cNvSpPr/>
          <p:nvPr/>
        </p:nvSpPr>
        <p:spPr>
          <a:xfrm>
            <a:off x="5292720" y="52578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+50=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298800" y="5445000"/>
            <a:ext cx="5292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组合 5"/>
          <p:cNvGrpSpPr/>
          <p:nvPr/>
        </p:nvGrpSpPr>
        <p:grpSpPr>
          <a:xfrm>
            <a:off x="108000" y="1366920"/>
            <a:ext cx="2071800" cy="661680"/>
            <a:chOff x="108000" y="1366920"/>
            <a:chExt cx="2071800" cy="661680"/>
          </a:xfrm>
        </p:grpSpPr>
        <p:sp>
          <p:nvSpPr>
            <p:cNvPr id="380" name="直线连接符 21"/>
            <p:cNvSpPr/>
            <p:nvPr/>
          </p:nvSpPr>
          <p:spPr>
            <a:xfrm flipV="1">
              <a:off x="108000" y="2022480"/>
              <a:ext cx="207180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1" name="同侧圆角矩形 14"/>
            <p:cNvGrpSpPr/>
            <p:nvPr/>
          </p:nvGrpSpPr>
          <p:grpSpPr>
            <a:xfrm>
              <a:off x="109440" y="1366920"/>
              <a:ext cx="1999800" cy="517320"/>
              <a:chOff x="109440" y="1366920"/>
              <a:chExt cx="1999800" cy="517320"/>
            </a:xfrm>
          </p:grpSpPr>
          <p:pic>
            <p:nvPicPr>
              <p:cNvPr id="382" name="同侧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09440" y="1366920"/>
                <a:ext cx="1999800" cy="51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132840" y="1393200"/>
                <a:ext cx="19504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4" name="同侧圆角矩形 15"/>
          <p:cNvGrpSpPr/>
          <p:nvPr/>
        </p:nvGrpSpPr>
        <p:grpSpPr>
          <a:xfrm>
            <a:off x="176040" y="1365120"/>
            <a:ext cx="2006640" cy="512640"/>
            <a:chOff x="176040" y="1365120"/>
            <a:chExt cx="2006640" cy="512640"/>
          </a:xfrm>
        </p:grpSpPr>
        <p:pic>
          <p:nvPicPr>
            <p:cNvPr id="385" name="同侧圆角矩形 15" descr=""/>
            <p:cNvPicPr/>
            <p:nvPr/>
          </p:nvPicPr>
          <p:blipFill>
            <a:blip r:embed="rId3"/>
            <a:stretch/>
          </p:blipFill>
          <p:spPr>
            <a:xfrm>
              <a:off x="176040" y="1365120"/>
              <a:ext cx="2006640" cy="5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04840" y="13888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0" descr=""/>
          <p:cNvPicPr/>
          <p:nvPr/>
        </p:nvPicPr>
        <p:blipFill>
          <a:blip r:embed="rId1"/>
          <a:stretch/>
        </p:blipFill>
        <p:spPr>
          <a:xfrm>
            <a:off x="2195640" y="1498680"/>
            <a:ext cx="4751280" cy="3838320"/>
          </a:xfrm>
          <a:prstGeom prst="rect">
            <a:avLst/>
          </a:prstGeom>
          <a:ln w="0">
            <a:noFill/>
          </a:ln>
        </p:spPr>
      </p:pic>
      <p:grpSp>
        <p:nvGrpSpPr>
          <p:cNvPr id="388" name="组合 5"/>
          <p:cNvGrpSpPr/>
          <p:nvPr/>
        </p:nvGrpSpPr>
        <p:grpSpPr>
          <a:xfrm>
            <a:off x="304920" y="1319040"/>
            <a:ext cx="2071440" cy="661680"/>
            <a:chOff x="304920" y="1319040"/>
            <a:chExt cx="2071440" cy="661680"/>
          </a:xfrm>
        </p:grpSpPr>
        <p:sp>
          <p:nvSpPr>
            <p:cNvPr id="389" name="直线连接符 21"/>
            <p:cNvSpPr/>
            <p:nvPr/>
          </p:nvSpPr>
          <p:spPr>
            <a:xfrm flipV="1">
              <a:off x="304920" y="1974600"/>
              <a:ext cx="207144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0" name="同侧圆角矩形 8"/>
            <p:cNvGrpSpPr/>
            <p:nvPr/>
          </p:nvGrpSpPr>
          <p:grpSpPr>
            <a:xfrm>
              <a:off x="304920" y="1319040"/>
              <a:ext cx="1999440" cy="516240"/>
              <a:chOff x="304920" y="1319040"/>
              <a:chExt cx="1999440" cy="516240"/>
            </a:xfrm>
          </p:grpSpPr>
          <p:pic>
            <p:nvPicPr>
              <p:cNvPr id="391" name="同侧圆角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1319040"/>
                <a:ext cx="1999440" cy="5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329760" y="1346400"/>
                <a:ext cx="195012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3" name="同侧圆角矩形 9"/>
          <p:cNvGrpSpPr/>
          <p:nvPr/>
        </p:nvGrpSpPr>
        <p:grpSpPr>
          <a:xfrm>
            <a:off x="268200" y="1305000"/>
            <a:ext cx="1998720" cy="517320"/>
            <a:chOff x="268200" y="1305000"/>
            <a:chExt cx="1998720" cy="517320"/>
          </a:xfrm>
        </p:grpSpPr>
        <p:pic>
          <p:nvPicPr>
            <p:cNvPr id="394" name="同侧圆角矩形 9" descr=""/>
            <p:cNvPicPr/>
            <p:nvPr/>
          </p:nvPicPr>
          <p:blipFill>
            <a:blip r:embed="rId3"/>
            <a:stretch/>
          </p:blipFill>
          <p:spPr>
            <a:xfrm>
              <a:off x="268200" y="1305000"/>
              <a:ext cx="19987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295200" y="13302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36"/>
          <p:cNvGrpSpPr/>
          <p:nvPr/>
        </p:nvGrpSpPr>
        <p:grpSpPr>
          <a:xfrm>
            <a:off x="2050920" y="1341360"/>
            <a:ext cx="5041800" cy="4032360"/>
            <a:chOff x="2050920" y="1341360"/>
            <a:chExt cx="5041800" cy="4032360"/>
          </a:xfrm>
        </p:grpSpPr>
        <p:pic>
          <p:nvPicPr>
            <p:cNvPr id="397" name="Picture 37" descr=""/>
            <p:cNvPicPr/>
            <p:nvPr/>
          </p:nvPicPr>
          <p:blipFill>
            <a:blip r:embed="rId1"/>
            <a:stretch/>
          </p:blipFill>
          <p:spPr>
            <a:xfrm>
              <a:off x="2050920" y="1341360"/>
              <a:ext cx="504180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Rectangle 38"/>
            <p:cNvSpPr/>
            <p:nvPr/>
          </p:nvSpPr>
          <p:spPr>
            <a:xfrm>
              <a:off x="2122200" y="1701720"/>
              <a:ext cx="223380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Oval 7"/>
          <p:cNvSpPr/>
          <p:nvPr/>
        </p:nvSpPr>
        <p:spPr>
          <a:xfrm>
            <a:off x="4317840" y="1160640"/>
            <a:ext cx="316872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4518000" y="1593720"/>
            <a:ext cx="3024360" cy="935280"/>
            <a:chOff x="4518000" y="1593720"/>
            <a:chExt cx="3024360" cy="935280"/>
          </a:xfrm>
        </p:grpSpPr>
        <p:sp>
          <p:nvSpPr>
            <p:cNvPr id="401" name="AutoShape 9"/>
            <p:cNvSpPr/>
            <p:nvPr/>
          </p:nvSpPr>
          <p:spPr>
            <a:xfrm>
              <a:off x="4518000" y="1593720"/>
              <a:ext cx="3024360" cy="935280"/>
            </a:xfrm>
            <a:prstGeom prst="wedgeRoundRectCallout">
              <a:avLst>
                <a:gd name="adj1" fmla="val -134"/>
                <a:gd name="adj2" fmla="val 97027"/>
                <a:gd name="adj3" fmla="val 16667"/>
              </a:avLst>
            </a:prstGeom>
            <a:noFill/>
            <a:ln w="1908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4906080" y="1657440"/>
              <a:ext cx="249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华文新魏"/>
                  <a:ea typeface="华文新魏"/>
                </a:rPr>
                <a:t>如果在右边再加</a:t>
              </a:r>
              <a:r>
                <a:rPr b="0" lang="en-US" sz="2400" spc="-1" strike="noStrike">
                  <a:solidFill>
                    <a:srgbClr val="002060"/>
                  </a:solidFill>
                  <a:latin typeface="华文新魏"/>
                  <a:ea typeface="华文新魏"/>
                </a:rPr>
                <a:t>100</a:t>
              </a:r>
              <a:r>
                <a:rPr b="0" lang="zh-CN" sz="2400" spc="-1" strike="noStrike">
                  <a:solidFill>
                    <a:srgbClr val="002060"/>
                  </a:solidFill>
                  <a:latin typeface="华文新魏"/>
                  <a:ea typeface="华文新魏"/>
                </a:rPr>
                <a:t>克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华文新魏"/>
                  <a:ea typeface="华文新魏"/>
                </a:rPr>
                <a:t>可能会怎么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" name="Rectangle 43"/>
          <p:cNvSpPr/>
          <p:nvPr/>
        </p:nvSpPr>
        <p:spPr>
          <a:xfrm>
            <a:off x="4727520" y="5589720"/>
            <a:ext cx="21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"/>
          <p:cNvSpPr/>
          <p:nvPr/>
        </p:nvSpPr>
        <p:spPr>
          <a:xfrm>
            <a:off x="1086120" y="39085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5"/>
          <p:cNvGrpSpPr/>
          <p:nvPr/>
        </p:nvGrpSpPr>
        <p:grpSpPr>
          <a:xfrm>
            <a:off x="324000" y="1087560"/>
            <a:ext cx="2071440" cy="659880"/>
            <a:chOff x="324000" y="1087560"/>
            <a:chExt cx="2071440" cy="659880"/>
          </a:xfrm>
        </p:grpSpPr>
        <p:sp>
          <p:nvSpPr>
            <p:cNvPr id="406" name="直线连接符 21"/>
            <p:cNvSpPr/>
            <p:nvPr/>
          </p:nvSpPr>
          <p:spPr>
            <a:xfrm flipV="1">
              <a:off x="324720" y="1741320"/>
              <a:ext cx="207072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7" name="同侧圆角矩形 26"/>
            <p:cNvGrpSpPr/>
            <p:nvPr/>
          </p:nvGrpSpPr>
          <p:grpSpPr>
            <a:xfrm>
              <a:off x="324000" y="1087560"/>
              <a:ext cx="1998720" cy="516240"/>
              <a:chOff x="324000" y="1087560"/>
              <a:chExt cx="1998720" cy="516240"/>
            </a:xfrm>
          </p:grpSpPr>
          <p:pic>
            <p:nvPicPr>
              <p:cNvPr id="408" name="同侧圆角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087560"/>
                <a:ext cx="1998720" cy="5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349560" y="1114920"/>
                <a:ext cx="194940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0" name="同侧圆角矩形 27"/>
          <p:cNvGrpSpPr/>
          <p:nvPr/>
        </p:nvGrpSpPr>
        <p:grpSpPr>
          <a:xfrm>
            <a:off x="324000" y="1127160"/>
            <a:ext cx="1998360" cy="512280"/>
            <a:chOff x="324000" y="1127160"/>
            <a:chExt cx="1998360" cy="512280"/>
          </a:xfrm>
        </p:grpSpPr>
        <p:pic>
          <p:nvPicPr>
            <p:cNvPr id="411" name="同侧圆角矩形 27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199836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349200" y="115056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Group 40"/>
          <p:cNvGrpSpPr/>
          <p:nvPr/>
        </p:nvGrpSpPr>
        <p:grpSpPr>
          <a:xfrm>
            <a:off x="760320" y="1806480"/>
            <a:ext cx="3024360" cy="935280"/>
            <a:chOff x="760320" y="1806480"/>
            <a:chExt cx="3024360" cy="935280"/>
          </a:xfrm>
        </p:grpSpPr>
        <p:sp>
          <p:nvSpPr>
            <p:cNvPr id="414" name="AutoShape 9"/>
            <p:cNvSpPr/>
            <p:nvPr/>
          </p:nvSpPr>
          <p:spPr>
            <a:xfrm>
              <a:off x="760320" y="1806480"/>
              <a:ext cx="3024360" cy="935280"/>
            </a:xfrm>
            <a:prstGeom prst="wedgeRoundRectCallout">
              <a:avLst>
                <a:gd name="adj1" fmla="val -2967"/>
                <a:gd name="adj2" fmla="val 74106"/>
                <a:gd name="adj3" fmla="val 16667"/>
              </a:avLst>
            </a:prstGeom>
            <a:noFill/>
            <a:ln w="1908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Text Box 10"/>
            <p:cNvSpPr/>
            <p:nvPr/>
          </p:nvSpPr>
          <p:spPr>
            <a:xfrm>
              <a:off x="2008440" y="2038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2060"/>
                  </a:solidFill>
                  <a:latin typeface="华文新魏"/>
                  <a:ea typeface="华文新魏"/>
                </a:rPr>
                <a:t>一杯水有多重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1"/>
          <p:cNvSpPr/>
          <p:nvPr/>
        </p:nvSpPr>
        <p:spPr>
          <a:xfrm>
            <a:off x="1418040" y="559260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"/>
          <p:cNvSpPr/>
          <p:nvPr/>
        </p:nvSpPr>
        <p:spPr>
          <a:xfrm>
            <a:off x="3839760" y="558468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文本框 1"/>
          <p:cNvSpPr/>
          <p:nvPr/>
        </p:nvSpPr>
        <p:spPr>
          <a:xfrm>
            <a:off x="6383160" y="553896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9" descr=""/>
          <p:cNvPicPr/>
          <p:nvPr/>
        </p:nvPicPr>
        <p:blipFill>
          <a:blip r:embed="rId1"/>
          <a:stretch/>
        </p:blipFill>
        <p:spPr>
          <a:xfrm>
            <a:off x="1527120" y="1911240"/>
            <a:ext cx="5689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420" name="组合 5"/>
          <p:cNvGrpSpPr/>
          <p:nvPr/>
        </p:nvGrpSpPr>
        <p:grpSpPr>
          <a:xfrm>
            <a:off x="324000" y="1249200"/>
            <a:ext cx="2071440" cy="661680"/>
            <a:chOff x="324000" y="1249200"/>
            <a:chExt cx="2071440" cy="661680"/>
          </a:xfrm>
        </p:grpSpPr>
        <p:sp>
          <p:nvSpPr>
            <p:cNvPr id="421" name="直线连接符 21"/>
            <p:cNvSpPr/>
            <p:nvPr/>
          </p:nvSpPr>
          <p:spPr>
            <a:xfrm flipV="1">
              <a:off x="324720" y="1904760"/>
              <a:ext cx="207072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2" name="同侧圆角矩形 8"/>
            <p:cNvGrpSpPr/>
            <p:nvPr/>
          </p:nvGrpSpPr>
          <p:grpSpPr>
            <a:xfrm>
              <a:off x="324000" y="1249200"/>
              <a:ext cx="1998720" cy="518400"/>
              <a:chOff x="324000" y="1249200"/>
              <a:chExt cx="1998720" cy="518400"/>
            </a:xfrm>
          </p:grpSpPr>
          <p:pic>
            <p:nvPicPr>
              <p:cNvPr id="423" name="同侧圆角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249200"/>
                <a:ext cx="1998720" cy="51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349920" y="1274040"/>
                <a:ext cx="1949400" cy="49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5" name="同侧圆角矩形 9"/>
          <p:cNvGrpSpPr/>
          <p:nvPr/>
        </p:nvGrpSpPr>
        <p:grpSpPr>
          <a:xfrm>
            <a:off x="324000" y="1249200"/>
            <a:ext cx="1998360" cy="519120"/>
            <a:chOff x="324000" y="1249200"/>
            <a:chExt cx="1998360" cy="519120"/>
          </a:xfrm>
        </p:grpSpPr>
        <p:pic>
          <p:nvPicPr>
            <p:cNvPr id="426" name="同侧圆角矩形 9" descr=""/>
            <p:cNvPicPr/>
            <p:nvPr/>
          </p:nvPicPr>
          <p:blipFill>
            <a:blip r:embed="rId3"/>
            <a:stretch/>
          </p:blipFill>
          <p:spPr>
            <a:xfrm>
              <a:off x="324000" y="1249200"/>
              <a:ext cx="19983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49200" y="12747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文本框 1"/>
          <p:cNvSpPr/>
          <p:nvPr/>
        </p:nvSpPr>
        <p:spPr>
          <a:xfrm>
            <a:off x="1929240" y="478008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1"/>
          <p:cNvSpPr/>
          <p:nvPr/>
        </p:nvSpPr>
        <p:spPr>
          <a:xfrm>
            <a:off x="5089680" y="478008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5"/>
          <p:cNvGrpSpPr/>
          <p:nvPr/>
        </p:nvGrpSpPr>
        <p:grpSpPr>
          <a:xfrm>
            <a:off x="108000" y="1486080"/>
            <a:ext cx="2071800" cy="661320"/>
            <a:chOff x="108000" y="1486080"/>
            <a:chExt cx="2071800" cy="661320"/>
          </a:xfrm>
        </p:grpSpPr>
        <p:sp>
          <p:nvSpPr>
            <p:cNvPr id="431" name="直线连接符 21"/>
            <p:cNvSpPr/>
            <p:nvPr/>
          </p:nvSpPr>
          <p:spPr>
            <a:xfrm flipV="1">
              <a:off x="108000" y="2141280"/>
              <a:ext cx="207180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2" name="同侧圆角矩形 8"/>
            <p:cNvGrpSpPr/>
            <p:nvPr/>
          </p:nvGrpSpPr>
          <p:grpSpPr>
            <a:xfrm>
              <a:off x="109440" y="1486080"/>
              <a:ext cx="1999800" cy="513000"/>
              <a:chOff x="109440" y="1486080"/>
              <a:chExt cx="1999800" cy="513000"/>
            </a:xfrm>
          </p:grpSpPr>
          <p:pic>
            <p:nvPicPr>
              <p:cNvPr id="433" name="同侧圆角矩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09440" y="1486080"/>
                <a:ext cx="1999800" cy="51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132840" y="1509480"/>
                <a:ext cx="19504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5" name="同侧圆角矩形 9"/>
          <p:cNvGrpSpPr/>
          <p:nvPr/>
        </p:nvGrpSpPr>
        <p:grpSpPr>
          <a:xfrm>
            <a:off x="139680" y="1481040"/>
            <a:ext cx="2006640" cy="518760"/>
            <a:chOff x="139680" y="1481040"/>
            <a:chExt cx="2006640" cy="518760"/>
          </a:xfrm>
        </p:grpSpPr>
        <p:pic>
          <p:nvPicPr>
            <p:cNvPr id="436" name="同侧圆角矩形 9" descr=""/>
            <p:cNvPicPr/>
            <p:nvPr/>
          </p:nvPicPr>
          <p:blipFill>
            <a:blip r:embed="rId2"/>
            <a:stretch/>
          </p:blipFill>
          <p:spPr>
            <a:xfrm>
              <a:off x="139680" y="1481040"/>
              <a:ext cx="20066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68120" y="150948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8" descr=""/>
          <p:cNvPicPr/>
          <p:nvPr/>
        </p:nvPicPr>
        <p:blipFill>
          <a:blip r:embed="rId3"/>
          <a:srcRect l="29302" t="34428" r="44240" b="30640"/>
          <a:stretch/>
        </p:blipFill>
        <p:spPr>
          <a:xfrm>
            <a:off x="2496960" y="1773360"/>
            <a:ext cx="3684600" cy="2455920"/>
          </a:xfrm>
          <a:prstGeom prst="rect">
            <a:avLst/>
          </a:prstGeom>
          <a:ln w="0">
            <a:noFill/>
          </a:ln>
        </p:spPr>
      </p:pic>
      <p:sp>
        <p:nvSpPr>
          <p:cNvPr id="439" name="文本框 1"/>
          <p:cNvSpPr/>
          <p:nvPr/>
        </p:nvSpPr>
        <p:spPr>
          <a:xfrm>
            <a:off x="3366000" y="453852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25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3" descr="F:\七彩课堂插图板式封面\排版用图标、页眉页脚\标题jpg\读读比比.jpg"/>
          <p:cNvPicPr/>
          <p:nvPr/>
        </p:nvPicPr>
        <p:blipFill>
          <a:blip r:embed="rId4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F:\七彩课堂插图板式封面\排版用图标、页眉页脚\标题图（终-排版用）共29个\资料宝袋.jpg"/>
          <p:cNvPicPr/>
          <p:nvPr/>
        </p:nvPicPr>
        <p:blipFill>
          <a:blip r:embed="rId5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2195640" y="2374920"/>
            <a:ext cx="4076640" cy="202896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1"/>
          <p:cNvSpPr/>
          <p:nvPr/>
        </p:nvSpPr>
        <p:spPr>
          <a:xfrm>
            <a:off x="3583440" y="460044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2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同侧圆角矩形 17"/>
          <p:cNvGrpSpPr/>
          <p:nvPr/>
        </p:nvGrpSpPr>
        <p:grpSpPr>
          <a:xfrm>
            <a:off x="103320" y="1268280"/>
            <a:ext cx="2000160" cy="517680"/>
            <a:chOff x="103320" y="1268280"/>
            <a:chExt cx="2000160" cy="517680"/>
          </a:xfrm>
        </p:grpSpPr>
        <p:pic>
          <p:nvPicPr>
            <p:cNvPr id="445" name="同侧圆角矩形 17" descr=""/>
            <p:cNvPicPr/>
            <p:nvPr/>
          </p:nvPicPr>
          <p:blipFill>
            <a:blip r:embed="rId2"/>
            <a:stretch/>
          </p:blipFill>
          <p:spPr>
            <a:xfrm>
              <a:off x="103320" y="1268280"/>
              <a:ext cx="20001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28520" y="129384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7" name="直线连接符 21"/>
          <p:cNvSpPr/>
          <p:nvPr/>
        </p:nvSpPr>
        <p:spPr>
          <a:xfrm flipV="1">
            <a:off x="68400" y="1989000"/>
            <a:ext cx="207144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 赫</cp:lastModifiedBy>
  <dcterms:modified xsi:type="dcterms:W3CDTF">2018-11-18T03:01:55Z</dcterms:modified>
  <cp:revision>5</cp:revision>
  <dc:subject/>
  <dc:title>幻灯片 1</dc:title>
</cp:coreProperties>
</file>