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0.png" ContentType="image/png"/>
  <Override PartName="/ppt/media/image27.png" ContentType="image/png"/>
  <Override PartName="/ppt/media/image26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8.png" ContentType="image/png"/>
  <Override PartName="/ppt/media/type.wav" ContentType="audio/x-wav"/>
  <Override PartName="/ppt/media/image17.png" ContentType="image/png"/>
  <Override PartName="/ppt/media/image16.png" ContentType="image/png"/>
  <Override PartName="/ppt/media/image15.png" ContentType="image/png"/>
  <Override PartName="/ppt/media/image24.jpeg" ContentType="image/jpeg"/>
  <Override PartName="/ppt/media/image28.png" ContentType="image/pn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1F8A-2CE5-402B-BFAE-2E8B615E85F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5A87-5037-464F-8754-6D42FBDD04D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9072-9FDF-40CE-A1E0-4891D298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1919-60B4-4CB1-BBF3-6668DBCB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0B36-90AA-4F47-AF33-E85E4E4A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3323-2AFE-46CC-98D9-1CB86B4C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9D60-8673-446D-940F-82BE101C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0BF3-D010-4C63-B2DD-D3161AD4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6B4A-7C46-4396-9485-73E197E3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CF38-0E02-408B-982D-13E9887B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E6CF-8129-4E34-BDA6-1B65F510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80A5-0469-428C-A3C6-0B484209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8CBC-94FD-4188-BC15-A9317513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C734-848B-46D3-B852-A8775EE2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5C0E-E93A-4ACA-8EA9-FD2CF9E8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AB9D-57D2-450F-B8C1-39EE476B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D4B4-6AEC-40B7-99AD-C5764198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CF77-F81D-4649-975B-81F5BA60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97B3-A5E6-410B-AFAC-67AA7BA7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A287A-78E6-4282-90E6-0EAFB800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5E4B8-1FBB-41E8-9428-4267E693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A64D7-DD3B-4B4C-B6BF-DFCAE701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48E8C-07EC-4E09-AF7B-B931FC6B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BCA5B-1214-4205-9DD3-370EA5EA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7B92-182E-4E40-9C6A-B870D645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84474-CBE0-46F9-854B-0800F162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597E3-A7BE-4D91-BC14-6BEE7516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47405-E28E-43FB-A7FC-C9DE7B01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47323-2B81-46CE-835A-BCDFA7B8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B78D5-CAAC-48E5-90B3-7002EF55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24407-8A48-4ACD-930A-55D9D4A9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B6ECF-B924-4C4B-A489-0F05555B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CDC34-39FF-4043-B98C-3C1088D4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092C3-B1DD-4F49-AF4F-F1299F98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46EAB-7BAA-4D3A-A82E-F8CBADAC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81F4-BDDF-42C2-98A3-86FBB424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2E4A5-AC55-4EC9-8D77-EB92D7E4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DF15E-903E-4826-B420-9C1AA9BB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6B43A-4E62-4AEB-9748-05328EAD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2AF2D-8054-4298-A9E8-7F819F3F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4B8C4-4BEB-4D8E-A854-98D8B9DD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2C2E2-A645-4FBF-B212-559E6BE7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599D5-62ED-4B10-9FD9-DBBB567B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8F84B-B68C-40D8-823E-90A272EF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7F8A5-FA46-41C1-8136-6AF6F9E0C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A4881-006B-46A5-A519-67F01487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0CFF-6CCC-4049-A874-2F084EA3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25EA6-E6CB-4B66-91DA-C094F257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F7A36-DCFE-45A6-94F7-8F69B501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B4F11-08C3-465D-8E12-1448F505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BB8D8-E06B-449F-A0EE-4A5E3600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5C07D-152C-460D-833B-25421F08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CD3F9-E253-48C9-9AFF-5F552B8A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5CAEB-7F6F-4ADF-9F6E-7CDA29EC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71B9E-CF10-4541-AD10-59E2F6B7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EFE30-8314-4FD3-80E7-E08452AD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1B2AF-14BA-4CAA-BAEA-E50C81D4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70D0-5C12-4D1A-84DA-18C62EC8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D794E-1326-43F8-AEC0-F4ED0508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51B88-DE3A-4434-8DA3-6DA33A9D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915EE-7D95-4567-94B1-C8388C21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74F59-20B8-4C66-8801-81F3097B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93725-969A-496B-83A8-3D08D810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619FB-E3BD-49FA-9B53-6970A5EC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0A10A-53F5-4E39-B3A7-5B0E6B9C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9E829-9CD7-4CE3-AFFF-CAA8C07A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101D5-96EF-48DF-9613-4B3EA0D9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8838C-B692-4093-B537-602ABC80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4BF4-DD45-4757-98B8-F2D3496E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96EC1-062C-4C64-B2B9-EEBA981D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0A50A-9E34-4C0F-9B90-E5663CC3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6FF6F-82AD-4575-8962-0FAD9C13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0050F-3F08-4432-B09C-F2E46AB3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1ABD6-EC77-412E-82F2-26A2CC5D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C8F62-D405-43C7-9F2E-1089FBF2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90418-C07A-482D-9BA2-2118D2D6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E1EF3-E12F-4A26-8950-01A4D04A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2E144-2D92-4307-B4B8-69E8D486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80DB1-5B2E-430C-ADCC-0D49FAC2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CC66-D1C1-4228-949F-9C137527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8D83A-C98C-4510-8EF3-FFB7DC5B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0B3A9-98A2-4D60-B8A6-EE1F9274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E1FDC-B8E7-42B9-9203-C3CB30A0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AF985-7B19-43A7-B083-5CDAA4C20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A8B06-DEF7-4CD1-8A33-0BFFBD05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7924A-8042-4EFB-A439-E9686AAF3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63F3D-6AA0-41E7-93DE-F9F3B82C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FF76E-8449-4F35-860D-F9032C57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867C3-D360-46FA-8DA9-4910C7AD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D624C-7B99-4BAB-B2EC-53D20DB2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895E-5B7A-4013-AEDF-1083F514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8DD6A-1ADB-4EF3-AB42-B9299FA9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366A1-8F74-4FEF-A06B-E41F5F28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684BD-2B5F-44C4-8823-51050389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E0766-0D59-49A5-AAC0-2EFF503A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8B310-D139-432B-A3D9-79A1D40E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18EC7-15B4-4163-8A00-57A49A1E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622AA-C627-4335-8505-0943A080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7202-3FB2-40FF-8723-62E5B4BAB88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EAB5-B4CB-4E58-94E9-0BD47D17C8E2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E080-9904-4E95-BABA-28F6FA1200CB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951F-E62A-4F60-94FC-EFF3F25D6815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CB8C-4D4F-4E27-A30B-AE2F93C11753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B6A7-2A7D-4A2B-B24B-31FB9D623DDB}" type="slidenum">
              <a:rPr b="0" lang="zh-CN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155C-D2CC-470C-A26B-9BB565BB68C4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549B-91E7-47C5-AE6A-E96ED2323656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3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353" name="TextBox 4"/>
          <p:cNvSpPr/>
          <p:nvPr/>
        </p:nvSpPr>
        <p:spPr>
          <a:xfrm>
            <a:off x="250920" y="9079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简易方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直线连接符 21"/>
          <p:cNvSpPr/>
          <p:nvPr/>
        </p:nvSpPr>
        <p:spPr>
          <a:xfrm>
            <a:off x="3708360" y="3468600"/>
            <a:ext cx="4535640" cy="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矩形 6"/>
          <p:cNvSpPr/>
          <p:nvPr/>
        </p:nvSpPr>
        <p:spPr>
          <a:xfrm>
            <a:off x="3348000" y="2637000"/>
            <a:ext cx="50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黑体"/>
                <a:ea typeface="黑体"/>
              </a:rPr>
              <a:t>5    </a:t>
            </a:r>
            <a:r>
              <a:rPr b="1" sz="4800" spc="-1" strike="noStrike">
                <a:solidFill>
                  <a:srgbClr val="000000"/>
                </a:solidFill>
                <a:latin typeface="黑体"/>
                <a:ea typeface="黑体"/>
              </a:rPr>
              <a:t>等式的性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矩形 10"/>
          <p:cNvSpPr/>
          <p:nvPr/>
        </p:nvSpPr>
        <p:spPr>
          <a:xfrm>
            <a:off x="2048760" y="3357720"/>
            <a:ext cx="529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若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+6=8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则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4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（     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432" name="同侧圆角矩形 15"/>
          <p:cNvGrpSpPr/>
          <p:nvPr/>
        </p:nvGrpSpPr>
        <p:grpSpPr>
          <a:xfrm>
            <a:off x="469800" y="1219320"/>
            <a:ext cx="1998720" cy="517320"/>
            <a:chOff x="469800" y="1219320"/>
            <a:chExt cx="1998720" cy="517320"/>
          </a:xfrm>
        </p:grpSpPr>
        <p:pic>
          <p:nvPicPr>
            <p:cNvPr id="433" name="同侧圆角矩形 15" descr=""/>
            <p:cNvPicPr/>
            <p:nvPr/>
          </p:nvPicPr>
          <p:blipFill>
            <a:blip r:embed="rId2"/>
            <a:stretch/>
          </p:blipFill>
          <p:spPr>
            <a:xfrm>
              <a:off x="469800" y="1219320"/>
              <a:ext cx="199872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493560" y="1246320"/>
              <a:ext cx="19497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5" name="直线连接符 21"/>
          <p:cNvSpPr/>
          <p:nvPr/>
        </p:nvSpPr>
        <p:spPr>
          <a:xfrm flipV="1">
            <a:off x="433440" y="1752480"/>
            <a:ext cx="20700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6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437" name="TextBox 6"/>
          <p:cNvSpPr/>
          <p:nvPr/>
        </p:nvSpPr>
        <p:spPr>
          <a:xfrm>
            <a:off x="6732720" y="3357720"/>
            <a:ext cx="7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Box 12"/>
          <p:cNvSpPr/>
          <p:nvPr/>
        </p:nvSpPr>
        <p:spPr>
          <a:xfrm>
            <a:off x="1063800" y="200340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6629400" y="811080"/>
            <a:ext cx="2114640" cy="203364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442" name="矩形 10"/>
          <p:cNvSpPr/>
          <p:nvPr/>
        </p:nvSpPr>
        <p:spPr>
          <a:xfrm>
            <a:off x="1739880" y="1795320"/>
            <a:ext cx="488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若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72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则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6=72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3" name="同侧圆角矩形 11"/>
          <p:cNvGrpSpPr/>
          <p:nvPr/>
        </p:nvGrpSpPr>
        <p:grpSpPr>
          <a:xfrm>
            <a:off x="469800" y="1219320"/>
            <a:ext cx="1998720" cy="517320"/>
            <a:chOff x="469800" y="1219320"/>
            <a:chExt cx="1998720" cy="517320"/>
          </a:xfrm>
        </p:grpSpPr>
        <p:pic>
          <p:nvPicPr>
            <p:cNvPr id="444" name="同侧圆角矩形 11" descr=""/>
            <p:cNvPicPr/>
            <p:nvPr/>
          </p:nvPicPr>
          <p:blipFill>
            <a:blip r:embed="rId3"/>
            <a:stretch/>
          </p:blipFill>
          <p:spPr>
            <a:xfrm>
              <a:off x="469800" y="1219320"/>
              <a:ext cx="199872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493560" y="1246320"/>
              <a:ext cx="19497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易错提醒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6" name="直线连接符 21"/>
          <p:cNvSpPr/>
          <p:nvPr/>
        </p:nvSpPr>
        <p:spPr>
          <a:xfrm flipV="1">
            <a:off x="468360" y="178884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矩形 1"/>
          <p:cNvSpPr/>
          <p:nvPr/>
        </p:nvSpPr>
        <p:spPr>
          <a:xfrm rot="18297600">
            <a:off x="6242040" y="4149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Picture 3" descr="F:\七彩课堂插图板式封面\排版用图标、页眉页脚\标题图（终-排版用）共29个\资料宝袋.jpg"/>
          <p:cNvPicPr/>
          <p:nvPr/>
        </p:nvPicPr>
        <p:blipFill>
          <a:blip r:embed="rId4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449" name="矩形 15"/>
          <p:cNvSpPr/>
          <p:nvPr/>
        </p:nvSpPr>
        <p:spPr>
          <a:xfrm>
            <a:off x="4788000" y="227664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矩形 10"/>
          <p:cNvSpPr/>
          <p:nvPr/>
        </p:nvSpPr>
        <p:spPr>
          <a:xfrm>
            <a:off x="755640" y="180972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2" name="同侧圆角矩形 15"/>
          <p:cNvGrpSpPr/>
          <p:nvPr/>
        </p:nvGrpSpPr>
        <p:grpSpPr>
          <a:xfrm>
            <a:off x="469800" y="1206360"/>
            <a:ext cx="1998720" cy="519120"/>
            <a:chOff x="469800" y="1206360"/>
            <a:chExt cx="1998720" cy="519120"/>
          </a:xfrm>
        </p:grpSpPr>
        <p:pic>
          <p:nvPicPr>
            <p:cNvPr id="453" name="同侧圆角矩形 15" descr=""/>
            <p:cNvPicPr/>
            <p:nvPr/>
          </p:nvPicPr>
          <p:blipFill>
            <a:blip r:embed="rId1"/>
            <a:stretch/>
          </p:blipFill>
          <p:spPr>
            <a:xfrm>
              <a:off x="469800" y="1206360"/>
              <a:ext cx="19987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493560" y="1233360"/>
              <a:ext cx="19497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易错提醒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5" name="直线连接符 21"/>
          <p:cNvSpPr/>
          <p:nvPr/>
        </p:nvSpPr>
        <p:spPr>
          <a:xfrm flipV="1">
            <a:off x="468360" y="182556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457" name="矩形 19"/>
          <p:cNvSpPr/>
          <p:nvPr/>
        </p:nvSpPr>
        <p:spPr>
          <a:xfrm>
            <a:off x="1012680" y="285264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没有掌握等式的性质。等式的性质“等式的两边同时乘或除以同一个数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除外），等式仍然成立。”等式的两边同时除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=72÷6=1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0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grpSp>
        <p:nvGrpSpPr>
          <p:cNvPr id="461" name="同侧圆角矩形 12"/>
          <p:cNvGrpSpPr/>
          <p:nvPr/>
        </p:nvGrpSpPr>
        <p:grpSpPr>
          <a:xfrm>
            <a:off x="469800" y="1195560"/>
            <a:ext cx="1998720" cy="510480"/>
            <a:chOff x="469800" y="1195560"/>
            <a:chExt cx="1998720" cy="510480"/>
          </a:xfrm>
        </p:grpSpPr>
        <p:pic>
          <p:nvPicPr>
            <p:cNvPr id="462" name="同侧圆角矩形 12" descr=""/>
            <p:cNvPicPr/>
            <p:nvPr/>
          </p:nvPicPr>
          <p:blipFill>
            <a:blip r:embed="rId3"/>
            <a:stretch/>
          </p:blipFill>
          <p:spPr>
            <a:xfrm>
              <a:off x="469800" y="1195560"/>
              <a:ext cx="1998720" cy="50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493560" y="1217160"/>
              <a:ext cx="1949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易错提醒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4" name="直线连接符 21"/>
          <p:cNvSpPr/>
          <p:nvPr/>
        </p:nvSpPr>
        <p:spPr>
          <a:xfrm flipV="1">
            <a:off x="468360" y="173664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矩形 15"/>
          <p:cNvSpPr/>
          <p:nvPr/>
        </p:nvSpPr>
        <p:spPr>
          <a:xfrm rot="18297600">
            <a:off x="5848200" y="50036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矩形 20"/>
          <p:cNvSpPr/>
          <p:nvPr/>
        </p:nvSpPr>
        <p:spPr>
          <a:xfrm rot="18297600">
            <a:off x="6246720" y="27795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对象 21"/>
              <p:cNvSpPr txBox="1"/>
              <p:nvPr/>
            </p:nvSpPr>
            <p:spPr>
              <a:xfrm>
                <a:off x="140328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68" name="矩形 14"/>
          <p:cNvSpPr/>
          <p:nvPr/>
        </p:nvSpPr>
        <p:spPr>
          <a:xfrm>
            <a:off x="1739880" y="1795320"/>
            <a:ext cx="488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若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72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则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6=72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矩形 16"/>
          <p:cNvSpPr/>
          <p:nvPr/>
        </p:nvSpPr>
        <p:spPr>
          <a:xfrm>
            <a:off x="4788000" y="227664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矩形 17"/>
          <p:cNvSpPr/>
          <p:nvPr/>
        </p:nvSpPr>
        <p:spPr>
          <a:xfrm>
            <a:off x="1552680" y="4156200"/>
            <a:ext cx="48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若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72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则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6=72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矩形 18"/>
          <p:cNvSpPr/>
          <p:nvPr/>
        </p:nvSpPr>
        <p:spPr>
          <a:xfrm>
            <a:off x="4602240" y="4637160"/>
            <a:ext cx="9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5"/>
          <p:cNvSpPr/>
          <p:nvPr/>
        </p:nvSpPr>
        <p:spPr>
          <a:xfrm>
            <a:off x="1082520" y="1628640"/>
            <a:ext cx="72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若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Y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则下列等式是否成立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若成立，请指明依据等式的哪条性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1004760" y="333864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+ 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1047600" y="4229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  =  Y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3200" spc="-1" strike="noStrike">
                <a:solidFill>
                  <a:srgbClr val="660066"/>
                </a:solidFill>
                <a:latin typeface="华文新魏"/>
                <a:ea typeface="华文新魏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Rectangle 8"/>
          <p:cNvSpPr/>
          <p:nvPr/>
        </p:nvSpPr>
        <p:spPr>
          <a:xfrm>
            <a:off x="1334880" y="5073480"/>
            <a:ext cx="526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xt Box 22"/>
          <p:cNvSpPr/>
          <p:nvPr/>
        </p:nvSpPr>
        <p:spPr>
          <a:xfrm>
            <a:off x="5132520" y="327348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等式的性质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 Box 23"/>
          <p:cNvSpPr/>
          <p:nvPr/>
        </p:nvSpPr>
        <p:spPr>
          <a:xfrm>
            <a:off x="5613480" y="422928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等式的性质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 Box 24"/>
          <p:cNvSpPr/>
          <p:nvPr/>
        </p:nvSpPr>
        <p:spPr>
          <a:xfrm>
            <a:off x="5457960" y="5654520"/>
            <a:ext cx="27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等式的性质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9" name="同侧圆角矩形 19"/>
          <p:cNvGrpSpPr/>
          <p:nvPr/>
        </p:nvGrpSpPr>
        <p:grpSpPr>
          <a:xfrm>
            <a:off x="420840" y="1109520"/>
            <a:ext cx="1998360" cy="510840"/>
            <a:chOff x="420840" y="1109520"/>
            <a:chExt cx="1998360" cy="510840"/>
          </a:xfrm>
        </p:grpSpPr>
        <p:pic>
          <p:nvPicPr>
            <p:cNvPr id="480" name="同侧圆角矩形 19" descr=""/>
            <p:cNvPicPr/>
            <p:nvPr/>
          </p:nvPicPr>
          <p:blipFill>
            <a:blip r:embed="rId1"/>
            <a:stretch/>
          </p:blipFill>
          <p:spPr>
            <a:xfrm>
              <a:off x="420840" y="1109520"/>
              <a:ext cx="1998360" cy="5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444600" y="1131480"/>
              <a:ext cx="1949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2" name="直线连接符 21"/>
          <p:cNvSpPr/>
          <p:nvPr/>
        </p:nvSpPr>
        <p:spPr>
          <a:xfrm flipV="1">
            <a:off x="433440" y="1623600"/>
            <a:ext cx="207000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  <p:sndAc>
      <p:stSnd>
        <p:snd r:embed="rId2" name="type.wav"/>
      </p:stSnd>
    </p:sndAc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Box 26"/>
          <p:cNvSpPr/>
          <p:nvPr/>
        </p:nvSpPr>
        <p:spPr>
          <a:xfrm>
            <a:off x="1278000" y="15573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根据等式的性质填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Box 11"/>
          <p:cNvSpPr/>
          <p:nvPr/>
        </p:nvSpPr>
        <p:spPr>
          <a:xfrm>
            <a:off x="2738520" y="2360520"/>
            <a:ext cx="3848040" cy="581400"/>
          </a:xfrm>
          <a:prstGeom prst="rect">
            <a:avLst/>
          </a:prstGeom>
          <a:solidFill>
            <a:srgbClr val="ffffff"/>
          </a:solidFill>
          <a:ln w="15840">
            <a:solidFill>
              <a:srgbClr val="94a0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0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（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Box 13"/>
          <p:cNvSpPr/>
          <p:nvPr/>
        </p:nvSpPr>
        <p:spPr>
          <a:xfrm>
            <a:off x="2738520" y="3379680"/>
            <a:ext cx="3612960" cy="581400"/>
          </a:xfrm>
          <a:prstGeom prst="rect">
            <a:avLst/>
          </a:prstGeom>
          <a:solidFill>
            <a:srgbClr val="ffffff"/>
          </a:solidFill>
          <a:ln w="15840">
            <a:solidFill>
              <a:srgbClr val="94a0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（    ）＝</a:t>
            </a:r>
            <a:r>
              <a:rPr b="0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0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Box 14"/>
          <p:cNvSpPr/>
          <p:nvPr/>
        </p:nvSpPr>
        <p:spPr>
          <a:xfrm>
            <a:off x="2943360" y="4386240"/>
            <a:ext cx="3408120" cy="581400"/>
          </a:xfrm>
          <a:prstGeom prst="rect">
            <a:avLst/>
          </a:prstGeom>
          <a:solidFill>
            <a:srgbClr val="ffffff"/>
          </a:solidFill>
          <a:ln w="15840">
            <a:solidFill>
              <a:srgbClr val="94a0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×d</a:t>
            </a:r>
            <a:r>
              <a:rPr b="0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×</a:t>
            </a:r>
            <a:r>
              <a:rPr b="0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Box 15"/>
          <p:cNvSpPr/>
          <p:nvPr/>
        </p:nvSpPr>
        <p:spPr>
          <a:xfrm>
            <a:off x="2963880" y="5305320"/>
            <a:ext cx="3606840" cy="581400"/>
          </a:xfrm>
          <a:prstGeom prst="rect">
            <a:avLst/>
          </a:prstGeom>
          <a:solidFill>
            <a:srgbClr val="ffffff"/>
          </a:solidFill>
          <a:ln w="15840">
            <a:solidFill>
              <a:srgbClr val="94a0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÷</a:t>
            </a:r>
            <a:r>
              <a:rPr b="0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   ）＝</a:t>
            </a:r>
            <a:r>
              <a:rPr b="0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÷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矩形 16"/>
          <p:cNvSpPr/>
          <p:nvPr/>
        </p:nvSpPr>
        <p:spPr>
          <a:xfrm>
            <a:off x="5075280" y="23605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矩形 17"/>
          <p:cNvSpPr/>
          <p:nvPr/>
        </p:nvSpPr>
        <p:spPr>
          <a:xfrm>
            <a:off x="3827880" y="33606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矩形 18"/>
          <p:cNvSpPr/>
          <p:nvPr/>
        </p:nvSpPr>
        <p:spPr>
          <a:xfrm>
            <a:off x="5170320" y="4322880"/>
            <a:ext cx="4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矩形 19"/>
          <p:cNvSpPr/>
          <p:nvPr/>
        </p:nvSpPr>
        <p:spPr>
          <a:xfrm>
            <a:off x="3983760" y="52434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2" name="同侧圆角矩形 20"/>
          <p:cNvGrpSpPr/>
          <p:nvPr/>
        </p:nvGrpSpPr>
        <p:grpSpPr>
          <a:xfrm>
            <a:off x="311040" y="1011240"/>
            <a:ext cx="1998720" cy="519120"/>
            <a:chOff x="311040" y="1011240"/>
            <a:chExt cx="1998720" cy="519120"/>
          </a:xfrm>
        </p:grpSpPr>
        <p:pic>
          <p:nvPicPr>
            <p:cNvPr id="493" name="同侧圆角矩形 20" descr=""/>
            <p:cNvPicPr/>
            <p:nvPr/>
          </p:nvPicPr>
          <p:blipFill>
            <a:blip r:embed="rId1"/>
            <a:stretch/>
          </p:blipFill>
          <p:spPr>
            <a:xfrm>
              <a:off x="311040" y="1011240"/>
              <a:ext cx="19987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338040" y="1036800"/>
              <a:ext cx="19494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5" name="直线连接符 21"/>
          <p:cNvSpPr/>
          <p:nvPr/>
        </p:nvSpPr>
        <p:spPr>
          <a:xfrm flipV="1">
            <a:off x="243000" y="1557000"/>
            <a:ext cx="207000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26"/>
          <p:cNvSpPr/>
          <p:nvPr/>
        </p:nvSpPr>
        <p:spPr>
          <a:xfrm>
            <a:off x="826920" y="155736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保持天平平衡，右边应该添加什么物品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7" name="Picture 12" descr="99"/>
          <p:cNvPicPr/>
          <p:nvPr/>
        </p:nvPicPr>
        <p:blipFill>
          <a:blip r:embed="rId1"/>
          <a:stretch/>
        </p:blipFill>
        <p:spPr>
          <a:xfrm>
            <a:off x="611280" y="2670120"/>
            <a:ext cx="7672320" cy="2735280"/>
          </a:xfrm>
          <a:prstGeom prst="rect">
            <a:avLst/>
          </a:prstGeom>
          <a:ln w="0">
            <a:noFill/>
          </a:ln>
        </p:spPr>
      </p:pic>
      <p:grpSp>
        <p:nvGrpSpPr>
          <p:cNvPr id="498" name="同侧圆角矩形 7"/>
          <p:cNvGrpSpPr/>
          <p:nvPr/>
        </p:nvGrpSpPr>
        <p:grpSpPr>
          <a:xfrm>
            <a:off x="291960" y="1011240"/>
            <a:ext cx="2000520" cy="519120"/>
            <a:chOff x="291960" y="1011240"/>
            <a:chExt cx="2000520" cy="519120"/>
          </a:xfrm>
        </p:grpSpPr>
        <p:pic>
          <p:nvPicPr>
            <p:cNvPr id="499" name="同侧圆角矩形 7" descr=""/>
            <p:cNvPicPr/>
            <p:nvPr/>
          </p:nvPicPr>
          <p:blipFill>
            <a:blip r:embed="rId2"/>
            <a:stretch/>
          </p:blipFill>
          <p:spPr>
            <a:xfrm>
              <a:off x="291960" y="1011240"/>
              <a:ext cx="20005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317520" y="1036800"/>
              <a:ext cx="19494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1" name="直线连接符 21"/>
          <p:cNvSpPr/>
          <p:nvPr/>
        </p:nvSpPr>
        <p:spPr>
          <a:xfrm flipV="1">
            <a:off x="252360" y="1557000"/>
            <a:ext cx="207180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Box 26"/>
          <p:cNvSpPr/>
          <p:nvPr/>
        </p:nvSpPr>
        <p:spPr>
          <a:xfrm>
            <a:off x="826920" y="170028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3" name="同侧圆角矩形 7"/>
          <p:cNvGrpSpPr/>
          <p:nvPr/>
        </p:nvGrpSpPr>
        <p:grpSpPr>
          <a:xfrm>
            <a:off x="268200" y="1163520"/>
            <a:ext cx="1998720" cy="519120"/>
            <a:chOff x="268200" y="1163520"/>
            <a:chExt cx="1998720" cy="519120"/>
          </a:xfrm>
        </p:grpSpPr>
        <p:pic>
          <p:nvPicPr>
            <p:cNvPr id="504" name="同侧圆角矩形 7" descr=""/>
            <p:cNvPicPr/>
            <p:nvPr/>
          </p:nvPicPr>
          <p:blipFill>
            <a:blip r:embed="rId1"/>
            <a:stretch/>
          </p:blipFill>
          <p:spPr>
            <a:xfrm>
              <a:off x="268200" y="1163520"/>
              <a:ext cx="19987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293760" y="1190520"/>
              <a:ext cx="19494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6" name="直线连接符 21"/>
          <p:cNvSpPr/>
          <p:nvPr/>
        </p:nvSpPr>
        <p:spPr>
          <a:xfrm flipV="1">
            <a:off x="179280" y="1695240"/>
            <a:ext cx="207180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26"/>
          <p:cNvSpPr/>
          <p:nvPr/>
        </p:nvSpPr>
        <p:spPr>
          <a:xfrm>
            <a:off x="971640" y="2565360"/>
            <a:ext cx="712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=b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那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+5=b+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+a=b-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那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=b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=b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那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×5=b×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=b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那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÷3=3÷b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 Box 23"/>
          <p:cNvSpPr/>
          <p:nvPr/>
        </p:nvSpPr>
        <p:spPr>
          <a:xfrm>
            <a:off x="6230880" y="34815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 Box 23"/>
          <p:cNvSpPr/>
          <p:nvPr/>
        </p:nvSpPr>
        <p:spPr>
          <a:xfrm>
            <a:off x="6443640" y="27082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 Box 23"/>
          <p:cNvSpPr/>
          <p:nvPr/>
        </p:nvSpPr>
        <p:spPr>
          <a:xfrm>
            <a:off x="6737400" y="4221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 Box 23"/>
          <p:cNvSpPr/>
          <p:nvPr/>
        </p:nvSpPr>
        <p:spPr>
          <a:xfrm>
            <a:off x="6737400" y="50277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Box 26"/>
          <p:cNvSpPr/>
          <p:nvPr/>
        </p:nvSpPr>
        <p:spPr>
          <a:xfrm>
            <a:off x="971640" y="1700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观察下面的天平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出式子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3" name="同侧圆角矩形 7"/>
          <p:cNvGrpSpPr/>
          <p:nvPr/>
        </p:nvGrpSpPr>
        <p:grpSpPr>
          <a:xfrm>
            <a:off x="317520" y="1011240"/>
            <a:ext cx="1998720" cy="519120"/>
            <a:chOff x="317520" y="1011240"/>
            <a:chExt cx="1998720" cy="519120"/>
          </a:xfrm>
        </p:grpSpPr>
        <p:pic>
          <p:nvPicPr>
            <p:cNvPr id="514" name="同侧圆角矩形 7" descr=""/>
            <p:cNvPicPr/>
            <p:nvPr/>
          </p:nvPicPr>
          <p:blipFill>
            <a:blip r:embed="rId1"/>
            <a:stretch/>
          </p:blipFill>
          <p:spPr>
            <a:xfrm>
              <a:off x="317520" y="1011240"/>
              <a:ext cx="19987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339840" y="1036800"/>
              <a:ext cx="19494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6" name="直线连接符 21"/>
          <p:cNvSpPr/>
          <p:nvPr/>
        </p:nvSpPr>
        <p:spPr>
          <a:xfrm flipV="1">
            <a:off x="324000" y="1672920"/>
            <a:ext cx="207144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ZM271.eps" descr="id:2147502258;FounderCES"/>
          <p:cNvPicPr/>
          <p:nvPr/>
        </p:nvPicPr>
        <p:blipFill>
          <a:blip r:embed="rId2"/>
          <a:stretch/>
        </p:blipFill>
        <p:spPr>
          <a:xfrm>
            <a:off x="2195640" y="2286000"/>
            <a:ext cx="4824360" cy="262260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23"/>
          <p:cNvSpPr/>
          <p:nvPr/>
        </p:nvSpPr>
        <p:spPr>
          <a:xfrm>
            <a:off x="2987640" y="5373720"/>
            <a:ext cx="36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+20=50+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同侧圆角矩形 12"/>
          <p:cNvGrpSpPr/>
          <p:nvPr/>
        </p:nvGrpSpPr>
        <p:grpSpPr>
          <a:xfrm>
            <a:off x="457200" y="1103400"/>
            <a:ext cx="2000160" cy="517320"/>
            <a:chOff x="457200" y="1103400"/>
            <a:chExt cx="2000160" cy="517320"/>
          </a:xfrm>
        </p:grpSpPr>
        <p:pic>
          <p:nvPicPr>
            <p:cNvPr id="520" name="同侧圆角矩形 12" descr=""/>
            <p:cNvPicPr/>
            <p:nvPr/>
          </p:nvPicPr>
          <p:blipFill>
            <a:blip r:embed="rId1"/>
            <a:stretch/>
          </p:blipFill>
          <p:spPr>
            <a:xfrm>
              <a:off x="457200" y="1103400"/>
              <a:ext cx="20001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480960" y="1130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课堂小结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2" name="直线连接符 21"/>
          <p:cNvSpPr/>
          <p:nvPr/>
        </p:nvSpPr>
        <p:spPr>
          <a:xfrm flipV="1">
            <a:off x="468360" y="168588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3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524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6" name="AutoShape 27"/>
          <p:cNvSpPr/>
          <p:nvPr/>
        </p:nvSpPr>
        <p:spPr>
          <a:xfrm>
            <a:off x="6051600" y="1622520"/>
            <a:ext cx="2627280" cy="1301760"/>
          </a:xfrm>
          <a:prstGeom prst="wedgeRoundRectCallout">
            <a:avLst>
              <a:gd name="adj1" fmla="val -73652"/>
              <a:gd name="adj2" fmla="val -20449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时加或减必须是同一个数；同时乘或除以也是同一个数，但是除以的数不能是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7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528" name="Picture 10" descr="76副本"/>
            <p:cNvPicPr/>
            <p:nvPr/>
          </p:nvPicPr>
          <p:blipFill>
            <a:blip r:embed="rId2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Picture 22" descr="95副本"/>
            <p:cNvPicPr/>
            <p:nvPr/>
          </p:nvPicPr>
          <p:blipFill>
            <a:blip r:embed="rId3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0" name="矩形 21"/>
          <p:cNvSpPr/>
          <p:nvPr/>
        </p:nvSpPr>
        <p:spPr>
          <a:xfrm>
            <a:off x="468360" y="3645000"/>
            <a:ext cx="8210520" cy="5814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i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等式两边加上或减去同一个数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左右两边仍然相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矩形 15"/>
          <p:cNvSpPr/>
          <p:nvPr/>
        </p:nvSpPr>
        <p:spPr>
          <a:xfrm>
            <a:off x="455760" y="5084640"/>
            <a:ext cx="8280360" cy="581400"/>
          </a:xfrm>
          <a:prstGeom prst="rect">
            <a:avLst/>
          </a:prstGeom>
          <a:solidFill>
            <a:srgbClr val="a39b4e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等式两边乘同一个数</a:t>
            </a:r>
            <a:r>
              <a:rPr b="0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或除以同一个不为</a:t>
            </a:r>
            <a:r>
              <a:rPr b="0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0</a:t>
            </a:r>
            <a:r>
              <a:rPr b="0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的数</a:t>
            </a:r>
            <a:r>
              <a:rPr b="0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左右两边仍然相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1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6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同侧圆角矩形 23"/>
          <p:cNvGrpSpPr/>
          <p:nvPr/>
        </p:nvGrpSpPr>
        <p:grpSpPr>
          <a:xfrm>
            <a:off x="450720" y="981000"/>
            <a:ext cx="2000520" cy="519120"/>
            <a:chOff x="450720" y="981000"/>
            <a:chExt cx="2000520" cy="519120"/>
          </a:xfrm>
        </p:grpSpPr>
        <p:pic>
          <p:nvPicPr>
            <p:cNvPr id="357" name="同侧圆角矩形 23" descr=""/>
            <p:cNvPicPr/>
            <p:nvPr/>
          </p:nvPicPr>
          <p:blipFill>
            <a:blip r:embed="rId1"/>
            <a:stretch/>
          </p:blipFill>
          <p:spPr>
            <a:xfrm>
              <a:off x="450720" y="981000"/>
              <a:ext cx="20005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477720" y="100656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360" name="TextBox 7"/>
          <p:cNvSpPr/>
          <p:nvPr/>
        </p:nvSpPr>
        <p:spPr>
          <a:xfrm>
            <a:off x="808200" y="249228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用等式的性质解决简单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矩形 1"/>
          <p:cNvSpPr/>
          <p:nvPr/>
        </p:nvSpPr>
        <p:spPr>
          <a:xfrm>
            <a:off x="808200" y="17733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理解并能用语言表述等式的性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8"/>
          <p:cNvSpPr/>
          <p:nvPr/>
        </p:nvSpPr>
        <p:spPr>
          <a:xfrm>
            <a:off x="863640" y="3386160"/>
            <a:ext cx="72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验探索等式的基本性质和数学结论的确定性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reeform 93"/>
          <p:cNvSpPr/>
          <p:nvPr/>
        </p:nvSpPr>
        <p:spPr>
          <a:xfrm>
            <a:off x="3430440" y="2671920"/>
            <a:ext cx="2592360" cy="412560"/>
          </a:xfrm>
          <a:custGeom>
            <a:avLst/>
            <a:gdLst/>
            <a:ahLst/>
            <a:rect l="l" t="t" r="r" b="b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reeform 94"/>
          <p:cNvSpPr/>
          <p:nvPr/>
        </p:nvSpPr>
        <p:spPr>
          <a:xfrm>
            <a:off x="3430440" y="2671920"/>
            <a:ext cx="2600640" cy="412560"/>
          </a:xfrm>
          <a:custGeom>
            <a:avLst/>
            <a:gdLst/>
            <a:ahLst/>
            <a:rect l="l" t="t" r="r" b="b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reeform 95"/>
          <p:cNvSpPr/>
          <p:nvPr/>
        </p:nvSpPr>
        <p:spPr>
          <a:xfrm>
            <a:off x="2835360" y="3765600"/>
            <a:ext cx="2359080" cy="406440"/>
          </a:xfrm>
          <a:custGeom>
            <a:avLst/>
            <a:gdLst/>
            <a:ahLst/>
            <a:rect l="l" t="t" r="r" b="b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reeform 96"/>
          <p:cNvSpPr/>
          <p:nvPr/>
        </p:nvSpPr>
        <p:spPr>
          <a:xfrm>
            <a:off x="2825640" y="3765600"/>
            <a:ext cx="2359080" cy="406440"/>
          </a:xfrm>
          <a:custGeom>
            <a:avLst/>
            <a:gdLst/>
            <a:ahLst/>
            <a:rect l="l" t="t" r="r" b="b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reeform 97"/>
          <p:cNvSpPr/>
          <p:nvPr/>
        </p:nvSpPr>
        <p:spPr>
          <a:xfrm>
            <a:off x="3443400" y="4584600"/>
            <a:ext cx="1481040" cy="573120"/>
          </a:xfrm>
          <a:custGeom>
            <a:avLst/>
            <a:gdLst/>
            <a:ahLst/>
            <a:rect l="l" t="t" r="r" b="b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98"/>
          <p:cNvSpPr/>
          <p:nvPr/>
        </p:nvSpPr>
        <p:spPr>
          <a:xfrm>
            <a:off x="3430440" y="4584600"/>
            <a:ext cx="1481400" cy="573120"/>
          </a:xfrm>
          <a:custGeom>
            <a:avLst/>
            <a:gdLst/>
            <a:ahLst/>
            <a:rect l="l" t="t" r="r" b="b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Freeform 100"/>
          <p:cNvSpPr/>
          <p:nvPr/>
        </p:nvSpPr>
        <p:spPr>
          <a:xfrm>
            <a:off x="2825640" y="2671920"/>
            <a:ext cx="3205440" cy="1500120"/>
          </a:xfrm>
          <a:custGeom>
            <a:avLst/>
            <a:gdLst/>
            <a:ahLst/>
            <a:rect l="l" t="t" r="r" b="b"/>
            <a:pathLst>
              <a:path w="2019" h="1050">
                <a:moveTo>
                  <a:pt x="2014" y="0"/>
                </a:moveTo>
                <a:lnTo>
                  <a:pt x="0" y="594"/>
                </a:lnTo>
                <a:lnTo>
                  <a:pt x="5" y="1050"/>
                </a:lnTo>
                <a:lnTo>
                  <a:pt x="2019" y="457"/>
                </a:lnTo>
                <a:lnTo>
                  <a:pt x="2014" y="0"/>
                </a:lnTo>
              </a:path>
            </a:pathLst>
          </a:custGeom>
          <a:solidFill>
            <a:srgbClr val="579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reeform 102"/>
          <p:cNvSpPr/>
          <p:nvPr/>
        </p:nvSpPr>
        <p:spPr>
          <a:xfrm>
            <a:off x="2825640" y="2671920"/>
            <a:ext cx="3197160" cy="942840"/>
          </a:xfrm>
          <a:custGeom>
            <a:avLst/>
            <a:gdLst/>
            <a:ahLst/>
            <a:rect l="l" t="t" r="r" b="b"/>
            <a:pathLst>
              <a:path w="2014" h="660">
                <a:moveTo>
                  <a:pt x="2014" y="0"/>
                </a:moveTo>
                <a:lnTo>
                  <a:pt x="2014" y="0"/>
                </a:lnTo>
                <a:lnTo>
                  <a:pt x="1162" y="254"/>
                </a:lnTo>
                <a:lnTo>
                  <a:pt x="0" y="594"/>
                </a:lnTo>
                <a:lnTo>
                  <a:pt x="0" y="660"/>
                </a:lnTo>
                <a:lnTo>
                  <a:pt x="2014" y="76"/>
                </a:lnTo>
                <a:lnTo>
                  <a:pt x="201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reeform 104"/>
          <p:cNvSpPr/>
          <p:nvPr/>
        </p:nvSpPr>
        <p:spPr>
          <a:xfrm>
            <a:off x="2825640" y="3230640"/>
            <a:ext cx="3205440" cy="941400"/>
          </a:xfrm>
          <a:custGeom>
            <a:avLst/>
            <a:gdLst/>
            <a:ahLst/>
            <a:rect l="l" t="t" r="r" b="b"/>
            <a:pathLst>
              <a:path w="2019" h="659">
                <a:moveTo>
                  <a:pt x="2019" y="0"/>
                </a:moveTo>
                <a:lnTo>
                  <a:pt x="0" y="598"/>
                </a:lnTo>
                <a:lnTo>
                  <a:pt x="5" y="659"/>
                </a:lnTo>
                <a:lnTo>
                  <a:pt x="2019" y="66"/>
                </a:lnTo>
                <a:lnTo>
                  <a:pt x="201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Freeform 105"/>
          <p:cNvSpPr/>
          <p:nvPr/>
        </p:nvSpPr>
        <p:spPr>
          <a:xfrm>
            <a:off x="2762280" y="3359160"/>
            <a:ext cx="31680" cy="160200"/>
          </a:xfrm>
          <a:custGeom>
            <a:avLst/>
            <a:gdLst/>
            <a:ahLst/>
            <a:rect l="l" t="t" r="r" b="b"/>
            <a:pathLst>
              <a:path w="20" h="112">
                <a:moveTo>
                  <a:pt x="0" y="112"/>
                </a:moveTo>
                <a:lnTo>
                  <a:pt x="10" y="0"/>
                </a:lnTo>
                <a:lnTo>
                  <a:pt x="20" y="0"/>
                </a:lnTo>
                <a:lnTo>
                  <a:pt x="10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Freeform 106"/>
          <p:cNvSpPr/>
          <p:nvPr/>
        </p:nvSpPr>
        <p:spPr>
          <a:xfrm>
            <a:off x="2857680" y="3344760"/>
            <a:ext cx="72720" cy="158760"/>
          </a:xfrm>
          <a:custGeom>
            <a:avLst/>
            <a:gdLst/>
            <a:ahLst/>
            <a:rect l="l" t="t" r="r" b="b"/>
            <a:pathLst>
              <a:path w="46" h="111">
                <a:moveTo>
                  <a:pt x="16" y="101"/>
                </a:moveTo>
                <a:lnTo>
                  <a:pt x="0" y="0"/>
                </a:lnTo>
                <a:lnTo>
                  <a:pt x="11" y="0"/>
                </a:lnTo>
                <a:lnTo>
                  <a:pt x="26" y="96"/>
                </a:lnTo>
                <a:lnTo>
                  <a:pt x="46" y="101"/>
                </a:lnTo>
                <a:lnTo>
                  <a:pt x="46" y="111"/>
                </a:lnTo>
                <a:lnTo>
                  <a:pt x="16" y="101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reeform 107"/>
          <p:cNvSpPr/>
          <p:nvPr/>
        </p:nvSpPr>
        <p:spPr>
          <a:xfrm>
            <a:off x="2770200" y="3503520"/>
            <a:ext cx="47520" cy="44640"/>
          </a:xfrm>
          <a:custGeom>
            <a:avLst/>
            <a:gdLst/>
            <a:ahLst/>
            <a:rect l="l" t="t" r="r" b="b"/>
            <a:pathLst>
              <a:path w="30" h="31">
                <a:moveTo>
                  <a:pt x="0" y="11"/>
                </a:moveTo>
                <a:lnTo>
                  <a:pt x="5" y="0"/>
                </a:lnTo>
                <a:lnTo>
                  <a:pt x="30" y="21"/>
                </a:lnTo>
                <a:lnTo>
                  <a:pt x="20" y="31"/>
                </a:lnTo>
                <a:lnTo>
                  <a:pt x="0" y="11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任意多边形 38"/>
          <p:cNvSpPr/>
          <p:nvPr/>
        </p:nvSpPr>
        <p:spPr>
          <a:xfrm>
            <a:off x="2347920" y="2887560"/>
            <a:ext cx="754200" cy="490680"/>
          </a:xfrm>
          <a:custGeom>
            <a:avLst/>
            <a:gdLst/>
            <a:ahLst/>
            <a:rect l="l" t="t" r="r" b="b"/>
            <a:pathLst>
              <a:path w="753252" h="544174">
                <a:moveTo>
                  <a:pt x="570635" y="682"/>
                </a:moveTo>
                <a:cubicBezTo>
                  <a:pt x="604065" y="3701"/>
                  <a:pt x="638249" y="16784"/>
                  <a:pt x="670422" y="40937"/>
                </a:cubicBezTo>
                <a:cubicBezTo>
                  <a:pt x="678465" y="32886"/>
                  <a:pt x="694552" y="24835"/>
                  <a:pt x="710639" y="16784"/>
                </a:cubicBezTo>
                <a:cubicBezTo>
                  <a:pt x="710639" y="32886"/>
                  <a:pt x="710639" y="57038"/>
                  <a:pt x="710639" y="81191"/>
                </a:cubicBezTo>
                <a:cubicBezTo>
                  <a:pt x="839332" y="234158"/>
                  <a:pt x="686509" y="733314"/>
                  <a:pt x="115432" y="467635"/>
                </a:cubicBezTo>
                <a:lnTo>
                  <a:pt x="119687" y="466730"/>
                </a:lnTo>
                <a:lnTo>
                  <a:pt x="104790" y="459986"/>
                </a:lnTo>
                <a:cubicBezTo>
                  <a:pt x="86393" y="455057"/>
                  <a:pt x="66869" y="458090"/>
                  <a:pt x="42840" y="452024"/>
                </a:cubicBezTo>
                <a:cubicBezTo>
                  <a:pt x="2792" y="443935"/>
                  <a:pt x="-5218" y="403491"/>
                  <a:pt x="2792" y="379225"/>
                </a:cubicBezTo>
                <a:cubicBezTo>
                  <a:pt x="18811" y="346870"/>
                  <a:pt x="58860" y="338782"/>
                  <a:pt x="82889" y="371137"/>
                </a:cubicBezTo>
                <a:cubicBezTo>
                  <a:pt x="66869" y="338782"/>
                  <a:pt x="90898" y="298338"/>
                  <a:pt x="122937" y="306427"/>
                </a:cubicBezTo>
                <a:cubicBezTo>
                  <a:pt x="146966" y="306427"/>
                  <a:pt x="170995" y="338782"/>
                  <a:pt x="154976" y="379225"/>
                </a:cubicBezTo>
                <a:cubicBezTo>
                  <a:pt x="150971" y="395403"/>
                  <a:pt x="144964" y="409558"/>
                  <a:pt x="138956" y="423713"/>
                </a:cubicBezTo>
                <a:lnTo>
                  <a:pt x="123781" y="465859"/>
                </a:lnTo>
                <a:lnTo>
                  <a:pt x="125486" y="465496"/>
                </a:lnTo>
                <a:cubicBezTo>
                  <a:pt x="170353" y="454929"/>
                  <a:pt x="350700" y="401215"/>
                  <a:pt x="364775" y="218056"/>
                </a:cubicBezTo>
                <a:cubicBezTo>
                  <a:pt x="376840" y="73140"/>
                  <a:pt x="470344" y="-8375"/>
                  <a:pt x="570635" y="682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Freeform 110"/>
          <p:cNvSpPr/>
          <p:nvPr/>
        </p:nvSpPr>
        <p:spPr>
          <a:xfrm>
            <a:off x="2865600" y="2960640"/>
            <a:ext cx="88560" cy="666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7"/>
                </a:moveTo>
                <a:cubicBezTo>
                  <a:pt x="0" y="7"/>
                  <a:pt x="7" y="9"/>
                  <a:pt x="9" y="0"/>
                </a:cubicBezTo>
                <a:cubicBezTo>
                  <a:pt x="9" y="0"/>
                  <a:pt x="11" y="4"/>
                  <a:pt x="6" y="7"/>
                </a:cubicBezTo>
                <a:cubicBezTo>
                  <a:pt x="4" y="9"/>
                  <a:pt x="2" y="8"/>
                  <a:pt x="0" y="7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Freeform 111"/>
          <p:cNvSpPr/>
          <p:nvPr/>
        </p:nvSpPr>
        <p:spPr>
          <a:xfrm>
            <a:off x="2882880" y="3013200"/>
            <a:ext cx="7920" cy="5688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1"/>
                </a:moveTo>
                <a:cubicBezTo>
                  <a:pt x="0" y="1"/>
                  <a:pt x="0" y="8"/>
                  <a:pt x="1" y="1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Freeform 112"/>
          <p:cNvSpPr/>
          <p:nvPr/>
        </p:nvSpPr>
        <p:spPr>
          <a:xfrm>
            <a:off x="2898720" y="3013200"/>
            <a:ext cx="23760" cy="4896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1"/>
                </a:moveTo>
                <a:cubicBezTo>
                  <a:pt x="0" y="1"/>
                  <a:pt x="3" y="7"/>
                  <a:pt x="1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reeform 113"/>
          <p:cNvSpPr/>
          <p:nvPr/>
        </p:nvSpPr>
        <p:spPr>
          <a:xfrm>
            <a:off x="2922480" y="2997360"/>
            <a:ext cx="31680" cy="4428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1"/>
                </a:moveTo>
                <a:cubicBezTo>
                  <a:pt x="0" y="1"/>
                  <a:pt x="4" y="6"/>
                  <a:pt x="1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reeform 114"/>
          <p:cNvSpPr/>
          <p:nvPr/>
        </p:nvSpPr>
        <p:spPr>
          <a:xfrm>
            <a:off x="2938320" y="2975040"/>
            <a:ext cx="39960" cy="3816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2"/>
                </a:moveTo>
                <a:cubicBezTo>
                  <a:pt x="0" y="2"/>
                  <a:pt x="5" y="5"/>
                  <a:pt x="0" y="0"/>
                </a:cubicBezTo>
                <a:cubicBezTo>
                  <a:pt x="0" y="1"/>
                  <a:pt x="0" y="1"/>
                  <a:pt x="0" y="1"/>
                </a:cubicBezTo>
                <a:lnTo>
                  <a:pt x="0" y="2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reeform 115"/>
          <p:cNvSpPr/>
          <p:nvPr/>
        </p:nvSpPr>
        <p:spPr>
          <a:xfrm>
            <a:off x="2728800" y="3027240"/>
            <a:ext cx="322200" cy="231840"/>
          </a:xfrm>
          <a:custGeom>
            <a:avLst/>
            <a:gdLst/>
            <a:ahLst/>
            <a:rect l="l" t="t" r="r" b="b"/>
            <a:pathLst>
              <a:path w="40" h="32">
                <a:moveTo>
                  <a:pt x="0" y="32"/>
                </a:moveTo>
                <a:cubicBezTo>
                  <a:pt x="0" y="32"/>
                  <a:pt x="12" y="25"/>
                  <a:pt x="13" y="13"/>
                </a:cubicBezTo>
                <a:cubicBezTo>
                  <a:pt x="13" y="0"/>
                  <a:pt x="40" y="25"/>
                  <a:pt x="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reeform 116"/>
          <p:cNvSpPr/>
          <p:nvPr/>
        </p:nvSpPr>
        <p:spPr>
          <a:xfrm>
            <a:off x="5853240" y="2570040"/>
            <a:ext cx="72720" cy="146160"/>
          </a:xfrm>
          <a:custGeom>
            <a:avLst/>
            <a:gdLst/>
            <a:ahLst/>
            <a:rect l="l" t="t" r="r" b="b"/>
            <a:pathLst>
              <a:path w="46" h="102">
                <a:moveTo>
                  <a:pt x="0" y="5"/>
                </a:moveTo>
                <a:lnTo>
                  <a:pt x="11" y="0"/>
                </a:lnTo>
                <a:lnTo>
                  <a:pt x="46" y="96"/>
                </a:lnTo>
                <a:lnTo>
                  <a:pt x="36" y="102"/>
                </a:lnTo>
                <a:lnTo>
                  <a:pt x="0" y="5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reeform 117"/>
          <p:cNvSpPr/>
          <p:nvPr/>
        </p:nvSpPr>
        <p:spPr>
          <a:xfrm>
            <a:off x="5765760" y="2576520"/>
            <a:ext cx="47520" cy="160200"/>
          </a:xfrm>
          <a:custGeom>
            <a:avLst/>
            <a:gdLst/>
            <a:ahLst/>
            <a:rect l="l" t="t" r="r" b="b"/>
            <a:pathLst>
              <a:path w="30" h="112">
                <a:moveTo>
                  <a:pt x="0" y="107"/>
                </a:moveTo>
                <a:lnTo>
                  <a:pt x="15" y="91"/>
                </a:lnTo>
                <a:lnTo>
                  <a:pt x="5" y="0"/>
                </a:lnTo>
                <a:lnTo>
                  <a:pt x="15" y="0"/>
                </a:lnTo>
                <a:lnTo>
                  <a:pt x="30" y="97"/>
                </a:lnTo>
                <a:lnTo>
                  <a:pt x="5" y="112"/>
                </a:lnTo>
                <a:lnTo>
                  <a:pt x="0" y="107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Freeform 118"/>
          <p:cNvSpPr/>
          <p:nvPr/>
        </p:nvSpPr>
        <p:spPr>
          <a:xfrm>
            <a:off x="5886360" y="2700360"/>
            <a:ext cx="39600" cy="44280"/>
          </a:xfrm>
          <a:custGeom>
            <a:avLst/>
            <a:gdLst/>
            <a:ahLst/>
            <a:rect l="l" t="t" r="r" b="b"/>
            <a:pathLst>
              <a:path w="25" h="31">
                <a:moveTo>
                  <a:pt x="0" y="26"/>
                </a:moveTo>
                <a:lnTo>
                  <a:pt x="15" y="0"/>
                </a:lnTo>
                <a:lnTo>
                  <a:pt x="25" y="5"/>
                </a:lnTo>
                <a:lnTo>
                  <a:pt x="10" y="31"/>
                </a:lnTo>
                <a:lnTo>
                  <a:pt x="0" y="26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任意多边形 37"/>
          <p:cNvSpPr/>
          <p:nvPr/>
        </p:nvSpPr>
        <p:spPr>
          <a:xfrm>
            <a:off x="5467320" y="2158920"/>
            <a:ext cx="760320" cy="441360"/>
          </a:xfrm>
          <a:custGeom>
            <a:avLst/>
            <a:gdLst/>
            <a:ahLst/>
            <a:rect l="l" t="t" r="r" b="b"/>
            <a:pathLst>
              <a:path w="760238" h="489328">
                <a:moveTo>
                  <a:pt x="639381" y="161933"/>
                </a:moveTo>
                <a:cubicBezTo>
                  <a:pt x="658701" y="165725"/>
                  <a:pt x="676885" y="189991"/>
                  <a:pt x="676885" y="214257"/>
                </a:cubicBezTo>
                <a:cubicBezTo>
                  <a:pt x="684967" y="181902"/>
                  <a:pt x="725376" y="181902"/>
                  <a:pt x="749622" y="206168"/>
                </a:cubicBezTo>
                <a:cubicBezTo>
                  <a:pt x="765785" y="230434"/>
                  <a:pt x="765785" y="262789"/>
                  <a:pt x="733458" y="278967"/>
                </a:cubicBezTo>
                <a:cubicBezTo>
                  <a:pt x="709213" y="295144"/>
                  <a:pt x="684967" y="295144"/>
                  <a:pt x="660722" y="319410"/>
                </a:cubicBezTo>
                <a:cubicBezTo>
                  <a:pt x="644558" y="287055"/>
                  <a:pt x="620313" y="270878"/>
                  <a:pt x="604149" y="238523"/>
                </a:cubicBezTo>
                <a:cubicBezTo>
                  <a:pt x="587985" y="206168"/>
                  <a:pt x="596067" y="173813"/>
                  <a:pt x="620313" y="165725"/>
                </a:cubicBezTo>
                <a:cubicBezTo>
                  <a:pt x="626374" y="161680"/>
                  <a:pt x="632940" y="160669"/>
                  <a:pt x="639381" y="161933"/>
                </a:cubicBezTo>
                <a:close/>
                <a:moveTo>
                  <a:pt x="170779" y="516"/>
                </a:moveTo>
                <a:cubicBezTo>
                  <a:pt x="250352" y="-5933"/>
                  <a:pt x="333467" y="48174"/>
                  <a:pt x="378802" y="158907"/>
                </a:cubicBezTo>
                <a:cubicBezTo>
                  <a:pt x="451339" y="344132"/>
                  <a:pt x="668948" y="319972"/>
                  <a:pt x="668948" y="319972"/>
                </a:cubicBezTo>
                <a:cubicBezTo>
                  <a:pt x="217610" y="722635"/>
                  <a:pt x="-64477" y="303866"/>
                  <a:pt x="16119" y="126694"/>
                </a:cubicBezTo>
                <a:cubicBezTo>
                  <a:pt x="8060" y="110587"/>
                  <a:pt x="8060" y="78374"/>
                  <a:pt x="0" y="70321"/>
                </a:cubicBezTo>
                <a:cubicBezTo>
                  <a:pt x="16119" y="70321"/>
                  <a:pt x="32239" y="78374"/>
                  <a:pt x="40298" y="78374"/>
                </a:cubicBezTo>
                <a:cubicBezTo>
                  <a:pt x="76567" y="30055"/>
                  <a:pt x="123035" y="4385"/>
                  <a:pt x="170779" y="516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reeform 121"/>
          <p:cNvSpPr/>
          <p:nvPr/>
        </p:nvSpPr>
        <p:spPr>
          <a:xfrm>
            <a:off x="5572080" y="2279520"/>
            <a:ext cx="306360" cy="217440"/>
          </a:xfrm>
          <a:custGeom>
            <a:avLst/>
            <a:gdLst/>
            <a:ahLst/>
            <a:rect l="l" t="t" r="r" b="b"/>
            <a:pathLst>
              <a:path w="38" h="30">
                <a:moveTo>
                  <a:pt x="38" y="25"/>
                </a:moveTo>
                <a:cubicBezTo>
                  <a:pt x="38" y="25"/>
                  <a:pt x="25" y="22"/>
                  <a:pt x="21" y="11"/>
                </a:cubicBezTo>
                <a:cubicBezTo>
                  <a:pt x="17" y="0"/>
                  <a:pt x="0" y="30"/>
                  <a:pt x="3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reeform 122"/>
          <p:cNvSpPr/>
          <p:nvPr/>
        </p:nvSpPr>
        <p:spPr>
          <a:xfrm>
            <a:off x="5587920" y="2244600"/>
            <a:ext cx="112680" cy="5724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cubicBezTo>
                  <a:pt x="0" y="0"/>
                  <a:pt x="5" y="8"/>
                  <a:pt x="14" y="2"/>
                </a:cubicBezTo>
                <a:cubicBezTo>
                  <a:pt x="14" y="2"/>
                  <a:pt x="12" y="7"/>
                  <a:pt x="6" y="6"/>
                </a:cubicBezTo>
                <a:cubicBezTo>
                  <a:pt x="2" y="5"/>
                  <a:pt x="1" y="3"/>
                  <a:pt x="0" y="0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Freeform 123"/>
          <p:cNvSpPr/>
          <p:nvPr/>
        </p:nvSpPr>
        <p:spPr>
          <a:xfrm>
            <a:off x="3703680" y="1641600"/>
            <a:ext cx="1481040" cy="723600"/>
          </a:xfrm>
          <a:custGeom>
            <a:avLst/>
            <a:gdLst/>
            <a:ahLst/>
            <a:rect l="l" t="t" r="r" b="b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reeform 124"/>
          <p:cNvSpPr/>
          <p:nvPr/>
        </p:nvSpPr>
        <p:spPr>
          <a:xfrm>
            <a:off x="3703680" y="1649520"/>
            <a:ext cx="1481040" cy="723960"/>
          </a:xfrm>
          <a:custGeom>
            <a:avLst/>
            <a:gdLst/>
            <a:ahLst/>
            <a:rect l="l" t="t" r="r" b="b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Freeform 126"/>
          <p:cNvSpPr/>
          <p:nvPr/>
        </p:nvSpPr>
        <p:spPr>
          <a:xfrm>
            <a:off x="3421080" y="1974960"/>
            <a:ext cx="1771560" cy="110952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reeform 129"/>
          <p:cNvSpPr/>
          <p:nvPr/>
        </p:nvSpPr>
        <p:spPr>
          <a:xfrm>
            <a:off x="3430440" y="2556000"/>
            <a:ext cx="1762200" cy="528480"/>
          </a:xfrm>
          <a:custGeom>
            <a:avLst/>
            <a:gdLst/>
            <a:ahLst/>
            <a:rect l="l" t="t" r="r" b="b"/>
            <a:pathLst>
              <a:path w="1110" h="370">
                <a:moveTo>
                  <a:pt x="1110" y="0"/>
                </a:moveTo>
                <a:lnTo>
                  <a:pt x="0" y="314"/>
                </a:lnTo>
                <a:lnTo>
                  <a:pt x="0" y="370"/>
                </a:lnTo>
                <a:lnTo>
                  <a:pt x="1110" y="51"/>
                </a:lnTo>
                <a:lnTo>
                  <a:pt x="111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reeform 131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reeform 133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6" y="406"/>
                </a:moveTo>
                <a:lnTo>
                  <a:pt x="6" y="720"/>
                </a:lnTo>
                <a:lnTo>
                  <a:pt x="6" y="776"/>
                </a:lnTo>
                <a:lnTo>
                  <a:pt x="1116" y="457"/>
                </a:lnTo>
                <a:lnTo>
                  <a:pt x="1116" y="406"/>
                </a:lnTo>
                <a:moveTo>
                  <a:pt x="1111" y="0"/>
                </a:moveTo>
                <a:lnTo>
                  <a:pt x="1111" y="0"/>
                </a:lnTo>
                <a:lnTo>
                  <a:pt x="0" y="320"/>
                </a:lnTo>
                <a:lnTo>
                  <a:pt x="0" y="345"/>
                </a:lnTo>
                <a:lnTo>
                  <a:pt x="0" y="370"/>
                </a:lnTo>
                <a:lnTo>
                  <a:pt x="1111" y="51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任意多边形 163"/>
          <p:cNvSpPr/>
          <p:nvPr/>
        </p:nvSpPr>
        <p:spPr>
          <a:xfrm rot="20657400">
            <a:off x="2666880" y="3087720"/>
            <a:ext cx="3522960" cy="668160"/>
          </a:xfrm>
          <a:prstGeom prst="pie">
            <a:avLst/>
          </a:pr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任意多边形 167"/>
          <p:cNvSpPr/>
          <p:nvPr/>
        </p:nvSpPr>
        <p:spPr>
          <a:xfrm rot="20721600">
            <a:off x="3303720" y="2192040"/>
            <a:ext cx="2008080" cy="67464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008511" h="748757">
                <a:moveTo>
                  <a:pt x="2008511" y="0"/>
                </a:moveTo>
                <a:lnTo>
                  <a:pt x="1832903" y="703958"/>
                </a:lnTo>
                <a:lnTo>
                  <a:pt x="0" y="748757"/>
                </a:lnTo>
                <a:lnTo>
                  <a:pt x="173672" y="45934"/>
                </a:lnTo>
                <a:lnTo>
                  <a:pt x="2008511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任意多边形 171"/>
          <p:cNvSpPr/>
          <p:nvPr/>
        </p:nvSpPr>
        <p:spPr>
          <a:xfrm rot="20849400">
            <a:off x="3330720" y="3949560"/>
            <a:ext cx="1979640" cy="7398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1979334" h="822792">
                <a:moveTo>
                  <a:pt x="1979334" y="0"/>
                </a:moveTo>
                <a:lnTo>
                  <a:pt x="1829976" y="709991"/>
                </a:lnTo>
                <a:lnTo>
                  <a:pt x="0" y="822792"/>
                </a:lnTo>
                <a:lnTo>
                  <a:pt x="147465" y="114007"/>
                </a:lnTo>
                <a:lnTo>
                  <a:pt x="1979334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539640" y="1643040"/>
            <a:ext cx="3560760" cy="23526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1358640" y="5661000"/>
            <a:ext cx="7785000" cy="550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等式的两边同时加上相等的数，等式不变。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6" name="TextBox 14"/>
          <p:cNvSpPr/>
          <p:nvPr/>
        </p:nvSpPr>
        <p:spPr>
          <a:xfrm>
            <a:off x="1979640" y="39574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14"/>
          <p:cNvSpPr/>
          <p:nvPr/>
        </p:nvSpPr>
        <p:spPr>
          <a:xfrm>
            <a:off x="5219640" y="3995640"/>
            <a:ext cx="28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b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14"/>
          <p:cNvSpPr/>
          <p:nvPr/>
        </p:nvSpPr>
        <p:spPr>
          <a:xfrm>
            <a:off x="5219640" y="4896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b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b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14"/>
          <p:cNvSpPr/>
          <p:nvPr/>
        </p:nvSpPr>
        <p:spPr>
          <a:xfrm>
            <a:off x="1557360" y="4896000"/>
            <a:ext cx="34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b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2"/>
          <a:stretch/>
        </p:blipFill>
        <p:spPr>
          <a:xfrm>
            <a:off x="4332240" y="2643120"/>
            <a:ext cx="1104840" cy="5238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"/>
          <p:cNvPicPr/>
          <p:nvPr/>
        </p:nvPicPr>
        <p:blipFill>
          <a:blip r:embed="rId3"/>
          <a:stretch/>
        </p:blipFill>
        <p:spPr>
          <a:xfrm>
            <a:off x="5186520" y="1673280"/>
            <a:ext cx="3724200" cy="2095560"/>
          </a:xfrm>
          <a:prstGeom prst="rect">
            <a:avLst/>
          </a:prstGeom>
          <a:ln w="0">
            <a:noFill/>
          </a:ln>
        </p:spPr>
      </p:pic>
      <p:grpSp>
        <p:nvGrpSpPr>
          <p:cNvPr id="372" name="同侧圆角矩形 14"/>
          <p:cNvGrpSpPr/>
          <p:nvPr/>
        </p:nvGrpSpPr>
        <p:grpSpPr>
          <a:xfrm>
            <a:off x="450720" y="1090440"/>
            <a:ext cx="2000520" cy="519120"/>
            <a:chOff x="450720" y="1090440"/>
            <a:chExt cx="2000520" cy="519120"/>
          </a:xfrm>
        </p:grpSpPr>
        <p:pic>
          <p:nvPicPr>
            <p:cNvPr id="373" name="同侧圆角矩形 14" descr=""/>
            <p:cNvPicPr/>
            <p:nvPr/>
          </p:nvPicPr>
          <p:blipFill>
            <a:blip r:embed="rId4"/>
            <a:stretch/>
          </p:blipFill>
          <p:spPr>
            <a:xfrm>
              <a:off x="450720" y="1090440"/>
              <a:ext cx="20005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474840" y="11160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情景导入</a:t>
              </a: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5" name="直线连接符 21"/>
          <p:cNvSpPr/>
          <p:nvPr/>
        </p:nvSpPr>
        <p:spPr>
          <a:xfrm flipV="1">
            <a:off x="414360" y="1672920"/>
            <a:ext cx="20700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5"/>
          <p:cNvSpPr/>
          <p:nvPr/>
        </p:nvSpPr>
        <p:spPr>
          <a:xfrm>
            <a:off x="826920" y="4903920"/>
            <a:ext cx="741708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等式的两边同时减去相等的数，等式不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409680" y="1557360"/>
            <a:ext cx="4162320" cy="26859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"/>
          <p:cNvPicPr/>
          <p:nvPr/>
        </p:nvPicPr>
        <p:blipFill>
          <a:blip r:embed="rId2"/>
          <a:stretch/>
        </p:blipFill>
        <p:spPr>
          <a:xfrm>
            <a:off x="4714920" y="1336680"/>
            <a:ext cx="4228920" cy="25239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3"/>
          <a:stretch/>
        </p:blipFill>
        <p:spPr>
          <a:xfrm>
            <a:off x="3886200" y="3114720"/>
            <a:ext cx="1371600" cy="628560"/>
          </a:xfrm>
          <a:prstGeom prst="rect">
            <a:avLst/>
          </a:prstGeom>
          <a:ln w="0">
            <a:noFill/>
          </a:ln>
        </p:spPr>
      </p:pic>
      <p:sp>
        <p:nvSpPr>
          <p:cNvPr id="380" name="TextBox 14"/>
          <p:cNvSpPr/>
          <p:nvPr/>
        </p:nvSpPr>
        <p:spPr>
          <a:xfrm>
            <a:off x="1266840" y="42418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14"/>
          <p:cNvSpPr/>
          <p:nvPr/>
        </p:nvSpPr>
        <p:spPr>
          <a:xfrm>
            <a:off x="4572000" y="423540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b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2" name="同侧圆角矩形 8"/>
          <p:cNvGrpSpPr/>
          <p:nvPr/>
        </p:nvGrpSpPr>
        <p:grpSpPr>
          <a:xfrm>
            <a:off x="414360" y="1122480"/>
            <a:ext cx="2004840" cy="510840"/>
            <a:chOff x="414360" y="1122480"/>
            <a:chExt cx="2004840" cy="510840"/>
          </a:xfrm>
        </p:grpSpPr>
        <p:pic>
          <p:nvPicPr>
            <p:cNvPr id="383" name="同侧圆角矩形 8" descr=""/>
            <p:cNvPicPr/>
            <p:nvPr/>
          </p:nvPicPr>
          <p:blipFill>
            <a:blip r:embed="rId4"/>
            <a:stretch/>
          </p:blipFill>
          <p:spPr>
            <a:xfrm>
              <a:off x="414360" y="1122480"/>
              <a:ext cx="2004840" cy="5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442800" y="1144080"/>
              <a:ext cx="1949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5" name="直线连接符 21"/>
          <p:cNvSpPr/>
          <p:nvPr/>
        </p:nvSpPr>
        <p:spPr>
          <a:xfrm flipV="1">
            <a:off x="409680" y="1773000"/>
            <a:ext cx="207144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9"/>
          <p:cNvSpPr/>
          <p:nvPr/>
        </p:nvSpPr>
        <p:spPr>
          <a:xfrm>
            <a:off x="1106640" y="5157720"/>
            <a:ext cx="69307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等式两边同时乘同一个数，等式左右两边依然相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图25.jpg" descr="id:2147502209;FounderCES"/>
          <p:cNvPicPr/>
          <p:nvPr/>
        </p:nvPicPr>
        <p:blipFill>
          <a:blip r:embed="rId1"/>
          <a:stretch/>
        </p:blipFill>
        <p:spPr>
          <a:xfrm>
            <a:off x="738360" y="1744560"/>
            <a:ext cx="3458880" cy="1765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4038480" y="2717640"/>
            <a:ext cx="1067040" cy="428760"/>
          </a:xfrm>
          <a:prstGeom prst="rect">
            <a:avLst/>
          </a:prstGeom>
          <a:ln w="0">
            <a:noFill/>
          </a:ln>
        </p:spPr>
      </p:pic>
      <p:pic>
        <p:nvPicPr>
          <p:cNvPr id="389" name="图26.jpg" descr="id:2147502216;FounderCES"/>
          <p:cNvPicPr/>
          <p:nvPr/>
        </p:nvPicPr>
        <p:blipFill>
          <a:blip r:embed="rId3"/>
          <a:stretch/>
        </p:blipFill>
        <p:spPr>
          <a:xfrm>
            <a:off x="5192640" y="1658880"/>
            <a:ext cx="3175200" cy="1784520"/>
          </a:xfrm>
          <a:prstGeom prst="rect">
            <a:avLst/>
          </a:prstGeom>
          <a:ln w="0">
            <a:noFill/>
          </a:ln>
        </p:spPr>
      </p:pic>
      <p:sp>
        <p:nvSpPr>
          <p:cNvPr id="390" name="TextBox 14"/>
          <p:cNvSpPr/>
          <p:nvPr/>
        </p:nvSpPr>
        <p:spPr>
          <a:xfrm>
            <a:off x="5703840" y="36892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×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×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14"/>
          <p:cNvSpPr/>
          <p:nvPr/>
        </p:nvSpPr>
        <p:spPr>
          <a:xfrm>
            <a:off x="1731960" y="3627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Box 14"/>
          <p:cNvSpPr/>
          <p:nvPr/>
        </p:nvSpPr>
        <p:spPr>
          <a:xfrm>
            <a:off x="1336680" y="43196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×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×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14"/>
          <p:cNvSpPr/>
          <p:nvPr/>
        </p:nvSpPr>
        <p:spPr>
          <a:xfrm>
            <a:off x="5524560" y="44211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×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×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4" name="同侧圆角矩形 15"/>
          <p:cNvGrpSpPr/>
          <p:nvPr/>
        </p:nvGrpSpPr>
        <p:grpSpPr>
          <a:xfrm>
            <a:off x="438120" y="1090440"/>
            <a:ext cx="2006640" cy="519120"/>
            <a:chOff x="438120" y="1090440"/>
            <a:chExt cx="2006640" cy="519120"/>
          </a:xfrm>
        </p:grpSpPr>
        <p:pic>
          <p:nvPicPr>
            <p:cNvPr id="395" name="同侧圆角矩形 15" descr=""/>
            <p:cNvPicPr/>
            <p:nvPr/>
          </p:nvPicPr>
          <p:blipFill>
            <a:blip r:embed="rId4"/>
            <a:stretch/>
          </p:blipFill>
          <p:spPr>
            <a:xfrm>
              <a:off x="438120" y="1090440"/>
              <a:ext cx="200664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466560" y="1116000"/>
              <a:ext cx="19497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情景导入</a:t>
              </a: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7" name="直线连接符 21"/>
          <p:cNvSpPr/>
          <p:nvPr/>
        </p:nvSpPr>
        <p:spPr>
          <a:xfrm flipV="1">
            <a:off x="433440" y="1652400"/>
            <a:ext cx="20700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6" descr=""/>
          <p:cNvPicPr/>
          <p:nvPr/>
        </p:nvPicPr>
        <p:blipFill>
          <a:blip r:embed="rId1"/>
          <a:stretch/>
        </p:blipFill>
        <p:spPr>
          <a:xfrm>
            <a:off x="468360" y="1763640"/>
            <a:ext cx="3960720" cy="20163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"/>
          <p:cNvPicPr/>
          <p:nvPr/>
        </p:nvPicPr>
        <p:blipFill>
          <a:blip r:embed="rId2"/>
          <a:stretch/>
        </p:blipFill>
        <p:spPr>
          <a:xfrm>
            <a:off x="4581360" y="1616040"/>
            <a:ext cx="4067280" cy="21798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"/>
          <p:cNvPicPr/>
          <p:nvPr/>
        </p:nvPicPr>
        <p:blipFill>
          <a:blip r:embed="rId3"/>
          <a:stretch/>
        </p:blipFill>
        <p:spPr>
          <a:xfrm>
            <a:off x="3373560" y="3024360"/>
            <a:ext cx="1296720" cy="49356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9"/>
          <p:cNvSpPr/>
          <p:nvPr/>
        </p:nvSpPr>
        <p:spPr>
          <a:xfrm>
            <a:off x="900000" y="4865760"/>
            <a:ext cx="736452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等式的两边同时除以同一个数（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除外），等式不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2" name="同侧圆角矩形 9"/>
          <p:cNvGrpSpPr/>
          <p:nvPr/>
        </p:nvGrpSpPr>
        <p:grpSpPr>
          <a:xfrm>
            <a:off x="469800" y="1090440"/>
            <a:ext cx="1998720" cy="519120"/>
            <a:chOff x="469800" y="1090440"/>
            <a:chExt cx="1998720" cy="519120"/>
          </a:xfrm>
        </p:grpSpPr>
        <p:pic>
          <p:nvPicPr>
            <p:cNvPr id="403" name="同侧圆角矩形 9" descr=""/>
            <p:cNvPicPr/>
            <p:nvPr/>
          </p:nvPicPr>
          <p:blipFill>
            <a:blip r:embed="rId4"/>
            <a:stretch/>
          </p:blipFill>
          <p:spPr>
            <a:xfrm>
              <a:off x="469800" y="1090440"/>
              <a:ext cx="19987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493560" y="1116000"/>
              <a:ext cx="19497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5" name="直线连接符 21"/>
          <p:cNvSpPr/>
          <p:nvPr/>
        </p:nvSpPr>
        <p:spPr>
          <a:xfrm flipV="1">
            <a:off x="468360" y="161604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14"/>
          <p:cNvSpPr/>
          <p:nvPr/>
        </p:nvSpPr>
        <p:spPr>
          <a:xfrm>
            <a:off x="5335560" y="3932280"/>
            <a:ext cx="255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a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Box 14"/>
          <p:cNvSpPr/>
          <p:nvPr/>
        </p:nvSpPr>
        <p:spPr>
          <a:xfrm>
            <a:off x="1747800" y="3932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701640" y="1916280"/>
            <a:ext cx="7715160" cy="19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等式的性质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i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等式两边同时加上</a:t>
            </a:r>
            <a:r>
              <a:rPr b="1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或减去</a:t>
            </a:r>
            <a:r>
              <a:rPr b="1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同一个数</a:t>
            </a:r>
            <a:r>
              <a:rPr b="1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等式仍然成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等式的性质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   </a:t>
            </a:r>
            <a:r>
              <a:rPr b="1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等式两边同时乘同一个数</a:t>
            </a:r>
            <a:r>
              <a:rPr b="1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或除以同一个不为</a:t>
            </a:r>
            <a:r>
              <a:rPr b="1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0</a:t>
            </a:r>
            <a:r>
              <a:rPr b="1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的数</a:t>
            </a:r>
            <a:r>
              <a:rPr b="1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),</a:t>
            </a:r>
            <a:r>
              <a:rPr b="1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等式仍然成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9" name="同侧圆角矩形 5"/>
          <p:cNvGrpSpPr/>
          <p:nvPr/>
        </p:nvGrpSpPr>
        <p:grpSpPr>
          <a:xfrm>
            <a:off x="469800" y="1090440"/>
            <a:ext cx="1998720" cy="519120"/>
            <a:chOff x="469800" y="1090440"/>
            <a:chExt cx="1998720" cy="519120"/>
          </a:xfrm>
        </p:grpSpPr>
        <p:pic>
          <p:nvPicPr>
            <p:cNvPr id="410" name="同侧圆角矩形 5" descr=""/>
            <p:cNvPicPr/>
            <p:nvPr/>
          </p:nvPicPr>
          <p:blipFill>
            <a:blip r:embed="rId1"/>
            <a:stretch/>
          </p:blipFill>
          <p:spPr>
            <a:xfrm>
              <a:off x="469800" y="1090440"/>
              <a:ext cx="19987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493560" y="1117440"/>
              <a:ext cx="19497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2" name="直线连接符 21"/>
          <p:cNvSpPr/>
          <p:nvPr/>
        </p:nvSpPr>
        <p:spPr>
          <a:xfrm flipV="1">
            <a:off x="468360" y="177300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414" name="同侧圆角矩形 15"/>
          <p:cNvGrpSpPr/>
          <p:nvPr/>
        </p:nvGrpSpPr>
        <p:grpSpPr>
          <a:xfrm>
            <a:off x="469800" y="1219320"/>
            <a:ext cx="1998720" cy="517320"/>
            <a:chOff x="469800" y="1219320"/>
            <a:chExt cx="1998720" cy="517320"/>
          </a:xfrm>
        </p:grpSpPr>
        <p:pic>
          <p:nvPicPr>
            <p:cNvPr id="415" name="同侧圆角矩形 15" descr=""/>
            <p:cNvPicPr/>
            <p:nvPr/>
          </p:nvPicPr>
          <p:blipFill>
            <a:blip r:embed="rId2"/>
            <a:stretch/>
          </p:blipFill>
          <p:spPr>
            <a:xfrm>
              <a:off x="469800" y="1219320"/>
              <a:ext cx="199872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493560" y="1246320"/>
              <a:ext cx="19497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7" name="直线连接符 21"/>
          <p:cNvSpPr/>
          <p:nvPr/>
        </p:nvSpPr>
        <p:spPr>
          <a:xfrm flipV="1">
            <a:off x="468360" y="177156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1444680" y="2332080"/>
            <a:ext cx="17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420" name="矩形 1"/>
          <p:cNvSpPr/>
          <p:nvPr/>
        </p:nvSpPr>
        <p:spPr>
          <a:xfrm>
            <a:off x="2048760" y="3357720"/>
            <a:ext cx="529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若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+6=8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则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4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（     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grpSp>
        <p:nvGrpSpPr>
          <p:cNvPr id="422" name="同侧圆角矩形 1"/>
          <p:cNvGrpSpPr/>
          <p:nvPr/>
        </p:nvGrpSpPr>
        <p:grpSpPr>
          <a:xfrm>
            <a:off x="469800" y="1182600"/>
            <a:ext cx="1998720" cy="512640"/>
            <a:chOff x="469800" y="1182600"/>
            <a:chExt cx="1998720" cy="512640"/>
          </a:xfrm>
        </p:grpSpPr>
        <p:pic>
          <p:nvPicPr>
            <p:cNvPr id="423" name="同侧圆角矩形 1" descr=""/>
            <p:cNvPicPr/>
            <p:nvPr/>
          </p:nvPicPr>
          <p:blipFill>
            <a:blip r:embed="rId2"/>
            <a:stretch/>
          </p:blipFill>
          <p:spPr>
            <a:xfrm>
              <a:off x="469800" y="1182600"/>
              <a:ext cx="1998720" cy="5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493560" y="1206000"/>
              <a:ext cx="194976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5" name="直线连接符 21"/>
          <p:cNvSpPr/>
          <p:nvPr/>
        </p:nvSpPr>
        <p:spPr>
          <a:xfrm flipV="1">
            <a:off x="525600" y="1746000"/>
            <a:ext cx="207144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27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429" name="TextBox 21"/>
          <p:cNvSpPr/>
          <p:nvPr/>
        </p:nvSpPr>
        <p:spPr>
          <a:xfrm>
            <a:off x="1116000" y="2649600"/>
            <a:ext cx="6985080" cy="1068840"/>
          </a:xfrm>
          <a:prstGeom prst="rect">
            <a:avLst/>
          </a:prstGeom>
          <a:solidFill>
            <a:srgbClr val="e48312">
              <a:alpha val="30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依据等式的性质“等式的两边同时加上或减去同一个数，等式仍然成立。”等式的两边同时减去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即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6-6=8-6=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则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陈 赫</cp:lastModifiedBy>
  <dcterms:modified xsi:type="dcterms:W3CDTF">2018-11-18T03:04:01Z</dcterms:modified>
  <cp:revision>3</cp:revision>
  <dc:subject/>
  <dc:title>PowerPoint 演示文稿</dc:title>
</cp:coreProperties>
</file>