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543-01B6-4FDD-82C8-42044835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7FB-95AA-4615-84E4-FD14985B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865-B8D0-4D38-824C-6756AFAC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33D-7000-4EE3-A053-A8CC6E06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C075-E775-4066-B1F4-4353613B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6A38-458B-48F5-A5F5-D161AF3A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23C6-26E8-410A-9783-E94CB50B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0C05-7A8F-4176-A13E-132FA7DA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436E-926F-4838-A8C3-DCD8D713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3B93-278F-4D63-BB07-AEC602AF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B3DC-85C2-4EDF-835B-3A6B404F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3FE-310E-40EB-B57D-E8B1E917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91C2-F402-44DC-A7FC-E11E3AE5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5CD7-4F13-4F3A-833D-26FEF5C7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A349-A559-44F8-A3F0-7629126E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14EC-DF0F-489D-B095-2E9880E0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EA7A-AE25-46BF-B42B-EA5E84F5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0B02-E119-47D7-998A-662EAACE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DD98-1AE4-48C6-99FE-F3A90B9F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DC34-C531-4FED-8F15-79853A5E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C43A-BBD2-4C7A-9649-0BE2E50E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D56D-0E50-4BCF-B69D-1F07FD81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5A2-088F-441E-9238-082BEF40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0912-A686-4E98-BAAE-287184C5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021D-4B49-463D-B7BB-3599D22C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744A-2662-44B9-B809-23C43E49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D551-55DD-43D7-ACCC-B5ED32B0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3046-D4A0-4B7C-8418-092F8319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57506-153E-4DAE-8E57-5B3AFF1F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9BF7-C0E4-43CF-A372-15398C32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B4E31-035A-4583-BE1C-77CEC36D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CC20-C7A5-48F7-888A-3B32A5A9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B8B2-8EF1-4C00-9C96-4305B59F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0B0-445E-47AF-9003-DBFF2CFE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C29BE-7F5F-4783-9067-62FDE773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F209C-3DE7-4A67-B748-2B22AA4D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20931-9E5E-48B4-835E-5AC4149E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F1DD-1926-4D93-BE26-FE2BDBDF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3D3B-54BB-4005-83AD-55106911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56344-4373-4E04-901D-4573673A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00594-77C3-4BEE-B690-9B189374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A432-979A-4C66-ABC4-3881971E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12CE-7CB3-4A69-8CC4-24487A52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DD68A-930C-4C2F-AECB-8EB288F5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25B-BC2A-4AA6-9E36-85978D95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C531-CFD6-4FF0-B522-899D8CBD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1A881-A363-499E-AA20-9603980F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97CF-BE00-4291-8D44-E50E11E1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37C7C-93D9-41E0-990E-1C98169B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E7225-2418-4550-8C18-AA6F270D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B11FB-972D-4EB4-9D02-7C23C682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1D627-D0D1-456C-8A75-E6CC26BA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6DF32-3915-4BFB-8903-1FFF4331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2F11F-DC0F-433F-8ABE-17BD0413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C9F62-28A9-408B-B772-BF65F01E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313-53E9-4271-AAD4-4988DCEC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3A517-9E75-4E66-A047-FFD67F5B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4400A-63ED-4D4E-BB93-E34549CB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17328-B1B1-4F6E-9FC8-B0B1F65E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9677B-40A5-41A5-85DB-7D0B547F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F3896-1B58-4E05-B5CE-99B42077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6833D-338A-4FA8-B7B1-8B962868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3561E-6910-4CDC-A7AA-B4027EA9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6BA60-6BEE-45DD-A687-B4827654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10FCC-24BE-49C4-9C67-FE95E55B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C067E-2208-4506-90F9-897C4C36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2A1-4928-4F38-87AD-F858BCF1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CB3CB-FDF8-433C-940F-2726D8E3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E5CE8-8457-4BA5-920B-BF7D3BBC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7BA08-64D8-4F7C-87B0-E5270388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EF582-7FB3-4E21-B118-F4F4F786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E1962-8958-4668-954B-A72F4164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8AB84-3439-472D-88F3-CB406DF6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6CA64-DF0E-48CD-AD38-0AD98FB1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40B13-FCE1-4D64-978A-8707C024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3505A-C47E-4B33-97FF-370E6482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276FC-A5D5-45E5-AA36-DFB41E84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FE4-7152-4A81-8438-F62BF87E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493C6-B54C-4444-971E-B81BA568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04463-1055-4B25-BF5E-083F2FB8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2C9EF-2780-4967-8E7A-52373B90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C936A-FD24-4E57-98EB-86A28B87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973E3-7042-4B60-AFA6-60237790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B95-0AA9-4EB3-B482-8B6C4DA6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5B56D-BD42-4BB7-A38F-6BBC52FE414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4A503-6820-4C8F-B4F4-E413A003923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C9A0C-418B-4032-B121-FCAE829489B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0DC86-DF44-46B8-A96A-D2E9281F8E3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F60FE-1E56-40A7-AB39-0BA47FA30ADF}" type="slidenum">
              <a:rPr b="0" lang="en-US" sz="1000" spc="-1" strike="noStrike">
                <a:solidFill>
                  <a:srgbClr val="637052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7569B-49A2-42BF-9CB0-77FEE06D533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B2347-5606-4E37-8F77-51730ECD071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 rot="480000">
            <a:off x="2478960" y="639000"/>
            <a:ext cx="670212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  <a:ea typeface="宋体"/>
              </a:rPr>
              <a:t>请拿出你的导学案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  <a:ea typeface="宋体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  <a:ea typeface="宋体"/>
              </a:rPr>
              <a:t>课本，黑笔，红笔，还有你的激情、动力和目标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宋体"/>
              </a:rPr>
              <a:t>你是最优秀的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宋体"/>
              </a:rPr>
              <a:t>你一定能做的更好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66760" y="838080"/>
            <a:ext cx="205740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Times New Roman"/>
                <a:ea typeface="宋体"/>
              </a:rPr>
              <a:t>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Times New Roman"/>
                <a:ea typeface="宋体"/>
              </a:rPr>
              <a:t>馨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Times New Roman"/>
                <a:ea typeface="宋体"/>
              </a:rPr>
              <a:t>提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Times New Roman"/>
                <a:ea typeface="宋体"/>
              </a:rPr>
              <a:t>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bri Light"/>
                <a:ea typeface="宋体"/>
              </a:rPr>
              <a:t>教学反思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“</a:t>
            </a:r>
            <a:r>
              <a:rPr b="0" lang="zh-CN" sz="2800" spc="-1" strike="noStrike">
                <a:solidFill>
                  <a:srgbClr val="404040"/>
                </a:solidFill>
                <a:latin typeface="Calibri"/>
                <a:ea typeface="宋体"/>
              </a:rPr>
              <a:t>多几分之几”或“少几分之几”的问题，理解难度加大，虽然学生通过自学完成了预习案，模仿例题中的两种方法公式能列出算式，但是每一步所涉及到的关系表示的意思却一概不知。批改过程中我发现了这个问题，所以我把这张导学案分为两个课时学习。第一课时“多几分之几”的问题我抛出疑惑：如何画线段图？根据线段图列出的每一步算式表示什么？小组讨论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5</a:t>
            </a:r>
            <a:r>
              <a:rPr b="0" lang="zh-CN" sz="2800" spc="-1" strike="noStrike">
                <a:solidFill>
                  <a:srgbClr val="404040"/>
                </a:solidFill>
                <a:latin typeface="Calibri"/>
                <a:ea typeface="宋体"/>
              </a:rPr>
              <a:t>分钟，鼓励代表上台讲解，期间我提醒了画图的注意事项，重点补充了第一种方法是先计算出多出的具体数量（较好理解），第二种方法是先求出一个量是另一个量的几分之几，是学生很难完整表述的知识；接着让学生讲解对应的“少几分之几”的习题，明确先解决什么，再解决什么的思路，描述每个列式背后的数量关系，为后续学习打好基础，可是对后进生来说不易接受，对他们的最低要求是能根据公式列出算式来解决问题，慢慢理解题意。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3570840" y="218772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求比一个数多（或少）几分之几的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是多少的问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1626480" y="549360"/>
            <a:ext cx="328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预习反馈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已知单位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用乘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388880" y="2362320"/>
            <a:ext cx="60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单位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1”+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（单位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1”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分率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具体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404720" y="3625920"/>
            <a:ext cx="50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单位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1”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1+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分率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具体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-3711600" y="-793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8209800" y="10468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12610800" y="10468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8315280" y="12418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8835840" y="12418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、理解小数乘以整数的计算方法及算理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-3711600" y="-793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8315280" y="1435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8835840" y="1428660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、确定小数乘以整数的积的小数点位置的方法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0" y="457200"/>
            <a:ext cx="9144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学习目标： 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分钟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掌握解答稍复杂的求比一个数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或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几分之几的数是多少的应用题的思路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进一步提高画线段图解决问题的能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（重点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根据“多几分之几”或“少几分之几”找出所求量的对应分率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 （难点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0" y="0"/>
            <a:ext cx="9144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合作探究一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用综合法解决稍复杂的分数问题：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台笔记本电脑原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元，先降价   ，再涨价     ，现价是多少元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先求降价后是多少元，把（        ）看作单位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数量关系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再求现价是多少元，把（          ）看作单位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数量关系是  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3"/>
              <p:cNvSpPr txBox="1"/>
              <p:nvPr/>
            </p:nvSpPr>
            <p:spPr>
              <a:xfrm>
                <a:off x="7315200" y="685800"/>
                <a:ext cx="72864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4"/>
              <p:cNvSpPr txBox="1"/>
              <p:nvPr/>
            </p:nvSpPr>
            <p:spPr>
              <a:xfrm>
                <a:off x="1066680" y="1752480"/>
                <a:ext cx="611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0" y="0"/>
            <a:ext cx="91440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针对性练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某空调原来每台售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7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元，现在每台售价比原来降低了         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应该把（                    ）看作单位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700×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表示（                                 ）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表示（                            ）；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表示（                         ）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5"/>
              <p:cNvSpPr txBox="1"/>
              <p:nvPr/>
            </p:nvSpPr>
            <p:spPr>
              <a:xfrm>
                <a:off x="4191120" y="762120"/>
                <a:ext cx="406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6"/>
              <p:cNvSpPr txBox="1"/>
              <p:nvPr/>
            </p:nvSpPr>
            <p:spPr>
              <a:xfrm>
                <a:off x="1676520" y="2209680"/>
                <a:ext cx="323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7"/>
              <p:cNvSpPr txBox="1"/>
              <p:nvPr/>
            </p:nvSpPr>
            <p:spPr>
              <a:xfrm>
                <a:off x="533520" y="2971800"/>
                <a:ext cx="1353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0" y="4208400"/>
                <a:ext cx="25081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00</m:t>
                    </m:r>
                    <m:r>
                      <m:t xml:space="preserve">×</m:t>
                    </m:r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6629400" y="304920"/>
                <a:ext cx="49212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6"/>
              <p:cNvSpPr txBox="1"/>
              <p:nvPr/>
            </p:nvSpPr>
            <p:spPr>
              <a:xfrm>
                <a:off x="3581280" y="1447920"/>
                <a:ext cx="4716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914400" y="1905120"/>
                <a:ext cx="152388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1252440" y="3352680"/>
                <a:ext cx="25225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8"/>
          <p:cNvSpPr/>
          <p:nvPr/>
        </p:nvSpPr>
        <p:spPr>
          <a:xfrm>
            <a:off x="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69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根据算式补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修一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4k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公路，第一周修了   ，第二周比第一周多修了        ，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0" y="23925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      ，问题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                 ，问题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914400" y="175248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今天你有哪些收获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还有什么疑惑呢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250080" y="565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1994760" y="762120"/>
            <a:ext cx="474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当堂检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分钟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4043880" y="20574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认真完成检测纸上的习题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05:44:52Z</dcterms:created>
  <dc:creator/>
  <dc:description/>
  <dc:language>en-US</dc:language>
  <cp:lastModifiedBy>陈 赫</cp:lastModifiedBy>
  <dcterms:modified xsi:type="dcterms:W3CDTF">2018-11-22T08:15:00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