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11.png" ContentType="image/png"/>
  <Override PartName="/ppt/media/camera.wav" ContentType="audio/x-wav"/>
  <Override PartName="/ppt/media/image38.png" ContentType="image/png"/>
  <Override PartName="/ppt/media/image8.png" ContentType="image/png"/>
  <Override PartName="/ppt/media/TYPE.WAV" ContentType="audio/x-wav"/>
  <Override PartName="/ppt/media/image2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3.png" ContentType="image/png"/>
  <Override PartName="/ppt/media/image16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C6F4-4878-4573-AF40-DD40792649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D62A-CF58-474D-9C13-CB89D29872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B7A-A553-4AAE-8887-EFB3EA88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095-EDEA-468A-BA7D-3F3AA4AC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2DD-FD56-4392-AA29-AC959CCA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9BF-4FD6-46F7-8A40-9EF4F883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9431-17FD-4375-9E4F-B698D2CE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0A1-2DC3-4A9D-8E43-F7654D3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C1A0-1DFB-42D6-9B89-CEC58796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C58-CC6F-44F5-82A6-F0C0EF0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2E4B-CE45-45A9-8BFD-8D0FD3D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ABC-5438-4531-AF3F-5979865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69E3-ED81-4A24-A7B4-DEA7406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896-2110-4C17-8563-B9B80BC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BCB6-7D75-45A2-A74F-904B8EA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926-2A43-460A-888C-5550C4F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102E-03C1-4976-A0FB-87B263E0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BA07-B75D-49FB-9DA7-0618E69D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56CA-98BC-486F-9DAD-F5B25F6F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5E5F-0E25-494C-95FA-3CBA2EC5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51DC-08A4-49DE-9E02-35D126C1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908B-415C-4CAE-B247-708710FE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CB33-B4F7-4B4F-A985-78CAC29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FEE3-AD3C-4AF9-B277-7761A09D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431-36CE-4389-A7EB-158AB9E2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7ACF-862B-4DFF-888C-F07A815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2E1D-D350-4D17-AC46-0F17040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D811-8A8C-4EEF-89A5-0ADB955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58DE-2570-417D-B56F-A0F63B3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DF96-59B7-488B-8B6E-A781DCE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67A6-76DC-4FF0-940A-E739E4FF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E829-F656-4882-8CEB-7C874E62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34EE-14EA-4876-85EF-5CB27A76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610E-9A3E-4E8A-94D8-F858BDC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7778-1F26-46D5-A26B-A12BDCB3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E74-E86A-4A26-A3A3-18E477DD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FF838-B85A-4A18-8A4D-0838AAF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1B5A-CA43-4EC5-9E5D-673E9378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8C9D-2BC7-43FE-BA8B-42CA4BA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612D-E245-4699-9F29-A8E617B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C705-EF39-4A7F-BC64-5AC660B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6E6E-3463-45D1-9AC7-0EDA84E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454B-813E-4191-A97B-69FE3434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9C16-EF82-4E29-A868-C18C5AA3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0C11-850F-470D-8C2F-FEBB06A6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982A-64AE-4865-B152-D46F1840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853-B29E-4FA3-A873-60C74A18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924C-4D8D-422B-A88D-0AF3FCE6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82FD-6233-4AB5-8737-C7C2706E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9796-B7E3-4AA0-92B9-DAA19826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C37F-D578-47BD-8FA6-B271A5DF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C76A-42C0-47BE-8644-91371FBA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CE6F-2D77-4D63-8837-0DEEB63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1548-74E3-4D85-86B0-9F3C0A82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B0D1D-53A4-46F0-AEE9-ED018CA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FC79-C471-468A-AEF6-26562CCD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64D6-B941-42C9-87AF-9A8666CB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9D1-5050-4930-9BCA-1B52748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5E20-F500-4358-85FB-45334DDE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F3CF-A820-4126-A21D-F2B3F8B2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94DDB-B8F9-4412-B306-7169BCB4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940B1-E278-4AC6-A988-CCC1E9C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6F13-0792-4A92-9A05-35E2EA2F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1ED7-0EAE-43C8-9F96-2F99100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D1D2-60F4-4DF0-B050-209F2025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7FEA-6AD6-4CCA-B766-B0775B8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2EC0-FB2B-4B26-9887-87EE2ECA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9105-3937-4CDB-AADB-8367DF9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390-055A-4118-B91A-54C850C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8717-8529-44F7-AC88-EE8A6A6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0AD70-49FB-43C3-AA1E-994D6398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3392-C254-4B59-9F5E-DFE4D5EF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71D5-882E-4925-A120-13460A7C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857A5-7F32-4D90-BEE2-AA0343C5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C644-3541-42F5-9DFE-AF99E64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6D539-E9FB-40A4-A59E-FCC56E01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ED14-C9FB-4CDF-92A6-54C7471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BBD7-D66D-4416-80FB-42BBD169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4DCE-559F-4D61-B2ED-9F703C6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BB8-07A8-47EB-A2E7-02B8A8C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B3DF-1069-4D32-867B-61E4CF0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C20C0-060A-4857-B341-780E159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22EA-D488-4C6D-BE45-1FDE446E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50B8-4D2B-4AA7-9AB2-BACC6CF4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64D9-82A7-4EFE-A648-4A339F6C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C7B3-FD9E-494E-8FA5-604AF82D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9CDA5-1E6A-4A96-B319-BFABA90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2DA88-9F7F-4377-8D14-12DBABED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52B1B-A781-40D4-9CFC-0DDAE295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D0656-7204-44D2-BC6B-290418B4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C71-34E0-46F8-BEF4-7B3ACE1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B2414-47EC-49FA-B118-5C332DC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4D4BE-C488-439F-96C3-945466B2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D9D0-9351-49F6-8FEB-8FBC2A3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5955F-D04B-48EE-A18D-FE8C82D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200AE-583A-4233-BE3A-833AFD2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85286-BF32-4C0A-987C-333304F6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E69AB-BA7B-41B6-A41E-4065F728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BA0-B2A1-48C9-87C8-1E16A12588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2394-F9BF-4ED0-A228-CF56455B144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0EBC-7A69-48C1-B47F-C61AD32DA8C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BF06-6F8E-4B86-92E9-197714C3316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E4A1-1A02-470D-B590-CF8DBE5605D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E24-1679-4BAE-9F15-ADD9E7E39F94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6C8-4A60-46F4-B288-F6A7AD38BE1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BEE-8D5A-4646-AEF3-638A9368B66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3348000" y="3484440"/>
            <a:ext cx="5040360" cy="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3348000" y="263196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1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圆 的 认 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Line 2"/>
          <p:cNvSpPr/>
          <p:nvPr/>
        </p:nvSpPr>
        <p:spPr>
          <a:xfrm>
            <a:off x="2401920" y="2921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3"/>
          <p:cNvSpPr/>
          <p:nvPr/>
        </p:nvSpPr>
        <p:spPr>
          <a:xfrm>
            <a:off x="2401920" y="1015920"/>
            <a:ext cx="3809880" cy="3810240"/>
          </a:xfrm>
          <a:prstGeom prst="ellipse">
            <a:avLst/>
          </a:prstGeom>
          <a:solidFill>
            <a:srgbClr val="ffff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4307040" y="29210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697200" y="2616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4307040" y="2921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4310280" y="2932920"/>
            <a:ext cx="1593360" cy="10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2401920" y="2921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9"/>
          <p:cNvSpPr/>
          <p:nvPr/>
        </p:nvSpPr>
        <p:spPr>
          <a:xfrm flipH="1">
            <a:off x="4307040" y="101592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10"/>
          <p:cNvSpPr/>
          <p:nvPr/>
        </p:nvSpPr>
        <p:spPr>
          <a:xfrm>
            <a:off x="2579040" y="2038320"/>
            <a:ext cx="1703160" cy="8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4307040" y="292104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12"/>
          <p:cNvSpPr/>
          <p:nvPr/>
        </p:nvSpPr>
        <p:spPr>
          <a:xfrm flipV="1">
            <a:off x="4305960" y="1333080"/>
            <a:ext cx="1070640" cy="157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408120" y="295380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14"/>
          <p:cNvSpPr/>
          <p:nvPr/>
        </p:nvSpPr>
        <p:spPr>
          <a:xfrm flipV="1">
            <a:off x="4307040" y="292104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Line 15"/>
          <p:cNvSpPr/>
          <p:nvPr/>
        </p:nvSpPr>
        <p:spPr>
          <a:xfrm flipV="1">
            <a:off x="4330080" y="2484000"/>
            <a:ext cx="1858680" cy="41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Line 16"/>
          <p:cNvSpPr/>
          <p:nvPr/>
        </p:nvSpPr>
        <p:spPr>
          <a:xfrm flipV="1">
            <a:off x="4339080" y="2023200"/>
            <a:ext cx="1688400" cy="88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324320" y="1519200"/>
            <a:ext cx="1338480" cy="135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18"/>
          <p:cNvSpPr/>
          <p:nvPr/>
        </p:nvSpPr>
        <p:spPr>
          <a:xfrm>
            <a:off x="4307040" y="2921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19"/>
          <p:cNvSpPr/>
          <p:nvPr/>
        </p:nvSpPr>
        <p:spPr>
          <a:xfrm flipV="1">
            <a:off x="4305960" y="1333080"/>
            <a:ext cx="1070640" cy="1575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20"/>
          <p:cNvSpPr/>
          <p:nvPr/>
        </p:nvSpPr>
        <p:spPr>
          <a:xfrm flipV="1">
            <a:off x="4292280" y="1147680"/>
            <a:ext cx="640440" cy="17942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Line 21"/>
          <p:cNvSpPr/>
          <p:nvPr/>
        </p:nvSpPr>
        <p:spPr>
          <a:xfrm flipH="1">
            <a:off x="4307040" y="101592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22"/>
          <p:cNvSpPr/>
          <p:nvPr/>
        </p:nvSpPr>
        <p:spPr>
          <a:xfrm flipV="1">
            <a:off x="4305960" y="1333080"/>
            <a:ext cx="1070640" cy="157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3621240" y="1168560"/>
            <a:ext cx="6858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24"/>
          <p:cNvSpPr/>
          <p:nvPr/>
        </p:nvSpPr>
        <p:spPr>
          <a:xfrm>
            <a:off x="2935440" y="1549440"/>
            <a:ext cx="137160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25"/>
          <p:cNvSpPr/>
          <p:nvPr/>
        </p:nvSpPr>
        <p:spPr>
          <a:xfrm>
            <a:off x="2579040" y="2038320"/>
            <a:ext cx="1703160" cy="8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Line 26"/>
          <p:cNvSpPr/>
          <p:nvPr/>
        </p:nvSpPr>
        <p:spPr>
          <a:xfrm flipH="1">
            <a:off x="4307040" y="101592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7"/>
          <p:cNvSpPr/>
          <p:nvPr/>
        </p:nvSpPr>
        <p:spPr>
          <a:xfrm>
            <a:off x="2478240" y="246384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2579040" y="2038320"/>
            <a:ext cx="1703160" cy="8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29"/>
          <p:cNvSpPr/>
          <p:nvPr/>
        </p:nvSpPr>
        <p:spPr>
          <a:xfrm>
            <a:off x="2401920" y="292104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30"/>
          <p:cNvSpPr/>
          <p:nvPr/>
        </p:nvSpPr>
        <p:spPr>
          <a:xfrm flipV="1">
            <a:off x="2554200" y="2920680"/>
            <a:ext cx="17528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31"/>
          <p:cNvSpPr/>
          <p:nvPr/>
        </p:nvSpPr>
        <p:spPr>
          <a:xfrm flipV="1">
            <a:off x="2859120" y="2921040"/>
            <a:ext cx="1447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32"/>
          <p:cNvSpPr/>
          <p:nvPr/>
        </p:nvSpPr>
        <p:spPr>
          <a:xfrm flipH="1">
            <a:off x="3408120" y="2953800"/>
            <a:ext cx="884880" cy="168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33"/>
          <p:cNvSpPr/>
          <p:nvPr/>
        </p:nvSpPr>
        <p:spPr>
          <a:xfrm flipH="1">
            <a:off x="3408120" y="295380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34"/>
          <p:cNvSpPr/>
          <p:nvPr/>
        </p:nvSpPr>
        <p:spPr>
          <a:xfrm flipV="1">
            <a:off x="3849840" y="2921040"/>
            <a:ext cx="4572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35"/>
          <p:cNvSpPr/>
          <p:nvPr/>
        </p:nvSpPr>
        <p:spPr>
          <a:xfrm flipV="1">
            <a:off x="4307040" y="292104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36"/>
          <p:cNvSpPr/>
          <p:nvPr/>
        </p:nvSpPr>
        <p:spPr>
          <a:xfrm flipV="1">
            <a:off x="4307040" y="292104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37"/>
          <p:cNvSpPr/>
          <p:nvPr/>
        </p:nvSpPr>
        <p:spPr>
          <a:xfrm>
            <a:off x="4307040" y="2921040"/>
            <a:ext cx="6094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38"/>
          <p:cNvSpPr/>
          <p:nvPr/>
        </p:nvSpPr>
        <p:spPr>
          <a:xfrm>
            <a:off x="4307040" y="292104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4310280" y="2932920"/>
            <a:ext cx="1593360" cy="10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40"/>
          <p:cNvSpPr/>
          <p:nvPr/>
        </p:nvSpPr>
        <p:spPr>
          <a:xfrm>
            <a:off x="4310280" y="2932920"/>
            <a:ext cx="1593360" cy="10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1"/>
          <p:cNvSpPr/>
          <p:nvPr/>
        </p:nvSpPr>
        <p:spPr>
          <a:xfrm>
            <a:off x="1136520" y="50133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个圆里，有（ 　 ）条半径，它们的长度（ 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42"/>
          <p:cNvSpPr/>
          <p:nvPr/>
        </p:nvSpPr>
        <p:spPr>
          <a:xfrm>
            <a:off x="4330800" y="501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无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43"/>
          <p:cNvSpPr/>
          <p:nvPr/>
        </p:nvSpPr>
        <p:spPr>
          <a:xfrm>
            <a:off x="2154240" y="550872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都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同侧圆角矩形 43"/>
          <p:cNvGrpSpPr/>
          <p:nvPr/>
        </p:nvGrpSpPr>
        <p:grpSpPr>
          <a:xfrm>
            <a:off x="1822320" y="401760"/>
            <a:ext cx="2006640" cy="518760"/>
            <a:chOff x="1822320" y="401760"/>
            <a:chExt cx="2006640" cy="518760"/>
          </a:xfrm>
        </p:grpSpPr>
        <p:pic>
          <p:nvPicPr>
            <p:cNvPr id="525" name="同侧圆角矩形 43" descr=""/>
            <p:cNvPicPr/>
            <p:nvPr/>
          </p:nvPicPr>
          <p:blipFill>
            <a:blip r:embed="rId1"/>
            <a:stretch/>
          </p:blipFill>
          <p:spPr>
            <a:xfrm>
              <a:off x="1822320" y="401760"/>
              <a:ext cx="20066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851120" y="4298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7" name="直线连接符 21"/>
          <p:cNvSpPr/>
          <p:nvPr/>
        </p:nvSpPr>
        <p:spPr>
          <a:xfrm flipV="1">
            <a:off x="1824120" y="1015560"/>
            <a:ext cx="20700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2"/>
          <p:cNvSpPr/>
          <p:nvPr/>
        </p:nvSpPr>
        <p:spPr>
          <a:xfrm>
            <a:off x="2701800" y="1015920"/>
            <a:ext cx="3810240" cy="3810240"/>
          </a:xfrm>
          <a:prstGeom prst="ellipse">
            <a:avLst/>
          </a:prstGeom>
          <a:solidFill>
            <a:srgbClr val="ffff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4606920" y="2921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9974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5"/>
          <p:cNvSpPr/>
          <p:nvPr/>
        </p:nvSpPr>
        <p:spPr>
          <a:xfrm>
            <a:off x="2701800" y="292104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Line 6"/>
          <p:cNvSpPr/>
          <p:nvPr/>
        </p:nvSpPr>
        <p:spPr>
          <a:xfrm>
            <a:off x="4606920" y="101592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3159000" y="1701720"/>
            <a:ext cx="28958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8"/>
          <p:cNvSpPr/>
          <p:nvPr/>
        </p:nvSpPr>
        <p:spPr>
          <a:xfrm flipV="1">
            <a:off x="3159000" y="1625400"/>
            <a:ext cx="289584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9"/>
          <p:cNvSpPr/>
          <p:nvPr/>
        </p:nvSpPr>
        <p:spPr>
          <a:xfrm>
            <a:off x="3387600" y="147312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10"/>
          <p:cNvSpPr/>
          <p:nvPr/>
        </p:nvSpPr>
        <p:spPr>
          <a:xfrm>
            <a:off x="3540240" y="132084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3844800" y="116856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4226040" y="101592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13"/>
          <p:cNvSpPr/>
          <p:nvPr/>
        </p:nvSpPr>
        <p:spPr>
          <a:xfrm>
            <a:off x="2701800" y="2921040"/>
            <a:ext cx="3810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14"/>
          <p:cNvSpPr/>
          <p:nvPr/>
        </p:nvSpPr>
        <p:spPr>
          <a:xfrm>
            <a:off x="2737440" y="2555280"/>
            <a:ext cx="3738960" cy="73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15"/>
          <p:cNvSpPr/>
          <p:nvPr/>
        </p:nvSpPr>
        <p:spPr>
          <a:xfrm>
            <a:off x="2858040" y="2166120"/>
            <a:ext cx="349776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Line 16"/>
          <p:cNvSpPr/>
          <p:nvPr/>
        </p:nvSpPr>
        <p:spPr>
          <a:xfrm>
            <a:off x="3138840" y="1707480"/>
            <a:ext cx="2936160" cy="24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17"/>
          <p:cNvSpPr/>
          <p:nvPr/>
        </p:nvSpPr>
        <p:spPr>
          <a:xfrm>
            <a:off x="2701800" y="292104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ine 18"/>
          <p:cNvSpPr/>
          <p:nvPr/>
        </p:nvSpPr>
        <p:spPr>
          <a:xfrm>
            <a:off x="3387600" y="1473120"/>
            <a:ext cx="243864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3540240" y="1320840"/>
            <a:ext cx="213336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3844800" y="1168560"/>
            <a:ext cx="152424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4226040" y="1015920"/>
            <a:ext cx="76176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22"/>
          <p:cNvSpPr/>
          <p:nvPr/>
        </p:nvSpPr>
        <p:spPr>
          <a:xfrm>
            <a:off x="4606920" y="1015920"/>
            <a:ext cx="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23"/>
          <p:cNvSpPr/>
          <p:nvPr/>
        </p:nvSpPr>
        <p:spPr>
          <a:xfrm>
            <a:off x="3138840" y="1707480"/>
            <a:ext cx="2936160" cy="242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24"/>
          <p:cNvSpPr/>
          <p:nvPr/>
        </p:nvSpPr>
        <p:spPr>
          <a:xfrm>
            <a:off x="3387600" y="147312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25"/>
          <p:cNvSpPr/>
          <p:nvPr/>
        </p:nvSpPr>
        <p:spPr>
          <a:xfrm>
            <a:off x="3540240" y="132084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3844800" y="116856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4226040" y="101592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28"/>
          <p:cNvSpPr/>
          <p:nvPr/>
        </p:nvSpPr>
        <p:spPr>
          <a:xfrm>
            <a:off x="4606920" y="101592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Line 29"/>
          <p:cNvSpPr/>
          <p:nvPr/>
        </p:nvSpPr>
        <p:spPr>
          <a:xfrm flipH="1">
            <a:off x="4149720" y="1092240"/>
            <a:ext cx="914400" cy="365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30"/>
          <p:cNvSpPr/>
          <p:nvPr/>
        </p:nvSpPr>
        <p:spPr>
          <a:xfrm flipH="1">
            <a:off x="3605760" y="1294920"/>
            <a:ext cx="2002320" cy="325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31"/>
          <p:cNvSpPr/>
          <p:nvPr/>
        </p:nvSpPr>
        <p:spPr>
          <a:xfrm flipV="1">
            <a:off x="3159000" y="1625400"/>
            <a:ext cx="289584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32"/>
          <p:cNvSpPr/>
          <p:nvPr/>
        </p:nvSpPr>
        <p:spPr>
          <a:xfrm>
            <a:off x="831960" y="5084640"/>
            <a:ext cx="74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个圆里，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直径，它们的长度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33"/>
          <p:cNvSpPr/>
          <p:nvPr/>
        </p:nvSpPr>
        <p:spPr>
          <a:xfrm>
            <a:off x="3857760" y="508464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无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34"/>
          <p:cNvSpPr/>
          <p:nvPr/>
        </p:nvSpPr>
        <p:spPr>
          <a:xfrm>
            <a:off x="905040" y="551664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都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同侧圆角矩形 34"/>
          <p:cNvGrpSpPr/>
          <p:nvPr/>
        </p:nvGrpSpPr>
        <p:grpSpPr>
          <a:xfrm>
            <a:off x="1859040" y="401760"/>
            <a:ext cx="2000160" cy="518760"/>
            <a:chOff x="1859040" y="401760"/>
            <a:chExt cx="2000160" cy="518760"/>
          </a:xfrm>
        </p:grpSpPr>
        <p:pic>
          <p:nvPicPr>
            <p:cNvPr id="562" name="同侧圆角矩形 34" descr=""/>
            <p:cNvPicPr/>
            <p:nvPr/>
          </p:nvPicPr>
          <p:blipFill>
            <a:blip r:embed="rId1"/>
            <a:stretch/>
          </p:blipFill>
          <p:spPr>
            <a:xfrm>
              <a:off x="1859040" y="401760"/>
              <a:ext cx="2000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1882800" y="4298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直线连接符 21"/>
          <p:cNvSpPr/>
          <p:nvPr/>
        </p:nvSpPr>
        <p:spPr>
          <a:xfrm flipV="1">
            <a:off x="1857240" y="109188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Oval 2"/>
          <p:cNvSpPr/>
          <p:nvPr/>
        </p:nvSpPr>
        <p:spPr>
          <a:xfrm>
            <a:off x="1752480" y="1789200"/>
            <a:ext cx="3745080" cy="3809880"/>
          </a:xfrm>
          <a:prstGeom prst="ellipse">
            <a:avLst/>
          </a:prstGeom>
          <a:solidFill>
            <a:srgbClr val="ffff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3592440" y="36939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2982960" y="3389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3592440" y="1789200"/>
            <a:ext cx="0" cy="38098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211560" y="3693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7"/>
          <p:cNvSpPr/>
          <p:nvPr/>
        </p:nvSpPr>
        <p:spPr>
          <a:xfrm flipH="1">
            <a:off x="3591000" y="1789200"/>
            <a:ext cx="1440" cy="19047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3592080" y="3693960"/>
            <a:ext cx="180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3592440" y="239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3592440" y="4684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7052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AutoShape 11"/>
          <p:cNvSpPr/>
          <p:nvPr/>
        </p:nvSpPr>
        <p:spPr>
          <a:xfrm>
            <a:off x="3821040" y="354168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478560" y="2048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012080" y="2581200"/>
            <a:ext cx="228600" cy="533520"/>
          </a:xfrm>
          <a:prstGeom prst="downArrow">
            <a:avLst>
              <a:gd name="adj1" fmla="val 50000"/>
              <a:gd name="adj2" fmla="val 5833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6478560" y="31910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=2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6478560" y="4638600"/>
            <a:ext cx="12952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= </a:t>
            </a:r>
            <a:r>
              <a:rPr b="1" i="1" lang="en-US" sz="44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6979680" y="4754520"/>
            <a:ext cx="505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17"/>
          <p:cNvSpPr/>
          <p:nvPr/>
        </p:nvSpPr>
        <p:spPr>
          <a:xfrm>
            <a:off x="7012080" y="4029120"/>
            <a:ext cx="228600" cy="533520"/>
          </a:xfrm>
          <a:prstGeom prst="downArrow">
            <a:avLst>
              <a:gd name="adj1" fmla="val 50000"/>
              <a:gd name="adj2" fmla="val 5833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1" name="同侧圆角矩形 19"/>
          <p:cNvGrpSpPr/>
          <p:nvPr/>
        </p:nvGrpSpPr>
        <p:grpSpPr>
          <a:xfrm>
            <a:off x="1755720" y="463680"/>
            <a:ext cx="1998720" cy="517320"/>
            <a:chOff x="1755720" y="463680"/>
            <a:chExt cx="1998720" cy="517320"/>
          </a:xfrm>
        </p:grpSpPr>
        <p:pic>
          <p:nvPicPr>
            <p:cNvPr id="582" name="同侧圆角矩形 19" descr=""/>
            <p:cNvPicPr/>
            <p:nvPr/>
          </p:nvPicPr>
          <p:blipFill>
            <a:blip r:embed="rId1"/>
            <a:stretch/>
          </p:blipFill>
          <p:spPr>
            <a:xfrm>
              <a:off x="1755720" y="46368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778040" y="48744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4" name="直线连接符 21"/>
          <p:cNvSpPr/>
          <p:nvPr/>
        </p:nvSpPr>
        <p:spPr>
          <a:xfrm flipV="1">
            <a:off x="1711440" y="1125360"/>
            <a:ext cx="207144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50800" y="5575320"/>
            <a:ext cx="8029800" cy="459720"/>
          </a:xfrm>
          <a:prstGeom prst="rect">
            <a:avLst/>
          </a:prstGeom>
          <a:solidFill>
            <a:srgbClr val="d0ff97"/>
          </a:solidFill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个圆里，直径是半径的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２倍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半径是直径的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椭圆 9"/>
          <p:cNvSpPr/>
          <p:nvPr/>
        </p:nvSpPr>
        <p:spPr>
          <a:xfrm>
            <a:off x="4105440" y="4429080"/>
            <a:ext cx="142560" cy="144360"/>
          </a:xfrm>
          <a:prstGeom prst="ellipse">
            <a:avLst/>
          </a:prstGeom>
          <a:solidFill>
            <a:srgbClr val="9b8357"/>
          </a:solidFill>
          <a:ln w="15840">
            <a:solidFill>
              <a:srgbClr val="715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椭圆 11"/>
          <p:cNvSpPr/>
          <p:nvPr/>
        </p:nvSpPr>
        <p:spPr>
          <a:xfrm rot="5400000">
            <a:off x="2376360" y="2690280"/>
            <a:ext cx="3600720" cy="3600720"/>
          </a:xfrm>
          <a:prstGeom prst="ellipse">
            <a:avLst/>
          </a:prstGeom>
          <a:noFill/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接连接符 13"/>
          <p:cNvSpPr/>
          <p:nvPr/>
        </p:nvSpPr>
        <p:spPr>
          <a:xfrm flipV="1">
            <a:off x="4176720" y="2690280"/>
            <a:ext cx="0" cy="1800360"/>
          </a:xfrm>
          <a:prstGeom prst="line">
            <a:avLst/>
          </a:prstGeom>
          <a:ln w="255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4105440" y="417024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9"/>
          <p:cNvSpPr/>
          <p:nvPr/>
        </p:nvSpPr>
        <p:spPr>
          <a:xfrm>
            <a:off x="4254480" y="2998800"/>
            <a:ext cx="11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oup 19"/>
          <p:cNvGrpSpPr/>
          <p:nvPr/>
        </p:nvGrpSpPr>
        <p:grpSpPr>
          <a:xfrm>
            <a:off x="719280" y="1411200"/>
            <a:ext cx="5546160" cy="1279440"/>
            <a:chOff x="719280" y="1411200"/>
            <a:chExt cx="5546160" cy="1279440"/>
          </a:xfrm>
        </p:grpSpPr>
        <p:pic>
          <p:nvPicPr>
            <p:cNvPr id="592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719280" y="1411200"/>
              <a:ext cx="15246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AutoShape 27"/>
            <p:cNvSpPr/>
            <p:nvPr/>
          </p:nvSpPr>
          <p:spPr>
            <a:xfrm>
              <a:off x="2375640" y="1698480"/>
              <a:ext cx="3889800" cy="936000"/>
            </a:xfrm>
            <a:prstGeom prst="wedgeRoundRectCallout">
              <a:avLst>
                <a:gd name="adj1" fmla="val -58041"/>
                <a:gd name="adj2" fmla="val 14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圆的中心位置由什么决定的？半径决定圆的什么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Group 22"/>
          <p:cNvGrpSpPr/>
          <p:nvPr/>
        </p:nvGrpSpPr>
        <p:grpSpPr>
          <a:xfrm>
            <a:off x="3710160" y="846000"/>
            <a:ext cx="5111280" cy="2087280"/>
            <a:chOff x="3710160" y="846000"/>
            <a:chExt cx="5111280" cy="2087280"/>
          </a:xfrm>
        </p:grpSpPr>
        <p:pic>
          <p:nvPicPr>
            <p:cNvPr id="595" name="Picture 20" descr="49"/>
            <p:cNvPicPr/>
            <p:nvPr/>
          </p:nvPicPr>
          <p:blipFill>
            <a:blip r:embed="rId2"/>
            <a:stretch/>
          </p:blipFill>
          <p:spPr>
            <a:xfrm>
              <a:off x="7392960" y="1134720"/>
              <a:ext cx="1428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AutoShape 27"/>
            <p:cNvSpPr/>
            <p:nvPr/>
          </p:nvSpPr>
          <p:spPr>
            <a:xfrm>
              <a:off x="3710160" y="846000"/>
              <a:ext cx="3958920" cy="934920"/>
            </a:xfrm>
            <a:prstGeom prst="wedgeRoundRectCallout">
              <a:avLst>
                <a:gd name="adj1" fmla="val 52606"/>
                <a:gd name="adj2" fmla="val 39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圆心确定了圆的中心位置就确定了。半径决定了圆的大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同侧圆角矩形 16"/>
          <p:cNvGrpSpPr/>
          <p:nvPr/>
        </p:nvGrpSpPr>
        <p:grpSpPr>
          <a:xfrm>
            <a:off x="1706400" y="328680"/>
            <a:ext cx="2006640" cy="519120"/>
            <a:chOff x="1706400" y="328680"/>
            <a:chExt cx="2006640" cy="519120"/>
          </a:xfrm>
        </p:grpSpPr>
        <p:pic>
          <p:nvPicPr>
            <p:cNvPr id="598" name="同侧圆角矩形 16" descr=""/>
            <p:cNvPicPr/>
            <p:nvPr/>
          </p:nvPicPr>
          <p:blipFill>
            <a:blip r:embed="rId3"/>
            <a:stretch/>
          </p:blipFill>
          <p:spPr>
            <a:xfrm>
              <a:off x="1706400" y="328680"/>
              <a:ext cx="20066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735200" y="35388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直线连接符 21"/>
          <p:cNvSpPr/>
          <p:nvPr/>
        </p:nvSpPr>
        <p:spPr>
          <a:xfrm flipV="1">
            <a:off x="1674720" y="1058760"/>
            <a:ext cx="207036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250" autoRev="1" fill="remov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8" dur="250" autoRev="1" fill="remov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9" dur="250" autoRev="1" fill="remov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250" autoRev="1" fill="hold"/>
                                        <p:tgtEl>
                                          <p:spTgt spid="5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6" descr="例题"/>
          <p:cNvPicPr/>
          <p:nvPr/>
        </p:nvPicPr>
        <p:blipFill>
          <a:blip r:embed="rId1"/>
          <a:stretch/>
        </p:blipFill>
        <p:spPr>
          <a:xfrm>
            <a:off x="3321000" y="2852640"/>
            <a:ext cx="3987720" cy="3384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8" descr="小精灵"/>
          <p:cNvPicPr/>
          <p:nvPr/>
        </p:nvPicPr>
        <p:blipFill>
          <a:blip r:embed="rId2"/>
          <a:stretch/>
        </p:blipFill>
        <p:spPr>
          <a:xfrm>
            <a:off x="414360" y="2476440"/>
            <a:ext cx="1781280" cy="145728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19"/>
          <p:cNvSpPr/>
          <p:nvPr/>
        </p:nvSpPr>
        <p:spPr>
          <a:xfrm>
            <a:off x="2340000" y="1341360"/>
            <a:ext cx="5761080" cy="1079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20"/>
          <p:cNvSpPr/>
          <p:nvPr/>
        </p:nvSpPr>
        <p:spPr>
          <a:xfrm>
            <a:off x="2484360" y="1557360"/>
            <a:ext cx="4391280" cy="1150920"/>
          </a:xfrm>
          <a:prstGeom prst="wedgeRoundRectCallout">
            <a:avLst>
              <a:gd name="adj1" fmla="val -54125"/>
              <a:gd name="adj2" fmla="val 94097"/>
              <a:gd name="adj3" fmla="val 16667"/>
            </a:avLst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用圆规和直尺画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漂亮的图形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同侧圆角矩形 9"/>
          <p:cNvGrpSpPr/>
          <p:nvPr/>
        </p:nvGrpSpPr>
        <p:grpSpPr>
          <a:xfrm>
            <a:off x="1981080" y="493560"/>
            <a:ext cx="2000520" cy="517680"/>
            <a:chOff x="1981080" y="493560"/>
            <a:chExt cx="2000520" cy="517680"/>
          </a:xfrm>
        </p:grpSpPr>
        <p:pic>
          <p:nvPicPr>
            <p:cNvPr id="606" name="同侧圆角矩形 9" descr=""/>
            <p:cNvPicPr/>
            <p:nvPr/>
          </p:nvPicPr>
          <p:blipFill>
            <a:blip r:embed="rId3"/>
            <a:stretch/>
          </p:blipFill>
          <p:spPr>
            <a:xfrm>
              <a:off x="1981080" y="493560"/>
              <a:ext cx="20005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004840" y="51768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直线连接符 21"/>
          <p:cNvSpPr/>
          <p:nvPr/>
        </p:nvSpPr>
        <p:spPr>
          <a:xfrm flipV="1">
            <a:off x="2050920" y="119664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2" descr="小精灵2"/>
          <p:cNvPicPr/>
          <p:nvPr/>
        </p:nvPicPr>
        <p:blipFill>
          <a:blip r:embed="rId1"/>
          <a:stretch/>
        </p:blipFill>
        <p:spPr>
          <a:xfrm>
            <a:off x="7091280" y="3716280"/>
            <a:ext cx="1381320" cy="22957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13"/>
          <p:cNvSpPr/>
          <p:nvPr/>
        </p:nvSpPr>
        <p:spPr>
          <a:xfrm>
            <a:off x="1865160" y="5229360"/>
            <a:ext cx="5256360" cy="936360"/>
          </a:xfrm>
          <a:prstGeom prst="wedgeRoundRectCallout">
            <a:avLst>
              <a:gd name="adj1" fmla="val 52606"/>
              <a:gd name="adj2" fmla="val -91185"/>
              <a:gd name="adj3" fmla="val 16667"/>
            </a:avLst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位同学遇到了什么问题？怎样帮助他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14" descr="小精灵"/>
          <p:cNvPicPr/>
          <p:nvPr/>
        </p:nvPicPr>
        <p:blipFill>
          <a:blip r:embed="rId2"/>
          <a:stretch/>
        </p:blipFill>
        <p:spPr>
          <a:xfrm>
            <a:off x="6691320" y="1657440"/>
            <a:ext cx="1781280" cy="145728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15"/>
          <p:cNvSpPr/>
          <p:nvPr/>
        </p:nvSpPr>
        <p:spPr>
          <a:xfrm>
            <a:off x="3348000" y="1341360"/>
            <a:ext cx="3240000" cy="966960"/>
          </a:xfrm>
          <a:prstGeom prst="wedgeRoundRectCallout">
            <a:avLst>
              <a:gd name="adj1" fmla="val 55046"/>
              <a:gd name="adj2" fmla="val 70249"/>
              <a:gd name="adj3" fmla="val 16667"/>
            </a:avLst>
          </a:prstGeom>
          <a:noFill/>
          <a:ln w="9360">
            <a:solidFill>
              <a:srgbClr val="299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确定圆的半径和圆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图片 1" descr=""/>
          <p:cNvPicPr/>
          <p:nvPr/>
        </p:nvPicPr>
        <p:blipFill>
          <a:blip r:embed="rId3"/>
          <a:stretch/>
        </p:blipFill>
        <p:spPr>
          <a:xfrm>
            <a:off x="1835280" y="2394000"/>
            <a:ext cx="27874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614" name="同侧圆角矩形 8"/>
          <p:cNvGrpSpPr/>
          <p:nvPr/>
        </p:nvGrpSpPr>
        <p:grpSpPr>
          <a:xfrm>
            <a:off x="1865160" y="334800"/>
            <a:ext cx="2000520" cy="519120"/>
            <a:chOff x="1865160" y="334800"/>
            <a:chExt cx="2000520" cy="519120"/>
          </a:xfrm>
        </p:grpSpPr>
        <p:pic>
          <p:nvPicPr>
            <p:cNvPr id="615" name="同侧圆角矩形 8" descr=""/>
            <p:cNvPicPr/>
            <p:nvPr/>
          </p:nvPicPr>
          <p:blipFill>
            <a:blip r:embed="rId4"/>
            <a:stretch/>
          </p:blipFill>
          <p:spPr>
            <a:xfrm>
              <a:off x="1865160" y="33480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1890720" y="35892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直线连接符 21"/>
          <p:cNvSpPr/>
          <p:nvPr/>
        </p:nvSpPr>
        <p:spPr>
          <a:xfrm flipV="1">
            <a:off x="1847880" y="105228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标题 1"/>
          <p:cNvSpPr/>
          <p:nvPr/>
        </p:nvSpPr>
        <p:spPr>
          <a:xfrm>
            <a:off x="1438200" y="2349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二、画法探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9"/>
          <p:cNvGrpSpPr/>
          <p:nvPr/>
        </p:nvGrpSpPr>
        <p:grpSpPr>
          <a:xfrm>
            <a:off x="971640" y="2205000"/>
            <a:ext cx="1439640" cy="1441440"/>
            <a:chOff x="971640" y="2205000"/>
            <a:chExt cx="1439640" cy="1441440"/>
          </a:xfrm>
        </p:grpSpPr>
        <p:sp>
          <p:nvSpPr>
            <p:cNvPr id="620" name="Oval 10"/>
            <p:cNvSpPr/>
            <p:nvPr/>
          </p:nvSpPr>
          <p:spPr>
            <a:xfrm>
              <a:off x="971640" y="2205000"/>
              <a:ext cx="1439640" cy="1441440"/>
            </a:xfrm>
            <a:prstGeom prst="ellipse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Oval 11"/>
            <p:cNvSpPr/>
            <p:nvPr/>
          </p:nvSpPr>
          <p:spPr>
            <a:xfrm>
              <a:off x="1685880" y="292356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Group 12"/>
          <p:cNvGrpSpPr/>
          <p:nvPr/>
        </p:nvGrpSpPr>
        <p:grpSpPr>
          <a:xfrm>
            <a:off x="3263760" y="1904760"/>
            <a:ext cx="2028960" cy="2028600"/>
            <a:chOff x="3263760" y="1904760"/>
            <a:chExt cx="2028960" cy="2028600"/>
          </a:xfrm>
        </p:grpSpPr>
        <p:grpSp>
          <p:nvGrpSpPr>
            <p:cNvPr id="623" name="Group 13"/>
            <p:cNvGrpSpPr/>
            <p:nvPr/>
          </p:nvGrpSpPr>
          <p:grpSpPr>
            <a:xfrm>
              <a:off x="3263760" y="2217240"/>
              <a:ext cx="2028960" cy="1440000"/>
              <a:chOff x="3263760" y="2217240"/>
              <a:chExt cx="2028960" cy="1440000"/>
            </a:xfrm>
          </p:grpSpPr>
          <p:sp>
            <p:nvSpPr>
              <p:cNvPr id="624" name="Line 14"/>
              <p:cNvSpPr/>
              <p:nvPr/>
            </p:nvSpPr>
            <p:spPr>
              <a:xfrm>
                <a:off x="3263760" y="2943000"/>
                <a:ext cx="202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5" name="Group 15"/>
              <p:cNvGrpSpPr/>
              <p:nvPr/>
            </p:nvGrpSpPr>
            <p:grpSpPr>
              <a:xfrm>
                <a:off x="3494160" y="2217240"/>
                <a:ext cx="1440360" cy="1440000"/>
                <a:chOff x="3494160" y="2217240"/>
                <a:chExt cx="1440360" cy="1440000"/>
              </a:xfrm>
            </p:grpSpPr>
            <p:sp>
              <p:nvSpPr>
                <p:cNvPr id="626" name="Oval 16"/>
                <p:cNvSpPr/>
                <p:nvPr/>
              </p:nvSpPr>
              <p:spPr>
                <a:xfrm>
                  <a:off x="3494160" y="2217240"/>
                  <a:ext cx="1440360" cy="1440000"/>
                </a:xfrm>
                <a:prstGeom prst="ellipse">
                  <a:avLst/>
                </a:prstGeom>
                <a:solidFill>
                  <a:srgbClr val="33cccc">
                    <a:alpha val="4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Oval 17"/>
                <p:cNvSpPr/>
                <p:nvPr/>
              </p:nvSpPr>
              <p:spPr>
                <a:xfrm>
                  <a:off x="4208400" y="2935080"/>
                  <a:ext cx="28440" cy="2844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8" name="Line 18"/>
            <p:cNvSpPr/>
            <p:nvPr/>
          </p:nvSpPr>
          <p:spPr>
            <a:xfrm flipV="1">
              <a:off x="4228920" y="1904760"/>
              <a:ext cx="0" cy="2028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Group 19"/>
          <p:cNvGrpSpPr/>
          <p:nvPr/>
        </p:nvGrpSpPr>
        <p:grpSpPr>
          <a:xfrm>
            <a:off x="5999040" y="1904760"/>
            <a:ext cx="2028960" cy="2028600"/>
            <a:chOff x="5999040" y="1904760"/>
            <a:chExt cx="2028960" cy="2028600"/>
          </a:xfrm>
        </p:grpSpPr>
        <p:grpSp>
          <p:nvGrpSpPr>
            <p:cNvPr id="630" name="Group 20"/>
            <p:cNvGrpSpPr/>
            <p:nvPr/>
          </p:nvGrpSpPr>
          <p:grpSpPr>
            <a:xfrm>
              <a:off x="5999040" y="1904760"/>
              <a:ext cx="2028960" cy="2028600"/>
              <a:chOff x="5999040" y="1904760"/>
              <a:chExt cx="2028960" cy="2028600"/>
            </a:xfrm>
          </p:grpSpPr>
          <p:grpSp>
            <p:nvGrpSpPr>
              <p:cNvPr id="631" name="Group 21"/>
              <p:cNvGrpSpPr/>
              <p:nvPr/>
            </p:nvGrpSpPr>
            <p:grpSpPr>
              <a:xfrm>
                <a:off x="5999040" y="2217240"/>
                <a:ext cx="2028960" cy="1440000"/>
                <a:chOff x="5999040" y="2217240"/>
                <a:chExt cx="2028960" cy="1440000"/>
              </a:xfrm>
            </p:grpSpPr>
            <p:sp>
              <p:nvSpPr>
                <p:cNvPr id="632" name="Line 22"/>
                <p:cNvSpPr/>
                <p:nvPr/>
              </p:nvSpPr>
              <p:spPr>
                <a:xfrm>
                  <a:off x="5999040" y="2943000"/>
                  <a:ext cx="2028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33" name="Group 23"/>
                <p:cNvGrpSpPr/>
                <p:nvPr/>
              </p:nvGrpSpPr>
              <p:grpSpPr>
                <a:xfrm>
                  <a:off x="6229440" y="2217240"/>
                  <a:ext cx="1440360" cy="1440000"/>
                  <a:chOff x="6229440" y="2217240"/>
                  <a:chExt cx="1440360" cy="1440000"/>
                </a:xfrm>
              </p:grpSpPr>
              <p:sp>
                <p:nvSpPr>
                  <p:cNvPr id="634" name="Oval 24"/>
                  <p:cNvSpPr/>
                  <p:nvPr/>
                </p:nvSpPr>
                <p:spPr>
                  <a:xfrm>
                    <a:off x="6229440" y="2217240"/>
                    <a:ext cx="1440360" cy="1440000"/>
                  </a:xfrm>
                  <a:prstGeom prst="ellipse">
                    <a:avLst/>
                  </a:prstGeom>
                  <a:solidFill>
                    <a:srgbClr val="33cccc">
                      <a:alpha val="49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5" name="Oval 25"/>
                  <p:cNvSpPr/>
                  <p:nvPr/>
                </p:nvSpPr>
                <p:spPr>
                  <a:xfrm>
                    <a:off x="6943680" y="2935080"/>
                    <a:ext cx="28440" cy="28440"/>
                  </a:xfrm>
                  <a:prstGeom prst="ellipse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6" name="Line 26"/>
              <p:cNvSpPr/>
              <p:nvPr/>
            </p:nvSpPr>
            <p:spPr>
              <a:xfrm flipV="1">
                <a:off x="6964200" y="1904760"/>
                <a:ext cx="0" cy="20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Group 27"/>
            <p:cNvGrpSpPr/>
            <p:nvPr/>
          </p:nvGrpSpPr>
          <p:grpSpPr>
            <a:xfrm>
              <a:off x="6229440" y="2211120"/>
              <a:ext cx="1449000" cy="1457280"/>
              <a:chOff x="6229440" y="2211120"/>
              <a:chExt cx="1449000" cy="1457280"/>
            </a:xfrm>
          </p:grpSpPr>
          <p:sp>
            <p:nvSpPr>
              <p:cNvPr id="638" name="Line 28"/>
              <p:cNvSpPr/>
              <p:nvPr/>
            </p:nvSpPr>
            <p:spPr>
              <a:xfrm flipH="1">
                <a:off x="6231960" y="2217960"/>
                <a:ext cx="712800" cy="71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Line 29"/>
              <p:cNvSpPr/>
              <p:nvPr/>
            </p:nvSpPr>
            <p:spPr>
              <a:xfrm flipH="1">
                <a:off x="6965280" y="2955960"/>
                <a:ext cx="712800" cy="71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Line 30"/>
              <p:cNvSpPr/>
              <p:nvPr/>
            </p:nvSpPr>
            <p:spPr>
              <a:xfrm>
                <a:off x="6229440" y="2951640"/>
                <a:ext cx="712800" cy="71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Line 31"/>
              <p:cNvSpPr/>
              <p:nvPr/>
            </p:nvSpPr>
            <p:spPr>
              <a:xfrm>
                <a:off x="6965280" y="2211120"/>
                <a:ext cx="713160" cy="71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2" name="AutoShape 32"/>
          <p:cNvSpPr/>
          <p:nvPr/>
        </p:nvSpPr>
        <p:spPr>
          <a:xfrm flipV="1" rot="2700000">
            <a:off x="6794640" y="2132640"/>
            <a:ext cx="1014120" cy="103824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038240"/>
              <a:gd name="textAreaBottom" fmla="*/ 103824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10895"/>
                </a:moveTo>
                <a:cubicBezTo>
                  <a:pt x="0" y="10863"/>
                  <a:pt x="0" y="10831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31"/>
                  <a:pt x="21599" y="10863"/>
                  <a:pt x="21599" y="10895"/>
                </a:cubicBezTo>
                <a:cubicBezTo>
                  <a:pt x="21599" y="10863"/>
                  <a:pt x="21600" y="10831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31"/>
                  <a:pt x="0" y="10863"/>
                  <a:pt x="0" y="10895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33"/>
          <p:cNvSpPr/>
          <p:nvPr/>
        </p:nvSpPr>
        <p:spPr>
          <a:xfrm>
            <a:off x="2627280" y="2924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34"/>
          <p:cNvSpPr/>
          <p:nvPr/>
        </p:nvSpPr>
        <p:spPr>
          <a:xfrm>
            <a:off x="5435640" y="292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oup 35"/>
          <p:cNvGrpSpPr/>
          <p:nvPr/>
        </p:nvGrpSpPr>
        <p:grpSpPr>
          <a:xfrm>
            <a:off x="5860800" y="4219200"/>
            <a:ext cx="2191320" cy="2173680"/>
            <a:chOff x="5860800" y="4219200"/>
            <a:chExt cx="2191320" cy="2173680"/>
          </a:xfrm>
        </p:grpSpPr>
        <p:grpSp>
          <p:nvGrpSpPr>
            <p:cNvPr id="646" name="Group 36"/>
            <p:cNvGrpSpPr/>
            <p:nvPr/>
          </p:nvGrpSpPr>
          <p:grpSpPr>
            <a:xfrm>
              <a:off x="5999040" y="4279680"/>
              <a:ext cx="2028960" cy="2028600"/>
              <a:chOff x="5999040" y="4279680"/>
              <a:chExt cx="2028960" cy="2028600"/>
            </a:xfrm>
          </p:grpSpPr>
          <p:grpSp>
            <p:nvGrpSpPr>
              <p:cNvPr id="647" name="Group 37"/>
              <p:cNvGrpSpPr/>
              <p:nvPr/>
            </p:nvGrpSpPr>
            <p:grpSpPr>
              <a:xfrm>
                <a:off x="5999040" y="4279680"/>
                <a:ext cx="2028960" cy="2028600"/>
                <a:chOff x="5999040" y="4279680"/>
                <a:chExt cx="2028960" cy="2028600"/>
              </a:xfrm>
            </p:grpSpPr>
            <p:grpSp>
              <p:nvGrpSpPr>
                <p:cNvPr id="648" name="Group 38"/>
                <p:cNvGrpSpPr/>
                <p:nvPr/>
              </p:nvGrpSpPr>
              <p:grpSpPr>
                <a:xfrm>
                  <a:off x="5999040" y="4592160"/>
                  <a:ext cx="2028960" cy="1440000"/>
                  <a:chOff x="5999040" y="4592160"/>
                  <a:chExt cx="2028960" cy="1440000"/>
                </a:xfrm>
              </p:grpSpPr>
              <p:sp>
                <p:nvSpPr>
                  <p:cNvPr id="649" name="Line 39"/>
                  <p:cNvSpPr/>
                  <p:nvPr/>
                </p:nvSpPr>
                <p:spPr>
                  <a:xfrm>
                    <a:off x="5999040" y="5317920"/>
                    <a:ext cx="2028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50" name="Group 40"/>
                  <p:cNvGrpSpPr/>
                  <p:nvPr/>
                </p:nvGrpSpPr>
                <p:grpSpPr>
                  <a:xfrm>
                    <a:off x="6229440" y="4592160"/>
                    <a:ext cx="1440360" cy="1440000"/>
                    <a:chOff x="6229440" y="4592160"/>
                    <a:chExt cx="1440360" cy="1440000"/>
                  </a:xfrm>
                </p:grpSpPr>
                <p:sp>
                  <p:nvSpPr>
                    <p:cNvPr id="651" name="Oval 41"/>
                    <p:cNvSpPr/>
                    <p:nvPr/>
                  </p:nvSpPr>
                  <p:spPr>
                    <a:xfrm>
                      <a:off x="6229440" y="4592160"/>
                      <a:ext cx="1440360" cy="1440000"/>
                    </a:xfrm>
                    <a:prstGeom prst="ellipse">
                      <a:avLst/>
                    </a:prstGeom>
                    <a:solidFill>
                      <a:srgbClr val="33cccc">
                        <a:alpha val="49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2" name="Oval 42"/>
                    <p:cNvSpPr/>
                    <p:nvPr/>
                  </p:nvSpPr>
                  <p:spPr>
                    <a:xfrm>
                      <a:off x="6943680" y="5310000"/>
                      <a:ext cx="28440" cy="28440"/>
                    </a:xfrm>
                    <a:prstGeom prst="ellipse">
                      <a:avLst/>
                    </a:prstGeom>
                    <a:solidFill>
                      <a:srgbClr val="33cc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653" name="Line 43"/>
                <p:cNvSpPr/>
                <p:nvPr/>
              </p:nvSpPr>
              <p:spPr>
                <a:xfrm flipV="1">
                  <a:off x="6964200" y="4279680"/>
                  <a:ext cx="0" cy="20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4" name="Group 44"/>
              <p:cNvGrpSpPr/>
              <p:nvPr/>
            </p:nvGrpSpPr>
            <p:grpSpPr>
              <a:xfrm>
                <a:off x="6229440" y="4586040"/>
                <a:ext cx="1449000" cy="1457280"/>
                <a:chOff x="6229440" y="4586040"/>
                <a:chExt cx="1449000" cy="1457280"/>
              </a:xfrm>
            </p:grpSpPr>
            <p:sp>
              <p:nvSpPr>
                <p:cNvPr id="655" name="Line 45"/>
                <p:cNvSpPr/>
                <p:nvPr/>
              </p:nvSpPr>
              <p:spPr>
                <a:xfrm flipH="1">
                  <a:off x="6231960" y="4592880"/>
                  <a:ext cx="712800" cy="71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6" name="Line 46"/>
                <p:cNvSpPr/>
                <p:nvPr/>
              </p:nvSpPr>
              <p:spPr>
                <a:xfrm flipH="1">
                  <a:off x="6965280" y="5330880"/>
                  <a:ext cx="712800" cy="71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Line 47"/>
                <p:cNvSpPr/>
                <p:nvPr/>
              </p:nvSpPr>
              <p:spPr>
                <a:xfrm>
                  <a:off x="6229440" y="5326560"/>
                  <a:ext cx="712800" cy="71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Line 48"/>
                <p:cNvSpPr/>
                <p:nvPr/>
              </p:nvSpPr>
              <p:spPr>
                <a:xfrm>
                  <a:off x="6965280" y="4586040"/>
                  <a:ext cx="713160" cy="71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59" name="Group 49"/>
            <p:cNvGrpSpPr/>
            <p:nvPr/>
          </p:nvGrpSpPr>
          <p:grpSpPr>
            <a:xfrm>
              <a:off x="5860800" y="4219200"/>
              <a:ext cx="2191320" cy="2173680"/>
              <a:chOff x="5860800" y="4219200"/>
              <a:chExt cx="2191320" cy="2173680"/>
            </a:xfrm>
          </p:grpSpPr>
          <p:sp>
            <p:nvSpPr>
              <p:cNvPr id="660" name="AutoShape 50"/>
              <p:cNvSpPr/>
              <p:nvPr/>
            </p:nvSpPr>
            <p:spPr>
              <a:xfrm flipV="1" rot="2700000">
                <a:off x="6824520" y="4430160"/>
                <a:ext cx="1000800" cy="1039680"/>
              </a:xfrm>
              <a:custGeom>
                <a:avLst/>
                <a:gdLst>
                  <a:gd name="textAreaLeft" fmla="*/ 0 w 1000800"/>
                  <a:gd name="textAreaRight" fmla="*/ 1001160 w 1000800"/>
                  <a:gd name="textAreaTop" fmla="*/ 360 h 1039680"/>
                  <a:gd name="textAreaBottom" fmla="*/ 1040400 h 10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95"/>
                    </a:moveTo>
                    <a:cubicBezTo>
                      <a:pt x="0" y="10863"/>
                      <a:pt x="0" y="10831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831"/>
                      <a:pt x="21599" y="10863"/>
                      <a:pt x="21599" y="10895"/>
                    </a:cubicBezTo>
                    <a:cubicBezTo>
                      <a:pt x="21599" y="10863"/>
                      <a:pt x="21600" y="1083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831"/>
                      <a:pt x="0" y="10863"/>
                      <a:pt x="0" y="108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51"/>
              <p:cNvSpPr/>
              <p:nvPr/>
            </p:nvSpPr>
            <p:spPr>
              <a:xfrm flipV="1" rot="8100000">
                <a:off x="6829920" y="5150880"/>
                <a:ext cx="1000800" cy="1040040"/>
              </a:xfrm>
              <a:custGeom>
                <a:avLst/>
                <a:gdLst>
                  <a:gd name="textAreaLeft" fmla="*/ 0 w 1000800"/>
                  <a:gd name="textAreaRight" fmla="*/ 1001160 w 1000800"/>
                  <a:gd name="textAreaTop" fmla="*/ -360 h 1040040"/>
                  <a:gd name="textAreaBottom" fmla="*/ 1040040 h 104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95"/>
                    </a:moveTo>
                    <a:cubicBezTo>
                      <a:pt x="0" y="10863"/>
                      <a:pt x="0" y="10831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831"/>
                      <a:pt x="21599" y="10863"/>
                      <a:pt x="21599" y="10895"/>
                    </a:cubicBezTo>
                    <a:cubicBezTo>
                      <a:pt x="21599" y="10863"/>
                      <a:pt x="21600" y="1083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831"/>
                      <a:pt x="0" y="10863"/>
                      <a:pt x="0" y="108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AutoShape 52"/>
              <p:cNvSpPr/>
              <p:nvPr/>
            </p:nvSpPr>
            <p:spPr>
              <a:xfrm flipH="1" flipV="1" rot="18900000">
                <a:off x="6081480" y="4420800"/>
                <a:ext cx="1000800" cy="1039680"/>
              </a:xfrm>
              <a:custGeom>
                <a:avLst/>
                <a:gdLst>
                  <a:gd name="textAreaLeft" fmla="*/ 360 w 1000800"/>
                  <a:gd name="textAreaRight" fmla="*/ 1001520 w 1000800"/>
                  <a:gd name="textAreaTop" fmla="*/ 360 h 1039680"/>
                  <a:gd name="textAreaBottom" fmla="*/ 1040400 h 10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95"/>
                    </a:moveTo>
                    <a:cubicBezTo>
                      <a:pt x="0" y="10863"/>
                      <a:pt x="0" y="10831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831"/>
                      <a:pt x="21599" y="10863"/>
                      <a:pt x="21599" y="10895"/>
                    </a:cubicBezTo>
                    <a:cubicBezTo>
                      <a:pt x="21599" y="10863"/>
                      <a:pt x="21600" y="1083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831"/>
                      <a:pt x="0" y="10863"/>
                      <a:pt x="0" y="108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AutoShape 53"/>
              <p:cNvSpPr/>
              <p:nvPr/>
            </p:nvSpPr>
            <p:spPr>
              <a:xfrm flipH="1" flipV="1" rot="13500000">
                <a:off x="6086160" y="5141520"/>
                <a:ext cx="1000800" cy="1040040"/>
              </a:xfrm>
              <a:custGeom>
                <a:avLst/>
                <a:gdLst>
                  <a:gd name="textAreaLeft" fmla="*/ 360 w 1000800"/>
                  <a:gd name="textAreaRight" fmla="*/ 1001520 w 1000800"/>
                  <a:gd name="textAreaTop" fmla="*/ -360 h 1040040"/>
                  <a:gd name="textAreaBottom" fmla="*/ 1040040 h 104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95"/>
                    </a:moveTo>
                    <a:cubicBezTo>
                      <a:pt x="0" y="10863"/>
                      <a:pt x="0" y="10831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831"/>
                      <a:pt x="21599" y="10863"/>
                      <a:pt x="21599" y="10895"/>
                    </a:cubicBezTo>
                    <a:cubicBezTo>
                      <a:pt x="21599" y="10863"/>
                      <a:pt x="21600" y="1083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831"/>
                      <a:pt x="0" y="10863"/>
                      <a:pt x="0" y="108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4" name="Line 54"/>
          <p:cNvSpPr/>
          <p:nvPr/>
        </p:nvSpPr>
        <p:spPr>
          <a:xfrm>
            <a:off x="6875640" y="386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55"/>
          <p:cNvSpPr/>
          <p:nvPr/>
        </p:nvSpPr>
        <p:spPr>
          <a:xfrm flipH="1">
            <a:off x="5364000" y="530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56" descr="完整图案"/>
          <p:cNvPicPr/>
          <p:nvPr/>
        </p:nvPicPr>
        <p:blipFill>
          <a:blip r:embed="rId1"/>
          <a:stretch/>
        </p:blipFill>
        <p:spPr>
          <a:xfrm>
            <a:off x="3139920" y="4149720"/>
            <a:ext cx="2295720" cy="2228760"/>
          </a:xfrm>
          <a:prstGeom prst="rect">
            <a:avLst/>
          </a:prstGeom>
          <a:ln w="0">
            <a:noFill/>
          </a:ln>
        </p:spPr>
      </p:pic>
      <p:sp>
        <p:nvSpPr>
          <p:cNvPr id="667" name="Line 57"/>
          <p:cNvSpPr/>
          <p:nvPr/>
        </p:nvSpPr>
        <p:spPr>
          <a:xfrm flipH="1">
            <a:off x="2556000" y="530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58"/>
          <p:cNvSpPr/>
          <p:nvPr/>
        </p:nvSpPr>
        <p:spPr>
          <a:xfrm>
            <a:off x="1558800" y="4797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同侧圆角矩形 54"/>
          <p:cNvGrpSpPr/>
          <p:nvPr/>
        </p:nvGrpSpPr>
        <p:grpSpPr>
          <a:xfrm>
            <a:off x="1627200" y="401760"/>
            <a:ext cx="2000160" cy="518760"/>
            <a:chOff x="1627200" y="401760"/>
            <a:chExt cx="2000160" cy="518760"/>
          </a:xfrm>
        </p:grpSpPr>
        <p:pic>
          <p:nvPicPr>
            <p:cNvPr id="670" name="同侧圆角矩形 54" descr=""/>
            <p:cNvPicPr/>
            <p:nvPr/>
          </p:nvPicPr>
          <p:blipFill>
            <a:blip r:embed="rId2"/>
            <a:stretch/>
          </p:blipFill>
          <p:spPr>
            <a:xfrm>
              <a:off x="1627200" y="401760"/>
              <a:ext cx="2000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1652760" y="4298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直线连接符 21"/>
          <p:cNvSpPr/>
          <p:nvPr/>
        </p:nvSpPr>
        <p:spPr>
          <a:xfrm flipV="1">
            <a:off x="1685880" y="11253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675" name="同侧圆角矩形 15"/>
          <p:cNvGrpSpPr/>
          <p:nvPr/>
        </p:nvGrpSpPr>
        <p:grpSpPr>
          <a:xfrm>
            <a:off x="1908000" y="450720"/>
            <a:ext cx="1998720" cy="519120"/>
            <a:chOff x="1908000" y="450720"/>
            <a:chExt cx="1998720" cy="519120"/>
          </a:xfrm>
        </p:grpSpPr>
        <p:pic>
          <p:nvPicPr>
            <p:cNvPr id="676" name="同侧圆角矩形 15" descr=""/>
            <p:cNvPicPr/>
            <p:nvPr/>
          </p:nvPicPr>
          <p:blipFill>
            <a:blip r:embed="rId3"/>
            <a:stretch/>
          </p:blipFill>
          <p:spPr>
            <a:xfrm>
              <a:off x="1908000" y="45072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1933560" y="47628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直线连接符 21"/>
          <p:cNvSpPr/>
          <p:nvPr/>
        </p:nvSpPr>
        <p:spPr>
          <a:xfrm flipV="1">
            <a:off x="1836720" y="11253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1231920" y="2852640"/>
            <a:ext cx="643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园要建一个直径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形花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用什么方法画出这个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681" name="同侧圆角矩形 1"/>
          <p:cNvGrpSpPr/>
          <p:nvPr/>
        </p:nvGrpSpPr>
        <p:grpSpPr>
          <a:xfrm>
            <a:off x="1773360" y="450720"/>
            <a:ext cx="2000160" cy="519120"/>
            <a:chOff x="1773360" y="450720"/>
            <a:chExt cx="2000160" cy="519120"/>
          </a:xfrm>
        </p:grpSpPr>
        <p:pic>
          <p:nvPicPr>
            <p:cNvPr id="682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1773360" y="45072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1797120" y="47628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直线连接符 21"/>
          <p:cNvSpPr/>
          <p:nvPr/>
        </p:nvSpPr>
        <p:spPr>
          <a:xfrm flipV="1">
            <a:off x="1708200" y="11253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21"/>
          <p:cNvSpPr/>
          <p:nvPr/>
        </p:nvSpPr>
        <p:spPr>
          <a:xfrm>
            <a:off x="1278000" y="2649600"/>
            <a:ext cx="6985080" cy="94716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画圆的方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确定圆心的位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确定半径的长短。因为要建一个直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形花坛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它的半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÷2=6(m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画圆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找一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的绳子来操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690" name="同侧圆角矩形 15"/>
          <p:cNvGrpSpPr/>
          <p:nvPr/>
        </p:nvGrpSpPr>
        <p:grpSpPr>
          <a:xfrm>
            <a:off x="1908000" y="450720"/>
            <a:ext cx="1998720" cy="519120"/>
            <a:chOff x="1908000" y="450720"/>
            <a:chExt cx="1998720" cy="519120"/>
          </a:xfrm>
        </p:grpSpPr>
        <p:pic>
          <p:nvPicPr>
            <p:cNvPr id="691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1908000" y="45072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933560" y="47628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3" name="直线连接符 21"/>
          <p:cNvSpPr/>
          <p:nvPr/>
        </p:nvSpPr>
        <p:spPr>
          <a:xfrm flipV="1">
            <a:off x="1871640" y="119700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1495440" y="2852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一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的绳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固定一端为圆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绳子拉直绕一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可形成一个直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1238400"/>
            <a:ext cx="2000520" cy="517320"/>
            <a:chOff x="450720" y="1238400"/>
            <a:chExt cx="2000520" cy="5173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1238400"/>
              <a:ext cx="20005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265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rcRect l="0" t="9513" r="0" b="10535"/>
          <a:stretch/>
        </p:blipFill>
        <p:spPr>
          <a:xfrm>
            <a:off x="6526080" y="5094360"/>
            <a:ext cx="2016360" cy="1184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949320" y="299880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借助工具画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圆规画指定大小的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949320" y="17985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圆的有关特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圆心、半径和直径的概念及其长度关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79520" y="183024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958680" y="4208400"/>
            <a:ext cx="73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观察分析、抽象概括等思维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651640" y="83520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700" name="矩形 10"/>
          <p:cNvSpPr/>
          <p:nvPr/>
        </p:nvSpPr>
        <p:spPr>
          <a:xfrm>
            <a:off x="1609560" y="1828800"/>
            <a:ext cx="482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圆的半径都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也都相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􀳫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同侧圆角矩形 11"/>
          <p:cNvGrpSpPr/>
          <p:nvPr/>
        </p:nvGrpSpPr>
        <p:grpSpPr>
          <a:xfrm>
            <a:off x="1835280" y="390600"/>
            <a:ext cx="1998360" cy="517320"/>
            <a:chOff x="1835280" y="390600"/>
            <a:chExt cx="1998360" cy="517320"/>
          </a:xfrm>
        </p:grpSpPr>
        <p:pic>
          <p:nvPicPr>
            <p:cNvPr id="702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1835280" y="390600"/>
              <a:ext cx="19983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860480" y="4176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直线连接符 21"/>
          <p:cNvSpPr/>
          <p:nvPr/>
        </p:nvSpPr>
        <p:spPr>
          <a:xfrm flipV="1">
            <a:off x="1870200" y="112536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"/>
          <p:cNvSpPr/>
          <p:nvPr/>
        </p:nvSpPr>
        <p:spPr>
          <a:xfrm rot="18297600">
            <a:off x="6817680" y="378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3"/>
          <p:cNvSpPr/>
          <p:nvPr/>
        </p:nvSpPr>
        <p:spPr>
          <a:xfrm>
            <a:off x="4572000" y="225900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同侧圆角矩形 15"/>
          <p:cNvGrpSpPr/>
          <p:nvPr/>
        </p:nvGrpSpPr>
        <p:grpSpPr>
          <a:xfrm>
            <a:off x="1908000" y="463680"/>
            <a:ext cx="1998720" cy="510840"/>
            <a:chOff x="1908000" y="463680"/>
            <a:chExt cx="1998720" cy="510840"/>
          </a:xfrm>
        </p:grpSpPr>
        <p:pic>
          <p:nvPicPr>
            <p:cNvPr id="711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1908000" y="46368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933560" y="485280"/>
              <a:ext cx="194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直线连接符 21"/>
          <p:cNvSpPr/>
          <p:nvPr/>
        </p:nvSpPr>
        <p:spPr>
          <a:xfrm flipV="1">
            <a:off x="1871640" y="12254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715" name="矩形 19"/>
          <p:cNvSpPr/>
          <p:nvPr/>
        </p:nvSpPr>
        <p:spPr>
          <a:xfrm>
            <a:off x="1042920" y="2997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考虑半径、直径相等的前提条件是在等圆或同圆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719" name="同侧圆角矩形 12"/>
          <p:cNvGrpSpPr/>
          <p:nvPr/>
        </p:nvGrpSpPr>
        <p:grpSpPr>
          <a:xfrm>
            <a:off x="2023920" y="444600"/>
            <a:ext cx="1998720" cy="519120"/>
            <a:chOff x="2023920" y="444600"/>
            <a:chExt cx="1998720" cy="519120"/>
          </a:xfrm>
        </p:grpSpPr>
        <p:pic>
          <p:nvPicPr>
            <p:cNvPr id="720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2023920" y="44460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2046240" y="4730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直线连接符 21"/>
          <p:cNvSpPr/>
          <p:nvPr/>
        </p:nvSpPr>
        <p:spPr>
          <a:xfrm flipV="1">
            <a:off x="1984320" y="11253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5"/>
          <p:cNvSpPr/>
          <p:nvPr/>
        </p:nvSpPr>
        <p:spPr>
          <a:xfrm rot="18297600">
            <a:off x="5883120" y="46846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20"/>
          <p:cNvSpPr/>
          <p:nvPr/>
        </p:nvSpPr>
        <p:spPr>
          <a:xfrm rot="18297600">
            <a:off x="6102360" y="2446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10"/>
          <p:cNvSpPr/>
          <p:nvPr/>
        </p:nvSpPr>
        <p:spPr>
          <a:xfrm>
            <a:off x="1609560" y="1828800"/>
            <a:ext cx="482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圆的半径都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也都相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􀳫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11"/>
          <p:cNvSpPr/>
          <p:nvPr/>
        </p:nvSpPr>
        <p:spPr>
          <a:xfrm>
            <a:off x="4572000" y="225900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14"/>
          <p:cNvSpPr/>
          <p:nvPr/>
        </p:nvSpPr>
        <p:spPr>
          <a:xfrm>
            <a:off x="1763640" y="4175280"/>
            <a:ext cx="482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圆的半径都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也都相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􀳫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16"/>
          <p:cNvSpPr/>
          <p:nvPr/>
        </p:nvSpPr>
        <p:spPr>
          <a:xfrm>
            <a:off x="4716360" y="461952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WordArt 3"/>
          <p:cNvSpPr txBox="1"/>
          <p:nvPr/>
        </p:nvSpPr>
        <p:spPr>
          <a:xfrm>
            <a:off x="3859200" y="549360"/>
            <a:ext cx="380196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直径半径对口令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0" name="AutoShape 4"/>
          <p:cNvSpPr/>
          <p:nvPr/>
        </p:nvSpPr>
        <p:spPr>
          <a:xfrm>
            <a:off x="611280" y="2852640"/>
            <a:ext cx="2519280" cy="792360"/>
          </a:xfrm>
          <a:prstGeom prst="cloudCallout">
            <a:avLst>
              <a:gd name="adj1" fmla="val -17865"/>
              <a:gd name="adj2" fmla="val 153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5" descr="elephant003s"/>
          <p:cNvPicPr/>
          <p:nvPr/>
        </p:nvPicPr>
        <p:blipFill>
          <a:blip r:embed="rId3"/>
          <a:stretch/>
        </p:blipFill>
        <p:spPr>
          <a:xfrm>
            <a:off x="250920" y="3797280"/>
            <a:ext cx="1471680" cy="164772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6"/>
          <p:cNvSpPr/>
          <p:nvPr/>
        </p:nvSpPr>
        <p:spPr>
          <a:xfrm>
            <a:off x="1258920" y="1881360"/>
            <a:ext cx="2808360" cy="792000"/>
          </a:xfrm>
          <a:prstGeom prst="cloudCallout">
            <a:avLst>
              <a:gd name="adj1" fmla="val -5569"/>
              <a:gd name="adj2" fmla="val -940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7" descr="bird046s"/>
          <p:cNvPicPr/>
          <p:nvPr/>
        </p:nvPicPr>
        <p:blipFill>
          <a:blip r:embed="rId4"/>
          <a:stretch/>
        </p:blipFill>
        <p:spPr>
          <a:xfrm flipH="1" rot="19889400">
            <a:off x="2272680" y="980640"/>
            <a:ext cx="1504800" cy="971280"/>
          </a:xfrm>
          <a:prstGeom prst="rect">
            <a:avLst/>
          </a:prstGeom>
          <a:ln w="0">
            <a:noFill/>
          </a:ln>
        </p:spPr>
      </p:pic>
      <p:sp>
        <p:nvSpPr>
          <p:cNvPr id="734" name="AutoShape 8"/>
          <p:cNvSpPr/>
          <p:nvPr/>
        </p:nvSpPr>
        <p:spPr>
          <a:xfrm>
            <a:off x="2268360" y="4965840"/>
            <a:ext cx="3598920" cy="792000"/>
          </a:xfrm>
          <a:prstGeom prst="cloudCallout">
            <a:avLst>
              <a:gd name="adj1" fmla="val -8625"/>
              <a:gd name="adj2" fmla="val -700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2. 4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Picture 9" descr="frog009s"/>
          <p:cNvPicPr/>
          <p:nvPr/>
        </p:nvPicPr>
        <p:blipFill>
          <a:blip r:embed="rId5"/>
          <a:stretch/>
        </p:blipFill>
        <p:spPr>
          <a:xfrm>
            <a:off x="2843280" y="3716280"/>
            <a:ext cx="1504800" cy="124776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10"/>
          <p:cNvSpPr/>
          <p:nvPr/>
        </p:nvSpPr>
        <p:spPr>
          <a:xfrm>
            <a:off x="4356000" y="5487840"/>
            <a:ext cx="2808360" cy="792360"/>
          </a:xfrm>
          <a:prstGeom prst="cloudCallout">
            <a:avLst>
              <a:gd name="adj1" fmla="val 56162"/>
              <a:gd name="adj2" fmla="val -4118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1.2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11" descr="bird010s"/>
          <p:cNvPicPr/>
          <p:nvPr/>
        </p:nvPicPr>
        <p:blipFill>
          <a:blip r:embed="rId6"/>
          <a:stretch/>
        </p:blipFill>
        <p:spPr>
          <a:xfrm>
            <a:off x="7164360" y="5013360"/>
            <a:ext cx="1504800" cy="79056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12"/>
          <p:cNvSpPr/>
          <p:nvPr/>
        </p:nvSpPr>
        <p:spPr>
          <a:xfrm>
            <a:off x="5292720" y="2852640"/>
            <a:ext cx="3816360" cy="792360"/>
          </a:xfrm>
          <a:prstGeom prst="cloudCallout">
            <a:avLst>
              <a:gd name="adj1" fmla="val -23296"/>
              <a:gd name="adj2" fmla="val 982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1.4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Picture 13" descr="mouse012s"/>
          <p:cNvPicPr/>
          <p:nvPr/>
        </p:nvPicPr>
        <p:blipFill>
          <a:blip r:embed="rId7"/>
          <a:stretch/>
        </p:blipFill>
        <p:spPr>
          <a:xfrm>
            <a:off x="5148360" y="3357720"/>
            <a:ext cx="1428480" cy="1504800"/>
          </a:xfrm>
          <a:prstGeom prst="rect">
            <a:avLst/>
          </a:prstGeom>
          <a:ln w="0">
            <a:noFill/>
          </a:ln>
        </p:spPr>
      </p:pic>
      <p:sp>
        <p:nvSpPr>
          <p:cNvPr id="740" name="AutoShape 14"/>
          <p:cNvSpPr/>
          <p:nvPr/>
        </p:nvSpPr>
        <p:spPr>
          <a:xfrm>
            <a:off x="4859280" y="2060640"/>
            <a:ext cx="3457800" cy="792000"/>
          </a:xfrm>
          <a:prstGeom prst="cloudCallout">
            <a:avLst>
              <a:gd name="adj1" fmla="val 55004"/>
              <a:gd name="adj2" fmla="val -4118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2.8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Picture 15" descr="bird024s"/>
          <p:cNvPicPr/>
          <p:nvPr/>
        </p:nvPicPr>
        <p:blipFill>
          <a:blip r:embed="rId8"/>
          <a:stretch/>
        </p:blipFill>
        <p:spPr>
          <a:xfrm rot="20047800">
            <a:off x="7616880" y="1341360"/>
            <a:ext cx="1276200" cy="1505160"/>
          </a:xfrm>
          <a:prstGeom prst="rect">
            <a:avLst/>
          </a:prstGeom>
          <a:ln w="0">
            <a:noFill/>
          </a:ln>
        </p:spPr>
      </p:pic>
      <p:grpSp>
        <p:nvGrpSpPr>
          <p:cNvPr id="742" name="同侧圆角矩形 14"/>
          <p:cNvGrpSpPr/>
          <p:nvPr/>
        </p:nvGrpSpPr>
        <p:grpSpPr>
          <a:xfrm>
            <a:off x="1725480" y="317520"/>
            <a:ext cx="1998720" cy="517680"/>
            <a:chOff x="1725480" y="317520"/>
            <a:chExt cx="1998720" cy="517680"/>
          </a:xfrm>
        </p:grpSpPr>
        <p:pic>
          <p:nvPicPr>
            <p:cNvPr id="743" name="同侧圆角矩形 14" descr=""/>
            <p:cNvPicPr/>
            <p:nvPr/>
          </p:nvPicPr>
          <p:blipFill>
            <a:blip r:embed="rId9"/>
            <a:stretch/>
          </p:blipFill>
          <p:spPr>
            <a:xfrm>
              <a:off x="1725480" y="31752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1747800" y="34452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线连接符 21"/>
          <p:cNvSpPr/>
          <p:nvPr/>
        </p:nvSpPr>
        <p:spPr>
          <a:xfrm flipV="1">
            <a:off x="1722600" y="907920"/>
            <a:ext cx="207144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0.03148 L -1.11111E-006 4.07407E-006 E">
                                      <p:cBhvr>
                                        <p:cTn id="868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243 3.33333E-006 C 0.75243 -0.04676 0.66788 -0.08264 0.56528 -0.08264 C 0.4599 -0.08264 0.37622 -0.04676 0.37622 3.33333E-006 C 0.37622 0.04676 0.29167 0.08264 0.18629 0.08264 C 0.08368 0.08264 -1.94444E-006 0.04676 -1.94444E-006 3.33333E-006 E">
                                      <p:cBhvr>
                                        <p:cTn id="878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917 -4.44444E-006 C 0.57222 -0.02523 0.56302 -0.0493 0.54444 -0.0493 C 0.52361 -0.0493 0.51632 -0.02523 0.50937 -4.44444E-006 C 0.50017 0.02801 0.4934 0.05602 0.46996 0.05602 C 0.44913 0.05602 0.44219 0.02801 0.43316 -4.44444E-006 C 0.42864 -0.02523 0.41927 -0.0493 0.39844 -0.0493 C 0.37986 -0.0493 0.37066 -0.02523 0.36337 -4.44444E-006 C 0.35642 0.02801 0.34739 0.05602 0.32656 0.05602 C 0.30538 0.05602 0.28923 -4.44443999999999E-006 0.28923 0.00024 C 0.28246 -0.02523 0.27552 -0.0493 0.25469 -0.0493 C 0.23385 -0.0493 0.22656 -0.02523 0.21996 -4.44444E-006 C 0.21042 0.02801 0.20347 0.05602 0.18055 0.05602 C 0.15937 0.05602 0.15278 0.02801 0.14583 -4.44444E-006 C 0.1368 -0.02523 0.12986 -0.0493 0.10868 -0.0493 C 0.09045 -0.0493 0.0809 -0.02523 0.07396 -4.44444E-006 C 0.06701 0.02801 0.05798 0.05602 0.0368 0.05602 C 0.01597 0.05602 0.00903 0.02801 1.38889E-006 -4.44444E-006 E">
                                      <p:cBhvr>
                                        <p:cTn id="888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52 4.44444E-006 C 0.25052 0.04675 0.2224 0.08263 0.18837 0.08263 C 0.15313 0.08263 0.12517 0.04675 0.12517 4.44444E-006 C 0.12517 -0.04676 0.09722 -0.08264 0.06198 -0.08264 C 0.02795 -0.08264 -5.55556E-007 -0.04676 -5.55556E-007 4.44444E-006 E">
                                      <p:cBhvr>
                                        <p:cTn id="898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 -0.00186 C -0.71857 0.08217 -0.69757 0.14213 -0.67621 0.14213 C -0.65573 0.14213 -0.6375 0.08217 -0.63107 -0.00186 C -0.6217 0.08217 -0.60434 0.14213 -0.58281 0.14213 C -0.5618 0.14213 -0.5434 0.08217 -0.53767 -0.00186 C -0.52882 0.08217 -0.51041 0.14213 -0.48941 0.14213 C -0.46788 0.14213 -0.44687 0.08217 -0.44114 -0.00186 C -0.43472 0.08217 -0.41649 0.14213 -0.39236 0.14213 C -0.37448 0.14213 -0.35347 0.08217 -0.34705 -0.00186 C -0.3408 0.08217 -0.31979 0.14213 -0.29878 0.14213 C -0.27777 0.14213 -0.25955 0.08217 -0.25312 -0.00186 C -0.24427 0.08217 -0.22639 0.14213 -0.20486 0.14213 C -0.18385 0.14213 -0.16545 0.08217 -0.15659 -0.00186 C -0.15086 0.08217 -0.13246 0.14213 -0.11145 0.14213 C -0.08993 0.14213 -0.06892 0.08217 -0.06319 -0.00186 C -0.05677 0.08217 -0.03854 0.14213 -0.01441 0.14213 C 0.0066 0.14213 0.02448 0.08217 0.03091 -0.00186 E">
                                      <p:cBhvr>
                                        <p:cTn id="908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43 2.96296E-006 L 0.16615 0.05324 C 0.15348 0.06527 0.13438 0.07199 0.11441 0.07199 C 0.09184 0.07199 0.07344 0.06527 0.06077 0.05324 L -3.05556E-006 2.96296E-006 E">
                                      <p:cBhvr>
                                        <p:cTn id="91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1322280" y="162864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 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406440" y="2550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圆心到圆上任意一点的线段，叫做半径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479520" y="31305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半径相等的两个圆的大小相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479520" y="38480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圆心的线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直径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479520" y="44956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圆的直径都相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479520" y="50720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半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7680240" y="239220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5050"/>
                </a:solidFill>
                <a:latin typeface="华文新魏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7399440" y="3030480"/>
            <a:ext cx="718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5050"/>
                </a:solidFill>
                <a:latin typeface="华文新魏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7399440" y="379260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7356600" y="44798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7246800" y="50515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同侧圆角矩形 13"/>
          <p:cNvGrpSpPr/>
          <p:nvPr/>
        </p:nvGrpSpPr>
        <p:grpSpPr>
          <a:xfrm>
            <a:off x="2048040" y="579600"/>
            <a:ext cx="2006280" cy="510480"/>
            <a:chOff x="2048040" y="579600"/>
            <a:chExt cx="2006280" cy="510480"/>
          </a:xfrm>
        </p:grpSpPr>
        <p:pic>
          <p:nvPicPr>
            <p:cNvPr id="758" name="同侧圆角矩形 13" descr=""/>
            <p:cNvPicPr/>
            <p:nvPr/>
          </p:nvPicPr>
          <p:blipFill>
            <a:blip r:embed="rId1"/>
            <a:stretch/>
          </p:blipFill>
          <p:spPr>
            <a:xfrm>
              <a:off x="2048040" y="579600"/>
              <a:ext cx="2006280" cy="5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2076480" y="60120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直线连接符 21"/>
          <p:cNvSpPr/>
          <p:nvPr/>
        </p:nvSpPr>
        <p:spPr>
          <a:xfrm flipV="1">
            <a:off x="2050920" y="119664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3"/>
          <p:cNvSpPr/>
          <p:nvPr/>
        </p:nvSpPr>
        <p:spPr>
          <a:xfrm>
            <a:off x="539640" y="1693800"/>
            <a:ext cx="828036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d582c"/>
                </a:solidFill>
                <a:latin typeface="华文新魏"/>
                <a:ea typeface="华文新魏"/>
              </a:rPr>
              <a:t>选择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画圆时，圆规两脚间的距离是（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半径长度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长度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从圆心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意一点的线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半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心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外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通过圆心并且两端都在圆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直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段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6661800" y="2290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350160" y="363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19240" y="488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5" name="同侧圆角矩形 6"/>
          <p:cNvGrpSpPr/>
          <p:nvPr/>
        </p:nvGrpSpPr>
        <p:grpSpPr>
          <a:xfrm>
            <a:off x="1785960" y="566640"/>
            <a:ext cx="2004840" cy="519120"/>
            <a:chOff x="1785960" y="566640"/>
            <a:chExt cx="2004840" cy="519120"/>
          </a:xfrm>
        </p:grpSpPr>
        <p:pic>
          <p:nvPicPr>
            <p:cNvPr id="766" name="同侧圆角矩形 6" descr=""/>
            <p:cNvPicPr/>
            <p:nvPr/>
          </p:nvPicPr>
          <p:blipFill>
            <a:blip r:embed="rId1"/>
            <a:stretch/>
          </p:blipFill>
          <p:spPr>
            <a:xfrm>
              <a:off x="1785960" y="566640"/>
              <a:ext cx="20048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1814400" y="59364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8" name="直线连接符 21"/>
          <p:cNvSpPr/>
          <p:nvPr/>
        </p:nvSpPr>
        <p:spPr>
          <a:xfrm flipV="1">
            <a:off x="1860480" y="126828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533520" y="1600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）下面（     ）图形是圆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228600" y="4952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）直径是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厘米的圆，半径是（    ）厘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A.  3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厘米         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B.  6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厘米          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C.  1.5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Group 6"/>
          <p:cNvGrpSpPr/>
          <p:nvPr/>
        </p:nvGrpSpPr>
        <p:grpSpPr>
          <a:xfrm>
            <a:off x="2819520" y="1446840"/>
            <a:ext cx="5180760" cy="1068480"/>
            <a:chOff x="2819520" y="1446840"/>
            <a:chExt cx="5180760" cy="1068480"/>
          </a:xfrm>
        </p:grpSpPr>
        <p:sp>
          <p:nvSpPr>
            <p:cNvPr id="772" name="Text Box 7"/>
            <p:cNvSpPr/>
            <p:nvPr/>
          </p:nvSpPr>
          <p:spPr>
            <a:xfrm>
              <a:off x="2819520" y="15620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WordArt 8"/>
            <p:cNvSpPr txBox="1"/>
            <p:nvPr/>
          </p:nvSpPr>
          <p:spPr>
            <a:xfrm rot="20635800">
              <a:off x="7201080" y="1523520"/>
              <a:ext cx="685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OK!</a:t>
              </a:r>
              <a:endPara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74" name="Group 9"/>
          <p:cNvGrpSpPr/>
          <p:nvPr/>
        </p:nvGrpSpPr>
        <p:grpSpPr>
          <a:xfrm>
            <a:off x="6324480" y="3581280"/>
            <a:ext cx="2361960" cy="1938240"/>
            <a:chOff x="6324480" y="3581280"/>
            <a:chExt cx="2361960" cy="1938240"/>
          </a:xfrm>
        </p:grpSpPr>
        <p:sp>
          <p:nvSpPr>
            <p:cNvPr id="775" name="Text Box 10"/>
            <p:cNvSpPr/>
            <p:nvPr/>
          </p:nvSpPr>
          <p:spPr>
            <a:xfrm>
              <a:off x="6324480" y="48769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WordArt 11"/>
            <p:cNvSpPr txBox="1"/>
            <p:nvPr/>
          </p:nvSpPr>
          <p:spPr>
            <a:xfrm rot="5400000">
              <a:off x="7619400" y="3885840"/>
              <a:ext cx="1371600" cy="762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98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宋体"/>
                </a:rPr>
                <a:t>好棒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777" name="Group 12"/>
          <p:cNvGrpSpPr/>
          <p:nvPr/>
        </p:nvGrpSpPr>
        <p:grpSpPr>
          <a:xfrm>
            <a:off x="1676520" y="2813040"/>
            <a:ext cx="5010840" cy="1441440"/>
            <a:chOff x="1676520" y="2813040"/>
            <a:chExt cx="5010840" cy="1441440"/>
          </a:xfrm>
        </p:grpSpPr>
        <p:sp>
          <p:nvSpPr>
            <p:cNvPr id="778" name="Oval 13"/>
            <p:cNvSpPr/>
            <p:nvPr/>
          </p:nvSpPr>
          <p:spPr>
            <a:xfrm>
              <a:off x="1676520" y="2971800"/>
              <a:ext cx="1295280" cy="762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48320" y="2819520"/>
              <a:ext cx="838080" cy="838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0" name="Picture 15" descr="XGT00654"/>
            <p:cNvPicPr/>
            <p:nvPr/>
          </p:nvPicPr>
          <p:blipFill>
            <a:blip r:embed="rId1"/>
            <a:stretch/>
          </p:blipFill>
          <p:spPr>
            <a:xfrm>
              <a:off x="3276720" y="2813040"/>
              <a:ext cx="9874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16" descr="0164"/>
            <p:cNvPicPr/>
            <p:nvPr/>
          </p:nvPicPr>
          <p:blipFill>
            <a:blip r:embed="rId2"/>
            <a:srcRect l="4547" t="54553" r="54553" b="4547"/>
            <a:stretch/>
          </p:blipFill>
          <p:spPr>
            <a:xfrm>
              <a:off x="5943600" y="29718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Rectangle 17"/>
            <p:cNvSpPr/>
            <p:nvPr/>
          </p:nvSpPr>
          <p:spPr>
            <a:xfrm>
              <a:off x="3507120" y="3581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Rectangle 18"/>
            <p:cNvSpPr/>
            <p:nvPr/>
          </p:nvSpPr>
          <p:spPr>
            <a:xfrm>
              <a:off x="6250680" y="373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2135880" y="3657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Rectangle 20"/>
            <p:cNvSpPr/>
            <p:nvPr/>
          </p:nvSpPr>
          <p:spPr>
            <a:xfrm>
              <a:off x="4889160" y="3733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同侧圆角矩形 20"/>
          <p:cNvGrpSpPr/>
          <p:nvPr/>
        </p:nvGrpSpPr>
        <p:grpSpPr>
          <a:xfrm>
            <a:off x="2084400" y="401760"/>
            <a:ext cx="2000160" cy="519120"/>
            <a:chOff x="2084400" y="401760"/>
            <a:chExt cx="2000160" cy="519120"/>
          </a:xfrm>
        </p:grpSpPr>
        <p:pic>
          <p:nvPicPr>
            <p:cNvPr id="787" name="同侧圆角矩形 20" descr=""/>
            <p:cNvPicPr/>
            <p:nvPr/>
          </p:nvPicPr>
          <p:blipFill>
            <a:blip r:embed="rId3"/>
            <a:stretch/>
          </p:blipFill>
          <p:spPr>
            <a:xfrm>
              <a:off x="2084400" y="40176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2111400" y="4302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9" name="直线连接符 21"/>
          <p:cNvSpPr/>
          <p:nvPr/>
        </p:nvSpPr>
        <p:spPr>
          <a:xfrm flipV="1">
            <a:off x="2049480" y="11253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582480" y="1925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）圆的半径表示正确的是（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Group 3"/>
          <p:cNvGrpSpPr/>
          <p:nvPr/>
        </p:nvGrpSpPr>
        <p:grpSpPr>
          <a:xfrm>
            <a:off x="5611680" y="1851120"/>
            <a:ext cx="1981080" cy="4449240"/>
            <a:chOff x="5611680" y="1851120"/>
            <a:chExt cx="1981080" cy="4449240"/>
          </a:xfrm>
        </p:grpSpPr>
        <p:sp>
          <p:nvSpPr>
            <p:cNvPr id="792" name="Text Box 4"/>
            <p:cNvSpPr/>
            <p:nvPr/>
          </p:nvSpPr>
          <p:spPr>
            <a:xfrm>
              <a:off x="5611680" y="1851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WordArt 5"/>
            <p:cNvSpPr txBox="1"/>
            <p:nvPr/>
          </p:nvSpPr>
          <p:spPr>
            <a:xfrm rot="5400000">
              <a:off x="6373440" y="5081040"/>
              <a:ext cx="1599840" cy="83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对啦！</a:t>
              </a:r>
              <a:endPara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4" name="Group 6"/>
          <p:cNvGrpSpPr/>
          <p:nvPr/>
        </p:nvGrpSpPr>
        <p:grpSpPr>
          <a:xfrm>
            <a:off x="1801800" y="2763720"/>
            <a:ext cx="5181480" cy="2197080"/>
            <a:chOff x="1801800" y="2763720"/>
            <a:chExt cx="5181480" cy="2197080"/>
          </a:xfrm>
        </p:grpSpPr>
        <p:grpSp>
          <p:nvGrpSpPr>
            <p:cNvPr id="795" name="Group 7"/>
            <p:cNvGrpSpPr/>
            <p:nvPr/>
          </p:nvGrpSpPr>
          <p:grpSpPr>
            <a:xfrm>
              <a:off x="1801800" y="2763720"/>
              <a:ext cx="1371600" cy="1450440"/>
              <a:chOff x="1801800" y="2763720"/>
              <a:chExt cx="1371600" cy="1450440"/>
            </a:xfrm>
          </p:grpSpPr>
          <p:sp>
            <p:nvSpPr>
              <p:cNvPr id="796" name="Oval 8"/>
              <p:cNvSpPr/>
              <p:nvPr/>
            </p:nvSpPr>
            <p:spPr>
              <a:xfrm>
                <a:off x="1801800" y="2763720"/>
                <a:ext cx="1371600" cy="14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Oval 9"/>
              <p:cNvSpPr/>
              <p:nvPr/>
            </p:nvSpPr>
            <p:spPr>
              <a:xfrm>
                <a:off x="2487600" y="3449520"/>
                <a:ext cx="75960" cy="76320"/>
              </a:xfrm>
              <a:prstGeom prst="ellipse">
                <a:avLst/>
              </a:prstGeom>
              <a:solidFill>
                <a:srgbClr val="e4831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Line 10"/>
              <p:cNvSpPr/>
              <p:nvPr/>
            </p:nvSpPr>
            <p:spPr>
              <a:xfrm>
                <a:off x="2639880" y="367812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Text Box 11"/>
              <p:cNvSpPr/>
              <p:nvPr/>
            </p:nvSpPr>
            <p:spPr>
              <a:xfrm>
                <a:off x="2259000" y="337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Text Box 12"/>
              <p:cNvSpPr/>
              <p:nvPr/>
            </p:nvSpPr>
            <p:spPr>
              <a:xfrm>
                <a:off x="2487600" y="37544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1" name="Group 13"/>
            <p:cNvGrpSpPr/>
            <p:nvPr/>
          </p:nvGrpSpPr>
          <p:grpSpPr>
            <a:xfrm>
              <a:off x="3782880" y="2840040"/>
              <a:ext cx="1371600" cy="1450080"/>
              <a:chOff x="3782880" y="2840040"/>
              <a:chExt cx="1371600" cy="1450080"/>
            </a:xfrm>
          </p:grpSpPr>
          <p:sp>
            <p:nvSpPr>
              <p:cNvPr id="802" name="Oval 14"/>
              <p:cNvSpPr/>
              <p:nvPr/>
            </p:nvSpPr>
            <p:spPr>
              <a:xfrm>
                <a:off x="3782880" y="2840040"/>
                <a:ext cx="1371600" cy="1447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4468680" y="3525840"/>
                <a:ext cx="76320" cy="75960"/>
              </a:xfrm>
              <a:prstGeom prst="ellipse">
                <a:avLst/>
              </a:prstGeom>
              <a:solidFill>
                <a:srgbClr val="e4831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Line 16"/>
              <p:cNvSpPr/>
              <p:nvPr/>
            </p:nvSpPr>
            <p:spPr>
              <a:xfrm>
                <a:off x="4164120" y="2916000"/>
                <a:ext cx="68580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Text Box 17"/>
              <p:cNvSpPr/>
              <p:nvPr/>
            </p:nvSpPr>
            <p:spPr>
              <a:xfrm>
                <a:off x="4240080" y="34495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Text Box 18"/>
              <p:cNvSpPr/>
              <p:nvPr/>
            </p:nvSpPr>
            <p:spPr>
              <a:xfrm>
                <a:off x="4468680" y="3830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7" name="Group 19"/>
            <p:cNvGrpSpPr/>
            <p:nvPr/>
          </p:nvGrpSpPr>
          <p:grpSpPr>
            <a:xfrm>
              <a:off x="5611680" y="2916360"/>
              <a:ext cx="1371600" cy="1450080"/>
              <a:chOff x="5611680" y="2916360"/>
              <a:chExt cx="1371600" cy="1450080"/>
            </a:xfrm>
          </p:grpSpPr>
          <p:sp>
            <p:nvSpPr>
              <p:cNvPr id="808" name="Oval 20"/>
              <p:cNvSpPr/>
              <p:nvPr/>
            </p:nvSpPr>
            <p:spPr>
              <a:xfrm>
                <a:off x="5611680" y="2916360"/>
                <a:ext cx="1371600" cy="1447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Oval 21"/>
              <p:cNvSpPr/>
              <p:nvPr/>
            </p:nvSpPr>
            <p:spPr>
              <a:xfrm>
                <a:off x="6297480" y="3602160"/>
                <a:ext cx="75960" cy="75960"/>
              </a:xfrm>
              <a:prstGeom prst="ellipse">
                <a:avLst/>
              </a:prstGeom>
              <a:solidFill>
                <a:srgbClr val="e4831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Line 22"/>
              <p:cNvSpPr/>
              <p:nvPr/>
            </p:nvSpPr>
            <p:spPr>
              <a:xfrm>
                <a:off x="6373440" y="3678120"/>
                <a:ext cx="3049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Text Box 23"/>
              <p:cNvSpPr/>
              <p:nvPr/>
            </p:nvSpPr>
            <p:spPr>
              <a:xfrm>
                <a:off x="6068880" y="3525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Text Box 24"/>
              <p:cNvSpPr/>
              <p:nvPr/>
            </p:nvSpPr>
            <p:spPr>
              <a:xfrm>
                <a:off x="6297480" y="39067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3" name="Text Box 25"/>
            <p:cNvSpPr/>
            <p:nvPr/>
          </p:nvSpPr>
          <p:spPr>
            <a:xfrm>
              <a:off x="2182680" y="4363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26"/>
            <p:cNvSpPr/>
            <p:nvPr/>
          </p:nvSpPr>
          <p:spPr>
            <a:xfrm>
              <a:off x="4165920" y="444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Rectangle 27"/>
            <p:cNvSpPr/>
            <p:nvPr/>
          </p:nvSpPr>
          <p:spPr>
            <a:xfrm>
              <a:off x="6233760" y="444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6" name="同侧圆角矩形 27"/>
          <p:cNvGrpSpPr/>
          <p:nvPr/>
        </p:nvGrpSpPr>
        <p:grpSpPr>
          <a:xfrm>
            <a:off x="2048040" y="360360"/>
            <a:ext cx="2006280" cy="517680"/>
            <a:chOff x="2048040" y="360360"/>
            <a:chExt cx="2006280" cy="517680"/>
          </a:xfrm>
        </p:grpSpPr>
        <p:pic>
          <p:nvPicPr>
            <p:cNvPr id="817" name="同侧圆角矩形 27" descr=""/>
            <p:cNvPicPr/>
            <p:nvPr/>
          </p:nvPicPr>
          <p:blipFill>
            <a:blip r:embed="rId1"/>
            <a:stretch/>
          </p:blipFill>
          <p:spPr>
            <a:xfrm>
              <a:off x="2048040" y="360360"/>
              <a:ext cx="20062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2076480" y="38592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9" name="直线连接符 21"/>
          <p:cNvSpPr/>
          <p:nvPr/>
        </p:nvSpPr>
        <p:spPr>
          <a:xfrm flipV="1">
            <a:off x="2082960" y="105228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同侧圆角矩形 12"/>
          <p:cNvGrpSpPr/>
          <p:nvPr/>
        </p:nvGrpSpPr>
        <p:grpSpPr>
          <a:xfrm>
            <a:off x="1871640" y="450720"/>
            <a:ext cx="1998720" cy="519120"/>
            <a:chOff x="1871640" y="450720"/>
            <a:chExt cx="1998720" cy="519120"/>
          </a:xfrm>
        </p:grpSpPr>
        <p:pic>
          <p:nvPicPr>
            <p:cNvPr id="821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1871640" y="45072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1897200" y="47772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3" name="直线连接符 21"/>
          <p:cNvSpPr/>
          <p:nvPr/>
        </p:nvSpPr>
        <p:spPr>
          <a:xfrm flipV="1">
            <a:off x="1868400" y="11253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82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7" name="AutoShape 27"/>
          <p:cNvSpPr/>
          <p:nvPr/>
        </p:nvSpPr>
        <p:spPr>
          <a:xfrm>
            <a:off x="5848200" y="1622520"/>
            <a:ext cx="2792520" cy="1109520"/>
          </a:xfrm>
          <a:prstGeom prst="wedgeRoundRectCallout">
            <a:avLst>
              <a:gd name="adj1" fmla="val -61407"/>
              <a:gd name="adj2" fmla="val -33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在一个圆内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半径和直径都有无数条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直径是半径的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Group 23"/>
          <p:cNvGrpSpPr/>
          <p:nvPr/>
        </p:nvGrpSpPr>
        <p:grpSpPr>
          <a:xfrm>
            <a:off x="3276720" y="1332000"/>
            <a:ext cx="2447280" cy="1871640"/>
            <a:chOff x="3276720" y="1332000"/>
            <a:chExt cx="2447280" cy="1871640"/>
          </a:xfrm>
        </p:grpSpPr>
        <p:pic>
          <p:nvPicPr>
            <p:cNvPr id="829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33200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46088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矩形 21"/>
          <p:cNvSpPr/>
          <p:nvPr/>
        </p:nvSpPr>
        <p:spPr>
          <a:xfrm>
            <a:off x="612720" y="3429000"/>
            <a:ext cx="803268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连接圆心和圆上任意一点的线段叫做半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用字母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。通过圆心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并且两端都在圆上的线段叫做直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用字母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615960" y="4930920"/>
            <a:ext cx="8032680" cy="459720"/>
          </a:xfrm>
          <a:prstGeom prst="rect">
            <a:avLst/>
          </a:prstGeom>
          <a:solidFill>
            <a:srgbClr val="00b05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圆规画圆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把有针尖的一只脚固定在一点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它所在的点为圆心。圆规两脚之间的距离为半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圆心确定圆的位置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半径决定圆的大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2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7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2"/>
          <p:cNvSpPr/>
          <p:nvPr/>
        </p:nvSpPr>
        <p:spPr>
          <a:xfrm>
            <a:off x="1682640" y="1380960"/>
            <a:ext cx="0" cy="175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3"/>
          <p:cNvSpPr/>
          <p:nvPr/>
        </p:nvSpPr>
        <p:spPr>
          <a:xfrm flipH="1">
            <a:off x="1682280" y="3133800"/>
            <a:ext cx="17528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1685880" y="1418760"/>
            <a:ext cx="175248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3435480" y="1380960"/>
            <a:ext cx="0" cy="175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"/>
          <p:cNvSpPr/>
          <p:nvPr/>
        </p:nvSpPr>
        <p:spPr>
          <a:xfrm flipH="1">
            <a:off x="6843240" y="3078000"/>
            <a:ext cx="175284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7"/>
          <p:cNvSpPr/>
          <p:nvPr/>
        </p:nvSpPr>
        <p:spPr>
          <a:xfrm flipV="1">
            <a:off x="6843600" y="1172880"/>
            <a:ext cx="914400" cy="19047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7717320" y="1190160"/>
            <a:ext cx="843120" cy="187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1187280" y="384336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10"/>
          <p:cNvSpPr/>
          <p:nvPr/>
        </p:nvSpPr>
        <p:spPr>
          <a:xfrm>
            <a:off x="730080" y="521496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1"/>
          <p:cNvSpPr/>
          <p:nvPr/>
        </p:nvSpPr>
        <p:spPr>
          <a:xfrm flipV="1">
            <a:off x="730080" y="3843360"/>
            <a:ext cx="45720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2"/>
          <p:cNvSpPr/>
          <p:nvPr/>
        </p:nvSpPr>
        <p:spPr>
          <a:xfrm flipV="1">
            <a:off x="2787480" y="3843360"/>
            <a:ext cx="45720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3"/>
          <p:cNvSpPr/>
          <p:nvPr/>
        </p:nvSpPr>
        <p:spPr>
          <a:xfrm flipV="1">
            <a:off x="3549600" y="5138280"/>
            <a:ext cx="259092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4006800" y="3843360"/>
            <a:ext cx="1752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15"/>
          <p:cNvSpPr/>
          <p:nvPr/>
        </p:nvSpPr>
        <p:spPr>
          <a:xfrm flipV="1">
            <a:off x="3549600" y="3843360"/>
            <a:ext cx="457200" cy="129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16"/>
          <p:cNvSpPr/>
          <p:nvPr/>
        </p:nvSpPr>
        <p:spPr>
          <a:xfrm flipH="1" flipV="1">
            <a:off x="5727600" y="3814920"/>
            <a:ext cx="394200" cy="1345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6978600" y="3767040"/>
            <a:ext cx="13716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3892680" y="1380960"/>
            <a:ext cx="0" cy="175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3892680" y="3133800"/>
            <a:ext cx="274320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3892680" y="1380600"/>
            <a:ext cx="274320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6635880" y="1380960"/>
            <a:ext cx="0" cy="175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1758960" y="3286080"/>
            <a:ext cx="160020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4654440" y="3286080"/>
            <a:ext cx="167652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6996240" y="3230640"/>
            <a:ext cx="129528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792000" y="5367240"/>
            <a:ext cx="208764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4159080" y="5291280"/>
            <a:ext cx="129564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7272360" y="5318280"/>
            <a:ext cx="762120" cy="82512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28">
            <a:hlinkClick r:id="" action="ppaction://hlinkshowjump?jump=lastslide"/>
          </p:cNvPr>
          <p:cNvSpPr/>
          <p:nvPr/>
        </p:nvSpPr>
        <p:spPr>
          <a:xfrm>
            <a:off x="5181480" y="7467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32"/>
          <p:cNvSpPr/>
          <p:nvPr/>
        </p:nvSpPr>
        <p:spPr>
          <a:xfrm>
            <a:off x="1898640" y="5991120"/>
            <a:ext cx="51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圆是由封闭曲线围成的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面图形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同侧圆角矩形 31"/>
          <p:cNvGrpSpPr/>
          <p:nvPr/>
        </p:nvGrpSpPr>
        <p:grpSpPr>
          <a:xfrm>
            <a:off x="1689120" y="237960"/>
            <a:ext cx="1998720" cy="517320"/>
            <a:chOff x="1689120" y="237960"/>
            <a:chExt cx="1998720" cy="517320"/>
          </a:xfrm>
        </p:grpSpPr>
        <p:pic>
          <p:nvPicPr>
            <p:cNvPr id="393" name="同侧圆角矩形 31" descr=""/>
            <p:cNvPicPr/>
            <p:nvPr/>
          </p:nvPicPr>
          <p:blipFill>
            <a:blip r:embed="rId1"/>
            <a:stretch/>
          </p:blipFill>
          <p:spPr>
            <a:xfrm>
              <a:off x="1689120" y="237960"/>
              <a:ext cx="199872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711440" y="2646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直线连接符 21"/>
          <p:cNvSpPr/>
          <p:nvPr/>
        </p:nvSpPr>
        <p:spPr>
          <a:xfrm flipV="1">
            <a:off x="1682640" y="90792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9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4711680"/>
          </a:xfrm>
          <a:prstGeom prst="rect">
            <a:avLst/>
          </a:prstGeom>
          <a:ln w="0">
            <a:noFill/>
          </a:ln>
        </p:spPr>
      </p:pic>
      <p:grpSp>
        <p:nvGrpSpPr>
          <p:cNvPr id="397" name="同侧圆角矩形 3"/>
          <p:cNvGrpSpPr/>
          <p:nvPr/>
        </p:nvGrpSpPr>
        <p:grpSpPr>
          <a:xfrm>
            <a:off x="1835280" y="500040"/>
            <a:ext cx="1998360" cy="517680"/>
            <a:chOff x="1835280" y="500040"/>
            <a:chExt cx="1998360" cy="517680"/>
          </a:xfrm>
        </p:grpSpPr>
        <p:pic>
          <p:nvPicPr>
            <p:cNvPr id="398" name="同侧圆角矩形 3" descr=""/>
            <p:cNvPicPr/>
            <p:nvPr/>
          </p:nvPicPr>
          <p:blipFill>
            <a:blip r:embed="rId2"/>
            <a:stretch/>
          </p:blipFill>
          <p:spPr>
            <a:xfrm>
              <a:off x="1835280" y="500040"/>
              <a:ext cx="19983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860480" y="523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直线连接符 21"/>
          <p:cNvSpPr/>
          <p:nvPr/>
        </p:nvSpPr>
        <p:spPr>
          <a:xfrm flipV="1">
            <a:off x="1835280" y="119664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1187280" y="1908000"/>
            <a:ext cx="5948640" cy="1296720"/>
            <a:chOff x="1187280" y="1908000"/>
            <a:chExt cx="5948640" cy="1296720"/>
          </a:xfrm>
        </p:grpSpPr>
        <p:pic>
          <p:nvPicPr>
            <p:cNvPr id="402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1187280" y="192528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AutoShape 27"/>
            <p:cNvSpPr/>
            <p:nvPr/>
          </p:nvSpPr>
          <p:spPr>
            <a:xfrm>
              <a:off x="3247920" y="1908000"/>
              <a:ext cx="3888000" cy="936360"/>
            </a:xfrm>
            <a:prstGeom prst="wedgeRoundRectCallout">
              <a:avLst>
                <a:gd name="adj1" fmla="val -62777"/>
                <a:gd name="adj2" fmla="val 14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想办法在纸上画一个圆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4" name="Picture 18" descr="杯子"/>
          <p:cNvPicPr/>
          <p:nvPr/>
        </p:nvPicPr>
        <p:blipFill>
          <a:blip r:embed="rId2"/>
          <a:stretch/>
        </p:blipFill>
        <p:spPr>
          <a:xfrm>
            <a:off x="826920" y="3716280"/>
            <a:ext cx="1667160" cy="1440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圆规"/>
          <p:cNvPicPr/>
          <p:nvPr/>
        </p:nvPicPr>
        <p:blipFill>
          <a:blip r:embed="rId3"/>
          <a:stretch/>
        </p:blipFill>
        <p:spPr>
          <a:xfrm>
            <a:off x="6948360" y="3789360"/>
            <a:ext cx="1003320" cy="1440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1" descr="三角尺"/>
          <p:cNvPicPr/>
          <p:nvPr/>
        </p:nvPicPr>
        <p:blipFill>
          <a:blip r:embed="rId4"/>
          <a:stretch/>
        </p:blipFill>
        <p:spPr>
          <a:xfrm>
            <a:off x="3276720" y="4005360"/>
            <a:ext cx="27129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07" name="同侧圆角矩形 11"/>
          <p:cNvGrpSpPr/>
          <p:nvPr/>
        </p:nvGrpSpPr>
        <p:grpSpPr>
          <a:xfrm>
            <a:off x="1736640" y="500040"/>
            <a:ext cx="2006640" cy="517680"/>
            <a:chOff x="1736640" y="500040"/>
            <a:chExt cx="2006640" cy="517680"/>
          </a:xfrm>
        </p:grpSpPr>
        <p:pic>
          <p:nvPicPr>
            <p:cNvPr id="408" name="同侧圆角矩形 11" descr=""/>
            <p:cNvPicPr/>
            <p:nvPr/>
          </p:nvPicPr>
          <p:blipFill>
            <a:blip r:embed="rId5"/>
            <a:stretch/>
          </p:blipFill>
          <p:spPr>
            <a:xfrm>
              <a:off x="1736640" y="500040"/>
              <a:ext cx="20066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65440" y="523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直线连接符 21"/>
          <p:cNvSpPr/>
          <p:nvPr/>
        </p:nvSpPr>
        <p:spPr>
          <a:xfrm flipV="1">
            <a:off x="1703520" y="1125360"/>
            <a:ext cx="207144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AutoShape 3"/>
          <p:cNvSpPr/>
          <p:nvPr/>
        </p:nvSpPr>
        <p:spPr>
          <a:xfrm>
            <a:off x="324000" y="2117880"/>
            <a:ext cx="3673440" cy="131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826920" y="4005360"/>
            <a:ext cx="7813800" cy="2087640"/>
          </a:xfrm>
          <a:prstGeom prst="parallelogram">
            <a:avLst>
              <a:gd name="adj" fmla="val -91588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065480" y="5013360"/>
            <a:ext cx="7994520" cy="1471320"/>
            <a:chOff x="4065480" y="5013360"/>
            <a:chExt cx="7994520" cy="1471320"/>
          </a:xfrm>
        </p:grpSpPr>
        <p:grpSp>
          <p:nvGrpSpPr>
            <p:cNvPr id="414" name="Group 6"/>
            <p:cNvGrpSpPr/>
            <p:nvPr/>
          </p:nvGrpSpPr>
          <p:grpSpPr>
            <a:xfrm>
              <a:off x="4065480" y="5013360"/>
              <a:ext cx="7994520" cy="1471320"/>
              <a:chOff x="4065480" y="5013360"/>
              <a:chExt cx="7994520" cy="1471320"/>
            </a:xfrm>
          </p:grpSpPr>
          <p:graphicFrame>
            <p:nvGraphicFramePr>
              <p:cNvPr id="415" name="Object 7"/>
              <p:cNvGraphicFramePr/>
              <p:nvPr/>
            </p:nvGraphicFramePr>
            <p:xfrm>
              <a:off x="4065480" y="5013360"/>
              <a:ext cx="7944480" cy="1333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065480" y="5013360"/>
                        <a:ext cx="7944480" cy="133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7" name="Rectangle 8"/>
              <p:cNvSpPr/>
              <p:nvPr/>
            </p:nvSpPr>
            <p:spPr>
              <a:xfrm>
                <a:off x="11782800" y="6343920"/>
                <a:ext cx="277200" cy="14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8" name="Text Box 9"/>
            <p:cNvSpPr/>
            <p:nvPr/>
          </p:nvSpPr>
          <p:spPr>
            <a:xfrm>
              <a:off x="4073400" y="53409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497700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88132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677484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768240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948780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1031976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1122660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8583120" y="53672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华文仿宋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4134960" y="612720"/>
            <a:ext cx="4456800" cy="5193360"/>
            <a:chOff x="4134960" y="612720"/>
            <a:chExt cx="4456800" cy="5193360"/>
          </a:xfrm>
        </p:grpSpPr>
        <p:pic>
          <p:nvPicPr>
            <p:cNvPr id="428" name="Picture 20" descr="TO076 拷贝5"/>
            <p:cNvPicPr/>
            <p:nvPr/>
          </p:nvPicPr>
          <p:blipFill>
            <a:blip r:embed="rId3"/>
            <a:stretch/>
          </p:blipFill>
          <p:spPr>
            <a:xfrm rot="2132400">
              <a:off x="5167800" y="1206360"/>
              <a:ext cx="2368440" cy="43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1" descr="TO076 拷贝"/>
            <p:cNvPicPr/>
            <p:nvPr/>
          </p:nvPicPr>
          <p:blipFill>
            <a:blip r:embed="rId4"/>
            <a:stretch/>
          </p:blipFill>
          <p:spPr>
            <a:xfrm rot="2132400">
              <a:off x="5190480" y="899280"/>
              <a:ext cx="2368440" cy="431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Text Box 22"/>
          <p:cNvSpPr/>
          <p:nvPr/>
        </p:nvSpPr>
        <p:spPr>
          <a:xfrm>
            <a:off x="1847160" y="2117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一、定长（半径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1823400" y="2478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二、定点（圆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1109880" y="29084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华文新魏"/>
                <a:ea typeface="华文新魏"/>
              </a:rPr>
              <a:t>三、一只脚旋转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4736520" y="45086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Calibri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6"/>
          <p:cNvSpPr/>
          <p:nvPr/>
        </p:nvSpPr>
        <p:spPr>
          <a:xfrm>
            <a:off x="4643280" y="4941720"/>
            <a:ext cx="21600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27"/>
          <p:cNvGrpSpPr/>
          <p:nvPr/>
        </p:nvGrpSpPr>
        <p:grpSpPr>
          <a:xfrm>
            <a:off x="2970360" y="714240"/>
            <a:ext cx="3770280" cy="5149440"/>
            <a:chOff x="2970360" y="714240"/>
            <a:chExt cx="3770280" cy="5149440"/>
          </a:xfrm>
        </p:grpSpPr>
        <p:pic>
          <p:nvPicPr>
            <p:cNvPr id="436" name="Picture 28" descr="TO076 拷贝5"/>
            <p:cNvPicPr/>
            <p:nvPr/>
          </p:nvPicPr>
          <p:blipFill>
            <a:blip r:embed="rId5"/>
            <a:stretch/>
          </p:blipFill>
          <p:spPr>
            <a:xfrm flipH="1" rot="20403600">
              <a:off x="3634560" y="1276200"/>
              <a:ext cx="2368440" cy="43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29" descr="TO076 拷贝"/>
            <p:cNvPicPr/>
            <p:nvPr/>
          </p:nvPicPr>
          <p:blipFill>
            <a:blip r:embed="rId6"/>
            <a:stretch/>
          </p:blipFill>
          <p:spPr>
            <a:xfrm flipH="1" rot="20403600">
              <a:off x="3707640" y="988920"/>
              <a:ext cx="2368440" cy="43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Oval 30"/>
          <p:cNvSpPr/>
          <p:nvPr/>
        </p:nvSpPr>
        <p:spPr>
          <a:xfrm>
            <a:off x="2700360" y="4221000"/>
            <a:ext cx="4176720" cy="1584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31"/>
          <p:cNvGrpSpPr/>
          <p:nvPr/>
        </p:nvGrpSpPr>
        <p:grpSpPr>
          <a:xfrm>
            <a:off x="2488320" y="426240"/>
            <a:ext cx="4592160" cy="5132520"/>
            <a:chOff x="2488320" y="426240"/>
            <a:chExt cx="4592160" cy="5132520"/>
          </a:xfrm>
        </p:grpSpPr>
        <p:pic>
          <p:nvPicPr>
            <p:cNvPr id="440" name="Picture 32" descr="TO076 拷贝5"/>
            <p:cNvPicPr/>
            <p:nvPr/>
          </p:nvPicPr>
          <p:blipFill>
            <a:blip r:embed="rId7"/>
            <a:stretch/>
          </p:blipFill>
          <p:spPr>
            <a:xfrm flipH="1" rot="19240200">
              <a:off x="3613320" y="983520"/>
              <a:ext cx="2368440" cy="43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33" descr="TO076 拷贝"/>
            <p:cNvPicPr/>
            <p:nvPr/>
          </p:nvPicPr>
          <p:blipFill>
            <a:blip r:embed="rId8"/>
            <a:stretch/>
          </p:blipFill>
          <p:spPr>
            <a:xfrm flipH="1" rot="19240200">
              <a:off x="3586680" y="688320"/>
              <a:ext cx="2368440" cy="43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同侧圆角矩形 33"/>
          <p:cNvGrpSpPr/>
          <p:nvPr/>
        </p:nvGrpSpPr>
        <p:grpSpPr>
          <a:xfrm>
            <a:off x="1700280" y="414360"/>
            <a:ext cx="2000160" cy="519120"/>
            <a:chOff x="1700280" y="414360"/>
            <a:chExt cx="2000160" cy="519120"/>
          </a:xfrm>
        </p:grpSpPr>
        <p:pic>
          <p:nvPicPr>
            <p:cNvPr id="443" name="同侧圆角矩形 33" descr=""/>
            <p:cNvPicPr/>
            <p:nvPr/>
          </p:nvPicPr>
          <p:blipFill>
            <a:blip r:embed="rId9"/>
            <a:stretch/>
          </p:blipFill>
          <p:spPr>
            <a:xfrm>
              <a:off x="1700280" y="41436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725480" y="439560"/>
              <a:ext cx="194976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直线连接符 21"/>
          <p:cNvSpPr/>
          <p:nvPr/>
        </p:nvSpPr>
        <p:spPr>
          <a:xfrm flipV="1">
            <a:off x="1628640" y="11253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21 -0.03218 L 0.00034 0.00995 E">
                                      <p:cBhvr>
                                        <p:cTn id="198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047 L -3.61111E-006 -2.22222E-006 E">
                                      <p:cBhvr>
                                        <p:cTn id="230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Oval 2"/>
          <p:cNvSpPr/>
          <p:nvPr/>
        </p:nvSpPr>
        <p:spPr>
          <a:xfrm>
            <a:off x="2305080" y="1557360"/>
            <a:ext cx="4191120" cy="4191120"/>
          </a:xfrm>
          <a:prstGeom prst="ellipse">
            <a:avLst/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4375080" y="2809800"/>
            <a:ext cx="1079640" cy="480960"/>
          </a:xfrm>
          <a:prstGeom prst="wedgeRoundRectCallout">
            <a:avLst>
              <a:gd name="adj1" fmla="val -57499"/>
              <a:gd name="adj2" fmla="val 11138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4400640" y="1557360"/>
            <a:ext cx="0" cy="4191120"/>
          </a:xfrm>
          <a:prstGeom prst="line">
            <a:avLst/>
          </a:prstGeom>
          <a:ln w="381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5"/>
          <p:cNvSpPr/>
          <p:nvPr/>
        </p:nvSpPr>
        <p:spPr>
          <a:xfrm flipV="1">
            <a:off x="2305080" y="3602160"/>
            <a:ext cx="4157640" cy="15840"/>
          </a:xfrm>
          <a:prstGeom prst="line">
            <a:avLst/>
          </a:prstGeom>
          <a:ln w="381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003480" y="2106720"/>
            <a:ext cx="2793960" cy="3092400"/>
          </a:xfrm>
          <a:prstGeom prst="line">
            <a:avLst/>
          </a:prstGeom>
          <a:ln w="381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7"/>
          <p:cNvSpPr/>
          <p:nvPr/>
        </p:nvSpPr>
        <p:spPr>
          <a:xfrm flipH="1">
            <a:off x="2381400" y="3005280"/>
            <a:ext cx="4038480" cy="1218960"/>
          </a:xfrm>
          <a:prstGeom prst="line">
            <a:avLst/>
          </a:prstGeom>
          <a:ln w="381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8"/>
          <p:cNvSpPr/>
          <p:nvPr/>
        </p:nvSpPr>
        <p:spPr>
          <a:xfrm>
            <a:off x="4299120" y="3538440"/>
            <a:ext cx="139680" cy="138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3905280" y="353844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同侧圆角矩形 9"/>
          <p:cNvGrpSpPr/>
          <p:nvPr/>
        </p:nvGrpSpPr>
        <p:grpSpPr>
          <a:xfrm>
            <a:off x="1682640" y="622440"/>
            <a:ext cx="1998720" cy="517320"/>
            <a:chOff x="1682640" y="622440"/>
            <a:chExt cx="1998720" cy="517320"/>
          </a:xfrm>
        </p:grpSpPr>
        <p:pic>
          <p:nvPicPr>
            <p:cNvPr id="455" name="同侧圆角矩形 9" descr=""/>
            <p:cNvPicPr/>
            <p:nvPr/>
          </p:nvPicPr>
          <p:blipFill>
            <a:blip r:embed="rId1"/>
            <a:stretch/>
          </p:blipFill>
          <p:spPr>
            <a:xfrm>
              <a:off x="1682640" y="62244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1708200" y="6462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7" name="直线连接符 21"/>
          <p:cNvSpPr/>
          <p:nvPr/>
        </p:nvSpPr>
        <p:spPr>
          <a:xfrm flipV="1">
            <a:off x="1692360" y="128556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3"/>
          <p:cNvSpPr/>
          <p:nvPr/>
        </p:nvSpPr>
        <p:spPr>
          <a:xfrm>
            <a:off x="2286000" y="1143000"/>
            <a:ext cx="4191120" cy="4191120"/>
          </a:xfrm>
          <a:prstGeom prst="ellips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1219320" y="5638680"/>
            <a:ext cx="70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圆心和圆上任意一点的线段叫做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半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4311720" y="3135240"/>
            <a:ext cx="139680" cy="138240"/>
          </a:xfrm>
          <a:prstGeom prst="ellipse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5"/>
          <p:cNvSpPr/>
          <p:nvPr/>
        </p:nvSpPr>
        <p:spPr>
          <a:xfrm rot="19593600">
            <a:off x="5486760" y="220932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7"/>
          <p:cNvSpPr/>
          <p:nvPr/>
        </p:nvSpPr>
        <p:spPr>
          <a:xfrm rot="19542600">
            <a:off x="4495680" y="26661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半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6"/>
          <p:cNvSpPr/>
          <p:nvPr/>
        </p:nvSpPr>
        <p:spPr>
          <a:xfrm flipV="1">
            <a:off x="4413960" y="2189520"/>
            <a:ext cx="1783080" cy="1024560"/>
          </a:xfrm>
          <a:prstGeom prst="line">
            <a:avLst/>
          </a:prstGeom>
          <a:ln w="381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4" name="同侧圆角矩形 7"/>
          <p:cNvGrpSpPr/>
          <p:nvPr/>
        </p:nvGrpSpPr>
        <p:grpSpPr>
          <a:xfrm>
            <a:off x="1835280" y="365040"/>
            <a:ext cx="1998360" cy="519120"/>
            <a:chOff x="1835280" y="365040"/>
            <a:chExt cx="1998360" cy="519120"/>
          </a:xfrm>
        </p:grpSpPr>
        <p:pic>
          <p:nvPicPr>
            <p:cNvPr id="465" name="同侧圆角矩形 7" descr=""/>
            <p:cNvPicPr/>
            <p:nvPr/>
          </p:nvPicPr>
          <p:blipFill>
            <a:blip r:embed="rId1"/>
            <a:stretch/>
          </p:blipFill>
          <p:spPr>
            <a:xfrm>
              <a:off x="1835280" y="365040"/>
              <a:ext cx="1998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1860480" y="39204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直线连接符 21"/>
          <p:cNvSpPr/>
          <p:nvPr/>
        </p:nvSpPr>
        <p:spPr>
          <a:xfrm flipV="1">
            <a:off x="1835280" y="105228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2286000" y="1119240"/>
            <a:ext cx="4130640" cy="4191120"/>
            <a:chOff x="2286000" y="1119240"/>
            <a:chExt cx="4130640" cy="4191120"/>
          </a:xfrm>
        </p:grpSpPr>
        <p:sp>
          <p:nvSpPr>
            <p:cNvPr id="469" name="Oval 3"/>
            <p:cNvSpPr/>
            <p:nvPr/>
          </p:nvSpPr>
          <p:spPr>
            <a:xfrm>
              <a:off x="2286000" y="1119240"/>
              <a:ext cx="4130640" cy="4191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Oval 4"/>
            <p:cNvSpPr/>
            <p:nvPr/>
          </p:nvSpPr>
          <p:spPr>
            <a:xfrm>
              <a:off x="4282920" y="3075120"/>
              <a:ext cx="136800" cy="135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Line 5"/>
          <p:cNvSpPr/>
          <p:nvPr/>
        </p:nvSpPr>
        <p:spPr>
          <a:xfrm>
            <a:off x="2286000" y="3179880"/>
            <a:ext cx="4130640" cy="0"/>
          </a:xfrm>
          <a:prstGeom prst="line">
            <a:avLst/>
          </a:prstGeom>
          <a:ln w="381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360600" y="310032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4427640" y="3100320"/>
            <a:ext cx="7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836640" y="5530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圆心并且两端都在圆上的线段叫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9"/>
          <p:cNvGrpSpPr/>
          <p:nvPr/>
        </p:nvGrpSpPr>
        <p:grpSpPr>
          <a:xfrm>
            <a:off x="2209680" y="3100320"/>
            <a:ext cx="4267080" cy="138240"/>
            <a:chOff x="2209680" y="3100320"/>
            <a:chExt cx="4267080" cy="138240"/>
          </a:xfrm>
        </p:grpSpPr>
        <p:sp>
          <p:nvSpPr>
            <p:cNvPr id="476" name="Oval 10"/>
            <p:cNvSpPr/>
            <p:nvPr/>
          </p:nvSpPr>
          <p:spPr>
            <a:xfrm>
              <a:off x="2209680" y="3100320"/>
              <a:ext cx="137520" cy="13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Oval 11"/>
            <p:cNvSpPr/>
            <p:nvPr/>
          </p:nvSpPr>
          <p:spPr>
            <a:xfrm>
              <a:off x="6339240" y="3100320"/>
              <a:ext cx="137520" cy="13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同侧圆角矩形 11"/>
          <p:cNvGrpSpPr/>
          <p:nvPr/>
        </p:nvGrpSpPr>
        <p:grpSpPr>
          <a:xfrm>
            <a:off x="1620720" y="281160"/>
            <a:ext cx="2000520" cy="517320"/>
            <a:chOff x="1620720" y="281160"/>
            <a:chExt cx="2000520" cy="517320"/>
          </a:xfrm>
        </p:grpSpPr>
        <p:pic>
          <p:nvPicPr>
            <p:cNvPr id="479" name="同侧圆角矩形 11" descr=""/>
            <p:cNvPicPr/>
            <p:nvPr/>
          </p:nvPicPr>
          <p:blipFill>
            <a:blip r:embed="rId1"/>
            <a:stretch/>
          </p:blipFill>
          <p:spPr>
            <a:xfrm>
              <a:off x="1620720" y="281160"/>
              <a:ext cx="20005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644480" y="30636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直线连接符 21"/>
          <p:cNvSpPr/>
          <p:nvPr/>
        </p:nvSpPr>
        <p:spPr>
          <a:xfrm flipV="1">
            <a:off x="1600200" y="98064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1-24T07:52:58Z</dcterms:modified>
  <cp:revision>4</cp:revision>
  <dc:subject/>
  <dc:title>幻灯片 1</dc:title>
</cp:coreProperties>
</file>