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icochet.wav" ContentType="audio/x-wav"/>
  <Override PartName="/ppt/media/chimes.wav" ContentType="audio/x-wav"/>
  <Override PartName="/ppt/media/cashreg.wav" ContentType="audio/x-wav"/>
  <Override PartName="/ppt/media/image8.wmf" ContentType="image/x-wmf"/>
  <Override PartName="/ppt/media/type.wav" ContentType="audio/x-wav"/>
  <Override PartName="/ppt/media/image12.png" ContentType="image/png"/>
  <Override PartName="/ppt/media/image6.wmf" ContentType="image/x-wmf"/>
  <Override PartName="/ppt/media/image7.png" ContentType="image/png"/>
  <Override PartName="/ppt/media/image11.jpeg" ContentType="image/jpeg"/>
  <Override PartName="/ppt/media/image10.jpeg" ContentType="image/jpeg"/>
  <Override PartName="/ppt/media/image9.wmf" ContentType="image/x-wmf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camera.wav" ContentType="audio/x-wav"/>
  <Override PartName="/ppt/media/projcto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E2E-617A-46C0-B183-5A608B02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28B-A14F-499D-8B54-D1758ADF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732-16D5-42AC-BD5F-FC42890C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3A5-FA70-460D-B0E0-0662D80E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BD7-494E-4C58-B9C3-E060A532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68B-37E9-4B89-851C-1F3490DD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767-5C9E-40FB-9751-8848FD52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8EF-9D9E-444F-8662-4E24DACA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BA0-153D-461F-A4F9-E4DBC296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1DE-F1C4-46CE-9545-4A996876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77F-5DB6-4BEE-8064-B1D24350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CDD-9292-401C-8759-C4FFE0F9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6146-0511-4465-9AD4-E9B06F8AB9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" Target="slide8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image" Target="../media/image3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" Target="slide7.xml"/><Relationship Id="rId12" Type="http://schemas.openxmlformats.org/officeDocument/2006/relationships/slide" Target="slide11.xml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cashreg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ashreg.wav"/><Relationship Id="rId11" Type="http://schemas.openxmlformats.org/officeDocument/2006/relationships/audio" Target="../media/type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audio" Target="../media/ricochet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audio" Target="../media/ricochet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" Target="slide11.xml"/><Relationship Id="rId4" Type="http://schemas.openxmlformats.org/officeDocument/2006/relationships/image" Target="../media/image3.png"/><Relationship Id="rId5" Type="http://schemas.openxmlformats.org/officeDocument/2006/relationships/slide" Target="slide6.xml"/><Relationship Id="rId6" Type="http://schemas.openxmlformats.org/officeDocument/2006/relationships/image" Target="../media/image3.png"/><Relationship Id="rId7" Type="http://schemas.openxmlformats.org/officeDocument/2006/relationships/slide" Target="slide8.xml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" Target="slide9.xml"/><Relationship Id="rId11" Type="http://schemas.openxmlformats.org/officeDocument/2006/relationships/image" Target="../media/image3.png"/><Relationship Id="rId12" Type="http://schemas.openxmlformats.org/officeDocument/2006/relationships/slide" Target="slide10.xml"/><Relationship Id="rId13" Type="http://schemas.openxmlformats.org/officeDocument/2006/relationships/image" Target="../media/image3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" Target="slide9.xml"/><Relationship Id="rId10" Type="http://schemas.openxmlformats.org/officeDocument/2006/relationships/image" Target="../media/image3.png"/><Relationship Id="rId11" Type="http://schemas.openxmlformats.org/officeDocument/2006/relationships/slide" Target="slide10.xml"/><Relationship Id="rId12" Type="http://schemas.openxmlformats.org/officeDocument/2006/relationships/image" Target="../media/image3.png"/><Relationship Id="rId13" Type="http://schemas.openxmlformats.org/officeDocument/2006/relationships/slide" Target="slide11.xml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" Target="slide9.xml"/><Relationship Id="rId10" Type="http://schemas.openxmlformats.org/officeDocument/2006/relationships/image" Target="../media/image3.png"/><Relationship Id="rId11" Type="http://schemas.openxmlformats.org/officeDocument/2006/relationships/slide" Target="slide10.xml"/><Relationship Id="rId12" Type="http://schemas.openxmlformats.org/officeDocument/2006/relationships/image" Target="../media/image3.png"/><Relationship Id="rId13" Type="http://schemas.openxmlformats.org/officeDocument/2006/relationships/slide" Target="slide7.xml"/><Relationship Id="rId14" Type="http://schemas.openxmlformats.org/officeDocument/2006/relationships/slide" Target="slide11.xm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" Target="slide9.xml"/><Relationship Id="rId10" Type="http://schemas.openxmlformats.org/officeDocument/2006/relationships/image" Target="../media/image3.png"/><Relationship Id="rId11" Type="http://schemas.openxmlformats.org/officeDocument/2006/relationships/slide" Target="slide10.xml"/><Relationship Id="rId12" Type="http://schemas.openxmlformats.org/officeDocument/2006/relationships/image" Target="../media/image3.png"/><Relationship Id="rId13" Type="http://schemas.openxmlformats.org/officeDocument/2006/relationships/slide" Target="slide7.xml"/><Relationship Id="rId14" Type="http://schemas.openxmlformats.org/officeDocument/2006/relationships/slide" Target="slide11.xm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image" Target="../media/image3.png"/><Relationship Id="rId5" Type="http://schemas.openxmlformats.org/officeDocument/2006/relationships/slide" Target="slide8.xm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image" Target="../media/image3.png"/><Relationship Id="rId10" Type="http://schemas.openxmlformats.org/officeDocument/2006/relationships/slide" Target="slide10.xml"/><Relationship Id="rId11" Type="http://schemas.openxmlformats.org/officeDocument/2006/relationships/image" Target="../media/image3.png"/><Relationship Id="rId12" Type="http://schemas.openxmlformats.org/officeDocument/2006/relationships/slide" Target="slide7.xml"/><Relationship Id="rId13" Type="http://schemas.openxmlformats.org/officeDocument/2006/relationships/slide" Target="slide11.xml"/><Relationship Id="rId14" Type="http://schemas.openxmlformats.org/officeDocument/2006/relationships/image" Target="../media/image3.png"/><Relationship Id="rId15" Type="http://schemas.openxmlformats.org/officeDocument/2006/relationships/slide" Target="slide11.xml"/><Relationship Id="rId16" Type="http://schemas.openxmlformats.org/officeDocument/2006/relationships/image" Target="../media/image3.png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" Target="slide8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image" Target="../media/image3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" Target="slide7.xml"/><Relationship Id="rId12" Type="http://schemas.openxmlformats.org/officeDocument/2006/relationships/slide" Target="slide11.xml"/><Relationship Id="rId13" Type="http://schemas.openxmlformats.org/officeDocument/2006/relationships/image" Target="../media/image3.png"/><Relationship Id="rId14" Type="http://schemas.openxmlformats.org/officeDocument/2006/relationships/slide" Target="slide11.xm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" Target="slide8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image" Target="../media/image3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" Target="slide7.xml"/><Relationship Id="rId12" Type="http://schemas.openxmlformats.org/officeDocument/2006/relationships/slide" Target="slide11.xml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76520" y="6172200"/>
            <a:ext cx="7238520" cy="642600"/>
            <a:chOff x="1676520" y="6172200"/>
            <a:chExt cx="7238520" cy="642600"/>
          </a:xfrm>
        </p:grpSpPr>
        <p:sp>
          <p:nvSpPr>
            <p:cNvPr id="42" name=""/>
            <p:cNvSpPr/>
            <p:nvPr/>
          </p:nvSpPr>
          <p:spPr>
            <a:xfrm>
              <a:off x="5135040" y="6172200"/>
              <a:ext cx="37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制作：</a:t>
              </a:r>
              <a:r>
                <a:rPr b="1" lang="zh-CN" sz="3600" spc="-1" strike="noStrike">
                  <a:solidFill>
                    <a:srgbClr val="9900ff"/>
                  </a:solidFill>
                  <a:latin typeface="Times New Roman"/>
                  <a:ea typeface="隶书"/>
                </a:rPr>
                <a:t>徐芳  吴丹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6172200"/>
              <a:ext cx="37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执教：</a:t>
              </a:r>
              <a:r>
                <a:rPr b="1" lang="zh-CN" sz="3600" spc="-1" strike="noStrike">
                  <a:solidFill>
                    <a:srgbClr val="9900ff"/>
                  </a:solidFill>
                  <a:latin typeface="Times New Roman"/>
                  <a:ea typeface="隶书"/>
                </a:rPr>
                <a:t>吴丹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0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九年制义务教育小学数学课本第四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的乘法口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2" name="" descr=""/>
          <p:cNvPicPr/>
          <p:nvPr/>
        </p:nvPicPr>
        <p:blipFill>
          <a:blip r:embed="rId1"/>
          <a:srcRect l="4173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3" name=""/>
          <p:cNvSpPr/>
          <p:nvPr/>
        </p:nvSpPr>
        <p:spPr>
          <a:xfrm>
            <a:off x="3200400" y="1057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1  = </a:t>
            </a:r>
            <a:r>
              <a:rPr b="0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200400" y="1614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2  = </a:t>
            </a:r>
            <a:r>
              <a:rPr b="0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200400" y="2173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3  = </a:t>
            </a:r>
            <a:r>
              <a:rPr b="0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200400" y="437364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7  = </a:t>
            </a:r>
            <a:r>
              <a:rPr b="0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00400" y="2730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4  = </a:t>
            </a:r>
            <a:r>
              <a:rPr b="0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200400" y="326556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5  = </a:t>
            </a:r>
            <a:r>
              <a:rPr b="0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200400" y="38005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6  = </a:t>
            </a:r>
            <a:r>
              <a:rPr b="0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200400" y="486396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8  = </a:t>
            </a:r>
            <a:r>
              <a:rPr b="0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664160" y="266220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664160" y="319716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664160" y="373212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664160" y="430704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200400" y="54072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9×9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664160" y="480384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664160" y="545472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762120" y="1295280"/>
            <a:ext cx="1218960" cy="392040"/>
            <a:chOff x="762120" y="1295280"/>
            <a:chExt cx="1218960" cy="392040"/>
          </a:xfrm>
        </p:grpSpPr>
        <p:sp>
          <p:nvSpPr>
            <p:cNvPr id="1309" name=""/>
            <p:cNvSpPr/>
            <p:nvPr/>
          </p:nvSpPr>
          <p:spPr>
            <a:xfrm>
              <a:off x="1295280" y="1574280"/>
              <a:ext cx="15264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600200" y="1574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828800" y="146412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990720" y="1574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62120" y="146412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990720" y="131256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219320" y="131256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47920" y="1295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676520" y="13510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38080" y="129528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762120" y="1819440"/>
            <a:ext cx="1218960" cy="391680"/>
            <a:chOff x="762120" y="1819440"/>
            <a:chExt cx="1218960" cy="391680"/>
          </a:xfrm>
        </p:grpSpPr>
        <p:sp>
          <p:nvSpPr>
            <p:cNvPr id="1320" name=""/>
            <p:cNvSpPr/>
            <p:nvPr/>
          </p:nvSpPr>
          <p:spPr>
            <a:xfrm>
              <a:off x="1295280" y="209844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600200" y="2098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828800" y="19882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990720" y="2098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62120" y="19882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990720" y="1836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219320" y="1836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447920" y="1819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76520" y="1875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38080" y="181944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762120" y="2343240"/>
            <a:ext cx="1218960" cy="391680"/>
            <a:chOff x="762120" y="2343240"/>
            <a:chExt cx="1218960" cy="391680"/>
          </a:xfrm>
        </p:grpSpPr>
        <p:sp>
          <p:nvSpPr>
            <p:cNvPr id="1331" name=""/>
            <p:cNvSpPr/>
            <p:nvPr/>
          </p:nvSpPr>
          <p:spPr>
            <a:xfrm>
              <a:off x="1295280" y="262224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600200" y="2622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828800" y="25120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990720" y="2622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62120" y="25120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90720" y="2360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19320" y="2360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447920" y="2343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676520" y="2399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38080" y="234324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762120" y="2932200"/>
            <a:ext cx="1218960" cy="391680"/>
            <a:chOff x="762120" y="2932200"/>
            <a:chExt cx="1218960" cy="391680"/>
          </a:xfrm>
        </p:grpSpPr>
        <p:sp>
          <p:nvSpPr>
            <p:cNvPr id="1342" name=""/>
            <p:cNvSpPr/>
            <p:nvPr/>
          </p:nvSpPr>
          <p:spPr>
            <a:xfrm>
              <a:off x="1295280" y="32112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600200" y="3211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828800" y="31010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990720" y="3211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62120" y="31010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990720" y="29494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19320" y="29494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447920" y="2932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676520" y="2988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38080" y="29322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762120" y="3456000"/>
            <a:ext cx="1218960" cy="391680"/>
            <a:chOff x="762120" y="3456000"/>
            <a:chExt cx="1218960" cy="391680"/>
          </a:xfrm>
        </p:grpSpPr>
        <p:sp>
          <p:nvSpPr>
            <p:cNvPr id="1353" name=""/>
            <p:cNvSpPr/>
            <p:nvPr/>
          </p:nvSpPr>
          <p:spPr>
            <a:xfrm>
              <a:off x="1295280" y="37350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600200" y="3735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28800" y="36248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990720" y="3735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62120" y="36248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990720" y="34732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219320" y="34732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447920" y="3456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676520" y="3511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838080" y="34560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3" name=""/>
          <p:cNvGrpSpPr/>
          <p:nvPr/>
        </p:nvGrpSpPr>
        <p:grpSpPr>
          <a:xfrm>
            <a:off x="762120" y="3979800"/>
            <a:ext cx="1218960" cy="391680"/>
            <a:chOff x="762120" y="3979800"/>
            <a:chExt cx="1218960" cy="391680"/>
          </a:xfrm>
        </p:grpSpPr>
        <p:sp>
          <p:nvSpPr>
            <p:cNvPr id="1364" name=""/>
            <p:cNvSpPr/>
            <p:nvPr/>
          </p:nvSpPr>
          <p:spPr>
            <a:xfrm>
              <a:off x="1295280" y="42588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600200" y="4258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828800" y="41486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990720" y="4258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62120" y="41486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990720" y="39970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219320" y="39970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47920" y="3979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676520" y="40356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38080" y="39798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762120" y="4503600"/>
            <a:ext cx="1218960" cy="392040"/>
            <a:chOff x="762120" y="4503600"/>
            <a:chExt cx="1218960" cy="392040"/>
          </a:xfrm>
        </p:grpSpPr>
        <p:sp>
          <p:nvSpPr>
            <p:cNvPr id="1375" name=""/>
            <p:cNvSpPr/>
            <p:nvPr/>
          </p:nvSpPr>
          <p:spPr>
            <a:xfrm>
              <a:off x="1295280" y="4782600"/>
              <a:ext cx="15264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600200" y="4782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828800" y="46724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990720" y="4782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62120" y="46724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990720" y="45208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219320" y="45208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447920" y="4503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676520" y="45594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38080" y="45036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762120" y="5027760"/>
            <a:ext cx="1218960" cy="391680"/>
            <a:chOff x="762120" y="5027760"/>
            <a:chExt cx="1218960" cy="391680"/>
          </a:xfrm>
        </p:grpSpPr>
        <p:sp>
          <p:nvSpPr>
            <p:cNvPr id="1386" name=""/>
            <p:cNvSpPr/>
            <p:nvPr/>
          </p:nvSpPr>
          <p:spPr>
            <a:xfrm>
              <a:off x="1295280" y="530676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600200" y="5306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28800" y="51966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990720" y="5306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62120" y="51966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990720" y="5045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219320" y="5045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447920" y="5027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676520" y="5083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38080" y="502776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762120" y="5551560"/>
            <a:ext cx="1218960" cy="391680"/>
            <a:chOff x="762120" y="5551560"/>
            <a:chExt cx="1218960" cy="391680"/>
          </a:xfrm>
        </p:grpSpPr>
        <p:sp>
          <p:nvSpPr>
            <p:cNvPr id="1397" name=""/>
            <p:cNvSpPr/>
            <p:nvPr/>
          </p:nvSpPr>
          <p:spPr>
            <a:xfrm>
              <a:off x="1295280" y="583056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600200" y="5830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828800" y="57204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990720" y="5830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62120" y="57204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990720" y="55688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219320" y="55688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447920" y="5551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76520" y="56073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38080" y="555156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"/>
          <p:cNvSpPr/>
          <p:nvPr/>
        </p:nvSpPr>
        <p:spPr>
          <a:xfrm>
            <a:off x="2819520" y="228600"/>
            <a:ext cx="39621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9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 乘 法口诀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572000" y="102240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5105520" y="990720"/>
            <a:ext cx="3352680" cy="642600"/>
            <a:chOff x="5105520" y="990720"/>
            <a:chExt cx="3352680" cy="642600"/>
          </a:xfrm>
        </p:grpSpPr>
        <p:sp>
          <p:nvSpPr>
            <p:cNvPr id="1410" name=""/>
            <p:cNvSpPr/>
            <p:nvPr/>
          </p:nvSpPr>
          <p:spPr>
            <a:xfrm>
              <a:off x="6705720" y="9907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比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□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少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105520" y="10224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…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4664160" y="155736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5105520" y="1600200"/>
            <a:ext cx="3352680" cy="642600"/>
            <a:chOff x="5105520" y="1600200"/>
            <a:chExt cx="3352680" cy="642600"/>
          </a:xfrm>
        </p:grpSpPr>
        <p:sp>
          <p:nvSpPr>
            <p:cNvPr id="1414" name=""/>
            <p:cNvSpPr/>
            <p:nvPr/>
          </p:nvSpPr>
          <p:spPr>
            <a:xfrm>
              <a:off x="6705720" y="160020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比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□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少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05520" y="163224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…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664160" y="210024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5105520" y="2101680"/>
            <a:ext cx="3352680" cy="642600"/>
            <a:chOff x="5105520" y="2101680"/>
            <a:chExt cx="3352680" cy="642600"/>
          </a:xfrm>
        </p:grpSpPr>
        <p:sp>
          <p:nvSpPr>
            <p:cNvPr id="1418" name=""/>
            <p:cNvSpPr/>
            <p:nvPr/>
          </p:nvSpPr>
          <p:spPr>
            <a:xfrm>
              <a:off x="6705720" y="210168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比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□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少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105520" y="21337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…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7162920" y="1066680"/>
            <a:ext cx="10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010280" y="914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c421d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010280" y="1523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c421d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010280" y="2057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c421d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010280" y="2711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c421d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5105520" y="2743200"/>
            <a:ext cx="3352680" cy="3291480"/>
            <a:chOff x="5105520" y="2743200"/>
            <a:chExt cx="3352680" cy="3291480"/>
          </a:xfrm>
        </p:grpSpPr>
        <p:sp>
          <p:nvSpPr>
            <p:cNvPr id="1426" name=""/>
            <p:cNvSpPr/>
            <p:nvPr/>
          </p:nvSpPr>
          <p:spPr>
            <a:xfrm>
              <a:off x="6705720" y="4997520"/>
              <a:ext cx="1752480" cy="53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比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□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少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705720" y="5486400"/>
              <a:ext cx="1752480" cy="53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比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□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少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5105520" y="2743200"/>
              <a:ext cx="3352680" cy="3291480"/>
              <a:chOff x="5105520" y="2743200"/>
              <a:chExt cx="3352680" cy="3291480"/>
            </a:xfrm>
          </p:grpSpPr>
          <p:sp>
            <p:nvSpPr>
              <p:cNvPr id="1429" name=""/>
              <p:cNvSpPr/>
              <p:nvPr/>
            </p:nvSpPr>
            <p:spPr>
              <a:xfrm>
                <a:off x="5334120" y="5410440"/>
                <a:ext cx="1447560" cy="62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……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181480" y="4953240"/>
                <a:ext cx="177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……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1" name=""/>
              <p:cNvGrpSpPr/>
              <p:nvPr/>
            </p:nvGrpSpPr>
            <p:grpSpPr>
              <a:xfrm>
                <a:off x="5105520" y="2743200"/>
                <a:ext cx="3352680" cy="642600"/>
                <a:chOff x="5105520" y="2743200"/>
                <a:chExt cx="3352680" cy="64260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6705720" y="2743200"/>
                  <a:ext cx="1752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比</a:t>
                  </a:r>
                  <a:r>
                    <a:rPr b="0" lang="zh-CN" sz="36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□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少</a:t>
                  </a:r>
                  <a:r>
                    <a:rPr b="0" lang="zh-CN" sz="36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□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5105520" y="2775240"/>
                  <a:ext cx="1904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……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5105520" y="3321000"/>
                <a:ext cx="3352680" cy="642600"/>
                <a:chOff x="5105520" y="3321000"/>
                <a:chExt cx="3352680" cy="64260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6705720" y="3321000"/>
                  <a:ext cx="1752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比</a:t>
                  </a:r>
                  <a:r>
                    <a:rPr b="0" lang="zh-CN" sz="36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□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少</a:t>
                  </a:r>
                  <a:r>
                    <a:rPr b="0" lang="zh-CN" sz="36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□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5105520" y="3353040"/>
                  <a:ext cx="1904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……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7" name=""/>
              <p:cNvGrpSpPr/>
              <p:nvPr/>
            </p:nvGrpSpPr>
            <p:grpSpPr>
              <a:xfrm>
                <a:off x="5105520" y="3810240"/>
                <a:ext cx="3352680" cy="642600"/>
                <a:chOff x="5105520" y="3810240"/>
                <a:chExt cx="3352680" cy="64260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6705720" y="3810240"/>
                  <a:ext cx="1752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比</a:t>
                  </a:r>
                  <a:r>
                    <a:rPr b="0" lang="zh-CN" sz="36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□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少</a:t>
                  </a:r>
                  <a:r>
                    <a:rPr b="0" lang="zh-CN" sz="36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□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5105520" y="3841920"/>
                  <a:ext cx="1904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……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0" name=""/>
              <p:cNvGrpSpPr/>
              <p:nvPr/>
            </p:nvGrpSpPr>
            <p:grpSpPr>
              <a:xfrm>
                <a:off x="5105520" y="4388040"/>
                <a:ext cx="3352680" cy="642600"/>
                <a:chOff x="5105520" y="4388040"/>
                <a:chExt cx="3352680" cy="64260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6705720" y="4388040"/>
                  <a:ext cx="1752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比</a:t>
                  </a:r>
                  <a:r>
                    <a:rPr b="0" lang="zh-CN" sz="36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□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少</a:t>
                  </a:r>
                  <a:r>
                    <a:rPr b="0" lang="zh-CN" sz="36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□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5105520" y="4419720"/>
                  <a:ext cx="1904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……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43" name=""/>
          <p:cNvSpPr/>
          <p:nvPr/>
        </p:nvSpPr>
        <p:spPr>
          <a:xfrm>
            <a:off x="7010280" y="3244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c421d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010280" y="3778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c421d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1028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c421d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010280" y="4876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c421d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010280" y="5334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c421d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3885480" y="2819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86200" y="3276720"/>
            <a:ext cx="1371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3886200" y="3863880"/>
            <a:ext cx="14479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3885480" y="4419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3885480" y="4906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3885480" y="5410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3828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14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2900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1456" name="" descr=""/>
          <p:cNvPicPr/>
          <p:nvPr/>
        </p:nvPicPr>
        <p:blipFill>
          <a:blip r:embed="rId6"/>
          <a:stretch/>
        </p:blipFill>
        <p:spPr>
          <a:xfrm>
            <a:off x="441972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145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41008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145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324480" y="6086520"/>
            <a:ext cx="457200" cy="563400"/>
          </a:xfrm>
          <a:prstGeom prst="rect">
            <a:avLst/>
          </a:prstGeom>
          <a:ln w="0">
            <a:noFill/>
          </a:ln>
        </p:spPr>
      </p:pic>
      <p:sp>
        <p:nvSpPr>
          <p:cNvPr id="1459" name="">
            <a:hlinkClick r:id="rId11" action="ppaction://hlinksldjump"/>
          </p:cNvPr>
          <p:cNvSpPr/>
          <p:nvPr/>
        </p:nvSpPr>
        <p:spPr>
          <a:xfrm>
            <a:off x="4419720" y="5934240"/>
            <a:ext cx="457200" cy="9144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14400"/>
              <a:gd name="textAreaBottom" fmla="*/ 892080 h 914400"/>
            </a:gdLst>
            <a:ahLst/>
            <a:rect l="textAreaLeft" t="textAreaTop" r="textAreaRight" b="textAreaBottom"/>
            <a:pathLst>
              <a:path w="21600" h="43183">
                <a:moveTo>
                  <a:pt x="3600" y="0"/>
                </a:moveTo>
                <a:arcTo wR="3600" hR="3600" stAng="16200000" swAng="-5400000"/>
                <a:lnTo>
                  <a:pt x="0" y="39583"/>
                </a:lnTo>
                <a:arcTo wR="3600" hR="3600" stAng="10800000" swAng="-5400000"/>
                <a:lnTo>
                  <a:pt x="18000" y="431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489480" y="5857920"/>
            <a:ext cx="396720" cy="533520"/>
          </a:xfrm>
          <a:custGeom>
            <a:avLst/>
            <a:gdLst>
              <a:gd name="textAreaLeft" fmla="*/ 19080 w 396720"/>
              <a:gd name="textAreaRight" fmla="*/ 377640 w 396720"/>
              <a:gd name="textAreaTop" fmla="*/ 19080 h 533520"/>
              <a:gd name="textAreaBottom" fmla="*/ 514440 h 533520"/>
            </a:gdLst>
            <a:ahLst/>
            <a:rect l="textAreaLeft" t="textAreaTop" r="textAreaRight" b="textAreaBottom"/>
            <a:pathLst>
              <a:path w="21600" h="29042">
                <a:moveTo>
                  <a:pt x="3600" y="0"/>
                </a:moveTo>
                <a:arcTo wR="3600" hR="3600" stAng="16200000" swAng="-5400000"/>
                <a:lnTo>
                  <a:pt x="0" y="25442"/>
                </a:lnTo>
                <a:arcTo wR="3600" hR="3600" stAng="10800000" swAng="-5400000"/>
                <a:lnTo>
                  <a:pt x="18000" y="290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422440" y="6086520"/>
            <a:ext cx="397080" cy="533520"/>
          </a:xfrm>
          <a:custGeom>
            <a:avLst/>
            <a:gdLst>
              <a:gd name="textAreaLeft" fmla="*/ 19080 w 397080"/>
              <a:gd name="textAreaRight" fmla="*/ 378000 w 397080"/>
              <a:gd name="textAreaTop" fmla="*/ 19080 h 533520"/>
              <a:gd name="textAreaBottom" fmla="*/ 514440 h 533520"/>
            </a:gdLst>
            <a:ahLst/>
            <a:rect l="textAreaLeft" t="textAreaTop" r="textAreaRight" b="textAreaBottom"/>
            <a:pathLst>
              <a:path w="21600" h="29015">
                <a:moveTo>
                  <a:pt x="3600" y="0"/>
                </a:moveTo>
                <a:arcTo wR="3600" hR="3600" stAng="16200000" swAng="-5400000"/>
                <a:lnTo>
                  <a:pt x="0" y="25415"/>
                </a:lnTo>
                <a:arcTo wR="3600" hR="3600" stAng="10800000" swAng="-5400000"/>
                <a:lnTo>
                  <a:pt x="18000" y="290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486400" y="5781600"/>
            <a:ext cx="320760" cy="685800"/>
          </a:xfrm>
          <a:custGeom>
            <a:avLst/>
            <a:gdLst>
              <a:gd name="textAreaLeft" fmla="*/ 15480 w 320760"/>
              <a:gd name="textAreaRight" fmla="*/ 305280 w 320760"/>
              <a:gd name="textAreaTop" fmla="*/ 15480 h 685800"/>
              <a:gd name="textAreaBottom" fmla="*/ 670320 h 685800"/>
            </a:gdLst>
            <a:ahLst/>
            <a:rect l="textAreaLeft" t="textAreaTop" r="textAreaRight" b="textAreaBottom"/>
            <a:pathLst>
              <a:path w="21600" h="46154">
                <a:moveTo>
                  <a:pt x="3600" y="0"/>
                </a:moveTo>
                <a:arcTo wR="3600" hR="3600" stAng="16200000" swAng="-5400000"/>
                <a:lnTo>
                  <a:pt x="0" y="42554"/>
                </a:lnTo>
                <a:arcTo wR="3600" hR="3600" stAng="10800000" swAng="-5400000"/>
                <a:lnTo>
                  <a:pt x="18000" y="4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400800" y="5781600"/>
            <a:ext cx="320760" cy="685800"/>
          </a:xfrm>
          <a:custGeom>
            <a:avLst/>
            <a:gdLst>
              <a:gd name="textAreaLeft" fmla="*/ 15480 w 320760"/>
              <a:gd name="textAreaRight" fmla="*/ 305280 w 320760"/>
              <a:gd name="textAreaTop" fmla="*/ 15480 h 685800"/>
              <a:gd name="textAreaBottom" fmla="*/ 670320 h 685800"/>
            </a:gdLst>
            <a:ahLst/>
            <a:rect l="textAreaLeft" t="textAreaTop" r="textAreaRight" b="textAreaBottom"/>
            <a:pathLst>
              <a:path w="21600" h="46154">
                <a:moveTo>
                  <a:pt x="3600" y="0"/>
                </a:moveTo>
                <a:arcTo wR="3600" hR="3600" stAng="16200000" swAng="-5400000"/>
                <a:lnTo>
                  <a:pt x="0" y="42554"/>
                </a:lnTo>
                <a:arcTo wR="3600" hR="3600" stAng="10800000" swAng="-5400000"/>
                <a:lnTo>
                  <a:pt x="18000" y="4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4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086600" y="6095880"/>
            <a:ext cx="457200" cy="56376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7086600" y="6095880"/>
            <a:ext cx="457200" cy="390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6" name="" descr=""/>
          <p:cNvPicPr/>
          <p:nvPr/>
        </p:nvPicPr>
        <p:blipFill>
          <a:blip r:embed="rId14"/>
          <a:stretch/>
        </p:blipFill>
        <p:spPr>
          <a:xfrm>
            <a:off x="1523880" y="6095880"/>
            <a:ext cx="457200" cy="563760"/>
          </a:xfrm>
          <a:prstGeom prst="rect">
            <a:avLst/>
          </a:prstGeom>
          <a:ln w="0">
            <a:noFill/>
          </a:ln>
        </p:spPr>
      </p:pic>
      <p:sp>
        <p:nvSpPr>
          <p:cNvPr id="1467" name=""/>
          <p:cNvSpPr/>
          <p:nvPr/>
        </p:nvSpPr>
        <p:spPr>
          <a:xfrm>
            <a:off x="1523880" y="6095880"/>
            <a:ext cx="465120" cy="542880"/>
          </a:xfrm>
          <a:custGeom>
            <a:avLst/>
            <a:gdLst>
              <a:gd name="textAreaLeft" fmla="*/ 22680 w 465120"/>
              <a:gd name="textAreaRight" fmla="*/ 442440 w 465120"/>
              <a:gd name="textAreaTop" fmla="*/ 22680 h 542880"/>
              <a:gd name="textAreaBottom" fmla="*/ 520200 h 542880"/>
            </a:gdLst>
            <a:ahLst/>
            <a:rect l="textAreaLeft" t="textAreaTop" r="textAreaRight" b="textAreaBottom"/>
            <a:pathLst>
              <a:path w="21600" h="25208">
                <a:moveTo>
                  <a:pt x="3600" y="0"/>
                </a:moveTo>
                <a:arcTo wR="3600" hR="3600" stAng="16200000" swAng="-5400000"/>
                <a:lnTo>
                  <a:pt x="0" y="21608"/>
                </a:lnTo>
                <a:arcTo wR="3600" hR="3600" stAng="10800000" swAng="-5400000"/>
                <a:lnTo>
                  <a:pt x="18000" y="252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5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0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5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0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5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0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" descr=""/>
          <p:cNvPicPr/>
          <p:nvPr/>
        </p:nvPicPr>
        <p:blipFill>
          <a:blip r:embed="rId1"/>
          <a:srcRect l="4173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9" name=""/>
          <p:cNvSpPr/>
          <p:nvPr/>
        </p:nvSpPr>
        <p:spPr>
          <a:xfrm>
            <a:off x="1066680" y="25909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九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0" name="" descr=""/>
          <p:cNvPicPr/>
          <p:nvPr/>
        </p:nvPicPr>
        <p:blipFill>
          <a:blip r:embed="rId2"/>
          <a:stretch/>
        </p:blipFill>
        <p:spPr>
          <a:xfrm>
            <a:off x="380880" y="4876920"/>
            <a:ext cx="1257480" cy="1577880"/>
          </a:xfrm>
          <a:prstGeom prst="rect">
            <a:avLst/>
          </a:prstGeom>
          <a:ln w="0">
            <a:noFill/>
          </a:ln>
        </p:spPr>
      </p:pic>
      <p:sp>
        <p:nvSpPr>
          <p:cNvPr id="1471" name=""/>
          <p:cNvSpPr/>
          <p:nvPr/>
        </p:nvSpPr>
        <p:spPr>
          <a:xfrm>
            <a:off x="2819520" y="228600"/>
            <a:ext cx="39621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9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 乘 法口诀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971800" y="26668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905120" y="2514600"/>
            <a:ext cx="12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得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752480" y="3193920"/>
            <a:ext cx="14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二十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078680" y="3124080"/>
            <a:ext cx="14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四十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343400" y="2514600"/>
            <a:ext cx="14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十八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419720" y="3168720"/>
            <a:ext cx="14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三十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078680" y="2438280"/>
            <a:ext cx="14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八十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078600" y="373392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六 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752480" y="4724280"/>
            <a:ext cx="2438640" cy="914400"/>
          </a:xfrm>
          <a:prstGeom prst="cloudCallout">
            <a:avLst>
              <a:gd name="adj1" fmla="val -71222"/>
              <a:gd name="adj2" fmla="val 7864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对口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248520" y="3809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__ __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五十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066680" y="3276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066680" y="38098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七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九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657600" y="32767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四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657600" y="3809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八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324480" y="25290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九九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324480" y="3214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五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828800" y="3657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黑体"/>
              </a:rPr>
              <a:t>六十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114800" y="3733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黑体"/>
              </a:rPr>
              <a:t>七十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" descr=""/>
          <p:cNvPicPr/>
          <p:nvPr/>
        </p:nvPicPr>
        <p:blipFill>
          <a:blip r:embed="rId1"/>
          <a:srcRect l="0" t="18919" r="0" b="2266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492" name=""/>
          <p:cNvSpPr/>
          <p:nvPr/>
        </p:nvSpPr>
        <p:spPr>
          <a:xfrm>
            <a:off x="900000" y="1157400"/>
            <a:ext cx="705672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990099"/>
                </a:solidFill>
                <a:latin typeface="Times New Roman"/>
              </a:rPr>
              <a:t>想口诀，积是几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=      9 × 4=       9 × 7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× 2=      9 × 5=       9 × 8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× 3=      9 × 6=       9 × 9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819520" y="2209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178600" y="2209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55496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819520" y="312408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241960" y="3124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52472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819520" y="4038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78600" y="4038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848720" y="41148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524720" y="4038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09480" y="6172200"/>
            <a:ext cx="304920" cy="3571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57120"/>
              <a:gd name="textAreaBottom" fmla="*/ 337680 h 357120"/>
            </a:gdLst>
            <a:ahLst/>
            <a:rect l="textAreaLeft" t="textAreaTop" r="textAreaRight" b="textAreaBottom"/>
            <a:pathLst>
              <a:path w="21600" h="25293">
                <a:moveTo>
                  <a:pt x="0" y="0"/>
                </a:moveTo>
                <a:lnTo>
                  <a:pt x="21600" y="0"/>
                </a:lnTo>
                <a:lnTo>
                  <a:pt x="21600" y="25293"/>
                </a:lnTo>
                <a:lnTo>
                  <a:pt x="0" y="25293"/>
                </a:lnTo>
                <a:close/>
              </a:path>
              <a:path fill="lightenLess" w="21600" h="252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93">
                <a:moveTo>
                  <a:pt x="21600" y="0"/>
                </a:moveTo>
                <a:lnTo>
                  <a:pt x="21600" y="25293"/>
                </a:lnTo>
                <a:lnTo>
                  <a:pt x="20200" y="23893"/>
                </a:lnTo>
                <a:lnTo>
                  <a:pt x="20200" y="1400"/>
                </a:lnTo>
                <a:close/>
              </a:path>
              <a:path fill="darkenLess" w="21600" h="25293">
                <a:moveTo>
                  <a:pt x="21600" y="25293"/>
                </a:moveTo>
                <a:lnTo>
                  <a:pt x="0" y="25293"/>
                </a:lnTo>
                <a:lnTo>
                  <a:pt x="1400" y="23893"/>
                </a:lnTo>
                <a:lnTo>
                  <a:pt x="20200" y="23893"/>
                </a:lnTo>
                <a:close/>
              </a:path>
              <a:path fill="lighten" w="21600" h="25293">
                <a:moveTo>
                  <a:pt x="0" y="252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93"/>
                </a:lnTo>
                <a:close/>
              </a:path>
              <a:path fill="darken" w="21600" h="25293">
                <a:moveTo>
                  <a:pt x="3794" y="12647"/>
                </a:moveTo>
                <a:lnTo>
                  <a:pt x="17806" y="5640"/>
                </a:lnTo>
                <a:lnTo>
                  <a:pt x="17806" y="19653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5" name="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06" name=""/>
          <p:cNvSpPr txBox="1"/>
          <p:nvPr/>
        </p:nvSpPr>
        <p:spPr>
          <a:xfrm>
            <a:off x="1905120" y="990720"/>
            <a:ext cx="56386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玩纸牌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2" dur="1" fill="hold"/>
                                        <p:tgtEl>
                                          <p:spTgt spid="1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8" name=""/>
          <p:cNvSpPr txBox="1"/>
          <p:nvPr/>
        </p:nvSpPr>
        <p:spPr>
          <a:xfrm>
            <a:off x="1905120" y="990720"/>
            <a:ext cx="56386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玩纸牌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" descr=""/>
          <p:cNvPicPr/>
          <p:nvPr/>
        </p:nvPicPr>
        <p:blipFill>
          <a:blip r:embed="rId1"/>
          <a:srcRect l="0" t="18919" r="0" b="2266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grpSp>
        <p:nvGrpSpPr>
          <p:cNvPr id="1510" name=""/>
          <p:cNvGrpSpPr/>
          <p:nvPr/>
        </p:nvGrpSpPr>
        <p:grpSpPr>
          <a:xfrm>
            <a:off x="1676520" y="1600200"/>
            <a:ext cx="3114360" cy="4040640"/>
            <a:chOff x="1676520" y="1600200"/>
            <a:chExt cx="3114360" cy="4040640"/>
          </a:xfrm>
        </p:grpSpPr>
        <p:sp>
          <p:nvSpPr>
            <p:cNvPr id="1511" name=""/>
            <p:cNvSpPr/>
            <p:nvPr/>
          </p:nvSpPr>
          <p:spPr>
            <a:xfrm>
              <a:off x="1676520" y="1600200"/>
              <a:ext cx="31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9×7=</a:t>
              </a:r>
              <a:r>
                <a:rPr b="0" lang="en-US" sz="7200" spc="-1" strike="noStrike">
                  <a:solidFill>
                    <a:srgbClr val="ff3300"/>
                  </a:solidFill>
                  <a:latin typeface="Wingdings 2"/>
                  <a:ea typeface="Wingdings 2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676520" y="3001680"/>
              <a:ext cx="31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9×8=</a:t>
              </a:r>
              <a:r>
                <a:rPr b="0" lang="en-US" sz="7200" spc="-1" strike="noStrike">
                  <a:solidFill>
                    <a:srgbClr val="9966ff"/>
                  </a:solidFill>
                  <a:latin typeface="Wingdings 2"/>
                  <a:ea typeface="Wingdings 2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676520" y="3687480"/>
              <a:ext cx="31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9×5=</a:t>
              </a:r>
              <a:r>
                <a:rPr b="0" lang="en-US" sz="7200" spc="-1" strike="noStrike">
                  <a:solidFill>
                    <a:srgbClr val="990099"/>
                  </a:solidFill>
                  <a:latin typeface="Wingdings 2"/>
                  <a:ea typeface="Wingdings 2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676520" y="4449600"/>
              <a:ext cx="31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9×6=</a:t>
              </a:r>
              <a:r>
                <a:rPr b="0" lang="en-US" sz="7200" spc="-1" strike="noStrike">
                  <a:solidFill>
                    <a:srgbClr val="ff6600"/>
                  </a:solidFill>
                  <a:latin typeface="Wingdings 2"/>
                  <a:ea typeface="Wingdings 2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5" name=""/>
          <p:cNvSpPr/>
          <p:nvPr/>
        </p:nvSpPr>
        <p:spPr>
          <a:xfrm>
            <a:off x="1828800" y="990720"/>
            <a:ext cx="1447920" cy="4572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33360" y="1295280"/>
            <a:ext cx="7333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2362320"/>
            <a:ext cx="31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×4=</a:t>
            </a:r>
            <a:r>
              <a:rPr b="0" lang="en-US" sz="7200" spc="-1" strike="noStrike">
                <a:solidFill>
                  <a:srgbClr val="ff00ff"/>
                </a:solidFill>
                <a:latin typeface="Wingdings 2"/>
                <a:ea typeface="Wingdings 2"/>
              </a:rPr>
              <a:t>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676520" y="3002040"/>
            <a:ext cx="31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×8=</a:t>
            </a:r>
            <a:r>
              <a:rPr b="0" lang="en-US" sz="7200" spc="-1" strike="noStrike">
                <a:solidFill>
                  <a:srgbClr val="9966ff"/>
                </a:solidFill>
                <a:latin typeface="Wingdings 2"/>
                <a:ea typeface="Wingdings 2"/>
              </a:rPr>
              <a:t>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676520" y="3687840"/>
            <a:ext cx="31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×5=</a:t>
            </a:r>
            <a:r>
              <a:rPr b="0" lang="en-US" sz="7200" spc="-1" strike="noStrike">
                <a:solidFill>
                  <a:srgbClr val="990099"/>
                </a:solidFill>
                <a:latin typeface="Wingdings 2"/>
                <a:ea typeface="Wingdings 2"/>
              </a:rPr>
              <a:t>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676520" y="4449600"/>
            <a:ext cx="31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×6=</a:t>
            </a:r>
            <a:r>
              <a:rPr b="0" lang="en-US" sz="7200" spc="-1" strike="noStrike">
                <a:solidFill>
                  <a:srgbClr val="ff6600"/>
                </a:solidFill>
                <a:latin typeface="Wingdings 2"/>
                <a:ea typeface="Wingdings 2"/>
              </a:rPr>
              <a:t>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724280" y="15238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×9=</a:t>
            </a:r>
            <a:r>
              <a:rPr b="0" lang="en-US" sz="7200" spc="-1" strike="noStrike">
                <a:solidFill>
                  <a:srgbClr val="3333cc"/>
                </a:solidFill>
                <a:latin typeface="Wingdings 2"/>
                <a:ea typeface="Wingdings 2"/>
              </a:rPr>
              <a:t>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572000" y="30780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Wingdings 2"/>
                <a:ea typeface="Wingdings 2"/>
              </a:rPr>
              <a:t>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×4=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724280" y="374796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×</a:t>
            </a:r>
            <a:r>
              <a:rPr b="0" lang="en-US" sz="7200" spc="-1" strike="noStrike">
                <a:solidFill>
                  <a:srgbClr val="ffcc00"/>
                </a:solidFill>
                <a:latin typeface="Wingdings 2"/>
                <a:ea typeface="Wingdings 2"/>
              </a:rPr>
              <a:t>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648320" y="452592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00"/>
                </a:solidFill>
                <a:latin typeface="Wingdings 2"/>
                <a:ea typeface="Wingdings 2"/>
              </a:rPr>
              <a:t>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×9=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400800" y="1752480"/>
            <a:ext cx="99072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8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352680" y="2514600"/>
            <a:ext cx="99072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421df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314880" y="3200400"/>
            <a:ext cx="99036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276720" y="3962520"/>
            <a:ext cx="99036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Times New Roman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276720" y="4724280"/>
            <a:ext cx="99036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imes New Roman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572000" y="3352680"/>
            <a:ext cx="914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638680" y="4038480"/>
            <a:ext cx="91440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648320" y="4800600"/>
            <a:ext cx="91440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724280" y="23623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×</a:t>
            </a:r>
            <a:r>
              <a:rPr b="0" lang="en-US" sz="7200" spc="-1" strike="noStrike">
                <a:solidFill>
                  <a:srgbClr val="c421df"/>
                </a:solidFill>
                <a:latin typeface="Wingdings 2"/>
                <a:ea typeface="Wingdings 2"/>
              </a:rPr>
              <a:t>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638680" y="2590920"/>
            <a:ext cx="83844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676520" y="1600200"/>
            <a:ext cx="31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×7=</a:t>
            </a:r>
            <a:r>
              <a:rPr b="0" lang="en-US" sz="7200" spc="-1" strike="noStrike">
                <a:solidFill>
                  <a:srgbClr val="ff3300"/>
                </a:solidFill>
                <a:latin typeface="Wingdings 2"/>
                <a:ea typeface="Wingdings 2"/>
              </a:rPr>
              <a:t>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352680" y="1828800"/>
            <a:ext cx="99072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1523880" y="8380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648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花儿后面藏着谁？</a:t>
            </a:r>
            <a:endParaRPr b="0" lang="en-US" sz="2400" spc="1" strike="noStrike">
              <a:ln w="6480">
                <a:solidFill>
                  <a:srgbClr val="ff33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9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8" name="" descr=""/>
          <p:cNvPicPr/>
          <p:nvPr/>
        </p:nvPicPr>
        <p:blipFill>
          <a:blip r:embed="rId1"/>
          <a:srcRect l="0" t="18919" r="0" b="2266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539" name=""/>
          <p:cNvSpPr txBox="1"/>
          <p:nvPr/>
        </p:nvSpPr>
        <p:spPr>
          <a:xfrm rot="5400000">
            <a:off x="6296400" y="2996280"/>
            <a:ext cx="2109960" cy="68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对不对？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pic>
        <p:nvPicPr>
          <p:cNvPr id="1540" name="" descr=""/>
          <p:cNvPicPr/>
          <p:nvPr/>
        </p:nvPicPr>
        <p:blipFill>
          <a:blip r:embed="rId2"/>
          <a:stretch/>
        </p:blipFill>
        <p:spPr>
          <a:xfrm>
            <a:off x="7086600" y="784080"/>
            <a:ext cx="954000" cy="1197000"/>
          </a:xfrm>
          <a:prstGeom prst="rect">
            <a:avLst/>
          </a:prstGeom>
          <a:ln w="0">
            <a:noFill/>
          </a:ln>
        </p:spPr>
      </p:pic>
      <p:sp>
        <p:nvSpPr>
          <p:cNvPr id="1541" name=""/>
          <p:cNvSpPr/>
          <p:nvPr/>
        </p:nvSpPr>
        <p:spPr>
          <a:xfrm>
            <a:off x="1447920" y="1447920"/>
            <a:ext cx="411480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×9= (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54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4=(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)×(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×9= (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3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×9= (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3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×9= (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7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×9= (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79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295280" y="1600200"/>
            <a:ext cx="152640" cy="99072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295280" y="3048120"/>
            <a:ext cx="152640" cy="99036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295280" y="4495680"/>
            <a:ext cx="152640" cy="99072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724280" y="15238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724280" y="22096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724280" y="28954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724280" y="35812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724280" y="434340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724280" y="502920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49568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495680" y="26668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495680" y="3429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495680" y="41911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495680" y="4876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495680" y="20574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562720" y="14479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562720" y="22096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562720" y="2895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5562720" y="14479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562720" y="356544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562720" y="42670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562720" y="48769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562720" y="3581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5562720" y="42670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562720" y="49528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1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1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7" name="" descr=""/>
          <p:cNvPicPr/>
          <p:nvPr/>
        </p:nvPicPr>
        <p:blipFill>
          <a:blip r:embed="rId1"/>
          <a:stretch/>
        </p:blipFill>
        <p:spPr>
          <a:xfrm>
            <a:off x="-914400" y="0"/>
            <a:ext cx="10058400" cy="7238880"/>
          </a:xfrm>
          <a:prstGeom prst="rect">
            <a:avLst/>
          </a:prstGeom>
          <a:ln w="0">
            <a:noFill/>
          </a:ln>
        </p:spPr>
      </p:pic>
      <p:sp>
        <p:nvSpPr>
          <p:cNvPr id="1568" name=""/>
          <p:cNvSpPr/>
          <p:nvPr/>
        </p:nvSpPr>
        <p:spPr>
          <a:xfrm>
            <a:off x="1600200" y="457200"/>
            <a:ext cx="3962520" cy="1828800"/>
          </a:xfrm>
          <a:prstGeom prst="cloudCallout">
            <a:avLst>
              <a:gd name="adj1" fmla="val -59175"/>
              <a:gd name="adj2" fmla="val 95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比一比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谁的本领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0" name=""/>
          <p:cNvSpPr/>
          <p:nvPr/>
        </p:nvSpPr>
        <p:spPr>
          <a:xfrm>
            <a:off x="1600200" y="2133720"/>
            <a:ext cx="5334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14316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2" name="U" descr=""/>
          <p:cNvPicPr/>
          <p:nvPr/>
        </p:nvPicPr>
        <p:blipFill>
          <a:blip r:embed="rId2"/>
          <a:srcRect l="6255" t="3671" r="34376" b="31566"/>
          <a:stretch/>
        </p:blipFill>
        <p:spPr>
          <a:xfrm>
            <a:off x="1523880" y="990720"/>
            <a:ext cx="4191120" cy="4647960"/>
          </a:xfrm>
          <a:prstGeom prst="rect">
            <a:avLst/>
          </a:prstGeom>
          <a:ln w="0">
            <a:noFill/>
          </a:ln>
        </p:spPr>
      </p:pic>
      <p:sp>
        <p:nvSpPr>
          <p:cNvPr id="1573" name=""/>
          <p:cNvSpPr txBox="1"/>
          <p:nvPr/>
        </p:nvSpPr>
        <p:spPr>
          <a:xfrm rot="6291600">
            <a:off x="4572000" y="281916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绿叶配鲜花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574" name="">
            <a:hlinkClick r:id="" action="ppaction://hlinkshowjump?jump=last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8613" y="10800"/>
                </a:moveTo>
                <a:lnTo>
                  <a:pt x="8107" y="17806"/>
                </a:lnTo>
                <a:lnTo>
                  <a:pt x="8107" y="3794"/>
                </a:lnTo>
                <a:close/>
              </a:path>
              <a:path fill="darken" w="30228" h="21600">
                <a:moveTo>
                  <a:pt x="20458" y="3794"/>
                </a:moveTo>
                <a:lnTo>
                  <a:pt x="20458" y="17806"/>
                </a:lnTo>
                <a:lnTo>
                  <a:pt x="22120" y="17806"/>
                </a:lnTo>
                <a:lnTo>
                  <a:pt x="22120" y="3794"/>
                </a:lnTo>
                <a:close/>
              </a:path>
            </a:pathLst>
          </a:cu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5" name="" descr=""/>
          <p:cNvPicPr/>
          <p:nvPr/>
        </p:nvPicPr>
        <p:blipFill>
          <a:blip r:embed="rId1"/>
          <a:stretch/>
        </p:blipFill>
        <p:spPr>
          <a:xfrm>
            <a:off x="1981080" y="76320"/>
            <a:ext cx="7162920" cy="6781680"/>
          </a:xfrm>
          <a:prstGeom prst="rect">
            <a:avLst/>
          </a:prstGeom>
          <a:ln w="0">
            <a:noFill/>
          </a:ln>
        </p:spPr>
      </p:pic>
      <p:sp>
        <p:nvSpPr>
          <p:cNvPr id="1576" name=""/>
          <p:cNvSpPr/>
          <p:nvPr/>
        </p:nvSpPr>
        <p:spPr>
          <a:xfrm>
            <a:off x="3733920" y="457200"/>
            <a:ext cx="39621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9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 乘 法口诀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7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1981080" cy="3581280"/>
          </a:xfrm>
          <a:prstGeom prst="rect">
            <a:avLst/>
          </a:prstGeom>
          <a:ln w="0">
            <a:noFill/>
          </a:ln>
        </p:spPr>
      </p:pic>
      <p:sp>
        <p:nvSpPr>
          <p:cNvPr id="1578" name=""/>
          <p:cNvSpPr/>
          <p:nvPr/>
        </p:nvSpPr>
        <p:spPr>
          <a:xfrm>
            <a:off x="3048120" y="20574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× 1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80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019920" y="23623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 rot="5400000">
            <a:off x="37440" y="95220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动脑筋</a:t>
            </a:r>
            <a:endParaRPr b="0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81" name=""/>
          <p:cNvSpPr/>
          <p:nvPr/>
        </p:nvSpPr>
        <p:spPr>
          <a:xfrm>
            <a:off x="-276120" y="2362320"/>
            <a:ext cx="1647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 txBox="1"/>
          <p:nvPr/>
        </p:nvSpPr>
        <p:spPr>
          <a:xfrm rot="5400000">
            <a:off x="685080" y="2438280"/>
            <a:ext cx="60984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？</a:t>
            </a:r>
            <a:endParaRPr b="0" i="1" lang="en-US" sz="4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83" name="">
            <a:hlinkClick r:id="" action="ppaction://hlinkshowjump?jump=lastslide"/>
          </p:cNvPr>
          <p:cNvSpPr/>
          <p:nvPr/>
        </p:nvSpPr>
        <p:spPr>
          <a:xfrm>
            <a:off x="8077320" y="63244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22373" y="10800"/>
                </a:moveTo>
                <a:lnTo>
                  <a:pt x="11868" y="17806"/>
                </a:lnTo>
                <a:lnTo>
                  <a:pt x="11868" y="3794"/>
                </a:lnTo>
                <a:close/>
              </a:path>
              <a:path fill="darken" w="37749" h="21600">
                <a:moveTo>
                  <a:pt x="24219" y="3794"/>
                </a:moveTo>
                <a:lnTo>
                  <a:pt x="24219" y="17806"/>
                </a:lnTo>
                <a:lnTo>
                  <a:pt x="25881" y="17806"/>
                </a:lnTo>
                <a:lnTo>
                  <a:pt x="25881" y="3794"/>
                </a:lnTo>
                <a:close/>
              </a:path>
            </a:pathLst>
          </a:cu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9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4173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279000" y="4291920"/>
            <a:ext cx="2166480" cy="1035360"/>
            <a:chOff x="279000" y="4291920"/>
            <a:chExt cx="2166480" cy="1035360"/>
          </a:xfrm>
        </p:grpSpPr>
        <p:sp>
          <p:nvSpPr>
            <p:cNvPr id="48" name=""/>
            <p:cNvSpPr/>
            <p:nvPr/>
          </p:nvSpPr>
          <p:spPr>
            <a:xfrm rot="253800">
              <a:off x="673560" y="4681800"/>
              <a:ext cx="175248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9 × 8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279000" y="4291920"/>
              <a:ext cx="567360" cy="869760"/>
              <a:chOff x="279000" y="4291920"/>
              <a:chExt cx="567360" cy="869760"/>
            </a:xfrm>
          </p:grpSpPr>
          <p:sp>
            <p:nvSpPr>
              <p:cNvPr id="50" name=""/>
              <p:cNvSpPr/>
              <p:nvPr/>
            </p:nvSpPr>
            <p:spPr>
              <a:xfrm rot="253800">
                <a:off x="295920" y="4658040"/>
                <a:ext cx="53316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253800">
                <a:off x="397800" y="4296600"/>
                <a:ext cx="15192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253800">
                <a:off x="627120" y="4313520"/>
                <a:ext cx="15192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94000" y="4992840"/>
                <a:ext cx="75240" cy="5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301320" y="4775760"/>
                <a:ext cx="461520" cy="421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53800">
                <a:off x="449640" y="4839840"/>
                <a:ext cx="7596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53800">
                <a:off x="677520" y="4856760"/>
                <a:ext cx="7596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1981080" y="1905120"/>
            <a:ext cx="2133720" cy="885960"/>
            <a:chOff x="1981080" y="1905120"/>
            <a:chExt cx="2133720" cy="885960"/>
          </a:xfrm>
        </p:grpSpPr>
        <p:sp>
          <p:nvSpPr>
            <p:cNvPr id="58" name=""/>
            <p:cNvSpPr/>
            <p:nvPr/>
          </p:nvSpPr>
          <p:spPr>
            <a:xfrm>
              <a:off x="2361960" y="2209680"/>
              <a:ext cx="175284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9 × 5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981080" y="1905120"/>
              <a:ext cx="533520" cy="838080"/>
              <a:chOff x="1981080" y="1905120"/>
              <a:chExt cx="533520" cy="838080"/>
            </a:xfrm>
          </p:grpSpPr>
          <p:sp>
            <p:nvSpPr>
              <p:cNvPr id="60" name=""/>
              <p:cNvSpPr/>
              <p:nvPr/>
            </p:nvSpPr>
            <p:spPr>
              <a:xfrm>
                <a:off x="1981080" y="2259000"/>
                <a:ext cx="53352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057400" y="1905120"/>
                <a:ext cx="15228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6000" y="1905120"/>
                <a:ext cx="15228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6000" y="259092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1981080" y="2361960"/>
                <a:ext cx="457200" cy="759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133360" y="2446200"/>
                <a:ext cx="76320" cy="68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361960" y="2446200"/>
                <a:ext cx="76320" cy="68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441720" y="1181160"/>
            <a:ext cx="2234160" cy="1204920"/>
            <a:chOff x="441720" y="1181160"/>
            <a:chExt cx="2234160" cy="1204920"/>
          </a:xfrm>
        </p:grpSpPr>
        <p:sp>
          <p:nvSpPr>
            <p:cNvPr id="68" name=""/>
            <p:cNvSpPr/>
            <p:nvPr/>
          </p:nvSpPr>
          <p:spPr>
            <a:xfrm rot="20448600">
              <a:off x="876240" y="1452600"/>
              <a:ext cx="175284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9 × 4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41720" y="1444320"/>
              <a:ext cx="707400" cy="941760"/>
              <a:chOff x="441720" y="1444320"/>
              <a:chExt cx="707400" cy="941760"/>
            </a:xfrm>
          </p:grpSpPr>
          <p:sp>
            <p:nvSpPr>
              <p:cNvPr id="70" name=""/>
              <p:cNvSpPr/>
              <p:nvPr/>
            </p:nvSpPr>
            <p:spPr>
              <a:xfrm rot="20448600">
                <a:off x="550440" y="1827720"/>
                <a:ext cx="53352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20448600">
                <a:off x="519120" y="1530720"/>
                <a:ext cx="15228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20448600">
                <a:off x="728280" y="1456560"/>
                <a:ext cx="15228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883080" y="2117160"/>
                <a:ext cx="7164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544680" y="1875960"/>
                <a:ext cx="406800" cy="2221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20448600">
                <a:off x="700200" y="2040840"/>
                <a:ext cx="76320" cy="68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20448600">
                <a:off x="916200" y="1965960"/>
                <a:ext cx="76320" cy="68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428400" y="2662920"/>
            <a:ext cx="2170440" cy="1052640"/>
            <a:chOff x="428400" y="2662920"/>
            <a:chExt cx="2170440" cy="1052640"/>
          </a:xfrm>
        </p:grpSpPr>
        <p:sp>
          <p:nvSpPr>
            <p:cNvPr id="78" name=""/>
            <p:cNvSpPr/>
            <p:nvPr/>
          </p:nvSpPr>
          <p:spPr>
            <a:xfrm rot="283800">
              <a:off x="825120" y="3062520"/>
              <a:ext cx="175284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9 × 2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28400" y="2662920"/>
              <a:ext cx="571680" cy="873360"/>
              <a:chOff x="428400" y="2662920"/>
              <a:chExt cx="571680" cy="873360"/>
            </a:xfrm>
          </p:grpSpPr>
          <p:sp>
            <p:nvSpPr>
              <p:cNvPr id="80" name=""/>
              <p:cNvSpPr/>
              <p:nvPr/>
            </p:nvSpPr>
            <p:spPr>
              <a:xfrm rot="283800">
                <a:off x="447480" y="3030480"/>
                <a:ext cx="53352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83800">
                <a:off x="552960" y="2668320"/>
                <a:ext cx="15228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83800">
                <a:off x="782280" y="2687400"/>
                <a:ext cx="15228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4840" y="3365280"/>
                <a:ext cx="7596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453600" y="3149640"/>
                <a:ext cx="461880" cy="381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283800">
                <a:off x="601560" y="3211560"/>
                <a:ext cx="76320" cy="68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283800">
                <a:off x="829440" y="3230280"/>
                <a:ext cx="76320" cy="68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2350080" y="3575160"/>
            <a:ext cx="2227680" cy="1143720"/>
            <a:chOff x="2350080" y="3575160"/>
            <a:chExt cx="2227680" cy="1143720"/>
          </a:xfrm>
        </p:grpSpPr>
        <p:sp>
          <p:nvSpPr>
            <p:cNvPr id="88" name=""/>
            <p:cNvSpPr/>
            <p:nvPr/>
          </p:nvSpPr>
          <p:spPr>
            <a:xfrm rot="20562000">
              <a:off x="2778480" y="3822480"/>
              <a:ext cx="17524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9 × 7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350080" y="3783240"/>
              <a:ext cx="685800" cy="935640"/>
              <a:chOff x="2350080" y="3783240"/>
              <a:chExt cx="685800" cy="935640"/>
            </a:xfrm>
          </p:grpSpPr>
          <p:sp>
            <p:nvSpPr>
              <p:cNvPr id="90" name=""/>
              <p:cNvSpPr/>
              <p:nvPr/>
            </p:nvSpPr>
            <p:spPr>
              <a:xfrm rot="20562000">
                <a:off x="2442600" y="4166280"/>
                <a:ext cx="53316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20562000">
                <a:off x="2420640" y="3862080"/>
                <a:ext cx="15192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20562000">
                <a:off x="2633040" y="3795120"/>
                <a:ext cx="15192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772360" y="4460400"/>
                <a:ext cx="72360" cy="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2436120" y="4218840"/>
                <a:ext cx="413640" cy="20844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20562000">
                <a:off x="2592000" y="4377240"/>
                <a:ext cx="75960" cy="68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0562000">
                <a:off x="2810160" y="4309200"/>
                <a:ext cx="75960" cy="68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279000" y="4291920"/>
            <a:ext cx="2166480" cy="1035360"/>
            <a:chOff x="279000" y="4291920"/>
            <a:chExt cx="2166480" cy="1035360"/>
          </a:xfrm>
        </p:grpSpPr>
        <p:sp>
          <p:nvSpPr>
            <p:cNvPr id="98" name=""/>
            <p:cNvSpPr/>
            <p:nvPr/>
          </p:nvSpPr>
          <p:spPr>
            <a:xfrm rot="253800">
              <a:off x="673560" y="4681800"/>
              <a:ext cx="175248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9 × 8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79000" y="4291920"/>
              <a:ext cx="567360" cy="869760"/>
              <a:chOff x="279000" y="4291920"/>
              <a:chExt cx="567360" cy="869760"/>
            </a:xfrm>
          </p:grpSpPr>
          <p:sp>
            <p:nvSpPr>
              <p:cNvPr id="100" name=""/>
              <p:cNvSpPr/>
              <p:nvPr/>
            </p:nvSpPr>
            <p:spPr>
              <a:xfrm rot="253800">
                <a:off x="295920" y="4658040"/>
                <a:ext cx="53316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53800">
                <a:off x="397800" y="4296600"/>
                <a:ext cx="15192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53800">
                <a:off x="627120" y="4313520"/>
                <a:ext cx="15192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94000" y="4992840"/>
                <a:ext cx="75240" cy="5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301320" y="4775760"/>
                <a:ext cx="461520" cy="421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53800">
                <a:off x="449640" y="4839840"/>
                <a:ext cx="7596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53800">
                <a:off x="677520" y="4856760"/>
                <a:ext cx="7596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1866240" y="4838040"/>
            <a:ext cx="2181240" cy="1124640"/>
            <a:chOff x="1866240" y="4838040"/>
            <a:chExt cx="2181240" cy="1124640"/>
          </a:xfrm>
        </p:grpSpPr>
        <p:sp>
          <p:nvSpPr>
            <p:cNvPr id="108" name=""/>
            <p:cNvSpPr/>
            <p:nvPr/>
          </p:nvSpPr>
          <p:spPr>
            <a:xfrm rot="411000">
              <a:off x="2266560" y="5278680"/>
              <a:ext cx="17524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9 × 3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866240" y="4838040"/>
              <a:ext cx="586800" cy="886320"/>
              <a:chOff x="1866240" y="4838040"/>
              <a:chExt cx="586800" cy="886320"/>
            </a:xfrm>
          </p:grpSpPr>
          <p:sp>
            <p:nvSpPr>
              <p:cNvPr id="110" name=""/>
              <p:cNvSpPr/>
              <p:nvPr/>
            </p:nvSpPr>
            <p:spPr>
              <a:xfrm rot="411000">
                <a:off x="1892880" y="5209920"/>
                <a:ext cx="53316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411000">
                <a:off x="2010960" y="4845240"/>
                <a:ext cx="15192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11000">
                <a:off x="2240280" y="4872240"/>
                <a:ext cx="15192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86640" y="5546160"/>
                <a:ext cx="7488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902600" y="5337000"/>
                <a:ext cx="462600" cy="2088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411000">
                <a:off x="2047680" y="5388120"/>
                <a:ext cx="75960" cy="68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411000">
                <a:off x="2274480" y="5415480"/>
                <a:ext cx="75960" cy="68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3580200" y="4248720"/>
            <a:ext cx="2208240" cy="1020240"/>
            <a:chOff x="3580200" y="4248720"/>
            <a:chExt cx="2208240" cy="1020240"/>
          </a:xfrm>
        </p:grpSpPr>
        <p:sp>
          <p:nvSpPr>
            <p:cNvPr id="118" name=""/>
            <p:cNvSpPr/>
            <p:nvPr/>
          </p:nvSpPr>
          <p:spPr>
            <a:xfrm rot="20784000">
              <a:off x="3991680" y="4446360"/>
              <a:ext cx="175284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9 × 6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3580200" y="4347000"/>
              <a:ext cx="641520" cy="921960"/>
              <a:chOff x="3580200" y="4347000"/>
              <a:chExt cx="641520" cy="921960"/>
            </a:xfrm>
          </p:grpSpPr>
          <p:sp>
            <p:nvSpPr>
              <p:cNvPr id="120" name=""/>
              <p:cNvSpPr/>
              <p:nvPr/>
            </p:nvSpPr>
            <p:spPr>
              <a:xfrm rot="20784000">
                <a:off x="3638520" y="4728600"/>
                <a:ext cx="53352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784000">
                <a:off x="3636360" y="4411440"/>
                <a:ext cx="15228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0784000">
                <a:off x="3854160" y="4358160"/>
                <a:ext cx="15228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3963600" y="5031360"/>
                <a:ext cx="74160" cy="1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631320" y="4790880"/>
                <a:ext cx="426600" cy="18144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0784000">
                <a:off x="3788280" y="4934520"/>
                <a:ext cx="76320" cy="68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784000">
                <a:off x="4010400" y="4880880"/>
                <a:ext cx="76320" cy="68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3723480" y="2519640"/>
            <a:ext cx="2224800" cy="1122120"/>
            <a:chOff x="3723480" y="2519640"/>
            <a:chExt cx="2224800" cy="1122120"/>
          </a:xfrm>
        </p:grpSpPr>
        <p:sp>
          <p:nvSpPr>
            <p:cNvPr id="128" name=""/>
            <p:cNvSpPr/>
            <p:nvPr/>
          </p:nvSpPr>
          <p:spPr>
            <a:xfrm rot="20601600">
              <a:off x="4149000" y="2758320"/>
              <a:ext cx="17524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9 × 1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723480" y="2707920"/>
              <a:ext cx="677880" cy="933840"/>
              <a:chOff x="3723480" y="2707920"/>
              <a:chExt cx="677880" cy="933840"/>
            </a:xfrm>
          </p:grpSpPr>
          <p:sp>
            <p:nvSpPr>
              <p:cNvPr id="130" name=""/>
              <p:cNvSpPr/>
              <p:nvPr/>
            </p:nvSpPr>
            <p:spPr>
              <a:xfrm rot="20601600">
                <a:off x="3809880" y="3090960"/>
                <a:ext cx="53316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601600">
                <a:off x="3791520" y="2784600"/>
                <a:ext cx="15192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601600">
                <a:off x="4004640" y="2719800"/>
                <a:ext cx="15192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4138920" y="3386880"/>
                <a:ext cx="72360" cy="2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3803400" y="3145680"/>
                <a:ext cx="415800" cy="2034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20601600">
                <a:off x="3958920" y="3301200"/>
                <a:ext cx="75960" cy="68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0601600">
                <a:off x="4178160" y="3235680"/>
                <a:ext cx="75960" cy="68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6705720" y="3276720"/>
            <a:ext cx="175248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 × 5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2743200"/>
            <a:ext cx="175248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 × 4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2209680"/>
            <a:ext cx="175248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 × 3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676520"/>
            <a:ext cx="175248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 × 2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1087560"/>
            <a:ext cx="175248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 × 1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3809880"/>
            <a:ext cx="175248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 × 6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343400"/>
            <a:ext cx="175248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 × 7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876920"/>
            <a:ext cx="175248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 × 8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3276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41720" y="1181160"/>
            <a:ext cx="2234160" cy="1204920"/>
            <a:chOff x="441720" y="1181160"/>
            <a:chExt cx="2234160" cy="1204920"/>
          </a:xfrm>
        </p:grpSpPr>
        <p:sp>
          <p:nvSpPr>
            <p:cNvPr id="147" name=""/>
            <p:cNvSpPr/>
            <p:nvPr/>
          </p:nvSpPr>
          <p:spPr>
            <a:xfrm rot="20448600">
              <a:off x="876240" y="1452600"/>
              <a:ext cx="175284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9 × 4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41720" y="1444320"/>
              <a:ext cx="707400" cy="941760"/>
              <a:chOff x="441720" y="1444320"/>
              <a:chExt cx="707400" cy="941760"/>
            </a:xfrm>
          </p:grpSpPr>
          <p:sp>
            <p:nvSpPr>
              <p:cNvPr id="149" name=""/>
              <p:cNvSpPr/>
              <p:nvPr/>
            </p:nvSpPr>
            <p:spPr>
              <a:xfrm rot="20448600">
                <a:off x="550440" y="1827720"/>
                <a:ext cx="53352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448600">
                <a:off x="519120" y="1530720"/>
                <a:ext cx="15228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448600">
                <a:off x="728280" y="1456560"/>
                <a:ext cx="15228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883080" y="2117160"/>
                <a:ext cx="71640" cy="2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544680" y="1875960"/>
                <a:ext cx="406800" cy="2221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448600">
                <a:off x="700200" y="2040840"/>
                <a:ext cx="7632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448600">
                <a:off x="916200" y="1965960"/>
                <a:ext cx="7632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1981080" y="1905120"/>
            <a:ext cx="2133720" cy="885960"/>
            <a:chOff x="1981080" y="1905120"/>
            <a:chExt cx="2133720" cy="885960"/>
          </a:xfrm>
        </p:grpSpPr>
        <p:sp>
          <p:nvSpPr>
            <p:cNvPr id="157" name=""/>
            <p:cNvSpPr/>
            <p:nvPr/>
          </p:nvSpPr>
          <p:spPr>
            <a:xfrm>
              <a:off x="2361960" y="2209680"/>
              <a:ext cx="175284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9 × 5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1981080" y="1905120"/>
              <a:ext cx="533520" cy="838080"/>
              <a:chOff x="1981080" y="1905120"/>
              <a:chExt cx="533520" cy="838080"/>
            </a:xfrm>
          </p:grpSpPr>
          <p:sp>
            <p:nvSpPr>
              <p:cNvPr id="159" name=""/>
              <p:cNvSpPr/>
              <p:nvPr/>
            </p:nvSpPr>
            <p:spPr>
              <a:xfrm>
                <a:off x="1981080" y="2259000"/>
                <a:ext cx="53352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057400" y="1905120"/>
                <a:ext cx="15228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86000" y="1905120"/>
                <a:ext cx="15228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86000" y="259092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981080" y="2361960"/>
                <a:ext cx="457200" cy="759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133360" y="2446200"/>
                <a:ext cx="7632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61960" y="2446200"/>
                <a:ext cx="7632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723480" y="2519640"/>
            <a:ext cx="2224800" cy="1122120"/>
            <a:chOff x="3723480" y="2519640"/>
            <a:chExt cx="2224800" cy="1122120"/>
          </a:xfrm>
        </p:grpSpPr>
        <p:sp>
          <p:nvSpPr>
            <p:cNvPr id="167" name=""/>
            <p:cNvSpPr/>
            <p:nvPr/>
          </p:nvSpPr>
          <p:spPr>
            <a:xfrm rot="20601600">
              <a:off x="4149000" y="2758320"/>
              <a:ext cx="175248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9 × 1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723480" y="2707920"/>
              <a:ext cx="677880" cy="933840"/>
              <a:chOff x="3723480" y="2707920"/>
              <a:chExt cx="677880" cy="933840"/>
            </a:xfrm>
          </p:grpSpPr>
          <p:sp>
            <p:nvSpPr>
              <p:cNvPr id="169" name=""/>
              <p:cNvSpPr/>
              <p:nvPr/>
            </p:nvSpPr>
            <p:spPr>
              <a:xfrm rot="20601600">
                <a:off x="3809880" y="3090960"/>
                <a:ext cx="53316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601600">
                <a:off x="3791520" y="2784600"/>
                <a:ext cx="15192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0601600">
                <a:off x="4004640" y="2719800"/>
                <a:ext cx="15192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138920" y="3386880"/>
                <a:ext cx="72360" cy="2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3803400" y="3145680"/>
                <a:ext cx="415800" cy="2034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601600">
                <a:off x="3958920" y="3301200"/>
                <a:ext cx="7596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20601600">
                <a:off x="4178160" y="3235680"/>
                <a:ext cx="7596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428400" y="2662920"/>
            <a:ext cx="2170440" cy="1052640"/>
            <a:chOff x="428400" y="2662920"/>
            <a:chExt cx="2170440" cy="1052640"/>
          </a:xfrm>
        </p:grpSpPr>
        <p:sp>
          <p:nvSpPr>
            <p:cNvPr id="177" name=""/>
            <p:cNvSpPr/>
            <p:nvPr/>
          </p:nvSpPr>
          <p:spPr>
            <a:xfrm rot="283800">
              <a:off x="825120" y="3062520"/>
              <a:ext cx="175284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9 × 2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28400" y="2662920"/>
              <a:ext cx="571680" cy="873360"/>
              <a:chOff x="428400" y="2662920"/>
              <a:chExt cx="571680" cy="873360"/>
            </a:xfrm>
          </p:grpSpPr>
          <p:sp>
            <p:nvSpPr>
              <p:cNvPr id="179" name=""/>
              <p:cNvSpPr/>
              <p:nvPr/>
            </p:nvSpPr>
            <p:spPr>
              <a:xfrm rot="283800">
                <a:off x="447480" y="3030480"/>
                <a:ext cx="53352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83800">
                <a:off x="552960" y="2668320"/>
                <a:ext cx="15228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83800">
                <a:off x="782280" y="2687400"/>
                <a:ext cx="15228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4840" y="3365280"/>
                <a:ext cx="75960" cy="6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453600" y="3149640"/>
                <a:ext cx="461880" cy="381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83800">
                <a:off x="601560" y="3211560"/>
                <a:ext cx="7632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283800">
                <a:off x="829440" y="3230280"/>
                <a:ext cx="7632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2350080" y="3575160"/>
            <a:ext cx="2227680" cy="1143720"/>
            <a:chOff x="2350080" y="3575160"/>
            <a:chExt cx="2227680" cy="1143720"/>
          </a:xfrm>
        </p:grpSpPr>
        <p:sp>
          <p:nvSpPr>
            <p:cNvPr id="187" name=""/>
            <p:cNvSpPr/>
            <p:nvPr/>
          </p:nvSpPr>
          <p:spPr>
            <a:xfrm rot="20562000">
              <a:off x="2778480" y="3822480"/>
              <a:ext cx="175248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9 × 7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350080" y="3783240"/>
              <a:ext cx="685800" cy="935640"/>
              <a:chOff x="2350080" y="3783240"/>
              <a:chExt cx="685800" cy="935640"/>
            </a:xfrm>
          </p:grpSpPr>
          <p:sp>
            <p:nvSpPr>
              <p:cNvPr id="189" name=""/>
              <p:cNvSpPr/>
              <p:nvPr/>
            </p:nvSpPr>
            <p:spPr>
              <a:xfrm rot="20562000">
                <a:off x="2442600" y="4166280"/>
                <a:ext cx="53316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0562000">
                <a:off x="2420640" y="3862080"/>
                <a:ext cx="15192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0562000">
                <a:off x="2633040" y="3795120"/>
                <a:ext cx="15192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2772360" y="4460400"/>
                <a:ext cx="72360" cy="22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2436120" y="4218840"/>
                <a:ext cx="413640" cy="20844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0562000">
                <a:off x="2592000" y="4377240"/>
                <a:ext cx="7596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20562000">
                <a:off x="2810160" y="4309200"/>
                <a:ext cx="7596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3580200" y="4248720"/>
            <a:ext cx="2208240" cy="1020240"/>
            <a:chOff x="3580200" y="4248720"/>
            <a:chExt cx="2208240" cy="1020240"/>
          </a:xfrm>
        </p:grpSpPr>
        <p:sp>
          <p:nvSpPr>
            <p:cNvPr id="197" name=""/>
            <p:cNvSpPr/>
            <p:nvPr/>
          </p:nvSpPr>
          <p:spPr>
            <a:xfrm rot="20784000">
              <a:off x="3991680" y="4446360"/>
              <a:ext cx="175284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9 × 6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580200" y="4347000"/>
              <a:ext cx="641520" cy="921960"/>
              <a:chOff x="3580200" y="4347000"/>
              <a:chExt cx="641520" cy="921960"/>
            </a:xfrm>
          </p:grpSpPr>
          <p:sp>
            <p:nvSpPr>
              <p:cNvPr id="199" name=""/>
              <p:cNvSpPr/>
              <p:nvPr/>
            </p:nvSpPr>
            <p:spPr>
              <a:xfrm rot="20784000">
                <a:off x="3638520" y="4728600"/>
                <a:ext cx="53352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20784000">
                <a:off x="3636360" y="4411440"/>
                <a:ext cx="15228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20784000">
                <a:off x="3854160" y="4358160"/>
                <a:ext cx="15228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3963600" y="5031360"/>
                <a:ext cx="74160" cy="1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3631320" y="4790880"/>
                <a:ext cx="426600" cy="18144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0784000">
                <a:off x="3788280" y="4934520"/>
                <a:ext cx="7632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20784000">
                <a:off x="4010400" y="4880880"/>
                <a:ext cx="7632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866240" y="4838040"/>
            <a:ext cx="2181240" cy="1124640"/>
            <a:chOff x="1866240" y="4838040"/>
            <a:chExt cx="2181240" cy="1124640"/>
          </a:xfrm>
        </p:grpSpPr>
        <p:sp>
          <p:nvSpPr>
            <p:cNvPr id="207" name=""/>
            <p:cNvSpPr/>
            <p:nvPr/>
          </p:nvSpPr>
          <p:spPr>
            <a:xfrm rot="411000">
              <a:off x="2266560" y="5278680"/>
              <a:ext cx="175248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9 × 3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866240" y="4838040"/>
              <a:ext cx="586800" cy="886320"/>
              <a:chOff x="1866240" y="4838040"/>
              <a:chExt cx="586800" cy="886320"/>
            </a:xfrm>
          </p:grpSpPr>
          <p:sp>
            <p:nvSpPr>
              <p:cNvPr id="209" name=""/>
              <p:cNvSpPr/>
              <p:nvPr/>
            </p:nvSpPr>
            <p:spPr>
              <a:xfrm rot="411000">
                <a:off x="1892880" y="5209920"/>
                <a:ext cx="53316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411000">
                <a:off x="2010960" y="4845240"/>
                <a:ext cx="15192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411000">
                <a:off x="2240280" y="4872240"/>
                <a:ext cx="15192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186640" y="5546160"/>
                <a:ext cx="74880" cy="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1902600" y="5337000"/>
                <a:ext cx="462600" cy="2088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411000">
                <a:off x="2047680" y="5388120"/>
                <a:ext cx="7596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411000">
                <a:off x="2274480" y="5415480"/>
                <a:ext cx="7596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225000" y="3787560"/>
            <a:ext cx="2159640" cy="889200"/>
            <a:chOff x="225000" y="3787560"/>
            <a:chExt cx="2159640" cy="889200"/>
          </a:xfrm>
        </p:grpSpPr>
        <p:sp>
          <p:nvSpPr>
            <p:cNvPr id="217" name=""/>
            <p:cNvSpPr/>
            <p:nvPr/>
          </p:nvSpPr>
          <p:spPr>
            <a:xfrm rot="21415200">
              <a:off x="617040" y="4048560"/>
              <a:ext cx="175284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9 × 8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25000" y="3787560"/>
              <a:ext cx="558720" cy="861840"/>
              <a:chOff x="225000" y="3787560"/>
              <a:chExt cx="558720" cy="861840"/>
            </a:xfrm>
          </p:grpSpPr>
          <p:sp>
            <p:nvSpPr>
              <p:cNvPr id="219" name=""/>
              <p:cNvSpPr/>
              <p:nvPr/>
            </p:nvSpPr>
            <p:spPr>
              <a:xfrm rot="21415200">
                <a:off x="237600" y="4151160"/>
                <a:ext cx="53352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1415200">
                <a:off x="295200" y="3803760"/>
                <a:ext cx="15228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1415200">
                <a:off x="522360" y="3791160"/>
                <a:ext cx="15228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547560" y="4476600"/>
                <a:ext cx="756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234720" y="4244040"/>
                <a:ext cx="452520" cy="10044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21415200">
                <a:off x="388800" y="4342320"/>
                <a:ext cx="76320" cy="68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1415200">
                <a:off x="617040" y="4330080"/>
                <a:ext cx="76320" cy="68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225000" y="3787560"/>
            <a:ext cx="2159640" cy="889200"/>
            <a:chOff x="225000" y="3787560"/>
            <a:chExt cx="2159640" cy="889200"/>
          </a:xfrm>
        </p:grpSpPr>
        <p:sp>
          <p:nvSpPr>
            <p:cNvPr id="227" name=""/>
            <p:cNvSpPr/>
            <p:nvPr/>
          </p:nvSpPr>
          <p:spPr>
            <a:xfrm rot="21415200">
              <a:off x="617040" y="4048560"/>
              <a:ext cx="175284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9 × 8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225000" y="3787560"/>
              <a:ext cx="558720" cy="861840"/>
              <a:chOff x="225000" y="3787560"/>
              <a:chExt cx="558720" cy="861840"/>
            </a:xfrm>
          </p:grpSpPr>
          <p:sp>
            <p:nvSpPr>
              <p:cNvPr id="229" name=""/>
              <p:cNvSpPr/>
              <p:nvPr/>
            </p:nvSpPr>
            <p:spPr>
              <a:xfrm rot="21415200">
                <a:off x="237600" y="4151160"/>
                <a:ext cx="533520" cy="48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1415200">
                <a:off x="295200" y="3803760"/>
                <a:ext cx="152280" cy="498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1415200">
                <a:off x="522360" y="3791160"/>
                <a:ext cx="15228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47560" y="4476600"/>
                <a:ext cx="75600" cy="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234720" y="4244040"/>
                <a:ext cx="452520" cy="10044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1415200">
                <a:off x="388800" y="4342320"/>
                <a:ext cx="7632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1415200">
                <a:off x="617040" y="4330080"/>
                <a:ext cx="76320" cy="6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523880" y="6095880"/>
            <a:ext cx="457200" cy="563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438280" y="6095880"/>
            <a:ext cx="457200" cy="563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3429000" y="6095880"/>
            <a:ext cx="457200" cy="563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4419720" y="6095880"/>
            <a:ext cx="457200" cy="563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5410080" y="6095880"/>
            <a:ext cx="457200" cy="563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6324480" y="6095880"/>
            <a:ext cx="457200" cy="5637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8"/>
          <a:stretch/>
        </p:blipFill>
        <p:spPr>
          <a:xfrm>
            <a:off x="49320" y="5410080"/>
            <a:ext cx="957240" cy="10670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4" name="" descr=""/>
          <p:cNvPicPr/>
          <p:nvPr/>
        </p:nvPicPr>
        <p:blipFill>
          <a:blip r:embed="rId1"/>
          <a:stretch/>
        </p:blipFill>
        <p:spPr>
          <a:xfrm>
            <a:off x="1981080" y="76320"/>
            <a:ext cx="7162920" cy="6781680"/>
          </a:xfrm>
          <a:prstGeom prst="rect">
            <a:avLst/>
          </a:prstGeom>
          <a:ln w="0">
            <a:noFill/>
          </a:ln>
        </p:spPr>
      </p:pic>
      <p:sp>
        <p:nvSpPr>
          <p:cNvPr id="1585" name=""/>
          <p:cNvSpPr/>
          <p:nvPr/>
        </p:nvSpPr>
        <p:spPr>
          <a:xfrm>
            <a:off x="3733920" y="457200"/>
            <a:ext cx="39621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9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 乘 法口诀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6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1981080" cy="3581280"/>
          </a:xfrm>
          <a:prstGeom prst="rect">
            <a:avLst/>
          </a:prstGeom>
          <a:ln w="0">
            <a:noFill/>
          </a:ln>
        </p:spPr>
      </p:pic>
      <p:sp>
        <p:nvSpPr>
          <p:cNvPr id="1587" name=""/>
          <p:cNvSpPr/>
          <p:nvPr/>
        </p:nvSpPr>
        <p:spPr>
          <a:xfrm>
            <a:off x="2819520" y="228600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6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80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×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/>
          <p:nvPr/>
        </p:nvSpPr>
        <p:spPr>
          <a:xfrm>
            <a:off x="2438280" y="5410080"/>
            <a:ext cx="3505320" cy="9907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952880" y="0"/>
            <a:ext cx="4191120" cy="1066680"/>
          </a:xfrm>
          <a:prstGeom prst="cloudCallout">
            <a:avLst>
              <a:gd name="adj1" fmla="val -67879"/>
              <a:gd name="adj2" fmla="val 175444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imes New Roman"/>
              </a:rPr>
              <a:t>休息了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rcRect l="4173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200400" y="1057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1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1614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2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2173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3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7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2730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4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32655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5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3800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6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8639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8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64160" y="152568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64160" y="99072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64160" y="210024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64160" y="266220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64160" y="319716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64160" y="373212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64160" y="430704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64160" y="480384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77120" y="14590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24480" y="11239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九得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1658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九十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2206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九二十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48520" y="2728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九三十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2655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五九四十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3800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六九五十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8520" y="4335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七九六十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4883040"/>
            <a:ext cx="198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八九七十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228600"/>
            <a:ext cx="39621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9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 乘 法口诀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1600200"/>
            <a:ext cx="380880" cy="3809880"/>
          </a:xfrm>
          <a:custGeom>
            <a:avLst/>
            <a:gdLst>
              <a:gd name="textAreaLeft" fmla="*/ 0 w 380880"/>
              <a:gd name="textAreaRight" fmla="*/ 137520 w 38088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1981080"/>
            <a:ext cx="6858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共几朵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9320" y="5410080"/>
            <a:ext cx="957240" cy="106704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762120" y="1295280"/>
            <a:ext cx="1218960" cy="392040"/>
            <a:chOff x="762120" y="1295280"/>
            <a:chExt cx="1218960" cy="392040"/>
          </a:xfrm>
        </p:grpSpPr>
        <p:sp>
          <p:nvSpPr>
            <p:cNvPr id="274" name=""/>
            <p:cNvSpPr/>
            <p:nvPr/>
          </p:nvSpPr>
          <p:spPr>
            <a:xfrm>
              <a:off x="1295280" y="1574280"/>
              <a:ext cx="15264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00200" y="1574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8800" y="146412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90720" y="1574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146412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90720" y="131256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19320" y="131256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7920" y="1295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76520" y="13510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080" y="129528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62120" y="1819440"/>
            <a:ext cx="1218960" cy="391680"/>
            <a:chOff x="762120" y="1819440"/>
            <a:chExt cx="1218960" cy="391680"/>
          </a:xfrm>
        </p:grpSpPr>
        <p:sp>
          <p:nvSpPr>
            <p:cNvPr id="285" name=""/>
            <p:cNvSpPr/>
            <p:nvPr/>
          </p:nvSpPr>
          <p:spPr>
            <a:xfrm>
              <a:off x="1295280" y="209844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00200" y="2098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28800" y="19882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90720" y="2098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120" y="19882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90720" y="1836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19320" y="1836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47920" y="1819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76520" y="1875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38080" y="181944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62120" y="2343240"/>
            <a:ext cx="1218960" cy="391680"/>
            <a:chOff x="762120" y="2343240"/>
            <a:chExt cx="1218960" cy="391680"/>
          </a:xfrm>
        </p:grpSpPr>
        <p:sp>
          <p:nvSpPr>
            <p:cNvPr id="296" name=""/>
            <p:cNvSpPr/>
            <p:nvPr/>
          </p:nvSpPr>
          <p:spPr>
            <a:xfrm>
              <a:off x="1295280" y="262224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00200" y="2622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28800" y="25120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90720" y="2622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120" y="25120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2360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19320" y="2360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7920" y="2343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76520" y="2399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080" y="234324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62120" y="2932200"/>
            <a:ext cx="1218960" cy="391680"/>
            <a:chOff x="762120" y="2932200"/>
            <a:chExt cx="1218960" cy="391680"/>
          </a:xfrm>
        </p:grpSpPr>
        <p:sp>
          <p:nvSpPr>
            <p:cNvPr id="307" name=""/>
            <p:cNvSpPr/>
            <p:nvPr/>
          </p:nvSpPr>
          <p:spPr>
            <a:xfrm>
              <a:off x="1295280" y="32112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0200" y="3211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28800" y="31010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90720" y="3211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2120" y="31010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90720" y="29494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19320" y="29494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47920" y="2932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76520" y="2988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080" y="29322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62120" y="3456000"/>
            <a:ext cx="1218960" cy="391680"/>
            <a:chOff x="762120" y="3456000"/>
            <a:chExt cx="1218960" cy="391680"/>
          </a:xfrm>
        </p:grpSpPr>
        <p:sp>
          <p:nvSpPr>
            <p:cNvPr id="318" name=""/>
            <p:cNvSpPr/>
            <p:nvPr/>
          </p:nvSpPr>
          <p:spPr>
            <a:xfrm>
              <a:off x="1295280" y="37350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00200" y="3735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8800" y="36248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90720" y="3735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36248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90720" y="34732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9320" y="34732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47920" y="3456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76520" y="3511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8080" y="34560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762120" y="3979800"/>
            <a:ext cx="1218960" cy="391680"/>
            <a:chOff x="762120" y="3979800"/>
            <a:chExt cx="1218960" cy="391680"/>
          </a:xfrm>
        </p:grpSpPr>
        <p:sp>
          <p:nvSpPr>
            <p:cNvPr id="329" name=""/>
            <p:cNvSpPr/>
            <p:nvPr/>
          </p:nvSpPr>
          <p:spPr>
            <a:xfrm>
              <a:off x="1295280" y="42588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00200" y="4258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28800" y="41486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4258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2120" y="41486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0720" y="39970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19320" y="39970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7920" y="3979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76520" y="40356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8080" y="39798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62120" y="4503600"/>
            <a:ext cx="1218960" cy="392040"/>
            <a:chOff x="762120" y="4503600"/>
            <a:chExt cx="1218960" cy="392040"/>
          </a:xfrm>
        </p:grpSpPr>
        <p:sp>
          <p:nvSpPr>
            <p:cNvPr id="340" name=""/>
            <p:cNvSpPr/>
            <p:nvPr/>
          </p:nvSpPr>
          <p:spPr>
            <a:xfrm>
              <a:off x="1295280" y="4782600"/>
              <a:ext cx="15264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00200" y="4782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28800" y="46724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0720" y="4782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46724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90720" y="45208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19320" y="45208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47920" y="4503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76520" y="45594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45036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62120" y="5027760"/>
            <a:ext cx="1218960" cy="391680"/>
            <a:chOff x="762120" y="5027760"/>
            <a:chExt cx="1218960" cy="391680"/>
          </a:xfrm>
        </p:grpSpPr>
        <p:sp>
          <p:nvSpPr>
            <p:cNvPr id="351" name=""/>
            <p:cNvSpPr/>
            <p:nvPr/>
          </p:nvSpPr>
          <p:spPr>
            <a:xfrm>
              <a:off x="1295280" y="530676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00200" y="5306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28800" y="51966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90720" y="5306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120" y="51966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90720" y="5045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19320" y="5045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47920" y="5027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76520" y="5083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38080" y="502776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200400" y="4800600"/>
            <a:ext cx="2666520" cy="642600"/>
            <a:chOff x="3200400" y="4800600"/>
            <a:chExt cx="2666520" cy="642600"/>
          </a:xfrm>
        </p:grpSpPr>
        <p:sp>
          <p:nvSpPr>
            <p:cNvPr id="362" name=""/>
            <p:cNvSpPr/>
            <p:nvPr/>
          </p:nvSpPr>
          <p:spPr>
            <a:xfrm>
              <a:off x="3200400" y="4861080"/>
              <a:ext cx="259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9 × 8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63800" y="4800600"/>
              <a:ext cx="120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0099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7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3828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2900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9"/>
          <a:stretch/>
        </p:blipFill>
        <p:spPr>
          <a:xfrm>
            <a:off x="441972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1008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324480" y="6086520"/>
            <a:ext cx="457200" cy="56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500"/>
                            </p:stCondLst>
                            <p:childTnLst>
                              <p:par>
                                <p:cTn id="21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rcRect l="4173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200400" y="1057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1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00400" y="1614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2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00400" y="2173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3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7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00400" y="2730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4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00400" y="32655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5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3800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6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00400" y="48639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8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64160" y="152568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64160" y="99072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64160" y="210024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64160" y="266220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64160" y="319716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64160" y="373212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64160" y="430704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4160" y="480384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14590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324480" y="11239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九得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48520" y="1658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九十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2206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九二十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48520" y="2728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九三十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48520" y="32655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五九四十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48520" y="3800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六九五十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48520" y="4335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七九六十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48520" y="488304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八九七十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762120" y="1295280"/>
            <a:ext cx="1218960" cy="392040"/>
            <a:chOff x="762120" y="1295280"/>
            <a:chExt cx="1218960" cy="392040"/>
          </a:xfrm>
        </p:grpSpPr>
        <p:sp>
          <p:nvSpPr>
            <p:cNvPr id="397" name=""/>
            <p:cNvSpPr/>
            <p:nvPr/>
          </p:nvSpPr>
          <p:spPr>
            <a:xfrm>
              <a:off x="1295280" y="1574280"/>
              <a:ext cx="15264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00200" y="1574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28800" y="146412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1574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2120" y="146412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90720" y="131256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19320" y="131256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47920" y="1295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76520" y="13510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8080" y="129528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62120" y="1819440"/>
            <a:ext cx="1218960" cy="391680"/>
            <a:chOff x="762120" y="1819440"/>
            <a:chExt cx="1218960" cy="391680"/>
          </a:xfrm>
        </p:grpSpPr>
        <p:sp>
          <p:nvSpPr>
            <p:cNvPr id="408" name=""/>
            <p:cNvSpPr/>
            <p:nvPr/>
          </p:nvSpPr>
          <p:spPr>
            <a:xfrm>
              <a:off x="1295280" y="209844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00200" y="2098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28800" y="19882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90720" y="2098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2120" y="19882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90720" y="1836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19320" y="1836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47920" y="1819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1875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38080" y="181944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762120" y="2343240"/>
            <a:ext cx="1218960" cy="391680"/>
            <a:chOff x="762120" y="2343240"/>
            <a:chExt cx="1218960" cy="391680"/>
          </a:xfrm>
        </p:grpSpPr>
        <p:sp>
          <p:nvSpPr>
            <p:cNvPr id="419" name=""/>
            <p:cNvSpPr/>
            <p:nvPr/>
          </p:nvSpPr>
          <p:spPr>
            <a:xfrm>
              <a:off x="1295280" y="262224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622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28800" y="25120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90720" y="2622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2120" y="25120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90720" y="2360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19320" y="2360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47920" y="2343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6520" y="2399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8080" y="234324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120" y="2932200"/>
            <a:ext cx="1218960" cy="391680"/>
            <a:chOff x="762120" y="2932200"/>
            <a:chExt cx="1218960" cy="391680"/>
          </a:xfrm>
        </p:grpSpPr>
        <p:sp>
          <p:nvSpPr>
            <p:cNvPr id="430" name=""/>
            <p:cNvSpPr/>
            <p:nvPr/>
          </p:nvSpPr>
          <p:spPr>
            <a:xfrm>
              <a:off x="1295280" y="32112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00200" y="3211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31010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90720" y="3211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2120" y="31010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990720" y="29494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19320" y="29494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47920" y="2932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76520" y="2988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8080" y="29322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62120" y="3456000"/>
            <a:ext cx="1218960" cy="391680"/>
            <a:chOff x="762120" y="3456000"/>
            <a:chExt cx="1218960" cy="391680"/>
          </a:xfrm>
        </p:grpSpPr>
        <p:sp>
          <p:nvSpPr>
            <p:cNvPr id="441" name=""/>
            <p:cNvSpPr/>
            <p:nvPr/>
          </p:nvSpPr>
          <p:spPr>
            <a:xfrm>
              <a:off x="1295280" y="37350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00200" y="3735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28800" y="36248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90720" y="3735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2120" y="36248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90720" y="34732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19320" y="34732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47920" y="3456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76520" y="3511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8080" y="34560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762120" y="3979800"/>
            <a:ext cx="1218960" cy="391680"/>
            <a:chOff x="762120" y="3979800"/>
            <a:chExt cx="1218960" cy="391680"/>
          </a:xfrm>
        </p:grpSpPr>
        <p:sp>
          <p:nvSpPr>
            <p:cNvPr id="452" name=""/>
            <p:cNvSpPr/>
            <p:nvPr/>
          </p:nvSpPr>
          <p:spPr>
            <a:xfrm>
              <a:off x="1295280" y="42588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00200" y="4258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28800" y="41486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90720" y="4258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2120" y="41486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90720" y="39970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19320" y="39970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47920" y="3979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76520" y="40356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38080" y="39798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762120" y="4503600"/>
            <a:ext cx="1218960" cy="392040"/>
            <a:chOff x="762120" y="4503600"/>
            <a:chExt cx="1218960" cy="392040"/>
          </a:xfrm>
        </p:grpSpPr>
        <p:sp>
          <p:nvSpPr>
            <p:cNvPr id="463" name=""/>
            <p:cNvSpPr/>
            <p:nvPr/>
          </p:nvSpPr>
          <p:spPr>
            <a:xfrm>
              <a:off x="1295280" y="4782600"/>
              <a:ext cx="15264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00200" y="4782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828800" y="46724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90720" y="4782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2120" y="46724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0720" y="45208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19320" y="45208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7920" y="4503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76520" y="45594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5036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62120" y="5027760"/>
            <a:ext cx="1218960" cy="391680"/>
            <a:chOff x="762120" y="5027760"/>
            <a:chExt cx="1218960" cy="391680"/>
          </a:xfrm>
        </p:grpSpPr>
        <p:sp>
          <p:nvSpPr>
            <p:cNvPr id="474" name=""/>
            <p:cNvSpPr/>
            <p:nvPr/>
          </p:nvSpPr>
          <p:spPr>
            <a:xfrm>
              <a:off x="1295280" y="530676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00200" y="5306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28800" y="51966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90720" y="5306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2120" y="51966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90720" y="5045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19320" y="5045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47920" y="5027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76520" y="5083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8080" y="502776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762120" y="5551560"/>
            <a:ext cx="1218960" cy="391680"/>
            <a:chOff x="762120" y="5551560"/>
            <a:chExt cx="1218960" cy="391680"/>
          </a:xfrm>
        </p:grpSpPr>
        <p:sp>
          <p:nvSpPr>
            <p:cNvPr id="485" name=""/>
            <p:cNvSpPr/>
            <p:nvPr/>
          </p:nvSpPr>
          <p:spPr>
            <a:xfrm>
              <a:off x="1295280" y="583056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00200" y="5830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28800" y="57204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90720" y="5830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2120" y="57204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90720" y="55688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19320" y="55688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47920" y="5551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76520" y="56073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8080" y="555156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2819520" y="228600"/>
            <a:ext cx="39621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9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 乘 法口诀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5407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9×9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64160" y="5338800"/>
            <a:ext cx="12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5880" y="533412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九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八十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62120" y="5562720"/>
            <a:ext cx="1218960" cy="391680"/>
            <a:chOff x="762120" y="5562720"/>
            <a:chExt cx="1218960" cy="391680"/>
          </a:xfrm>
        </p:grpSpPr>
        <p:sp>
          <p:nvSpPr>
            <p:cNvPr id="500" name=""/>
            <p:cNvSpPr/>
            <p:nvPr/>
          </p:nvSpPr>
          <p:spPr>
            <a:xfrm>
              <a:off x="1295280" y="584172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00200" y="5841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28800" y="573156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90720" y="5841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120" y="573156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90720" y="5580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19320" y="5580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47920" y="5562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76520" y="5618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8080" y="556272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6095880"/>
            <a:ext cx="457200" cy="5637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43828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2900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8"/>
          <a:stretch/>
        </p:blipFill>
        <p:spPr>
          <a:xfrm>
            <a:off x="441972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41008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324480" y="6086520"/>
            <a:ext cx="457200" cy="5634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523880" y="6095880"/>
            <a:ext cx="457200" cy="390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086600" y="6095880"/>
            <a:ext cx="45720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rcRect l="4173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200400" y="1057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1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200400" y="1614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2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173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3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7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0400" y="2730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4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00400" y="32655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5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800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6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00400" y="48639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8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664160" y="152568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664160" y="99072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64160" y="210024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64160" y="266220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664160" y="319716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64160" y="373212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64160" y="430704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664160" y="480384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77120" y="14590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24480" y="11239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九得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248520" y="1658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九十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48520" y="2206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九二十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248520" y="2728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九三十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248520" y="32655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五九四十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248520" y="3800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六九五十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248520" y="4335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七九六十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248520" y="488304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八九七十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762120" y="1295280"/>
            <a:ext cx="1218960" cy="392040"/>
            <a:chOff x="762120" y="1295280"/>
            <a:chExt cx="1218960" cy="392040"/>
          </a:xfrm>
        </p:grpSpPr>
        <p:sp>
          <p:nvSpPr>
            <p:cNvPr id="545" name=""/>
            <p:cNvSpPr/>
            <p:nvPr/>
          </p:nvSpPr>
          <p:spPr>
            <a:xfrm>
              <a:off x="1295280" y="1574280"/>
              <a:ext cx="15264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00200" y="1574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28800" y="146412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90720" y="1574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2120" y="146412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90720" y="131256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19320" y="131256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47920" y="1295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76520" y="13510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8080" y="129528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762120" y="1819440"/>
            <a:ext cx="1218960" cy="391680"/>
            <a:chOff x="762120" y="1819440"/>
            <a:chExt cx="1218960" cy="391680"/>
          </a:xfrm>
        </p:grpSpPr>
        <p:sp>
          <p:nvSpPr>
            <p:cNvPr id="556" name=""/>
            <p:cNvSpPr/>
            <p:nvPr/>
          </p:nvSpPr>
          <p:spPr>
            <a:xfrm>
              <a:off x="1295280" y="209844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00200" y="2098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28800" y="19882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90720" y="2098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2120" y="19882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90720" y="1836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19320" y="1836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47920" y="1819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76520" y="1875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8080" y="181944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62120" y="2343240"/>
            <a:ext cx="1218960" cy="391680"/>
            <a:chOff x="762120" y="2343240"/>
            <a:chExt cx="1218960" cy="391680"/>
          </a:xfrm>
        </p:grpSpPr>
        <p:sp>
          <p:nvSpPr>
            <p:cNvPr id="567" name=""/>
            <p:cNvSpPr/>
            <p:nvPr/>
          </p:nvSpPr>
          <p:spPr>
            <a:xfrm>
              <a:off x="1295280" y="262224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600200" y="2622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28800" y="25120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990720" y="2622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2120" y="25120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90720" y="2360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19320" y="2360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2343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76520" y="2399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8080" y="234324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62120" y="2932200"/>
            <a:ext cx="1218960" cy="391680"/>
            <a:chOff x="762120" y="2932200"/>
            <a:chExt cx="1218960" cy="391680"/>
          </a:xfrm>
        </p:grpSpPr>
        <p:sp>
          <p:nvSpPr>
            <p:cNvPr id="578" name=""/>
            <p:cNvSpPr/>
            <p:nvPr/>
          </p:nvSpPr>
          <p:spPr>
            <a:xfrm>
              <a:off x="1295280" y="32112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00200" y="3211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28800" y="31010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90720" y="3211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2120" y="31010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90720" y="29494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219320" y="29494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47920" y="2932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76520" y="2988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38080" y="29322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62120" y="3456000"/>
            <a:ext cx="1218960" cy="391680"/>
            <a:chOff x="762120" y="3456000"/>
            <a:chExt cx="1218960" cy="391680"/>
          </a:xfrm>
        </p:grpSpPr>
        <p:sp>
          <p:nvSpPr>
            <p:cNvPr id="589" name=""/>
            <p:cNvSpPr/>
            <p:nvPr/>
          </p:nvSpPr>
          <p:spPr>
            <a:xfrm>
              <a:off x="1295280" y="37350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00200" y="3735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828800" y="36248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90720" y="3735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2120" y="36248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90720" y="34732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19320" y="34732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47920" y="3456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3511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34560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762120" y="3979800"/>
            <a:ext cx="1218960" cy="391680"/>
            <a:chOff x="762120" y="3979800"/>
            <a:chExt cx="1218960" cy="391680"/>
          </a:xfrm>
        </p:grpSpPr>
        <p:sp>
          <p:nvSpPr>
            <p:cNvPr id="600" name=""/>
            <p:cNvSpPr/>
            <p:nvPr/>
          </p:nvSpPr>
          <p:spPr>
            <a:xfrm>
              <a:off x="1295280" y="42588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600200" y="4258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8800" y="41486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4258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2120" y="41486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90720" y="39970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19320" y="39970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47920" y="3979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76520" y="40356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8080" y="39798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762120" y="4503600"/>
            <a:ext cx="1218960" cy="392040"/>
            <a:chOff x="762120" y="4503600"/>
            <a:chExt cx="1218960" cy="392040"/>
          </a:xfrm>
        </p:grpSpPr>
        <p:sp>
          <p:nvSpPr>
            <p:cNvPr id="611" name=""/>
            <p:cNvSpPr/>
            <p:nvPr/>
          </p:nvSpPr>
          <p:spPr>
            <a:xfrm>
              <a:off x="1295280" y="4782600"/>
              <a:ext cx="15264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00200" y="4782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6724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90720" y="4782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62120" y="46724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90720" y="45208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19320" y="45208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47920" y="4503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76520" y="45594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38080" y="45036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762120" y="5027760"/>
            <a:ext cx="1218960" cy="391680"/>
            <a:chOff x="762120" y="5027760"/>
            <a:chExt cx="1218960" cy="391680"/>
          </a:xfrm>
        </p:grpSpPr>
        <p:sp>
          <p:nvSpPr>
            <p:cNvPr id="622" name=""/>
            <p:cNvSpPr/>
            <p:nvPr/>
          </p:nvSpPr>
          <p:spPr>
            <a:xfrm>
              <a:off x="1295280" y="530676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00200" y="5306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28800" y="51966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90720" y="5306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2120" y="51966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90720" y="5045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19320" y="5045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47920" y="5027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76520" y="5083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38080" y="502776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762120" y="5551560"/>
            <a:ext cx="1218960" cy="391680"/>
            <a:chOff x="762120" y="5551560"/>
            <a:chExt cx="1218960" cy="391680"/>
          </a:xfrm>
        </p:grpSpPr>
        <p:sp>
          <p:nvSpPr>
            <p:cNvPr id="633" name=""/>
            <p:cNvSpPr/>
            <p:nvPr/>
          </p:nvSpPr>
          <p:spPr>
            <a:xfrm>
              <a:off x="1295280" y="583056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00200" y="5830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57204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90720" y="5830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2120" y="57204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90720" y="55688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19320" y="55688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47920" y="5551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76520" y="56073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8080" y="555156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819520" y="228600"/>
            <a:ext cx="39621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9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 乘 法口诀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6095880"/>
            <a:ext cx="457200" cy="56376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438280" y="6095880"/>
            <a:ext cx="457200" cy="56376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29000" y="6095880"/>
            <a:ext cx="457200" cy="56376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8"/>
          <a:stretch/>
        </p:blipFill>
        <p:spPr>
          <a:xfrm>
            <a:off x="4419720" y="6095880"/>
            <a:ext cx="457200" cy="5637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410080" y="6095880"/>
            <a:ext cx="457200" cy="56376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324480" y="6095880"/>
            <a:ext cx="457200" cy="563760"/>
          </a:xfrm>
          <a:prstGeom prst="rect">
            <a:avLst/>
          </a:prstGeom>
          <a:ln w="0">
            <a:noFill/>
          </a:ln>
        </p:spPr>
      </p:pic>
      <p:sp>
        <p:nvSpPr>
          <p:cNvPr id="650" name="">
            <a:hlinkClick r:id="rId13" action="ppaction://hlinksldjump"/>
          </p:cNvPr>
          <p:cNvSpPr/>
          <p:nvPr/>
        </p:nvSpPr>
        <p:spPr>
          <a:xfrm>
            <a:off x="4419720" y="5943600"/>
            <a:ext cx="457200" cy="9144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14400"/>
              <a:gd name="textAreaBottom" fmla="*/ 892080 h 914400"/>
            </a:gdLst>
            <a:ahLst/>
            <a:rect l="textAreaLeft" t="textAreaTop" r="textAreaRight" b="textAreaBottom"/>
            <a:pathLst>
              <a:path w="21600" h="43183">
                <a:moveTo>
                  <a:pt x="3600" y="0"/>
                </a:moveTo>
                <a:arcTo wR="3600" hR="3600" stAng="16200000" swAng="-5400000"/>
                <a:lnTo>
                  <a:pt x="0" y="39583"/>
                </a:lnTo>
                <a:arcTo wR="3600" hR="3600" stAng="10800000" swAng="-5400000"/>
                <a:lnTo>
                  <a:pt x="18000" y="431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89480" y="5867280"/>
            <a:ext cx="396720" cy="533520"/>
          </a:xfrm>
          <a:custGeom>
            <a:avLst/>
            <a:gdLst>
              <a:gd name="textAreaLeft" fmla="*/ 19080 w 396720"/>
              <a:gd name="textAreaRight" fmla="*/ 377640 w 396720"/>
              <a:gd name="textAreaTop" fmla="*/ 19080 h 533520"/>
              <a:gd name="textAreaBottom" fmla="*/ 514440 h 533520"/>
            </a:gdLst>
            <a:ahLst/>
            <a:rect l="textAreaLeft" t="textAreaTop" r="textAreaRight" b="textAreaBottom"/>
            <a:pathLst>
              <a:path w="21600" h="29042">
                <a:moveTo>
                  <a:pt x="3600" y="0"/>
                </a:moveTo>
                <a:arcTo wR="3600" hR="3600" stAng="16200000" swAng="-5400000"/>
                <a:lnTo>
                  <a:pt x="0" y="25442"/>
                </a:lnTo>
                <a:arcTo wR="3600" hR="3600" stAng="10800000" swAng="-5400000"/>
                <a:lnTo>
                  <a:pt x="18000" y="290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22440" y="6095880"/>
            <a:ext cx="397080" cy="533520"/>
          </a:xfrm>
          <a:custGeom>
            <a:avLst/>
            <a:gdLst>
              <a:gd name="textAreaLeft" fmla="*/ 19080 w 397080"/>
              <a:gd name="textAreaRight" fmla="*/ 378000 w 397080"/>
              <a:gd name="textAreaTop" fmla="*/ 19080 h 533520"/>
              <a:gd name="textAreaBottom" fmla="*/ 514440 h 533520"/>
            </a:gdLst>
            <a:ahLst/>
            <a:rect l="textAreaLeft" t="textAreaTop" r="textAreaRight" b="textAreaBottom"/>
            <a:pathLst>
              <a:path w="21600" h="29015">
                <a:moveTo>
                  <a:pt x="3600" y="0"/>
                </a:moveTo>
                <a:arcTo wR="3600" hR="3600" stAng="16200000" swAng="-5400000"/>
                <a:lnTo>
                  <a:pt x="0" y="25415"/>
                </a:lnTo>
                <a:arcTo wR="3600" hR="3600" stAng="10800000" swAng="-5400000"/>
                <a:lnTo>
                  <a:pt x="18000" y="290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86400" y="5791320"/>
            <a:ext cx="320760" cy="685800"/>
          </a:xfrm>
          <a:custGeom>
            <a:avLst/>
            <a:gdLst>
              <a:gd name="textAreaLeft" fmla="*/ 15480 w 320760"/>
              <a:gd name="textAreaRight" fmla="*/ 305280 w 320760"/>
              <a:gd name="textAreaTop" fmla="*/ 15480 h 685800"/>
              <a:gd name="textAreaBottom" fmla="*/ 670320 h 685800"/>
            </a:gdLst>
            <a:ahLst/>
            <a:rect l="textAreaLeft" t="textAreaTop" r="textAreaRight" b="textAreaBottom"/>
            <a:pathLst>
              <a:path w="21600" h="46154">
                <a:moveTo>
                  <a:pt x="3600" y="0"/>
                </a:moveTo>
                <a:arcTo wR="3600" hR="3600" stAng="16200000" swAng="-5400000"/>
                <a:lnTo>
                  <a:pt x="0" y="42554"/>
                </a:lnTo>
                <a:arcTo wR="3600" hR="3600" stAng="10800000" swAng="-5400000"/>
                <a:lnTo>
                  <a:pt x="18000" y="4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00800" y="5791320"/>
            <a:ext cx="320760" cy="685800"/>
          </a:xfrm>
          <a:custGeom>
            <a:avLst/>
            <a:gdLst>
              <a:gd name="textAreaLeft" fmla="*/ 15480 w 320760"/>
              <a:gd name="textAreaRight" fmla="*/ 305280 w 320760"/>
              <a:gd name="textAreaTop" fmla="*/ 15480 h 685800"/>
              <a:gd name="textAreaBottom" fmla="*/ 670320 h 685800"/>
            </a:gdLst>
            <a:ahLst/>
            <a:rect l="textAreaLeft" t="textAreaTop" r="textAreaRight" b="textAreaBottom"/>
            <a:pathLst>
              <a:path w="21600" h="46154">
                <a:moveTo>
                  <a:pt x="3600" y="0"/>
                </a:moveTo>
                <a:arcTo wR="3600" hR="3600" stAng="16200000" swAng="-5400000"/>
                <a:lnTo>
                  <a:pt x="0" y="42554"/>
                </a:lnTo>
                <a:arcTo wR="3600" hR="3600" stAng="10800000" swAng="-5400000"/>
                <a:lnTo>
                  <a:pt x="18000" y="4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00400" y="547056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9×9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64160" y="5402160"/>
            <a:ext cx="12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5880" y="539748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九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八十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086600" y="6095880"/>
            <a:ext cx="457200" cy="5637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7086600" y="6095880"/>
            <a:ext cx="457200" cy="390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35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rcRect l="4173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2" name=""/>
          <p:cNvGrpSpPr/>
          <p:nvPr/>
        </p:nvGrpSpPr>
        <p:grpSpPr>
          <a:xfrm>
            <a:off x="3200400" y="949320"/>
            <a:ext cx="5638680" cy="4455720"/>
            <a:chOff x="3200400" y="949320"/>
            <a:chExt cx="5638680" cy="4455720"/>
          </a:xfrm>
        </p:grpSpPr>
        <p:sp>
          <p:nvSpPr>
            <p:cNvPr id="663" name=""/>
            <p:cNvSpPr/>
            <p:nvPr/>
          </p:nvSpPr>
          <p:spPr>
            <a:xfrm>
              <a:off x="3200400" y="101592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 × 1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200400" y="157320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 × 2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200400" y="213192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 × 3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00400" y="433224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 × 7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00400" y="268920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 × 4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00400" y="32241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 × 5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00400" y="375912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 × 6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00400" y="482292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 × 8 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4160" y="1484280"/>
              <a:ext cx="120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64160" y="949320"/>
              <a:ext cx="120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64160" y="2058840"/>
              <a:ext cx="120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64160" y="2620800"/>
              <a:ext cx="120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64160" y="3156120"/>
              <a:ext cx="120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64160" y="3691080"/>
              <a:ext cx="120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64160" y="4265640"/>
              <a:ext cx="120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64160" y="4762440"/>
              <a:ext cx="120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1417680"/>
              <a:ext cx="213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24480" y="10825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九得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248520" y="161784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二九十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48520" y="216540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三九二十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248520" y="268776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四九三十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248520" y="32241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五九四十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48520" y="37591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六九五十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48520" y="42940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七九六十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6248520" y="484200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八九七十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62120" y="1295280"/>
            <a:ext cx="1218960" cy="392040"/>
            <a:chOff x="762120" y="1295280"/>
            <a:chExt cx="1218960" cy="392040"/>
          </a:xfrm>
        </p:grpSpPr>
        <p:sp>
          <p:nvSpPr>
            <p:cNvPr id="689" name=""/>
            <p:cNvSpPr/>
            <p:nvPr/>
          </p:nvSpPr>
          <p:spPr>
            <a:xfrm>
              <a:off x="1295280" y="1574280"/>
              <a:ext cx="15264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00200" y="1574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28800" y="146412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990720" y="1574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2120" y="146412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990720" y="131256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219320" y="131256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47920" y="1295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76520" y="13510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8080" y="129528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62120" y="1819440"/>
            <a:ext cx="1218960" cy="391680"/>
            <a:chOff x="762120" y="1819440"/>
            <a:chExt cx="1218960" cy="391680"/>
          </a:xfrm>
        </p:grpSpPr>
        <p:sp>
          <p:nvSpPr>
            <p:cNvPr id="700" name=""/>
            <p:cNvSpPr/>
            <p:nvPr/>
          </p:nvSpPr>
          <p:spPr>
            <a:xfrm>
              <a:off x="1295280" y="209844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00200" y="2098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828800" y="19882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990720" y="2098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62120" y="19882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90720" y="1836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1836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47920" y="1819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676520" y="1875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8080" y="181944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762120" y="2343240"/>
            <a:ext cx="1218960" cy="391680"/>
            <a:chOff x="762120" y="2343240"/>
            <a:chExt cx="1218960" cy="391680"/>
          </a:xfrm>
        </p:grpSpPr>
        <p:sp>
          <p:nvSpPr>
            <p:cNvPr id="711" name=""/>
            <p:cNvSpPr/>
            <p:nvPr/>
          </p:nvSpPr>
          <p:spPr>
            <a:xfrm>
              <a:off x="1295280" y="262224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600200" y="2622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28800" y="25120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990720" y="2622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120" y="25120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90720" y="2360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219320" y="2360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47920" y="2343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76520" y="2399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38080" y="234324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762120" y="2932200"/>
            <a:ext cx="1218960" cy="391680"/>
            <a:chOff x="762120" y="2932200"/>
            <a:chExt cx="1218960" cy="391680"/>
          </a:xfrm>
        </p:grpSpPr>
        <p:sp>
          <p:nvSpPr>
            <p:cNvPr id="722" name=""/>
            <p:cNvSpPr/>
            <p:nvPr/>
          </p:nvSpPr>
          <p:spPr>
            <a:xfrm>
              <a:off x="1295280" y="32112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00200" y="3211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28800" y="31010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90720" y="3211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62120" y="31010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90720" y="29494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19320" y="29494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447920" y="2932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76520" y="2988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38080" y="29322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62120" y="3456000"/>
            <a:ext cx="1218960" cy="391680"/>
            <a:chOff x="762120" y="3456000"/>
            <a:chExt cx="1218960" cy="391680"/>
          </a:xfrm>
        </p:grpSpPr>
        <p:sp>
          <p:nvSpPr>
            <p:cNvPr id="733" name=""/>
            <p:cNvSpPr/>
            <p:nvPr/>
          </p:nvSpPr>
          <p:spPr>
            <a:xfrm>
              <a:off x="1295280" y="37350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600200" y="3735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828800" y="36248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90720" y="3735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2120" y="36248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90720" y="34732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19320" y="34732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47920" y="3456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76520" y="3511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38080" y="34560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762120" y="3979800"/>
            <a:ext cx="1218960" cy="391680"/>
            <a:chOff x="762120" y="3979800"/>
            <a:chExt cx="1218960" cy="391680"/>
          </a:xfrm>
        </p:grpSpPr>
        <p:sp>
          <p:nvSpPr>
            <p:cNvPr id="744" name=""/>
            <p:cNvSpPr/>
            <p:nvPr/>
          </p:nvSpPr>
          <p:spPr>
            <a:xfrm>
              <a:off x="1295280" y="42588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00200" y="4258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828800" y="41486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990720" y="4258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2120" y="41486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90720" y="39970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19320" y="39970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47920" y="3979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676520" y="40356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38080" y="39798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762120" y="4503600"/>
            <a:ext cx="1218960" cy="392040"/>
            <a:chOff x="762120" y="4503600"/>
            <a:chExt cx="1218960" cy="392040"/>
          </a:xfrm>
        </p:grpSpPr>
        <p:sp>
          <p:nvSpPr>
            <p:cNvPr id="755" name=""/>
            <p:cNvSpPr/>
            <p:nvPr/>
          </p:nvSpPr>
          <p:spPr>
            <a:xfrm>
              <a:off x="1295280" y="4782600"/>
              <a:ext cx="15264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00200" y="4782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28800" y="46724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990720" y="4782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2120" y="46724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990720" y="45208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19320" y="45208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47920" y="4503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76520" y="45594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38080" y="45036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762120" y="5027760"/>
            <a:ext cx="1218960" cy="391680"/>
            <a:chOff x="762120" y="5027760"/>
            <a:chExt cx="1218960" cy="391680"/>
          </a:xfrm>
        </p:grpSpPr>
        <p:sp>
          <p:nvSpPr>
            <p:cNvPr id="766" name=""/>
            <p:cNvSpPr/>
            <p:nvPr/>
          </p:nvSpPr>
          <p:spPr>
            <a:xfrm>
              <a:off x="1295280" y="530676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600200" y="5306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28800" y="51966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0720" y="5306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51966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90720" y="5045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19320" y="5045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47920" y="5027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676520" y="5083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502776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762120" y="5551560"/>
            <a:ext cx="1218960" cy="391680"/>
            <a:chOff x="762120" y="5551560"/>
            <a:chExt cx="1218960" cy="391680"/>
          </a:xfrm>
        </p:grpSpPr>
        <p:sp>
          <p:nvSpPr>
            <p:cNvPr id="777" name=""/>
            <p:cNvSpPr/>
            <p:nvPr/>
          </p:nvSpPr>
          <p:spPr>
            <a:xfrm>
              <a:off x="1295280" y="583056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600200" y="5830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28800" y="57204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90720" y="5830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62120" y="57204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90720" y="55688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219320" y="55688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447920" y="5551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676520" y="56073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38080" y="555156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2819520" y="228600"/>
            <a:ext cx="39621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9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 乘 法口诀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419720" y="1143000"/>
            <a:ext cx="0" cy="4800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97400" y="1262160"/>
            <a:ext cx="88920" cy="609480"/>
          </a:xfrm>
          <a:custGeom>
            <a:avLst/>
            <a:gdLst/>
            <a:ahLst/>
            <a:rect l="l" t="t" r="r" b="b"/>
            <a:pathLst>
              <a:path w="56" h="384">
                <a:moveTo>
                  <a:pt x="28" y="0"/>
                </a:moveTo>
                <a:cubicBezTo>
                  <a:pt x="14" y="39"/>
                  <a:pt x="15" y="17"/>
                  <a:pt x="28" y="55"/>
                </a:cubicBezTo>
                <a:cubicBezTo>
                  <a:pt x="34" y="73"/>
                  <a:pt x="46" y="110"/>
                  <a:pt x="46" y="110"/>
                </a:cubicBezTo>
                <a:cubicBezTo>
                  <a:pt x="43" y="160"/>
                  <a:pt x="56" y="328"/>
                  <a:pt x="0" y="38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4120" y="129528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334120" y="190512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334120" y="251460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334120" y="312408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334120" y="365760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334120" y="426708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334120" y="480060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334120" y="533412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5334120" y="1371600"/>
            <a:ext cx="533160" cy="4330800"/>
            <a:chOff x="5334120" y="1371600"/>
            <a:chExt cx="533160" cy="4330800"/>
          </a:xfrm>
        </p:grpSpPr>
        <p:sp>
          <p:nvSpPr>
            <p:cNvPr id="799" name=""/>
            <p:cNvSpPr/>
            <p:nvPr/>
          </p:nvSpPr>
          <p:spPr>
            <a:xfrm>
              <a:off x="5334120" y="1371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+ 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34120" y="19191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+ 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334120" y="2514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+ 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34120" y="31240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+ 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334120" y="37339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+ 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334120" y="42670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+ 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334120" y="4800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+ 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34120" y="53341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+ 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3200400" y="5407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9×9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664160" y="5338800"/>
            <a:ext cx="12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5880" y="533412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九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八十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43828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2900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8"/>
          <a:stretch/>
        </p:blipFill>
        <p:spPr>
          <a:xfrm>
            <a:off x="441972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41008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324480" y="6086520"/>
            <a:ext cx="457200" cy="56340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1523880" y="6095880"/>
            <a:ext cx="465120" cy="542880"/>
          </a:xfrm>
          <a:custGeom>
            <a:avLst/>
            <a:gdLst>
              <a:gd name="textAreaLeft" fmla="*/ 22680 w 465120"/>
              <a:gd name="textAreaRight" fmla="*/ 442440 w 465120"/>
              <a:gd name="textAreaTop" fmla="*/ 22680 h 542880"/>
              <a:gd name="textAreaBottom" fmla="*/ 520200 h 542880"/>
            </a:gdLst>
            <a:ahLst/>
            <a:rect l="textAreaLeft" t="textAreaTop" r="textAreaRight" b="textAreaBottom"/>
            <a:pathLst>
              <a:path w="21600" h="25208">
                <a:moveTo>
                  <a:pt x="3600" y="0"/>
                </a:moveTo>
                <a:arcTo wR="3600" hR="3600" stAng="16200000" swAng="-5400000"/>
                <a:lnTo>
                  <a:pt x="0" y="21608"/>
                </a:lnTo>
                <a:arcTo wR="3600" hR="3600" stAng="10800000" swAng="-5400000"/>
                <a:lnTo>
                  <a:pt x="18000" y="252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>
            <a:hlinkClick r:id="rId13" action="ppaction://hlinksldjump"/>
          </p:cNvPr>
          <p:cNvSpPr/>
          <p:nvPr/>
        </p:nvSpPr>
        <p:spPr>
          <a:xfrm>
            <a:off x="4419720" y="5934240"/>
            <a:ext cx="457200" cy="9144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14400"/>
              <a:gd name="textAreaBottom" fmla="*/ 892080 h 914400"/>
            </a:gdLst>
            <a:ahLst/>
            <a:rect l="textAreaLeft" t="textAreaTop" r="textAreaRight" b="textAreaBottom"/>
            <a:pathLst>
              <a:path w="21600" h="43183">
                <a:moveTo>
                  <a:pt x="3600" y="0"/>
                </a:moveTo>
                <a:arcTo wR="3600" hR="3600" stAng="16200000" swAng="-5400000"/>
                <a:lnTo>
                  <a:pt x="0" y="39583"/>
                </a:lnTo>
                <a:arcTo wR="3600" hR="3600" stAng="10800000" swAng="-5400000"/>
                <a:lnTo>
                  <a:pt x="18000" y="431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89480" y="5857920"/>
            <a:ext cx="396720" cy="533520"/>
          </a:xfrm>
          <a:custGeom>
            <a:avLst/>
            <a:gdLst>
              <a:gd name="textAreaLeft" fmla="*/ 19080 w 396720"/>
              <a:gd name="textAreaRight" fmla="*/ 377640 w 396720"/>
              <a:gd name="textAreaTop" fmla="*/ 19080 h 533520"/>
              <a:gd name="textAreaBottom" fmla="*/ 514440 h 533520"/>
            </a:gdLst>
            <a:ahLst/>
            <a:rect l="textAreaLeft" t="textAreaTop" r="textAreaRight" b="textAreaBottom"/>
            <a:pathLst>
              <a:path w="21600" h="29042">
                <a:moveTo>
                  <a:pt x="3600" y="0"/>
                </a:moveTo>
                <a:arcTo wR="3600" hR="3600" stAng="16200000" swAng="-5400000"/>
                <a:lnTo>
                  <a:pt x="0" y="25442"/>
                </a:lnTo>
                <a:arcTo wR="3600" hR="3600" stAng="10800000" swAng="-5400000"/>
                <a:lnTo>
                  <a:pt x="18000" y="290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22440" y="6086520"/>
            <a:ext cx="397080" cy="533520"/>
          </a:xfrm>
          <a:custGeom>
            <a:avLst/>
            <a:gdLst>
              <a:gd name="textAreaLeft" fmla="*/ 19080 w 397080"/>
              <a:gd name="textAreaRight" fmla="*/ 378000 w 397080"/>
              <a:gd name="textAreaTop" fmla="*/ 19080 h 533520"/>
              <a:gd name="textAreaBottom" fmla="*/ 514440 h 533520"/>
            </a:gdLst>
            <a:ahLst/>
            <a:rect l="textAreaLeft" t="textAreaTop" r="textAreaRight" b="textAreaBottom"/>
            <a:pathLst>
              <a:path w="21600" h="29015">
                <a:moveTo>
                  <a:pt x="3600" y="0"/>
                </a:moveTo>
                <a:arcTo wR="3600" hR="3600" stAng="16200000" swAng="-5400000"/>
                <a:lnTo>
                  <a:pt x="0" y="25415"/>
                </a:lnTo>
                <a:arcTo wR="3600" hR="3600" stAng="10800000" swAng="-5400000"/>
                <a:lnTo>
                  <a:pt x="18000" y="290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486400" y="5781600"/>
            <a:ext cx="320760" cy="685800"/>
          </a:xfrm>
          <a:custGeom>
            <a:avLst/>
            <a:gdLst>
              <a:gd name="textAreaLeft" fmla="*/ 15480 w 320760"/>
              <a:gd name="textAreaRight" fmla="*/ 305280 w 320760"/>
              <a:gd name="textAreaTop" fmla="*/ 15480 h 685800"/>
              <a:gd name="textAreaBottom" fmla="*/ 670320 h 685800"/>
            </a:gdLst>
            <a:ahLst/>
            <a:rect l="textAreaLeft" t="textAreaTop" r="textAreaRight" b="textAreaBottom"/>
            <a:pathLst>
              <a:path w="21600" h="46154">
                <a:moveTo>
                  <a:pt x="3600" y="0"/>
                </a:moveTo>
                <a:arcTo wR="3600" hR="3600" stAng="16200000" swAng="-5400000"/>
                <a:lnTo>
                  <a:pt x="0" y="42554"/>
                </a:lnTo>
                <a:arcTo wR="3600" hR="3600" stAng="10800000" swAng="-5400000"/>
                <a:lnTo>
                  <a:pt x="18000" y="4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400800" y="5781600"/>
            <a:ext cx="320760" cy="685800"/>
          </a:xfrm>
          <a:custGeom>
            <a:avLst/>
            <a:gdLst>
              <a:gd name="textAreaLeft" fmla="*/ 15480 w 320760"/>
              <a:gd name="textAreaRight" fmla="*/ 305280 w 320760"/>
              <a:gd name="textAreaTop" fmla="*/ 15480 h 685800"/>
              <a:gd name="textAreaBottom" fmla="*/ 670320 h 685800"/>
            </a:gdLst>
            <a:ahLst/>
            <a:rect l="textAreaLeft" t="textAreaTop" r="textAreaRight" b="textAreaBottom"/>
            <a:pathLst>
              <a:path w="21600" h="46154">
                <a:moveTo>
                  <a:pt x="3600" y="0"/>
                </a:moveTo>
                <a:arcTo wR="3600" hR="3600" stAng="16200000" swAng="-5400000"/>
                <a:lnTo>
                  <a:pt x="0" y="42554"/>
                </a:lnTo>
                <a:arcTo wR="3600" hR="3600" stAng="10800000" swAng="-5400000"/>
                <a:lnTo>
                  <a:pt x="18000" y="4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086600" y="6095880"/>
            <a:ext cx="457200" cy="5637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7086600" y="6095880"/>
            <a:ext cx="457200" cy="390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" descr=""/>
          <p:cNvPicPr/>
          <p:nvPr/>
        </p:nvPicPr>
        <p:blipFill>
          <a:blip r:embed="rId1"/>
          <a:srcRect l="4173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3200400" y="1057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1  =   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200400" y="1614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2  = 1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00400" y="2173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3  = 2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20040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7  = 6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00400" y="2730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4  = 3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200400" y="32655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5  = 4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200400" y="3800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6  = 5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200400" y="4906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8  = 7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962520" y="1568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816440" y="99072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267080" y="21002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324480" y="11239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九得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6248520" y="1459080"/>
            <a:ext cx="2590560" cy="3396960"/>
            <a:chOff x="6248520" y="1459080"/>
            <a:chExt cx="2590560" cy="3396960"/>
          </a:xfrm>
        </p:grpSpPr>
        <p:sp>
          <p:nvSpPr>
            <p:cNvPr id="838" name=""/>
            <p:cNvSpPr/>
            <p:nvPr/>
          </p:nvSpPr>
          <p:spPr>
            <a:xfrm>
              <a:off x="6477120" y="1459080"/>
              <a:ext cx="213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248520" y="1658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二九十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48520" y="220680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三九二十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248520" y="272880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四九三十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48520" y="32655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五九四十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248520" y="38005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六九五十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248520" y="43354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七九六十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6248520" y="488304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八九七十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762120" y="1295280"/>
            <a:ext cx="1218960" cy="392040"/>
            <a:chOff x="762120" y="1295280"/>
            <a:chExt cx="1218960" cy="392040"/>
          </a:xfrm>
        </p:grpSpPr>
        <p:sp>
          <p:nvSpPr>
            <p:cNvPr id="847" name=""/>
            <p:cNvSpPr/>
            <p:nvPr/>
          </p:nvSpPr>
          <p:spPr>
            <a:xfrm>
              <a:off x="1295280" y="1574280"/>
              <a:ext cx="15264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600200" y="1574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828800" y="146412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90720" y="1574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62120" y="146412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990720" y="131256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19320" y="131256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447920" y="1295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76520" y="13510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38080" y="129528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762120" y="1819440"/>
            <a:ext cx="1218960" cy="391680"/>
            <a:chOff x="762120" y="1819440"/>
            <a:chExt cx="1218960" cy="391680"/>
          </a:xfrm>
        </p:grpSpPr>
        <p:sp>
          <p:nvSpPr>
            <p:cNvPr id="858" name=""/>
            <p:cNvSpPr/>
            <p:nvPr/>
          </p:nvSpPr>
          <p:spPr>
            <a:xfrm>
              <a:off x="1295280" y="209844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00200" y="2098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828800" y="19882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990720" y="2098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62120" y="19882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90720" y="1836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219320" y="1836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47920" y="1819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676520" y="1875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38080" y="181944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2343240"/>
            <a:ext cx="1218960" cy="391680"/>
            <a:chOff x="762120" y="2343240"/>
            <a:chExt cx="1218960" cy="391680"/>
          </a:xfrm>
        </p:grpSpPr>
        <p:sp>
          <p:nvSpPr>
            <p:cNvPr id="869" name=""/>
            <p:cNvSpPr/>
            <p:nvPr/>
          </p:nvSpPr>
          <p:spPr>
            <a:xfrm>
              <a:off x="1295280" y="262224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00200" y="2622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828800" y="25120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90720" y="2622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2120" y="25120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90720" y="2360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19320" y="2360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447920" y="2343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676520" y="2399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38080" y="234324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762120" y="2932200"/>
            <a:ext cx="1218960" cy="391680"/>
            <a:chOff x="762120" y="2932200"/>
            <a:chExt cx="1218960" cy="391680"/>
          </a:xfrm>
        </p:grpSpPr>
        <p:sp>
          <p:nvSpPr>
            <p:cNvPr id="880" name=""/>
            <p:cNvSpPr/>
            <p:nvPr/>
          </p:nvSpPr>
          <p:spPr>
            <a:xfrm>
              <a:off x="1295280" y="32112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00200" y="3211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828800" y="31010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90720" y="3211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2120" y="31010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90720" y="29494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219320" y="29494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47920" y="2932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6520" y="2988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38080" y="29322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762120" y="3456000"/>
            <a:ext cx="1218960" cy="391680"/>
            <a:chOff x="762120" y="3456000"/>
            <a:chExt cx="1218960" cy="391680"/>
          </a:xfrm>
        </p:grpSpPr>
        <p:sp>
          <p:nvSpPr>
            <p:cNvPr id="891" name=""/>
            <p:cNvSpPr/>
            <p:nvPr/>
          </p:nvSpPr>
          <p:spPr>
            <a:xfrm>
              <a:off x="1295280" y="37350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00200" y="3735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828800" y="36248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990720" y="3735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62120" y="36248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90720" y="34732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19320" y="34732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47920" y="3456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676520" y="3511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38080" y="34560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762120" y="3979800"/>
            <a:ext cx="1218960" cy="391680"/>
            <a:chOff x="762120" y="3979800"/>
            <a:chExt cx="1218960" cy="391680"/>
          </a:xfrm>
        </p:grpSpPr>
        <p:sp>
          <p:nvSpPr>
            <p:cNvPr id="902" name=""/>
            <p:cNvSpPr/>
            <p:nvPr/>
          </p:nvSpPr>
          <p:spPr>
            <a:xfrm>
              <a:off x="1295280" y="42588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600200" y="4258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28800" y="41486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90720" y="4258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2120" y="41486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990720" y="39970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19320" y="39970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447920" y="3979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76520" y="40356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8080" y="39798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762120" y="4503600"/>
            <a:ext cx="1218960" cy="392040"/>
            <a:chOff x="762120" y="4503600"/>
            <a:chExt cx="1218960" cy="392040"/>
          </a:xfrm>
        </p:grpSpPr>
        <p:sp>
          <p:nvSpPr>
            <p:cNvPr id="913" name=""/>
            <p:cNvSpPr/>
            <p:nvPr/>
          </p:nvSpPr>
          <p:spPr>
            <a:xfrm>
              <a:off x="1295280" y="4782600"/>
              <a:ext cx="15264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600200" y="4782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828800" y="46724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90720" y="4782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62120" y="46724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990720" y="45208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219320" y="45208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447920" y="4503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676520" y="45594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38080" y="45036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762120" y="5027760"/>
            <a:ext cx="1218960" cy="391680"/>
            <a:chOff x="762120" y="5027760"/>
            <a:chExt cx="1218960" cy="391680"/>
          </a:xfrm>
        </p:grpSpPr>
        <p:sp>
          <p:nvSpPr>
            <p:cNvPr id="924" name=""/>
            <p:cNvSpPr/>
            <p:nvPr/>
          </p:nvSpPr>
          <p:spPr>
            <a:xfrm>
              <a:off x="1295280" y="530676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600200" y="5306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28800" y="51966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990720" y="5306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2120" y="51966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990720" y="5045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219320" y="5045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47920" y="5027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676520" y="5083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38080" y="502776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762120" y="5551560"/>
            <a:ext cx="1218960" cy="391680"/>
            <a:chOff x="762120" y="5551560"/>
            <a:chExt cx="1218960" cy="391680"/>
          </a:xfrm>
        </p:grpSpPr>
        <p:sp>
          <p:nvSpPr>
            <p:cNvPr id="935" name=""/>
            <p:cNvSpPr/>
            <p:nvPr/>
          </p:nvSpPr>
          <p:spPr>
            <a:xfrm>
              <a:off x="1295280" y="583056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00200" y="5830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828800" y="57204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90720" y="5830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62120" y="57204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90720" y="55688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219320" y="55688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447920" y="5551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676520" y="56073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38080" y="555156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819520" y="228600"/>
            <a:ext cx="39621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9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 乘 法口诀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450040" y="1262160"/>
            <a:ext cx="88920" cy="609480"/>
          </a:xfrm>
          <a:custGeom>
            <a:avLst/>
            <a:gdLst/>
            <a:ahLst/>
            <a:rect l="l" t="t" r="r" b="b"/>
            <a:pathLst>
              <a:path w="56" h="384">
                <a:moveTo>
                  <a:pt x="28" y="0"/>
                </a:moveTo>
                <a:cubicBezTo>
                  <a:pt x="14" y="39"/>
                  <a:pt x="15" y="17"/>
                  <a:pt x="28" y="55"/>
                </a:cubicBezTo>
                <a:cubicBezTo>
                  <a:pt x="34" y="73"/>
                  <a:pt x="46" y="110"/>
                  <a:pt x="46" y="110"/>
                </a:cubicBezTo>
                <a:cubicBezTo>
                  <a:pt x="43" y="160"/>
                  <a:pt x="56" y="328"/>
                  <a:pt x="0" y="38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029200" y="1630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572000" y="2101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2666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2000" y="3200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1911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19112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191120" y="4311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572000" y="4311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4906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21d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38098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2"/>
          <a:stretch/>
        </p:blipFill>
        <p:spPr>
          <a:xfrm>
            <a:off x="7772400" y="5410080"/>
            <a:ext cx="457200" cy="56376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4664160" y="5415120"/>
            <a:ext cx="12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200400" y="5394240"/>
            <a:ext cx="5638680" cy="808200"/>
            <a:chOff x="3200400" y="5394240"/>
            <a:chExt cx="5638680" cy="808200"/>
          </a:xfrm>
        </p:grpSpPr>
        <p:sp>
          <p:nvSpPr>
            <p:cNvPr id="961" name=""/>
            <p:cNvSpPr/>
            <p:nvPr/>
          </p:nvSpPr>
          <p:spPr>
            <a:xfrm>
              <a:off x="3200400" y="5499000"/>
              <a:ext cx="25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9×9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943600" y="5486400"/>
              <a:ext cx="28954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九九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八十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76920" y="54100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572000" y="5394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cc6600"/>
                  </a:solidFill>
                  <a:latin typeface="Times New Roman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3962520" y="4844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3828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2900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7"/>
          <a:stretch/>
        </p:blipFill>
        <p:spPr>
          <a:xfrm>
            <a:off x="441972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41008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324480" y="6086520"/>
            <a:ext cx="457200" cy="563400"/>
          </a:xfrm>
          <a:prstGeom prst="rect">
            <a:avLst/>
          </a:prstGeom>
          <a:ln w="0">
            <a:noFill/>
          </a:ln>
        </p:spPr>
      </p:pic>
      <p:sp>
        <p:nvSpPr>
          <p:cNvPr id="971" name="">
            <a:hlinkClick r:id="rId12" action="ppaction://hlinksldjump"/>
          </p:cNvPr>
          <p:cNvSpPr/>
          <p:nvPr/>
        </p:nvSpPr>
        <p:spPr>
          <a:xfrm>
            <a:off x="4419720" y="5934240"/>
            <a:ext cx="457200" cy="9144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14400"/>
              <a:gd name="textAreaBottom" fmla="*/ 892080 h 914400"/>
            </a:gdLst>
            <a:ahLst/>
            <a:rect l="textAreaLeft" t="textAreaTop" r="textAreaRight" b="textAreaBottom"/>
            <a:pathLst>
              <a:path w="21600" h="43183">
                <a:moveTo>
                  <a:pt x="3600" y="0"/>
                </a:moveTo>
                <a:arcTo wR="3600" hR="3600" stAng="16200000" swAng="-5400000"/>
                <a:lnTo>
                  <a:pt x="0" y="39583"/>
                </a:lnTo>
                <a:arcTo wR="3600" hR="3600" stAng="10800000" swAng="-5400000"/>
                <a:lnTo>
                  <a:pt x="18000" y="431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489480" y="5857920"/>
            <a:ext cx="396720" cy="533520"/>
          </a:xfrm>
          <a:custGeom>
            <a:avLst/>
            <a:gdLst>
              <a:gd name="textAreaLeft" fmla="*/ 19080 w 396720"/>
              <a:gd name="textAreaRight" fmla="*/ 377640 w 396720"/>
              <a:gd name="textAreaTop" fmla="*/ 19080 h 533520"/>
              <a:gd name="textAreaBottom" fmla="*/ 514440 h 533520"/>
            </a:gdLst>
            <a:ahLst/>
            <a:rect l="textAreaLeft" t="textAreaTop" r="textAreaRight" b="textAreaBottom"/>
            <a:pathLst>
              <a:path w="21600" h="29042">
                <a:moveTo>
                  <a:pt x="3600" y="0"/>
                </a:moveTo>
                <a:arcTo wR="3600" hR="3600" stAng="16200000" swAng="-5400000"/>
                <a:lnTo>
                  <a:pt x="0" y="25442"/>
                </a:lnTo>
                <a:arcTo wR="3600" hR="3600" stAng="10800000" swAng="-5400000"/>
                <a:lnTo>
                  <a:pt x="18000" y="290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22440" y="6086520"/>
            <a:ext cx="397080" cy="533520"/>
          </a:xfrm>
          <a:custGeom>
            <a:avLst/>
            <a:gdLst>
              <a:gd name="textAreaLeft" fmla="*/ 19080 w 397080"/>
              <a:gd name="textAreaRight" fmla="*/ 378000 w 397080"/>
              <a:gd name="textAreaTop" fmla="*/ 19080 h 533520"/>
              <a:gd name="textAreaBottom" fmla="*/ 514440 h 533520"/>
            </a:gdLst>
            <a:ahLst/>
            <a:rect l="textAreaLeft" t="textAreaTop" r="textAreaRight" b="textAreaBottom"/>
            <a:pathLst>
              <a:path w="21600" h="29015">
                <a:moveTo>
                  <a:pt x="3600" y="0"/>
                </a:moveTo>
                <a:arcTo wR="3600" hR="3600" stAng="16200000" swAng="-5400000"/>
                <a:lnTo>
                  <a:pt x="0" y="25415"/>
                </a:lnTo>
                <a:arcTo wR="3600" hR="3600" stAng="10800000" swAng="-5400000"/>
                <a:lnTo>
                  <a:pt x="18000" y="290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486400" y="5781600"/>
            <a:ext cx="320760" cy="685800"/>
          </a:xfrm>
          <a:custGeom>
            <a:avLst/>
            <a:gdLst>
              <a:gd name="textAreaLeft" fmla="*/ 15480 w 320760"/>
              <a:gd name="textAreaRight" fmla="*/ 305280 w 320760"/>
              <a:gd name="textAreaTop" fmla="*/ 15480 h 685800"/>
              <a:gd name="textAreaBottom" fmla="*/ 670320 h 685800"/>
            </a:gdLst>
            <a:ahLst/>
            <a:rect l="textAreaLeft" t="textAreaTop" r="textAreaRight" b="textAreaBottom"/>
            <a:pathLst>
              <a:path w="21600" h="46154">
                <a:moveTo>
                  <a:pt x="3600" y="0"/>
                </a:moveTo>
                <a:arcTo wR="3600" hR="3600" stAng="16200000" swAng="-5400000"/>
                <a:lnTo>
                  <a:pt x="0" y="42554"/>
                </a:lnTo>
                <a:arcTo wR="3600" hR="3600" stAng="10800000" swAng="-5400000"/>
                <a:lnTo>
                  <a:pt x="18000" y="4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5781600"/>
            <a:ext cx="320760" cy="685800"/>
          </a:xfrm>
          <a:custGeom>
            <a:avLst/>
            <a:gdLst>
              <a:gd name="textAreaLeft" fmla="*/ 15480 w 320760"/>
              <a:gd name="textAreaRight" fmla="*/ 305280 w 320760"/>
              <a:gd name="textAreaTop" fmla="*/ 15480 h 685800"/>
              <a:gd name="textAreaBottom" fmla="*/ 670320 h 685800"/>
            </a:gdLst>
            <a:ahLst/>
            <a:rect l="textAreaLeft" t="textAreaTop" r="textAreaRight" b="textAreaBottom"/>
            <a:pathLst>
              <a:path w="21600" h="46154">
                <a:moveTo>
                  <a:pt x="3600" y="0"/>
                </a:moveTo>
                <a:arcTo wR="3600" hR="3600" stAng="16200000" swAng="-5400000"/>
                <a:lnTo>
                  <a:pt x="0" y="42554"/>
                </a:lnTo>
                <a:arcTo wR="3600" hR="3600" stAng="10800000" swAng="-5400000"/>
                <a:lnTo>
                  <a:pt x="18000" y="4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6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086600" y="6095880"/>
            <a:ext cx="457200" cy="56376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7086600" y="6095880"/>
            <a:ext cx="457200" cy="390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8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523880" y="6095880"/>
            <a:ext cx="457200" cy="56376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1523880" y="6095880"/>
            <a:ext cx="465120" cy="542880"/>
          </a:xfrm>
          <a:custGeom>
            <a:avLst/>
            <a:gdLst>
              <a:gd name="textAreaLeft" fmla="*/ 22680 w 465120"/>
              <a:gd name="textAreaRight" fmla="*/ 442440 w 465120"/>
              <a:gd name="textAreaTop" fmla="*/ 22680 h 542880"/>
              <a:gd name="textAreaBottom" fmla="*/ 520200 h 542880"/>
            </a:gdLst>
            <a:ahLst/>
            <a:rect l="textAreaLeft" t="textAreaTop" r="textAreaRight" b="textAreaBottom"/>
            <a:pathLst>
              <a:path w="21600" h="25208">
                <a:moveTo>
                  <a:pt x="3600" y="0"/>
                </a:moveTo>
                <a:arcTo wR="3600" hR="3600" stAng="16200000" swAng="-5400000"/>
                <a:lnTo>
                  <a:pt x="0" y="21608"/>
                </a:lnTo>
                <a:arcTo wR="3600" hR="3600" stAng="10800000" swAng="-5400000"/>
                <a:lnTo>
                  <a:pt x="18000" y="252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9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" descr=""/>
          <p:cNvPicPr/>
          <p:nvPr/>
        </p:nvPicPr>
        <p:blipFill>
          <a:blip r:embed="rId1"/>
          <a:srcRect l="4173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3200400" y="1057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1  =   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200400" y="1614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2  = 1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200400" y="2173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3  = 2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20040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7  = 6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200400" y="2730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4  = 3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200400" y="32655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5  = 4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200400" y="3800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6  = 5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00400" y="4906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8  = 7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1568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00600" y="990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67080" y="21002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324480" y="11239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九得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6248520" y="1459080"/>
            <a:ext cx="2590560" cy="3396960"/>
            <a:chOff x="6248520" y="1459080"/>
            <a:chExt cx="2590560" cy="3396960"/>
          </a:xfrm>
        </p:grpSpPr>
        <p:sp>
          <p:nvSpPr>
            <p:cNvPr id="994" name=""/>
            <p:cNvSpPr/>
            <p:nvPr/>
          </p:nvSpPr>
          <p:spPr>
            <a:xfrm>
              <a:off x="6477120" y="1459080"/>
              <a:ext cx="213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248520" y="1658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二九十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248520" y="220680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三九二十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248520" y="272880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四九三十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248520" y="32655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五九四十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248520" y="38005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六九五十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248520" y="43354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七九六十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6248520" y="488304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八九七十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248520" y="5419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九九八十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762120" y="1295280"/>
            <a:ext cx="1218960" cy="392040"/>
            <a:chOff x="762120" y="1295280"/>
            <a:chExt cx="1218960" cy="392040"/>
          </a:xfrm>
        </p:grpSpPr>
        <p:sp>
          <p:nvSpPr>
            <p:cNvPr id="1004" name=""/>
            <p:cNvSpPr/>
            <p:nvPr/>
          </p:nvSpPr>
          <p:spPr>
            <a:xfrm>
              <a:off x="1295280" y="1574280"/>
              <a:ext cx="15264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00200" y="1574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28800" y="146412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90720" y="1574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62120" y="146412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990720" y="131256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19320" y="131256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47920" y="1295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676520" y="13510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38080" y="129528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762120" y="1819440"/>
            <a:ext cx="1218960" cy="391680"/>
            <a:chOff x="762120" y="1819440"/>
            <a:chExt cx="1218960" cy="391680"/>
          </a:xfrm>
        </p:grpSpPr>
        <p:sp>
          <p:nvSpPr>
            <p:cNvPr id="1015" name=""/>
            <p:cNvSpPr/>
            <p:nvPr/>
          </p:nvSpPr>
          <p:spPr>
            <a:xfrm>
              <a:off x="1295280" y="209844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00200" y="2098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28800" y="19882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90720" y="2098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62120" y="19882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990720" y="1836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19320" y="1836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447920" y="1819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676520" y="1875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38080" y="181944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762120" y="2343240"/>
            <a:ext cx="1218960" cy="391680"/>
            <a:chOff x="762120" y="2343240"/>
            <a:chExt cx="1218960" cy="391680"/>
          </a:xfrm>
        </p:grpSpPr>
        <p:sp>
          <p:nvSpPr>
            <p:cNvPr id="1026" name=""/>
            <p:cNvSpPr/>
            <p:nvPr/>
          </p:nvSpPr>
          <p:spPr>
            <a:xfrm>
              <a:off x="1295280" y="262224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600200" y="2622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828800" y="25120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990720" y="2622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62120" y="25120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990720" y="2360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219320" y="2360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447920" y="2343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676520" y="2399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38080" y="234324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762120" y="2932200"/>
            <a:ext cx="1218960" cy="391680"/>
            <a:chOff x="762120" y="2932200"/>
            <a:chExt cx="1218960" cy="391680"/>
          </a:xfrm>
        </p:grpSpPr>
        <p:sp>
          <p:nvSpPr>
            <p:cNvPr id="1037" name=""/>
            <p:cNvSpPr/>
            <p:nvPr/>
          </p:nvSpPr>
          <p:spPr>
            <a:xfrm>
              <a:off x="1295280" y="32112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00200" y="3211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28800" y="31010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90720" y="3211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62120" y="31010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90720" y="29494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219320" y="29494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447920" y="2932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76520" y="2988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38080" y="29322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762120" y="3456000"/>
            <a:ext cx="1218960" cy="391680"/>
            <a:chOff x="762120" y="3456000"/>
            <a:chExt cx="1218960" cy="391680"/>
          </a:xfrm>
        </p:grpSpPr>
        <p:sp>
          <p:nvSpPr>
            <p:cNvPr id="1048" name=""/>
            <p:cNvSpPr/>
            <p:nvPr/>
          </p:nvSpPr>
          <p:spPr>
            <a:xfrm>
              <a:off x="1295280" y="37350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600200" y="3735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828800" y="36248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90720" y="3735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62120" y="36248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990720" y="34732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219320" y="34732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47920" y="3456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76520" y="3511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38080" y="34560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762120" y="3979800"/>
            <a:ext cx="1218960" cy="391680"/>
            <a:chOff x="762120" y="3979800"/>
            <a:chExt cx="1218960" cy="391680"/>
          </a:xfrm>
        </p:grpSpPr>
        <p:sp>
          <p:nvSpPr>
            <p:cNvPr id="1059" name=""/>
            <p:cNvSpPr/>
            <p:nvPr/>
          </p:nvSpPr>
          <p:spPr>
            <a:xfrm>
              <a:off x="1295280" y="42588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600200" y="4258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28800" y="41486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990720" y="4258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62120" y="41486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990720" y="39970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219320" y="39970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447920" y="3979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676520" y="40356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38080" y="39798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762120" y="4503600"/>
            <a:ext cx="1218960" cy="392040"/>
            <a:chOff x="762120" y="4503600"/>
            <a:chExt cx="1218960" cy="392040"/>
          </a:xfrm>
        </p:grpSpPr>
        <p:sp>
          <p:nvSpPr>
            <p:cNvPr id="1070" name=""/>
            <p:cNvSpPr/>
            <p:nvPr/>
          </p:nvSpPr>
          <p:spPr>
            <a:xfrm>
              <a:off x="1295280" y="4782600"/>
              <a:ext cx="15264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00200" y="4782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828800" y="46724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990720" y="4782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62120" y="46724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990720" y="45208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219320" y="45208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447920" y="4503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76520" y="45594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38080" y="45036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762120" y="5027760"/>
            <a:ext cx="1218960" cy="391680"/>
            <a:chOff x="762120" y="5027760"/>
            <a:chExt cx="1218960" cy="391680"/>
          </a:xfrm>
        </p:grpSpPr>
        <p:sp>
          <p:nvSpPr>
            <p:cNvPr id="1081" name=""/>
            <p:cNvSpPr/>
            <p:nvPr/>
          </p:nvSpPr>
          <p:spPr>
            <a:xfrm>
              <a:off x="1295280" y="530676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600200" y="5306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828800" y="51966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990720" y="5306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62120" y="51966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990720" y="5045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219320" y="5045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447920" y="5027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76520" y="5083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38080" y="502776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762120" y="5551560"/>
            <a:ext cx="1218960" cy="391680"/>
            <a:chOff x="762120" y="5551560"/>
            <a:chExt cx="1218960" cy="391680"/>
          </a:xfrm>
        </p:grpSpPr>
        <p:sp>
          <p:nvSpPr>
            <p:cNvPr id="1092" name=""/>
            <p:cNvSpPr/>
            <p:nvPr/>
          </p:nvSpPr>
          <p:spPr>
            <a:xfrm>
              <a:off x="1295280" y="583056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600200" y="5830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828800" y="57204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990720" y="5830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62120" y="57204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990720" y="55688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219320" y="55688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447920" y="5551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676520" y="56073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38080" y="555156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2819520" y="228600"/>
            <a:ext cx="39621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9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 乘 法口诀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450040" y="1262160"/>
            <a:ext cx="88920" cy="609480"/>
          </a:xfrm>
          <a:custGeom>
            <a:avLst/>
            <a:gdLst/>
            <a:ahLst/>
            <a:rect l="l" t="t" r="r" b="b"/>
            <a:pathLst>
              <a:path w="56" h="384">
                <a:moveTo>
                  <a:pt x="28" y="0"/>
                </a:moveTo>
                <a:cubicBezTo>
                  <a:pt x="14" y="39"/>
                  <a:pt x="15" y="17"/>
                  <a:pt x="28" y="55"/>
                </a:cubicBezTo>
                <a:cubicBezTo>
                  <a:pt x="34" y="73"/>
                  <a:pt x="46" y="110"/>
                  <a:pt x="46" y="110"/>
                </a:cubicBezTo>
                <a:cubicBezTo>
                  <a:pt x="43" y="160"/>
                  <a:pt x="56" y="328"/>
                  <a:pt x="0" y="38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29200" y="1630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21d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572000" y="2101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c421df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67080" y="2666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572000" y="3200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c421d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114800" y="3276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57200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c421d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19112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191120" y="4311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72000" y="4311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c421d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343400" y="4906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21d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962520" y="4844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267080" y="38098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21d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876920" y="2209680"/>
            <a:ext cx="380880" cy="7632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96"/>
                </a:moveTo>
                <a:cubicBezTo>
                  <a:pt x="32" y="48"/>
                  <a:pt x="64" y="0"/>
                  <a:pt x="96" y="0"/>
                </a:cubicBezTo>
                <a:cubicBezTo>
                  <a:pt x="128" y="0"/>
                  <a:pt x="160" y="48"/>
                  <a:pt x="192" y="9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876920" y="1676520"/>
            <a:ext cx="380880" cy="7596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96"/>
                </a:moveTo>
                <a:cubicBezTo>
                  <a:pt x="32" y="48"/>
                  <a:pt x="64" y="0"/>
                  <a:pt x="96" y="0"/>
                </a:cubicBezTo>
                <a:cubicBezTo>
                  <a:pt x="128" y="0"/>
                  <a:pt x="160" y="48"/>
                  <a:pt x="192" y="9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76920" y="2743200"/>
            <a:ext cx="380880" cy="7632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96"/>
                </a:moveTo>
                <a:cubicBezTo>
                  <a:pt x="32" y="48"/>
                  <a:pt x="64" y="0"/>
                  <a:pt x="96" y="0"/>
                </a:cubicBezTo>
                <a:cubicBezTo>
                  <a:pt x="128" y="0"/>
                  <a:pt x="160" y="48"/>
                  <a:pt x="192" y="9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876920" y="3352680"/>
            <a:ext cx="380880" cy="7632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96"/>
                </a:moveTo>
                <a:cubicBezTo>
                  <a:pt x="32" y="48"/>
                  <a:pt x="64" y="0"/>
                  <a:pt x="96" y="0"/>
                </a:cubicBezTo>
                <a:cubicBezTo>
                  <a:pt x="128" y="0"/>
                  <a:pt x="160" y="48"/>
                  <a:pt x="192" y="9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876920" y="3886200"/>
            <a:ext cx="380880" cy="7632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96"/>
                </a:moveTo>
                <a:cubicBezTo>
                  <a:pt x="32" y="48"/>
                  <a:pt x="64" y="0"/>
                  <a:pt x="96" y="0"/>
                </a:cubicBezTo>
                <a:cubicBezTo>
                  <a:pt x="128" y="0"/>
                  <a:pt x="160" y="48"/>
                  <a:pt x="192" y="9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876920" y="4419720"/>
            <a:ext cx="380880" cy="7596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96"/>
                </a:moveTo>
                <a:cubicBezTo>
                  <a:pt x="32" y="48"/>
                  <a:pt x="64" y="0"/>
                  <a:pt x="96" y="0"/>
                </a:cubicBezTo>
                <a:cubicBezTo>
                  <a:pt x="128" y="0"/>
                  <a:pt x="160" y="48"/>
                  <a:pt x="192" y="9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76920" y="4952880"/>
            <a:ext cx="380880" cy="7632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96"/>
                </a:moveTo>
                <a:cubicBezTo>
                  <a:pt x="32" y="48"/>
                  <a:pt x="64" y="0"/>
                  <a:pt x="96" y="0"/>
                </a:cubicBezTo>
                <a:cubicBezTo>
                  <a:pt x="128" y="0"/>
                  <a:pt x="160" y="48"/>
                  <a:pt x="192" y="9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876920" y="5486400"/>
            <a:ext cx="380880" cy="7632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96"/>
                </a:moveTo>
                <a:cubicBezTo>
                  <a:pt x="32" y="48"/>
                  <a:pt x="64" y="0"/>
                  <a:pt x="96" y="0"/>
                </a:cubicBezTo>
                <a:cubicBezTo>
                  <a:pt x="128" y="0"/>
                  <a:pt x="160" y="48"/>
                  <a:pt x="192" y="9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3200400" y="5397480"/>
            <a:ext cx="5105520" cy="776520"/>
            <a:chOff x="3200400" y="5397480"/>
            <a:chExt cx="5105520" cy="776520"/>
          </a:xfrm>
        </p:grpSpPr>
        <p:sp>
          <p:nvSpPr>
            <p:cNvPr id="1125" name=""/>
            <p:cNvSpPr/>
            <p:nvPr/>
          </p:nvSpPr>
          <p:spPr>
            <a:xfrm>
              <a:off x="3200400" y="5470560"/>
              <a:ext cx="25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9×9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64160" y="5402160"/>
              <a:ext cx="120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cc6600"/>
                  </a:solidFill>
                  <a:latin typeface="Times New Roman"/>
                </a:rPr>
                <a:t>8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095880" y="5397480"/>
              <a:ext cx="22100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九九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八十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4191120" y="53942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876920" y="54100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3828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2900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6"/>
          <a:stretch/>
        </p:blipFill>
        <p:spPr>
          <a:xfrm>
            <a:off x="441972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41008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324480" y="6086520"/>
            <a:ext cx="457200" cy="563400"/>
          </a:xfrm>
          <a:prstGeom prst="rect">
            <a:avLst/>
          </a:prstGeom>
          <a:ln w="0">
            <a:noFill/>
          </a:ln>
        </p:spPr>
      </p:pic>
      <p:sp>
        <p:nvSpPr>
          <p:cNvPr id="1135" name="">
            <a:hlinkClick r:id="rId11" action="ppaction://hlinksldjump"/>
          </p:cNvPr>
          <p:cNvSpPr/>
          <p:nvPr/>
        </p:nvSpPr>
        <p:spPr>
          <a:xfrm>
            <a:off x="4419720" y="5934240"/>
            <a:ext cx="457200" cy="9144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14400"/>
              <a:gd name="textAreaBottom" fmla="*/ 892080 h 914400"/>
            </a:gdLst>
            <a:ahLst/>
            <a:rect l="textAreaLeft" t="textAreaTop" r="textAreaRight" b="textAreaBottom"/>
            <a:pathLst>
              <a:path w="21600" h="43183">
                <a:moveTo>
                  <a:pt x="3600" y="0"/>
                </a:moveTo>
                <a:arcTo wR="3600" hR="3600" stAng="16200000" swAng="-5400000"/>
                <a:lnTo>
                  <a:pt x="0" y="39583"/>
                </a:lnTo>
                <a:arcTo wR="3600" hR="3600" stAng="10800000" swAng="-5400000"/>
                <a:lnTo>
                  <a:pt x="18000" y="431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489480" y="5857920"/>
            <a:ext cx="396720" cy="533520"/>
          </a:xfrm>
          <a:custGeom>
            <a:avLst/>
            <a:gdLst>
              <a:gd name="textAreaLeft" fmla="*/ 19080 w 396720"/>
              <a:gd name="textAreaRight" fmla="*/ 377640 w 396720"/>
              <a:gd name="textAreaTop" fmla="*/ 19080 h 533520"/>
              <a:gd name="textAreaBottom" fmla="*/ 514440 h 533520"/>
            </a:gdLst>
            <a:ahLst/>
            <a:rect l="textAreaLeft" t="textAreaTop" r="textAreaRight" b="textAreaBottom"/>
            <a:pathLst>
              <a:path w="21600" h="29042">
                <a:moveTo>
                  <a:pt x="3600" y="0"/>
                </a:moveTo>
                <a:arcTo wR="3600" hR="3600" stAng="16200000" swAng="-5400000"/>
                <a:lnTo>
                  <a:pt x="0" y="25442"/>
                </a:lnTo>
                <a:arcTo wR="3600" hR="3600" stAng="10800000" swAng="-5400000"/>
                <a:lnTo>
                  <a:pt x="18000" y="290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422440" y="6086520"/>
            <a:ext cx="397080" cy="533520"/>
          </a:xfrm>
          <a:custGeom>
            <a:avLst/>
            <a:gdLst>
              <a:gd name="textAreaLeft" fmla="*/ 19080 w 397080"/>
              <a:gd name="textAreaRight" fmla="*/ 378000 w 397080"/>
              <a:gd name="textAreaTop" fmla="*/ 19080 h 533520"/>
              <a:gd name="textAreaBottom" fmla="*/ 514440 h 533520"/>
            </a:gdLst>
            <a:ahLst/>
            <a:rect l="textAreaLeft" t="textAreaTop" r="textAreaRight" b="textAreaBottom"/>
            <a:pathLst>
              <a:path w="21600" h="29015">
                <a:moveTo>
                  <a:pt x="3600" y="0"/>
                </a:moveTo>
                <a:arcTo wR="3600" hR="3600" stAng="16200000" swAng="-5400000"/>
                <a:lnTo>
                  <a:pt x="0" y="25415"/>
                </a:lnTo>
                <a:arcTo wR="3600" hR="3600" stAng="10800000" swAng="-5400000"/>
                <a:lnTo>
                  <a:pt x="18000" y="290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486400" y="5781600"/>
            <a:ext cx="320760" cy="685800"/>
          </a:xfrm>
          <a:custGeom>
            <a:avLst/>
            <a:gdLst>
              <a:gd name="textAreaLeft" fmla="*/ 15480 w 320760"/>
              <a:gd name="textAreaRight" fmla="*/ 305280 w 320760"/>
              <a:gd name="textAreaTop" fmla="*/ 15480 h 685800"/>
              <a:gd name="textAreaBottom" fmla="*/ 670320 h 685800"/>
            </a:gdLst>
            <a:ahLst/>
            <a:rect l="textAreaLeft" t="textAreaTop" r="textAreaRight" b="textAreaBottom"/>
            <a:pathLst>
              <a:path w="21600" h="46154">
                <a:moveTo>
                  <a:pt x="3600" y="0"/>
                </a:moveTo>
                <a:arcTo wR="3600" hR="3600" stAng="16200000" swAng="-5400000"/>
                <a:lnTo>
                  <a:pt x="0" y="42554"/>
                </a:lnTo>
                <a:arcTo wR="3600" hR="3600" stAng="10800000" swAng="-5400000"/>
                <a:lnTo>
                  <a:pt x="18000" y="4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400800" y="5781600"/>
            <a:ext cx="320760" cy="685800"/>
          </a:xfrm>
          <a:custGeom>
            <a:avLst/>
            <a:gdLst>
              <a:gd name="textAreaLeft" fmla="*/ 15480 w 320760"/>
              <a:gd name="textAreaRight" fmla="*/ 305280 w 320760"/>
              <a:gd name="textAreaTop" fmla="*/ 15480 h 685800"/>
              <a:gd name="textAreaBottom" fmla="*/ 670320 h 685800"/>
            </a:gdLst>
            <a:ahLst/>
            <a:rect l="textAreaLeft" t="textAreaTop" r="textAreaRight" b="textAreaBottom"/>
            <a:pathLst>
              <a:path w="21600" h="46154">
                <a:moveTo>
                  <a:pt x="3600" y="0"/>
                </a:moveTo>
                <a:arcTo wR="3600" hR="3600" stAng="16200000" swAng="-5400000"/>
                <a:lnTo>
                  <a:pt x="0" y="42554"/>
                </a:lnTo>
                <a:arcTo wR="3600" hR="3600" stAng="10800000" swAng="-5400000"/>
                <a:lnTo>
                  <a:pt x="18000" y="4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086600" y="6095880"/>
            <a:ext cx="457200" cy="56376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7086600" y="6095880"/>
            <a:ext cx="457200" cy="390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2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1523880" y="6095880"/>
            <a:ext cx="457200" cy="56376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1523880" y="6095880"/>
            <a:ext cx="465120" cy="542880"/>
          </a:xfrm>
          <a:custGeom>
            <a:avLst/>
            <a:gdLst>
              <a:gd name="textAreaLeft" fmla="*/ 22680 w 465120"/>
              <a:gd name="textAreaRight" fmla="*/ 442440 w 465120"/>
              <a:gd name="textAreaTop" fmla="*/ 22680 h 542880"/>
              <a:gd name="textAreaBottom" fmla="*/ 520200 h 542880"/>
            </a:gdLst>
            <a:ahLst/>
            <a:rect l="textAreaLeft" t="textAreaTop" r="textAreaRight" b="textAreaBottom"/>
            <a:pathLst>
              <a:path w="21600" h="25208">
                <a:moveTo>
                  <a:pt x="3600" y="0"/>
                </a:moveTo>
                <a:arcTo wR="3600" hR="3600" stAng="16200000" swAng="-5400000"/>
                <a:lnTo>
                  <a:pt x="0" y="21608"/>
                </a:lnTo>
                <a:arcTo wR="3600" hR="3600" stAng="10800000" swAng="-5400000"/>
                <a:lnTo>
                  <a:pt x="18000" y="252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" descr=""/>
          <p:cNvPicPr/>
          <p:nvPr/>
        </p:nvPicPr>
        <p:blipFill>
          <a:blip r:embed="rId1"/>
          <a:srcRect l="4173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3200400" y="1057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1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200400" y="1614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2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200400" y="2173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3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20040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7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200400" y="2730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4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200400" y="32655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5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200400" y="3800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6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200400" y="48639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× 8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664160" y="152568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664160" y="99072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664160" y="210024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664160" y="266220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64160" y="319716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664160" y="373212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664160" y="430704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664160" y="480384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477120" y="14590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324480" y="11239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九得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248520" y="1658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九十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248520" y="2206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九二十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248520" y="2728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九三十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48520" y="32655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五九四十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248520" y="3800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六九五十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248520" y="4335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七九六十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248520" y="488304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八九七十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762120" y="1295280"/>
            <a:ext cx="1218960" cy="392040"/>
            <a:chOff x="762120" y="1295280"/>
            <a:chExt cx="1218960" cy="392040"/>
          </a:xfrm>
        </p:grpSpPr>
        <p:sp>
          <p:nvSpPr>
            <p:cNvPr id="1171" name=""/>
            <p:cNvSpPr/>
            <p:nvPr/>
          </p:nvSpPr>
          <p:spPr>
            <a:xfrm>
              <a:off x="1295280" y="1574280"/>
              <a:ext cx="15264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00200" y="1574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828800" y="146412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990720" y="1574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62120" y="146412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90720" y="131256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219320" y="131256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447920" y="12952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676520" y="13510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38080" y="129528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762120" y="1819440"/>
            <a:ext cx="1218960" cy="391680"/>
            <a:chOff x="762120" y="1819440"/>
            <a:chExt cx="1218960" cy="391680"/>
          </a:xfrm>
        </p:grpSpPr>
        <p:sp>
          <p:nvSpPr>
            <p:cNvPr id="1182" name=""/>
            <p:cNvSpPr/>
            <p:nvPr/>
          </p:nvSpPr>
          <p:spPr>
            <a:xfrm>
              <a:off x="1295280" y="209844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600200" y="2098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828800" y="19882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990720" y="2098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62120" y="19882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990720" y="1836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219320" y="18367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447920" y="18194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76520" y="1875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38080" y="181944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762120" y="2343240"/>
            <a:ext cx="1218960" cy="391680"/>
            <a:chOff x="762120" y="2343240"/>
            <a:chExt cx="1218960" cy="391680"/>
          </a:xfrm>
        </p:grpSpPr>
        <p:sp>
          <p:nvSpPr>
            <p:cNvPr id="1193" name=""/>
            <p:cNvSpPr/>
            <p:nvPr/>
          </p:nvSpPr>
          <p:spPr>
            <a:xfrm>
              <a:off x="1295280" y="262224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2622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828800" y="25120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990720" y="2622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62120" y="251208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2360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219320" y="236052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447920" y="23432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676520" y="2399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38080" y="234324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762120" y="2932200"/>
            <a:ext cx="1218960" cy="391680"/>
            <a:chOff x="762120" y="2932200"/>
            <a:chExt cx="1218960" cy="391680"/>
          </a:xfrm>
        </p:grpSpPr>
        <p:sp>
          <p:nvSpPr>
            <p:cNvPr id="1204" name=""/>
            <p:cNvSpPr/>
            <p:nvPr/>
          </p:nvSpPr>
          <p:spPr>
            <a:xfrm>
              <a:off x="1295280" y="32112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600200" y="3211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828800" y="31010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990720" y="3211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62120" y="31010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90720" y="29494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219320" y="29494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447920" y="29322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676520" y="2988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38080" y="29322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762120" y="3456000"/>
            <a:ext cx="1218960" cy="391680"/>
            <a:chOff x="762120" y="3456000"/>
            <a:chExt cx="1218960" cy="391680"/>
          </a:xfrm>
        </p:grpSpPr>
        <p:sp>
          <p:nvSpPr>
            <p:cNvPr id="1215" name=""/>
            <p:cNvSpPr/>
            <p:nvPr/>
          </p:nvSpPr>
          <p:spPr>
            <a:xfrm>
              <a:off x="1295280" y="37350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600200" y="3735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828800" y="36248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990720" y="3735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62120" y="36248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990720" y="34732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4732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447920" y="34560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676520" y="3511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38080" y="34560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762120" y="3979800"/>
            <a:ext cx="1218960" cy="391680"/>
            <a:chOff x="762120" y="3979800"/>
            <a:chExt cx="1218960" cy="391680"/>
          </a:xfrm>
        </p:grpSpPr>
        <p:sp>
          <p:nvSpPr>
            <p:cNvPr id="1226" name=""/>
            <p:cNvSpPr/>
            <p:nvPr/>
          </p:nvSpPr>
          <p:spPr>
            <a:xfrm>
              <a:off x="1295280" y="425880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600200" y="4258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828800" y="41486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990720" y="4258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2120" y="41486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990720" y="39970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219320" y="399708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447920" y="39798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676520" y="403560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38080" y="39798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762120" y="4503600"/>
            <a:ext cx="1218960" cy="392040"/>
            <a:chOff x="762120" y="4503600"/>
            <a:chExt cx="1218960" cy="392040"/>
          </a:xfrm>
        </p:grpSpPr>
        <p:sp>
          <p:nvSpPr>
            <p:cNvPr id="1237" name=""/>
            <p:cNvSpPr/>
            <p:nvPr/>
          </p:nvSpPr>
          <p:spPr>
            <a:xfrm>
              <a:off x="1295280" y="4782600"/>
              <a:ext cx="15264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00200" y="4782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828800" y="46724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990720" y="4782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62120" y="467244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90720" y="45208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219320" y="452088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447920" y="45036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676520" y="4559400"/>
              <a:ext cx="152280" cy="11304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38080" y="450360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762120" y="5027760"/>
            <a:ext cx="1218960" cy="391680"/>
            <a:chOff x="762120" y="5027760"/>
            <a:chExt cx="1218960" cy="391680"/>
          </a:xfrm>
        </p:grpSpPr>
        <p:sp>
          <p:nvSpPr>
            <p:cNvPr id="1248" name=""/>
            <p:cNvSpPr/>
            <p:nvPr/>
          </p:nvSpPr>
          <p:spPr>
            <a:xfrm>
              <a:off x="1295280" y="530676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600200" y="5306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828800" y="51966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990720" y="5306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120" y="51966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990720" y="5045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219320" y="50450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447920" y="50277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76520" y="5083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38080" y="502776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762120" y="5551560"/>
            <a:ext cx="1218960" cy="391680"/>
            <a:chOff x="762120" y="5551560"/>
            <a:chExt cx="1218960" cy="391680"/>
          </a:xfrm>
        </p:grpSpPr>
        <p:sp>
          <p:nvSpPr>
            <p:cNvPr id="1259" name=""/>
            <p:cNvSpPr/>
            <p:nvPr/>
          </p:nvSpPr>
          <p:spPr>
            <a:xfrm>
              <a:off x="1295280" y="5830560"/>
              <a:ext cx="15264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600200" y="5830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828800" y="57204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990720" y="5830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62120" y="5720400"/>
              <a:ext cx="152280" cy="11016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990720" y="55688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219320" y="556884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447920" y="55515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676520" y="5607360"/>
              <a:ext cx="152280" cy="112680"/>
            </a:xfrm>
            <a:prstGeom prst="donut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38080" y="5551560"/>
              <a:ext cx="1067040" cy="279000"/>
            </a:xfrm>
            <a:prstGeom prst="ellipse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9" name=""/>
          <p:cNvSpPr/>
          <p:nvPr/>
        </p:nvSpPr>
        <p:spPr>
          <a:xfrm>
            <a:off x="2819520" y="228600"/>
            <a:ext cx="39621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9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 乘 法口诀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297400" y="1262160"/>
            <a:ext cx="88920" cy="609480"/>
          </a:xfrm>
          <a:custGeom>
            <a:avLst/>
            <a:gdLst/>
            <a:ahLst/>
            <a:rect l="l" t="t" r="r" b="b"/>
            <a:pathLst>
              <a:path w="56" h="384">
                <a:moveTo>
                  <a:pt x="28" y="0"/>
                </a:moveTo>
                <a:cubicBezTo>
                  <a:pt x="14" y="39"/>
                  <a:pt x="15" y="17"/>
                  <a:pt x="28" y="55"/>
                </a:cubicBezTo>
                <a:cubicBezTo>
                  <a:pt x="34" y="73"/>
                  <a:pt x="46" y="110"/>
                  <a:pt x="46" y="110"/>
                </a:cubicBezTo>
                <a:cubicBezTo>
                  <a:pt x="43" y="160"/>
                  <a:pt x="56" y="328"/>
                  <a:pt x="0" y="38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257800" y="3505320"/>
            <a:ext cx="15228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cubicBezTo>
                  <a:pt x="48" y="60"/>
                  <a:pt x="96" y="120"/>
                  <a:pt x="96" y="192"/>
                </a:cubicBezTo>
                <a:cubicBezTo>
                  <a:pt x="96" y="264"/>
                  <a:pt x="16" y="392"/>
                  <a:pt x="0" y="43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257800" y="3048120"/>
            <a:ext cx="380880" cy="167616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cubicBezTo>
                  <a:pt x="48" y="60"/>
                  <a:pt x="96" y="120"/>
                  <a:pt x="96" y="192"/>
                </a:cubicBezTo>
                <a:cubicBezTo>
                  <a:pt x="96" y="264"/>
                  <a:pt x="16" y="392"/>
                  <a:pt x="0" y="43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334120" y="2590920"/>
            <a:ext cx="533160" cy="259056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cubicBezTo>
                  <a:pt x="48" y="60"/>
                  <a:pt x="96" y="120"/>
                  <a:pt x="96" y="192"/>
                </a:cubicBezTo>
                <a:cubicBezTo>
                  <a:pt x="96" y="264"/>
                  <a:pt x="16" y="392"/>
                  <a:pt x="0" y="43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257800" y="1981080"/>
            <a:ext cx="990720" cy="381024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cubicBezTo>
                  <a:pt x="48" y="60"/>
                  <a:pt x="96" y="120"/>
                  <a:pt x="96" y="192"/>
                </a:cubicBezTo>
                <a:cubicBezTo>
                  <a:pt x="96" y="264"/>
                  <a:pt x="16" y="392"/>
                  <a:pt x="0" y="43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200400" y="547056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9×9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664160" y="5402160"/>
            <a:ext cx="12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095880" y="539748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九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八十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3828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12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2900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1280" name="" descr=""/>
          <p:cNvPicPr/>
          <p:nvPr/>
        </p:nvPicPr>
        <p:blipFill>
          <a:blip r:embed="rId6"/>
          <a:stretch/>
        </p:blipFill>
        <p:spPr>
          <a:xfrm>
            <a:off x="441972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128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410080" y="6086520"/>
            <a:ext cx="457200" cy="563400"/>
          </a:xfrm>
          <a:prstGeom prst="rect">
            <a:avLst/>
          </a:prstGeom>
          <a:ln w="0">
            <a:noFill/>
          </a:ln>
        </p:spPr>
      </p:pic>
      <p:pic>
        <p:nvPicPr>
          <p:cNvPr id="128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324480" y="6086520"/>
            <a:ext cx="457200" cy="563400"/>
          </a:xfrm>
          <a:prstGeom prst="rect">
            <a:avLst/>
          </a:prstGeom>
          <a:ln w="0">
            <a:noFill/>
          </a:ln>
        </p:spPr>
      </p:pic>
      <p:sp>
        <p:nvSpPr>
          <p:cNvPr id="1283" name="">
            <a:hlinkClick r:id="rId11" action="ppaction://hlinksldjump"/>
          </p:cNvPr>
          <p:cNvSpPr/>
          <p:nvPr/>
        </p:nvSpPr>
        <p:spPr>
          <a:xfrm>
            <a:off x="4419720" y="5934240"/>
            <a:ext cx="457200" cy="9144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14400"/>
              <a:gd name="textAreaBottom" fmla="*/ 892080 h 914400"/>
            </a:gdLst>
            <a:ahLst/>
            <a:rect l="textAreaLeft" t="textAreaTop" r="textAreaRight" b="textAreaBottom"/>
            <a:pathLst>
              <a:path w="21600" h="43183">
                <a:moveTo>
                  <a:pt x="3600" y="0"/>
                </a:moveTo>
                <a:arcTo wR="3600" hR="3600" stAng="16200000" swAng="-5400000"/>
                <a:lnTo>
                  <a:pt x="0" y="39583"/>
                </a:lnTo>
                <a:arcTo wR="3600" hR="3600" stAng="10800000" swAng="-5400000"/>
                <a:lnTo>
                  <a:pt x="18000" y="431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89480" y="5857920"/>
            <a:ext cx="396720" cy="533520"/>
          </a:xfrm>
          <a:custGeom>
            <a:avLst/>
            <a:gdLst>
              <a:gd name="textAreaLeft" fmla="*/ 19080 w 396720"/>
              <a:gd name="textAreaRight" fmla="*/ 377640 w 396720"/>
              <a:gd name="textAreaTop" fmla="*/ 19080 h 533520"/>
              <a:gd name="textAreaBottom" fmla="*/ 514440 h 533520"/>
            </a:gdLst>
            <a:ahLst/>
            <a:rect l="textAreaLeft" t="textAreaTop" r="textAreaRight" b="textAreaBottom"/>
            <a:pathLst>
              <a:path w="21600" h="29042">
                <a:moveTo>
                  <a:pt x="3600" y="0"/>
                </a:moveTo>
                <a:arcTo wR="3600" hR="3600" stAng="16200000" swAng="-5400000"/>
                <a:lnTo>
                  <a:pt x="0" y="25442"/>
                </a:lnTo>
                <a:arcTo wR="3600" hR="3600" stAng="10800000" swAng="-5400000"/>
                <a:lnTo>
                  <a:pt x="18000" y="290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422440" y="6086520"/>
            <a:ext cx="397080" cy="533520"/>
          </a:xfrm>
          <a:custGeom>
            <a:avLst/>
            <a:gdLst>
              <a:gd name="textAreaLeft" fmla="*/ 19080 w 397080"/>
              <a:gd name="textAreaRight" fmla="*/ 378000 w 397080"/>
              <a:gd name="textAreaTop" fmla="*/ 19080 h 533520"/>
              <a:gd name="textAreaBottom" fmla="*/ 514440 h 533520"/>
            </a:gdLst>
            <a:ahLst/>
            <a:rect l="textAreaLeft" t="textAreaTop" r="textAreaRight" b="textAreaBottom"/>
            <a:pathLst>
              <a:path w="21600" h="29015">
                <a:moveTo>
                  <a:pt x="3600" y="0"/>
                </a:moveTo>
                <a:arcTo wR="3600" hR="3600" stAng="16200000" swAng="-5400000"/>
                <a:lnTo>
                  <a:pt x="0" y="25415"/>
                </a:lnTo>
                <a:arcTo wR="3600" hR="3600" stAng="10800000" swAng="-5400000"/>
                <a:lnTo>
                  <a:pt x="18000" y="290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486400" y="5781600"/>
            <a:ext cx="320760" cy="685800"/>
          </a:xfrm>
          <a:custGeom>
            <a:avLst/>
            <a:gdLst>
              <a:gd name="textAreaLeft" fmla="*/ 15480 w 320760"/>
              <a:gd name="textAreaRight" fmla="*/ 305280 w 320760"/>
              <a:gd name="textAreaTop" fmla="*/ 15480 h 685800"/>
              <a:gd name="textAreaBottom" fmla="*/ 670320 h 685800"/>
            </a:gdLst>
            <a:ahLst/>
            <a:rect l="textAreaLeft" t="textAreaTop" r="textAreaRight" b="textAreaBottom"/>
            <a:pathLst>
              <a:path w="21600" h="46154">
                <a:moveTo>
                  <a:pt x="3600" y="0"/>
                </a:moveTo>
                <a:arcTo wR="3600" hR="3600" stAng="16200000" swAng="-5400000"/>
                <a:lnTo>
                  <a:pt x="0" y="42554"/>
                </a:lnTo>
                <a:arcTo wR="3600" hR="3600" stAng="10800000" swAng="-5400000"/>
                <a:lnTo>
                  <a:pt x="18000" y="4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400800" y="5781600"/>
            <a:ext cx="320760" cy="685800"/>
          </a:xfrm>
          <a:custGeom>
            <a:avLst/>
            <a:gdLst>
              <a:gd name="textAreaLeft" fmla="*/ 15480 w 320760"/>
              <a:gd name="textAreaRight" fmla="*/ 305280 w 320760"/>
              <a:gd name="textAreaTop" fmla="*/ 15480 h 685800"/>
              <a:gd name="textAreaBottom" fmla="*/ 670320 h 685800"/>
            </a:gdLst>
            <a:ahLst/>
            <a:rect l="textAreaLeft" t="textAreaTop" r="textAreaRight" b="textAreaBottom"/>
            <a:pathLst>
              <a:path w="21600" h="46154">
                <a:moveTo>
                  <a:pt x="3600" y="0"/>
                </a:moveTo>
                <a:arcTo wR="3600" hR="3600" stAng="16200000" swAng="-5400000"/>
                <a:lnTo>
                  <a:pt x="0" y="42554"/>
                </a:lnTo>
                <a:arcTo wR="3600" hR="3600" stAng="10800000" swAng="-5400000"/>
                <a:lnTo>
                  <a:pt x="18000" y="4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086600" y="6095880"/>
            <a:ext cx="457200" cy="56376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7086600" y="6095880"/>
            <a:ext cx="457200" cy="390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0" name="" descr=""/>
          <p:cNvPicPr/>
          <p:nvPr/>
        </p:nvPicPr>
        <p:blipFill>
          <a:blip r:embed="rId14"/>
          <a:stretch/>
        </p:blipFill>
        <p:spPr>
          <a:xfrm>
            <a:off x="1523880" y="6095880"/>
            <a:ext cx="457200" cy="563760"/>
          </a:xfrm>
          <a:prstGeom prst="rect">
            <a:avLst/>
          </a:prstGeom>
          <a:ln w="0">
            <a:noFill/>
          </a:ln>
        </p:spPr>
      </p:pic>
      <p:sp>
        <p:nvSpPr>
          <p:cNvPr id="1291" name=""/>
          <p:cNvSpPr/>
          <p:nvPr/>
        </p:nvSpPr>
        <p:spPr>
          <a:xfrm>
            <a:off x="1523880" y="6095880"/>
            <a:ext cx="465120" cy="542880"/>
          </a:xfrm>
          <a:custGeom>
            <a:avLst/>
            <a:gdLst>
              <a:gd name="textAreaLeft" fmla="*/ 22680 w 465120"/>
              <a:gd name="textAreaRight" fmla="*/ 442440 w 465120"/>
              <a:gd name="textAreaTop" fmla="*/ 22680 h 542880"/>
              <a:gd name="textAreaBottom" fmla="*/ 520200 h 542880"/>
            </a:gdLst>
            <a:ahLst/>
            <a:rect l="textAreaLeft" t="textAreaTop" r="textAreaRight" b="textAreaBottom"/>
            <a:pathLst>
              <a:path w="21600" h="25208">
                <a:moveTo>
                  <a:pt x="3600" y="0"/>
                </a:moveTo>
                <a:arcTo wR="3600" hR="3600" stAng="16200000" swAng="-5400000"/>
                <a:lnTo>
                  <a:pt x="0" y="21608"/>
                </a:lnTo>
                <a:arcTo wR="3600" hR="3600" stAng="10800000" swAng="-5400000"/>
                <a:lnTo>
                  <a:pt x="18000" y="252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02:48:02Z</dcterms:created>
  <dc:creator>jk1</dc:creator>
  <dc:description/>
  <dc:language>en-US</dc:language>
  <cp:lastModifiedBy>wjx</cp:lastModifiedBy>
  <dcterms:modified xsi:type="dcterms:W3CDTF">2004-01-17T13:51:36Z</dcterms:modified>
  <cp:revision>52</cp:revision>
  <dc:subject/>
  <dc:title>PowerPoint 演示文稿</dc:title>
</cp:coreProperties>
</file>