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5E6-95DF-4935-BE1D-AA3D9AEF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5D5-B2BF-4C08-BC1E-A75F5CA7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5DD-FB3C-4B90-AF9D-57C5DBBE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81F2-7789-4BA7-B897-8315EBE5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D799-E198-4493-827D-85FCFAB6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2DB6-D4AA-4D6C-9DE7-226F5B7B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9AFB-8947-4FAB-9FB3-1DF39611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09CD-E08D-43FA-82DD-4487576C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F3CB-997E-49AE-A78F-BAAF6458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2F8B-4803-47A3-BB26-A3711C73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84A8-DC11-4989-8196-A5A322D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C48-B8E3-443A-A055-FD52DABD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EA3F-7345-45D8-A20C-EF4493FF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2F1B-69E6-47A9-97C2-3D554637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1808-9322-49AD-8938-464B6034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05C2-38B1-4409-A5E7-68649736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2176-8493-41EB-ADAF-2DC3DA59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DBC4-8F13-46D2-8F41-F2715689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60B-E453-4574-AAD9-EEF0B447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8B6-709D-4308-AE59-2922F033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EF9-6186-4BDB-8642-08E43817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3635-7C46-47C0-BDB4-25DBF486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BAE-943C-4CF9-84E7-F997AD19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A72-71F4-46F2-9BE6-DD5E9C1D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960D-41F3-4B4B-96AD-F0732FF885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6CBE-6602-4A1C-83AC-6A87918B6F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" y="1143000"/>
            <a:ext cx="6400800" cy="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609480"/>
            <a:ext cx="609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义务教育课程标准实验教科书小学数学三年级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5257800"/>
            <a:ext cx="1485720" cy="1165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719360" y="2508120"/>
            <a:ext cx="5903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四边形的复习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33440" y="1987560"/>
            <a:ext cx="2878200" cy="1440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1195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8000" y="23479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15280" y="1195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7640" y="23479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1800" y="1987560"/>
            <a:ext cx="2877840" cy="1440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11640" y="1962000"/>
            <a:ext cx="0" cy="1490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8360" y="1281240"/>
            <a:ext cx="22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6+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23479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35040" y="6195960"/>
            <a:ext cx="721800" cy="307080"/>
            <a:chOff x="635040" y="6195960"/>
            <a:chExt cx="721800" cy="307080"/>
          </a:xfrm>
        </p:grpSpPr>
        <p:sp>
          <p:nvSpPr>
            <p:cNvPr id="184" name=""/>
            <p:cNvSpPr/>
            <p:nvPr/>
          </p:nvSpPr>
          <p:spPr>
            <a:xfrm>
              <a:off x="716760" y="6247800"/>
              <a:ext cx="518040" cy="243720"/>
            </a:xfrm>
            <a:custGeom>
              <a:avLst/>
              <a:gdLst>
                <a:gd name="textAreaLeft" fmla="*/ 35280 w 518040"/>
                <a:gd name="textAreaRight" fmla="*/ 482760 w 518040"/>
                <a:gd name="textAreaTop" fmla="*/ 35280 h 243720"/>
                <a:gd name="textAreaBottom" fmla="*/ 208440 h 243720"/>
              </a:gdLst>
              <a:ahLst/>
              <a:rect l="textAreaLeft" t="textAreaTop" r="textAreaRight" b="textAreaBottom"/>
              <a:pathLst>
                <a:path w="45876" h="21600">
                  <a:moveTo>
                    <a:pt x="0" y="0"/>
                  </a:moveTo>
                  <a:lnTo>
                    <a:pt x="45876" y="0"/>
                  </a:lnTo>
                  <a:lnTo>
                    <a:pt x="45876" y="21600"/>
                  </a:lnTo>
                  <a:lnTo>
                    <a:pt x="0" y="21600"/>
                  </a:lnTo>
                  <a:close/>
                </a:path>
                <a:path fill="lightenLess" w="45876" h="21600">
                  <a:moveTo>
                    <a:pt x="0" y="0"/>
                  </a:moveTo>
                  <a:lnTo>
                    <a:pt x="45876" y="0"/>
                  </a:lnTo>
                  <a:lnTo>
                    <a:pt x="42723" y="3153"/>
                  </a:lnTo>
                  <a:lnTo>
                    <a:pt x="3153" y="3153"/>
                  </a:lnTo>
                  <a:close/>
                </a:path>
                <a:path fill="darken" w="45876" h="21600">
                  <a:moveTo>
                    <a:pt x="45876" y="0"/>
                  </a:moveTo>
                  <a:lnTo>
                    <a:pt x="45876" y="21600"/>
                  </a:lnTo>
                  <a:lnTo>
                    <a:pt x="42723" y="18447"/>
                  </a:lnTo>
                  <a:lnTo>
                    <a:pt x="42723" y="3153"/>
                  </a:lnTo>
                  <a:close/>
                </a:path>
                <a:path fill="darkenLess" w="45876" h="21600">
                  <a:moveTo>
                    <a:pt x="45876" y="21600"/>
                  </a:moveTo>
                  <a:lnTo>
                    <a:pt x="0" y="21600"/>
                  </a:lnTo>
                  <a:lnTo>
                    <a:pt x="3153" y="18447"/>
                  </a:lnTo>
                  <a:lnTo>
                    <a:pt x="42723" y="18447"/>
                  </a:lnTo>
                  <a:close/>
                </a:path>
                <a:path fill="lighten" w="45876" h="21600">
                  <a:moveTo>
                    <a:pt x="0" y="21600"/>
                  </a:moveTo>
                  <a:lnTo>
                    <a:pt x="0" y="0"/>
                  </a:lnTo>
                  <a:lnTo>
                    <a:pt x="3153" y="3153"/>
                  </a:lnTo>
                  <a:lnTo>
                    <a:pt x="3153" y="1844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5040" y="619596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948440" y="6283440"/>
            <a:ext cx="766440" cy="307080"/>
            <a:chOff x="7948440" y="6283440"/>
            <a:chExt cx="766440" cy="307080"/>
          </a:xfrm>
        </p:grpSpPr>
        <p:sp>
          <p:nvSpPr>
            <p:cNvPr id="187" name=""/>
            <p:cNvSpPr/>
            <p:nvPr/>
          </p:nvSpPr>
          <p:spPr>
            <a:xfrm>
              <a:off x="8035200" y="6333120"/>
              <a:ext cx="549720" cy="232920"/>
            </a:xfrm>
            <a:custGeom>
              <a:avLst/>
              <a:gdLst>
                <a:gd name="textAreaLeft" fmla="*/ 33840 w 549720"/>
                <a:gd name="textAreaRight" fmla="*/ 515880 w 549720"/>
                <a:gd name="textAreaTop" fmla="*/ 33840 h 232920"/>
                <a:gd name="textAreaBottom" fmla="*/ 199080 h 232920"/>
              </a:gdLst>
              <a:ahLst/>
              <a:rect l="textAreaLeft" t="textAreaTop" r="textAreaRight" b="textAreaBottom"/>
              <a:pathLst>
                <a:path w="50933" h="21600">
                  <a:moveTo>
                    <a:pt x="0" y="0"/>
                  </a:moveTo>
                  <a:lnTo>
                    <a:pt x="50933" y="0"/>
                  </a:lnTo>
                  <a:lnTo>
                    <a:pt x="50933" y="21600"/>
                  </a:lnTo>
                  <a:lnTo>
                    <a:pt x="0" y="21600"/>
                  </a:lnTo>
                  <a:close/>
                </a:path>
                <a:path fill="lightenLess" w="50933" h="21600">
                  <a:moveTo>
                    <a:pt x="0" y="0"/>
                  </a:moveTo>
                  <a:lnTo>
                    <a:pt x="50933" y="0"/>
                  </a:lnTo>
                  <a:lnTo>
                    <a:pt x="47780" y="3153"/>
                  </a:lnTo>
                  <a:lnTo>
                    <a:pt x="3153" y="3153"/>
                  </a:lnTo>
                  <a:close/>
                </a:path>
                <a:path fill="darken" w="50933" h="21600">
                  <a:moveTo>
                    <a:pt x="50933" y="0"/>
                  </a:moveTo>
                  <a:lnTo>
                    <a:pt x="50933" y="21600"/>
                  </a:lnTo>
                  <a:lnTo>
                    <a:pt x="47780" y="18447"/>
                  </a:lnTo>
                  <a:lnTo>
                    <a:pt x="47780" y="3153"/>
                  </a:lnTo>
                  <a:close/>
                </a:path>
                <a:path fill="darkenLess" w="50933" h="21600">
                  <a:moveTo>
                    <a:pt x="50933" y="21600"/>
                  </a:moveTo>
                  <a:lnTo>
                    <a:pt x="0" y="21600"/>
                  </a:lnTo>
                  <a:lnTo>
                    <a:pt x="3153" y="18447"/>
                  </a:lnTo>
                  <a:lnTo>
                    <a:pt x="47780" y="18447"/>
                  </a:lnTo>
                  <a:close/>
                </a:path>
                <a:path fill="lighten" w="50933" h="21600">
                  <a:moveTo>
                    <a:pt x="0" y="21600"/>
                  </a:moveTo>
                  <a:lnTo>
                    <a:pt x="0" y="0"/>
                  </a:lnTo>
                  <a:lnTo>
                    <a:pt x="3153" y="3153"/>
                  </a:lnTo>
                  <a:lnTo>
                    <a:pt x="3153" y="1844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8440" y="628344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下一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51445E-007 L -0.14965 0.00023 E">
                                      <p:cBhvr>
                                        <p:cTn id="15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333440" y="1987560"/>
            <a:ext cx="2878200" cy="1440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1195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000" y="23479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15280" y="1195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27640" y="23479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81800" y="1987560"/>
            <a:ext cx="2877840" cy="1440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0" y="1195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27640" y="3075120"/>
            <a:ext cx="125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3+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06440" y="3425760"/>
            <a:ext cx="2928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84280" y="6267600"/>
            <a:ext cx="691560" cy="307080"/>
            <a:chOff x="584280" y="6267600"/>
            <a:chExt cx="691560" cy="307080"/>
          </a:xfrm>
        </p:grpSpPr>
        <p:sp>
          <p:nvSpPr>
            <p:cNvPr id="200" name=""/>
            <p:cNvSpPr/>
            <p:nvPr/>
          </p:nvSpPr>
          <p:spPr>
            <a:xfrm>
              <a:off x="662400" y="6314760"/>
              <a:ext cx="496080" cy="222120"/>
            </a:xfrm>
            <a:custGeom>
              <a:avLst/>
              <a:gdLst>
                <a:gd name="textAreaLeft" fmla="*/ 32400 w 496080"/>
                <a:gd name="textAreaRight" fmla="*/ 463680 w 496080"/>
                <a:gd name="textAreaTop" fmla="*/ 32400 h 222120"/>
                <a:gd name="textAreaBottom" fmla="*/ 189720 h 222120"/>
              </a:gdLst>
              <a:ahLst/>
              <a:rect l="textAreaLeft" t="textAreaTop" r="textAreaRight" b="textAreaBottom"/>
              <a:pathLst>
                <a:path w="48198" h="21600">
                  <a:moveTo>
                    <a:pt x="0" y="0"/>
                  </a:moveTo>
                  <a:lnTo>
                    <a:pt x="48198" y="0"/>
                  </a:lnTo>
                  <a:lnTo>
                    <a:pt x="48198" y="21600"/>
                  </a:lnTo>
                  <a:lnTo>
                    <a:pt x="0" y="21600"/>
                  </a:lnTo>
                  <a:close/>
                </a:path>
                <a:path fill="lightenLess" w="48198" h="21600">
                  <a:moveTo>
                    <a:pt x="0" y="0"/>
                  </a:moveTo>
                  <a:lnTo>
                    <a:pt x="48198" y="0"/>
                  </a:lnTo>
                  <a:lnTo>
                    <a:pt x="45045" y="3153"/>
                  </a:lnTo>
                  <a:lnTo>
                    <a:pt x="3153" y="3153"/>
                  </a:lnTo>
                  <a:close/>
                </a:path>
                <a:path fill="darken" w="48198" h="21600">
                  <a:moveTo>
                    <a:pt x="48198" y="0"/>
                  </a:moveTo>
                  <a:lnTo>
                    <a:pt x="48198" y="21600"/>
                  </a:lnTo>
                  <a:lnTo>
                    <a:pt x="45045" y="18447"/>
                  </a:lnTo>
                  <a:lnTo>
                    <a:pt x="45045" y="3153"/>
                  </a:lnTo>
                  <a:close/>
                </a:path>
                <a:path fill="darkenLess" w="48198" h="21600">
                  <a:moveTo>
                    <a:pt x="48198" y="21600"/>
                  </a:moveTo>
                  <a:lnTo>
                    <a:pt x="0" y="21600"/>
                  </a:lnTo>
                  <a:lnTo>
                    <a:pt x="3153" y="18447"/>
                  </a:lnTo>
                  <a:lnTo>
                    <a:pt x="45045" y="18447"/>
                  </a:lnTo>
                  <a:close/>
                </a:path>
                <a:path fill="lighten" w="48198" h="21600">
                  <a:moveTo>
                    <a:pt x="0" y="21600"/>
                  </a:moveTo>
                  <a:lnTo>
                    <a:pt x="0" y="0"/>
                  </a:lnTo>
                  <a:lnTo>
                    <a:pt x="3153" y="3153"/>
                  </a:lnTo>
                  <a:lnTo>
                    <a:pt x="3153" y="1844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4280" y="6267600"/>
              <a:ext cx="69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948440" y="6283440"/>
            <a:ext cx="766440" cy="307080"/>
            <a:chOff x="7948440" y="6283440"/>
            <a:chExt cx="766440" cy="307080"/>
          </a:xfrm>
        </p:grpSpPr>
        <p:sp>
          <p:nvSpPr>
            <p:cNvPr id="203" name=""/>
            <p:cNvSpPr/>
            <p:nvPr/>
          </p:nvSpPr>
          <p:spPr>
            <a:xfrm>
              <a:off x="8035200" y="6333120"/>
              <a:ext cx="549720" cy="232920"/>
            </a:xfrm>
            <a:custGeom>
              <a:avLst/>
              <a:gdLst>
                <a:gd name="textAreaLeft" fmla="*/ 33840 w 549720"/>
                <a:gd name="textAreaRight" fmla="*/ 515880 w 549720"/>
                <a:gd name="textAreaTop" fmla="*/ 33840 h 232920"/>
                <a:gd name="textAreaBottom" fmla="*/ 199080 h 232920"/>
              </a:gdLst>
              <a:ahLst/>
              <a:rect l="textAreaLeft" t="textAreaTop" r="textAreaRight" b="textAreaBottom"/>
              <a:pathLst>
                <a:path w="50933" h="21600">
                  <a:moveTo>
                    <a:pt x="0" y="0"/>
                  </a:moveTo>
                  <a:lnTo>
                    <a:pt x="50933" y="0"/>
                  </a:lnTo>
                  <a:lnTo>
                    <a:pt x="50933" y="21600"/>
                  </a:lnTo>
                  <a:lnTo>
                    <a:pt x="0" y="21600"/>
                  </a:lnTo>
                  <a:close/>
                </a:path>
                <a:path fill="lightenLess" w="50933" h="21600">
                  <a:moveTo>
                    <a:pt x="0" y="0"/>
                  </a:moveTo>
                  <a:lnTo>
                    <a:pt x="50933" y="0"/>
                  </a:lnTo>
                  <a:lnTo>
                    <a:pt x="47780" y="3153"/>
                  </a:lnTo>
                  <a:lnTo>
                    <a:pt x="3153" y="3153"/>
                  </a:lnTo>
                  <a:close/>
                </a:path>
                <a:path fill="darken" w="50933" h="21600">
                  <a:moveTo>
                    <a:pt x="50933" y="0"/>
                  </a:moveTo>
                  <a:lnTo>
                    <a:pt x="50933" y="21600"/>
                  </a:lnTo>
                  <a:lnTo>
                    <a:pt x="47780" y="18447"/>
                  </a:lnTo>
                  <a:lnTo>
                    <a:pt x="47780" y="3153"/>
                  </a:lnTo>
                  <a:close/>
                </a:path>
                <a:path fill="darkenLess" w="50933" h="21600">
                  <a:moveTo>
                    <a:pt x="50933" y="21600"/>
                  </a:moveTo>
                  <a:lnTo>
                    <a:pt x="0" y="21600"/>
                  </a:lnTo>
                  <a:lnTo>
                    <a:pt x="3153" y="18447"/>
                  </a:lnTo>
                  <a:lnTo>
                    <a:pt x="47780" y="18447"/>
                  </a:lnTo>
                  <a:close/>
                </a:path>
                <a:path fill="lighten" w="50933" h="21600">
                  <a:moveTo>
                    <a:pt x="0" y="21600"/>
                  </a:moveTo>
                  <a:lnTo>
                    <a:pt x="0" y="0"/>
                  </a:lnTo>
                  <a:lnTo>
                    <a:pt x="3153" y="3153"/>
                  </a:lnTo>
                  <a:lnTo>
                    <a:pt x="3153" y="1844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48440" y="628344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下一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5E-006 0.20994 E">
                                      <p:cBhvr>
                                        <p:cTn id="17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023 L -0.46458 -1.96532E-006 E">
                                      <p:cBhvr>
                                        <p:cTn id="19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498920" y="5210280"/>
            <a:ext cx="1440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09840" y="2136600"/>
            <a:ext cx="4319640" cy="2880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09840" y="2136600"/>
            <a:ext cx="4317840" cy="2880000"/>
          </a:xfrm>
          <a:custGeom>
            <a:avLst/>
            <a:gdLst/>
            <a:ahLst/>
            <a:rect l="l" t="t" r="r" b="b"/>
            <a:pathLst>
              <a:path w="2724" h="1812">
                <a:moveTo>
                  <a:pt x="0" y="0"/>
                </a:moveTo>
                <a:lnTo>
                  <a:pt x="0" y="1812"/>
                </a:lnTo>
                <a:lnTo>
                  <a:pt x="2724" y="1812"/>
                </a:lnTo>
                <a:lnTo>
                  <a:pt x="2724" y="456"/>
                </a:lnTo>
                <a:lnTo>
                  <a:pt x="1368" y="456"/>
                </a:lnTo>
                <a:lnTo>
                  <a:pt x="136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32209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95640" y="50925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0560" y="2136600"/>
            <a:ext cx="2158920" cy="719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11640" y="1565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13440" y="21542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1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92280" y="2173320"/>
            <a:ext cx="4219560" cy="2616120"/>
          </a:xfrm>
          <a:custGeom>
            <a:avLst/>
            <a:gdLst/>
            <a:ahLst/>
            <a:rect l="l" t="t" r="r" b="b"/>
            <a:pathLst>
              <a:path w="2724" h="1812">
                <a:moveTo>
                  <a:pt x="0" y="0"/>
                </a:moveTo>
                <a:lnTo>
                  <a:pt x="0" y="1812"/>
                </a:lnTo>
                <a:lnTo>
                  <a:pt x="2724" y="1812"/>
                </a:lnTo>
                <a:lnTo>
                  <a:pt x="2724" y="456"/>
                </a:lnTo>
                <a:lnTo>
                  <a:pt x="1368" y="456"/>
                </a:lnTo>
                <a:lnTo>
                  <a:pt x="1368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0560" y="2135160"/>
            <a:ext cx="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0560" y="2120760"/>
            <a:ext cx="0" cy="75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52920" y="2859120"/>
            <a:ext cx="21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51480" y="2857680"/>
            <a:ext cx="2192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54360" y="2857680"/>
            <a:ext cx="219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15040" y="2843280"/>
            <a:ext cx="143964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89480" y="2859120"/>
            <a:ext cx="1440000" cy="719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89480" y="284004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122560"/>
            <a:ext cx="0" cy="75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54360" y="2859120"/>
            <a:ext cx="75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89480" y="2840040"/>
            <a:ext cx="0" cy="7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70400" y="3578400"/>
            <a:ext cx="14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73640" y="3579840"/>
            <a:ext cx="14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76840" y="3557520"/>
            <a:ext cx="10796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648400" y="3576600"/>
            <a:ext cx="1079280" cy="719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643720" y="3579840"/>
            <a:ext cx="10800" cy="73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4240" y="4297320"/>
            <a:ext cx="10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95520" y="22176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1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79880" y="2916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29480" y="2119320"/>
            <a:ext cx="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52920" y="2136600"/>
            <a:ext cx="2158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83600" y="271440"/>
            <a:ext cx="53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2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隶书"/>
              </a:rPr>
              <a:t>、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从下面长方形中剪去一个长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3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厘米、宽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厘米的小长方形，剩下图形的周长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23645 0 E">
                                      <p:cBhvr>
                                        <p:cTn id="246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-1.94444E-006 -0.1037 E">
                                      <p:cBhvr>
                                        <p:cTn id="26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 L 0.23645 0 E">
                                      <p:cBhvr>
                                        <p:cTn id="300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7037E-007 L 0.15729 3.7037E-007 E">
                                      <p:cBhvr>
                                        <p:cTn id="30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81481E-006 L 2.77778E-007 -0.10439 E">
                                      <p:cBhvr>
                                        <p:cTn id="31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59259E-006 L -1.66667E-006 -0.21042 E">
                                      <p:cBhvr>
                                        <p:cTn id="316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413080" y="1268280"/>
            <a:ext cx="4319640" cy="2880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556160" y="1989000"/>
            <a:ext cx="2209680" cy="738000"/>
            <a:chOff x="4556160" y="1989000"/>
            <a:chExt cx="2209680" cy="738000"/>
          </a:xfrm>
        </p:grpSpPr>
        <p:grpSp>
          <p:nvGrpSpPr>
            <p:cNvPr id="240" name=""/>
            <p:cNvGrpSpPr/>
            <p:nvPr/>
          </p:nvGrpSpPr>
          <p:grpSpPr>
            <a:xfrm>
              <a:off x="4570560" y="1989000"/>
              <a:ext cx="2195280" cy="738000"/>
              <a:chOff x="4570560" y="1989000"/>
              <a:chExt cx="2195280" cy="738000"/>
            </a:xfrm>
          </p:grpSpPr>
          <p:sp>
            <p:nvSpPr>
              <p:cNvPr id="241" name=""/>
              <p:cNvSpPr/>
              <p:nvPr/>
            </p:nvSpPr>
            <p:spPr>
              <a:xfrm>
                <a:off x="4570560" y="1989000"/>
                <a:ext cx="2195280" cy="71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72000" y="2710440"/>
                <a:ext cx="217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72000" y="2008440"/>
                <a:ext cx="0" cy="71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4556160" y="2005200"/>
              <a:ext cx="21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572000" y="1989000"/>
            <a:ext cx="2158920" cy="719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87280" y="2349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5640" y="4221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75280" y="12747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63920" y="20192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1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325520" y="5141880"/>
            <a:ext cx="3200400" cy="76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如果这样剪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413080" y="1268280"/>
            <a:ext cx="4319640" cy="2880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851280" y="3429000"/>
            <a:ext cx="2195640" cy="755640"/>
            <a:chOff x="3851280" y="3429000"/>
            <a:chExt cx="2195640" cy="755640"/>
          </a:xfrm>
        </p:grpSpPr>
        <p:sp>
          <p:nvSpPr>
            <p:cNvPr id="254" name=""/>
            <p:cNvSpPr/>
            <p:nvPr/>
          </p:nvSpPr>
          <p:spPr>
            <a:xfrm>
              <a:off x="3865680" y="3429000"/>
              <a:ext cx="2178000" cy="75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63880" y="3429000"/>
              <a:ext cx="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51280" y="3444840"/>
              <a:ext cx="21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27840" y="3430440"/>
              <a:ext cx="0" cy="73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851280" y="3429000"/>
            <a:ext cx="2195640" cy="719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187280" y="2349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95640" y="476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356000" y="27162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34354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1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239840" y="4941720"/>
            <a:ext cx="3200400" cy="765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如果这样剪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19240" y="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Arial"/>
                <a:ea typeface="隶书"/>
              </a:rPr>
              <a:t>下列哪些图形是四边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0040" y="1544760"/>
            <a:ext cx="1584360" cy="1152360"/>
          </a:xfrm>
          <a:custGeom>
            <a:avLst/>
            <a:gdLst/>
            <a:ahLst/>
            <a:rect l="l" t="t" r="r" b="b"/>
            <a:pathLst>
              <a:path w="998" h="726">
                <a:moveTo>
                  <a:pt x="136" y="0"/>
                </a:moveTo>
                <a:lnTo>
                  <a:pt x="862" y="91"/>
                </a:lnTo>
                <a:lnTo>
                  <a:pt x="998" y="544"/>
                </a:lnTo>
                <a:lnTo>
                  <a:pt x="0" y="726"/>
                </a:lnTo>
                <a:lnTo>
                  <a:pt x="136" y="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040" y="1616040"/>
            <a:ext cx="1944720" cy="10080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45040" y="1886040"/>
            <a:ext cx="2201760" cy="793800"/>
          </a:xfrm>
          <a:prstGeom prst="parallelogram">
            <a:avLst>
              <a:gd name="adj" fmla="val 6934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6480" y="3705120"/>
            <a:ext cx="122544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90840" y="3849840"/>
            <a:ext cx="2087640" cy="863280"/>
          </a:xfrm>
          <a:custGeom>
            <a:avLst/>
            <a:gdLst>
              <a:gd name="textAreaLeft" fmla="*/ 459000 w 2087640"/>
              <a:gd name="textAreaRight" fmla="*/ 1628640 w 2087640"/>
              <a:gd name="textAreaTop" fmla="*/ 189720 h 863280"/>
              <a:gd name="textAreaBottom" fmla="*/ 6735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2800" y="1558800"/>
            <a:ext cx="1081080" cy="1368720"/>
          </a:xfrm>
          <a:custGeom>
            <a:avLst/>
            <a:gdLst/>
            <a:ahLst/>
            <a:rect l="l" t="t" r="r" b="b"/>
            <a:pathLst>
              <a:path w="681" h="862">
                <a:moveTo>
                  <a:pt x="0" y="0"/>
                </a:moveTo>
                <a:lnTo>
                  <a:pt x="681" y="408"/>
                </a:lnTo>
                <a:lnTo>
                  <a:pt x="635" y="862"/>
                </a:lnTo>
                <a:lnTo>
                  <a:pt x="273" y="454"/>
                </a:lnTo>
                <a:lnTo>
                  <a:pt x="227" y="499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95840" y="291132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95560" y="521820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45280" y="291132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77280" y="291132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48920" y="291132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28240" y="523224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32640" y="521820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6280" y="5218200"/>
            <a:ext cx="6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472520" y="3697200"/>
            <a:ext cx="1044360" cy="1263600"/>
          </a:xfrm>
          <a:prstGeom prst="parallelogram">
            <a:avLst>
              <a:gd name="adj" fmla="val 4589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22960" y="3929040"/>
            <a:ext cx="1247760" cy="1015920"/>
          </a:xfrm>
          <a:prstGeom prst="flowChartDocumen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8800" y="571680"/>
            <a:ext cx="541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Arial"/>
                <a:ea typeface="隶书"/>
              </a:rPr>
              <a:t>哪些是平行四边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4000" y="1600200"/>
            <a:ext cx="428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7360" y="1365120"/>
            <a:ext cx="793800" cy="22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04840" y="0"/>
          <a:ext cx="8939160" cy="7207200"/>
        </p:xfrm>
        <a:graphic>
          <a:graphicData uri="http://schemas.openxmlformats.org/drawingml/2006/table">
            <a:tbl>
              <a:tblPr/>
              <a:tblGrid>
                <a:gridCol w="1787400"/>
                <a:gridCol w="1789200"/>
                <a:gridCol w="1785960"/>
                <a:gridCol w="1789200"/>
                <a:gridCol w="1787400"/>
              </a:tblGrid>
              <a:tr h="520560"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四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800" spc="-1" strike="noStrike">
                          <a:solidFill>
                            <a:srgbClr val="6666ff"/>
                          </a:solidFill>
                          <a:latin typeface="Arial"/>
                        </a:rPr>
                        <a:t>形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边的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角的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长方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正方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175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平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四边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25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8f0ee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557600" y="2612880"/>
            <a:ext cx="1292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73880" y="42876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其它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70120" y="1798560"/>
            <a:ext cx="22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0520" y="2986200"/>
            <a:ext cx="15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条边都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40240" y="4656240"/>
            <a:ext cx="22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对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29080" y="1800360"/>
            <a:ext cx="22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个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59320" y="3187800"/>
            <a:ext cx="20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四个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791320" y="4912920"/>
            <a:ext cx="1261800" cy="126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37120" y="60436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1280" y="602784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94560" y="598644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18320" y="442908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61160" y="30780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32720" y="165744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1680" y="412560"/>
            <a:ext cx="461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你会画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220840"/>
            <a:ext cx="7515000" cy="20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请在格子图里画一个长方形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一个正方形和一个平行四边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6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68440" y="3003480"/>
            <a:ext cx="194472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08640" y="2759040"/>
            <a:ext cx="1324080" cy="12826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53640" y="407340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58920" y="3998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4880" y="31384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360" y="16272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算一算，两个图形的周长各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841840" y="9144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估一估，谁的周长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43200"/>
            <a:ext cx="24969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2006640"/>
            <a:ext cx="91440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、学校操场的草坪长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50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米，宽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35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米，为保护草坪决定在其四周拉上绳子，那绳子最少要多少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3880" y="604800"/>
            <a:ext cx="2525760" cy="704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解决问题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873920" y="5765400"/>
            <a:ext cx="8128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、一张长方形纸的长是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10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厘米，宽是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6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厘米，这张纸的周长是多少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19520" y="2021040"/>
            <a:ext cx="3024000" cy="2016000"/>
          </a:xfrm>
          <a:prstGeom prst="rect">
            <a:avLst/>
          </a:prstGeom>
          <a:solidFill>
            <a:srgbClr val="ffcc00"/>
          </a:solidFill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54560" y="405612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6160" y="2689200"/>
            <a:ext cx="13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4280" y="4568760"/>
            <a:ext cx="72518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如果用它撕一个最大的正方形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这个正方形的周长是多少厘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32200" y="2027160"/>
            <a:ext cx="2017440" cy="2017800"/>
            <a:chOff x="3832200" y="2027160"/>
            <a:chExt cx="2017440" cy="2017800"/>
          </a:xfrm>
        </p:grpSpPr>
        <p:sp>
          <p:nvSpPr>
            <p:cNvPr id="147" name=""/>
            <p:cNvSpPr/>
            <p:nvPr/>
          </p:nvSpPr>
          <p:spPr>
            <a:xfrm>
              <a:off x="5848200" y="2027160"/>
              <a:ext cx="1440" cy="20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32200" y="2027160"/>
              <a:ext cx="1440" cy="201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32200" y="4043160"/>
              <a:ext cx="2016000" cy="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32200" y="2027160"/>
              <a:ext cx="20160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80188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360520" y="2090880"/>
            <a:ext cx="4543560" cy="2035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智力冲浪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333440" y="2575080"/>
            <a:ext cx="2878200" cy="143964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36600" y="1908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440" y="29354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59560" y="18651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41760" y="29354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81800" y="2575080"/>
            <a:ext cx="2877840" cy="143964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98480" y="6267600"/>
            <a:ext cx="561960" cy="307080"/>
            <a:chOff x="798480" y="6267600"/>
            <a:chExt cx="561960" cy="307080"/>
          </a:xfrm>
        </p:grpSpPr>
        <p:sp>
          <p:nvSpPr>
            <p:cNvPr id="163" name=""/>
            <p:cNvSpPr/>
            <p:nvPr/>
          </p:nvSpPr>
          <p:spPr>
            <a:xfrm>
              <a:off x="862200" y="6314760"/>
              <a:ext cx="403200" cy="222120"/>
            </a:xfrm>
            <a:custGeom>
              <a:avLst/>
              <a:gdLst>
                <a:gd name="textAreaLeft" fmla="*/ 32400 w 403200"/>
                <a:gd name="textAreaRight" fmla="*/ 370800 w 403200"/>
                <a:gd name="textAreaTop" fmla="*/ 32400 h 222120"/>
                <a:gd name="textAreaBottom" fmla="*/ 189720 h 222120"/>
              </a:gdLst>
              <a:ahLst/>
              <a:rect l="textAreaLeft" t="textAreaTop" r="textAreaRight" b="textAreaBottom"/>
              <a:pathLst>
                <a:path w="39181" h="21600">
                  <a:moveTo>
                    <a:pt x="0" y="0"/>
                  </a:moveTo>
                  <a:lnTo>
                    <a:pt x="39181" y="0"/>
                  </a:lnTo>
                  <a:lnTo>
                    <a:pt x="39181" y="21600"/>
                  </a:lnTo>
                  <a:lnTo>
                    <a:pt x="0" y="21600"/>
                  </a:lnTo>
                  <a:close/>
                </a:path>
                <a:path fill="lightenLess" w="39181" h="21600">
                  <a:moveTo>
                    <a:pt x="0" y="0"/>
                  </a:moveTo>
                  <a:lnTo>
                    <a:pt x="39181" y="0"/>
                  </a:lnTo>
                  <a:lnTo>
                    <a:pt x="36028" y="3153"/>
                  </a:lnTo>
                  <a:lnTo>
                    <a:pt x="3153" y="3153"/>
                  </a:lnTo>
                  <a:close/>
                </a:path>
                <a:path fill="darken" w="39181" h="21600">
                  <a:moveTo>
                    <a:pt x="39181" y="0"/>
                  </a:moveTo>
                  <a:lnTo>
                    <a:pt x="39181" y="21600"/>
                  </a:lnTo>
                  <a:lnTo>
                    <a:pt x="36028" y="18447"/>
                  </a:lnTo>
                  <a:lnTo>
                    <a:pt x="36028" y="3153"/>
                  </a:lnTo>
                  <a:close/>
                </a:path>
                <a:path fill="darkenLess" w="39181" h="21600">
                  <a:moveTo>
                    <a:pt x="39181" y="21600"/>
                  </a:moveTo>
                  <a:lnTo>
                    <a:pt x="0" y="21600"/>
                  </a:lnTo>
                  <a:lnTo>
                    <a:pt x="3153" y="18447"/>
                  </a:lnTo>
                  <a:lnTo>
                    <a:pt x="36028" y="18447"/>
                  </a:lnTo>
                  <a:close/>
                </a:path>
                <a:path fill="lighten" w="39181" h="21600">
                  <a:moveTo>
                    <a:pt x="0" y="21600"/>
                  </a:moveTo>
                  <a:lnTo>
                    <a:pt x="0" y="0"/>
                  </a:lnTo>
                  <a:lnTo>
                    <a:pt x="3153" y="3153"/>
                  </a:lnTo>
                  <a:lnTo>
                    <a:pt x="3153" y="1844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>
              <a:hlinkClick r:id="rId2" action="ppaction://hlinksldjump"/>
            </p:cNvPr>
            <p:cNvSpPr/>
            <p:nvPr/>
          </p:nvSpPr>
          <p:spPr>
            <a:xfrm>
              <a:off x="798480" y="6267600"/>
              <a:ext cx="56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432080" y="6267600"/>
            <a:ext cx="561960" cy="307080"/>
            <a:chOff x="1432080" y="6267600"/>
            <a:chExt cx="561960" cy="307080"/>
          </a:xfrm>
        </p:grpSpPr>
        <p:sp>
          <p:nvSpPr>
            <p:cNvPr id="166" name="">
              <a:hlinkClick r:id="rId3" action="ppaction://hlinksldjump"/>
            </p:cNvPr>
            <p:cNvSpPr/>
            <p:nvPr/>
          </p:nvSpPr>
          <p:spPr>
            <a:xfrm>
              <a:off x="1495800" y="6314760"/>
              <a:ext cx="403200" cy="222120"/>
            </a:xfrm>
            <a:custGeom>
              <a:avLst/>
              <a:gdLst>
                <a:gd name="textAreaLeft" fmla="*/ 32400 w 403200"/>
                <a:gd name="textAreaRight" fmla="*/ 370800 w 403200"/>
                <a:gd name="textAreaTop" fmla="*/ 32400 h 222120"/>
                <a:gd name="textAreaBottom" fmla="*/ 189720 h 222120"/>
              </a:gdLst>
              <a:ahLst/>
              <a:rect l="textAreaLeft" t="textAreaTop" r="textAreaRight" b="textAreaBottom"/>
              <a:pathLst>
                <a:path w="39181" h="21600">
                  <a:moveTo>
                    <a:pt x="0" y="0"/>
                  </a:moveTo>
                  <a:lnTo>
                    <a:pt x="39181" y="0"/>
                  </a:lnTo>
                  <a:lnTo>
                    <a:pt x="39181" y="21600"/>
                  </a:lnTo>
                  <a:lnTo>
                    <a:pt x="0" y="21600"/>
                  </a:lnTo>
                  <a:close/>
                </a:path>
                <a:path fill="lightenLess" w="39181" h="21600">
                  <a:moveTo>
                    <a:pt x="0" y="0"/>
                  </a:moveTo>
                  <a:lnTo>
                    <a:pt x="39181" y="0"/>
                  </a:lnTo>
                  <a:lnTo>
                    <a:pt x="36028" y="3153"/>
                  </a:lnTo>
                  <a:lnTo>
                    <a:pt x="3153" y="3153"/>
                  </a:lnTo>
                  <a:close/>
                </a:path>
                <a:path fill="darken" w="39181" h="21600">
                  <a:moveTo>
                    <a:pt x="39181" y="0"/>
                  </a:moveTo>
                  <a:lnTo>
                    <a:pt x="39181" y="21600"/>
                  </a:lnTo>
                  <a:lnTo>
                    <a:pt x="36028" y="18447"/>
                  </a:lnTo>
                  <a:lnTo>
                    <a:pt x="36028" y="3153"/>
                  </a:lnTo>
                  <a:close/>
                </a:path>
                <a:path fill="darkenLess" w="39181" h="21600">
                  <a:moveTo>
                    <a:pt x="39181" y="21600"/>
                  </a:moveTo>
                  <a:lnTo>
                    <a:pt x="0" y="21600"/>
                  </a:lnTo>
                  <a:lnTo>
                    <a:pt x="3153" y="18447"/>
                  </a:lnTo>
                  <a:lnTo>
                    <a:pt x="36028" y="18447"/>
                  </a:lnTo>
                  <a:close/>
                </a:path>
                <a:path fill="lighten" w="39181" h="21600">
                  <a:moveTo>
                    <a:pt x="0" y="21600"/>
                  </a:moveTo>
                  <a:lnTo>
                    <a:pt x="0" y="0"/>
                  </a:lnTo>
                  <a:lnTo>
                    <a:pt x="3153" y="3153"/>
                  </a:lnTo>
                  <a:lnTo>
                    <a:pt x="3153" y="1844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32080" y="6267600"/>
              <a:ext cx="56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38040" y="449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1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、两个这样的长方形能拼成什么已学过的图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948440" y="6283440"/>
            <a:ext cx="766440" cy="307080"/>
            <a:chOff x="7948440" y="6283440"/>
            <a:chExt cx="766440" cy="307080"/>
          </a:xfrm>
        </p:grpSpPr>
        <p:sp>
          <p:nvSpPr>
            <p:cNvPr id="170" name=""/>
            <p:cNvSpPr/>
            <p:nvPr/>
          </p:nvSpPr>
          <p:spPr>
            <a:xfrm>
              <a:off x="8035200" y="6333120"/>
              <a:ext cx="549720" cy="232920"/>
            </a:xfrm>
            <a:custGeom>
              <a:avLst/>
              <a:gdLst>
                <a:gd name="textAreaLeft" fmla="*/ 33840 w 549720"/>
                <a:gd name="textAreaRight" fmla="*/ 515880 w 549720"/>
                <a:gd name="textAreaTop" fmla="*/ 33840 h 232920"/>
                <a:gd name="textAreaBottom" fmla="*/ 199080 h 232920"/>
              </a:gdLst>
              <a:ahLst/>
              <a:rect l="textAreaLeft" t="textAreaTop" r="textAreaRight" b="textAreaBottom"/>
              <a:pathLst>
                <a:path w="50933" h="21600">
                  <a:moveTo>
                    <a:pt x="0" y="0"/>
                  </a:moveTo>
                  <a:lnTo>
                    <a:pt x="50933" y="0"/>
                  </a:lnTo>
                  <a:lnTo>
                    <a:pt x="50933" y="21600"/>
                  </a:lnTo>
                  <a:lnTo>
                    <a:pt x="0" y="21600"/>
                  </a:lnTo>
                  <a:close/>
                </a:path>
                <a:path fill="lightenLess" w="50933" h="21600">
                  <a:moveTo>
                    <a:pt x="0" y="0"/>
                  </a:moveTo>
                  <a:lnTo>
                    <a:pt x="50933" y="0"/>
                  </a:lnTo>
                  <a:lnTo>
                    <a:pt x="47780" y="3153"/>
                  </a:lnTo>
                  <a:lnTo>
                    <a:pt x="3153" y="3153"/>
                  </a:lnTo>
                  <a:close/>
                </a:path>
                <a:path fill="darken" w="50933" h="21600">
                  <a:moveTo>
                    <a:pt x="50933" y="0"/>
                  </a:moveTo>
                  <a:lnTo>
                    <a:pt x="50933" y="21600"/>
                  </a:lnTo>
                  <a:lnTo>
                    <a:pt x="47780" y="18447"/>
                  </a:lnTo>
                  <a:lnTo>
                    <a:pt x="47780" y="3153"/>
                  </a:lnTo>
                  <a:close/>
                </a:path>
                <a:path fill="darkenLess" w="50933" h="21600">
                  <a:moveTo>
                    <a:pt x="50933" y="21600"/>
                  </a:moveTo>
                  <a:lnTo>
                    <a:pt x="0" y="21600"/>
                  </a:lnTo>
                  <a:lnTo>
                    <a:pt x="3153" y="18447"/>
                  </a:lnTo>
                  <a:lnTo>
                    <a:pt x="47780" y="18447"/>
                  </a:lnTo>
                  <a:close/>
                </a:path>
                <a:path fill="lighten" w="50933" h="21600">
                  <a:moveTo>
                    <a:pt x="0" y="21600"/>
                  </a:moveTo>
                  <a:lnTo>
                    <a:pt x="0" y="0"/>
                  </a:lnTo>
                  <a:lnTo>
                    <a:pt x="3153" y="3153"/>
                  </a:lnTo>
                  <a:lnTo>
                    <a:pt x="3153" y="18447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48440" y="6283440"/>
              <a:ext cx="76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下一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060000" y="10144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隶书"/>
              </a:rPr>
              <a:t>这个图形的周长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2:58:59Z</dcterms:created>
  <dc:creator>蓝作坤</dc:creator>
  <dc:description/>
  <dc:language>en-US</dc:language>
  <cp:lastModifiedBy>lzj</cp:lastModifiedBy>
  <dcterms:modified xsi:type="dcterms:W3CDTF">2008-11-03T06:54:25Z</dcterms:modified>
  <cp:revision>92</cp:revision>
  <dc:subject/>
  <dc:title>幻灯片 1</dc:title>
</cp:coreProperties>
</file>