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331A-91D5-42EC-A4C7-44924210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75B8-92DB-476D-A8F1-B2E67D18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A3D-64D4-4CE3-91A2-37882264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2A0-DD5E-40D0-8AEA-43AF60D9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E370-BF43-4F3D-BD74-FD43D5B0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A1E0-53AA-4DB7-B5D6-097695AF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69BB-DC13-4DC8-9340-05A2465B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4F98-17C6-425C-984E-662E3294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33CB-5363-4218-A5F1-2A2977CE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CDB5-42FF-4D83-BA03-77BA1825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6710-EEB9-4BBF-9E74-0C31C74E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A9C0-AFE6-49C1-9433-84A74427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75CE-4296-4422-AB98-1870BC63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F0A9-F8D9-41FF-8B73-4BF7D53C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7ECE-8F92-4276-9D3E-EB703F63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97B4-E31A-4657-868D-9910BEA2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06C1-C5EC-475D-B8C3-1FDE3E7D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D589-D157-43B0-A5B3-4A548216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75AC-EDDA-412B-98F6-9FE710C5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B0C-63B2-402B-8873-F7025722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4CE2-481C-475E-B360-F8D17E53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8A45-B928-4B76-9E39-AD8BF14C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6BDB-3A08-4D90-8E7A-A942ACA2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1E4-B11E-44EC-907D-46056D57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9D33-DEF4-4B03-826F-3368C02825FF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7441-9150-41D1-95E9-3252977BB051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003399"/>
                </a:solidFill>
                <a:latin typeface="Arial"/>
                <a:ea typeface="华文新魏"/>
              </a:rPr>
              <a:t>观察物体</a:t>
            </a:r>
            <a:endParaRPr b="0" lang="en-US" sz="10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99"/>
                </a:solidFill>
                <a:latin typeface="Arial"/>
              </a:rPr>
              <a:t>盲人摸象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24360" y="3500280"/>
            <a:ext cx="1224000" cy="1079640"/>
          </a:xfrm>
          <a:custGeom>
            <a:avLst/>
            <a:gdLst>
              <a:gd name="textAreaLeft" fmla="*/ 69840 w 1224000"/>
              <a:gd name="textAreaRight" fmla="*/ 1154160 w 122400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24487" h="21600">
                <a:moveTo>
                  <a:pt x="0" y="0"/>
                </a:moveTo>
                <a:lnTo>
                  <a:pt x="24487" y="0"/>
                </a:lnTo>
                <a:lnTo>
                  <a:pt x="24487" y="21600"/>
                </a:lnTo>
                <a:lnTo>
                  <a:pt x="0" y="21600"/>
                </a:lnTo>
                <a:close/>
              </a:path>
              <a:path fill="lightenLess" w="24487" h="21600">
                <a:moveTo>
                  <a:pt x="0" y="0"/>
                </a:moveTo>
                <a:lnTo>
                  <a:pt x="24487" y="0"/>
                </a:lnTo>
                <a:lnTo>
                  <a:pt x="23087" y="1400"/>
                </a:lnTo>
                <a:lnTo>
                  <a:pt x="1400" y="1400"/>
                </a:lnTo>
                <a:close/>
              </a:path>
              <a:path fill="darken" w="24487" h="21600">
                <a:moveTo>
                  <a:pt x="24487" y="0"/>
                </a:moveTo>
                <a:lnTo>
                  <a:pt x="24487" y="21600"/>
                </a:lnTo>
                <a:lnTo>
                  <a:pt x="23087" y="20200"/>
                </a:lnTo>
                <a:lnTo>
                  <a:pt x="23087" y="1400"/>
                </a:lnTo>
                <a:close/>
              </a:path>
              <a:path fill="darkenLess" w="24487" h="21600">
                <a:moveTo>
                  <a:pt x="2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87" y="20200"/>
                </a:lnTo>
                <a:close/>
              </a:path>
              <a:path fill="lighten" w="2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87" h="21600">
                <a:moveTo>
                  <a:pt x="5237" y="3794"/>
                </a:moveTo>
                <a:lnTo>
                  <a:pt x="19250" y="10800"/>
                </a:lnTo>
                <a:lnTo>
                  <a:pt x="5237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先摆一摆，再仔细观察比较这三个物体，看有什么发现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7082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4040" y="29098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27082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70828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25840" y="27226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27226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16360" y="272268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13200" y="29242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84880" y="272268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61240" y="27226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37600" y="27226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6000" y="292428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2602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从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正面、背面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看，形状相同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9360" y="2286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从    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两个侧面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看，形状相同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9360" y="4221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从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上面、下面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看，形状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不同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698920" y="1628640"/>
            <a:ext cx="1728720" cy="576360"/>
            <a:chOff x="2698920" y="1628640"/>
            <a:chExt cx="1728720" cy="576360"/>
          </a:xfrm>
        </p:grpSpPr>
        <p:sp>
          <p:nvSpPr>
            <p:cNvPr id="102" name=""/>
            <p:cNvSpPr/>
            <p:nvPr/>
          </p:nvSpPr>
          <p:spPr>
            <a:xfrm>
              <a:off x="2698920" y="162864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74920" y="162864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51280" y="162864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700360" y="3573360"/>
            <a:ext cx="1152360" cy="576360"/>
            <a:chOff x="2700360" y="3573360"/>
            <a:chExt cx="1152360" cy="576360"/>
          </a:xfrm>
        </p:grpSpPr>
        <p:sp>
          <p:nvSpPr>
            <p:cNvPr id="106" name=""/>
            <p:cNvSpPr/>
            <p:nvPr/>
          </p:nvSpPr>
          <p:spPr>
            <a:xfrm>
              <a:off x="2700360" y="3573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76720" y="357336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900000" y="5157720"/>
            <a:ext cx="1727280" cy="1152720"/>
            <a:chOff x="900000" y="5157720"/>
            <a:chExt cx="1727280" cy="1152720"/>
          </a:xfrm>
        </p:grpSpPr>
        <p:sp>
          <p:nvSpPr>
            <p:cNvPr id="109" name=""/>
            <p:cNvSpPr/>
            <p:nvPr/>
          </p:nvSpPr>
          <p:spPr>
            <a:xfrm>
              <a:off x="90000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7636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092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00000" y="573408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21080" y="5157720"/>
            <a:ext cx="1727280" cy="1152720"/>
            <a:chOff x="3421080" y="5157720"/>
            <a:chExt cx="1727280" cy="1152720"/>
          </a:xfrm>
        </p:grpSpPr>
        <p:sp>
          <p:nvSpPr>
            <p:cNvPr id="114" name=""/>
            <p:cNvSpPr/>
            <p:nvPr/>
          </p:nvSpPr>
          <p:spPr>
            <a:xfrm>
              <a:off x="342108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97440" y="515772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95640" y="573408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373800" y="5157720"/>
            <a:ext cx="1727280" cy="1152720"/>
            <a:chOff x="6373800" y="5157720"/>
            <a:chExt cx="1727280" cy="1152720"/>
          </a:xfrm>
        </p:grpSpPr>
        <p:sp>
          <p:nvSpPr>
            <p:cNvPr id="119" name=""/>
            <p:cNvSpPr/>
            <p:nvPr/>
          </p:nvSpPr>
          <p:spPr>
            <a:xfrm>
              <a:off x="637380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50160" y="515772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24720" y="5157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24720" y="573408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你能把刚才的那三个物体变一变，使它们变成下图这样的三个物体吗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3040" y="322596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3040" y="263700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322596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322596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06760" y="324000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94280" y="324000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1440" y="324000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95720" y="264960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84880" y="324000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61240" y="324000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37600" y="324000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39040" y="264960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3441600"/>
            <a:ext cx="576360" cy="576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4437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从哪面看这三个物体，看到的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形状完全相同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？从哪面看到的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形状不同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呢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摆一摆，说一说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3040" y="342900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43040" y="284004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46040" y="342900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1240" y="224964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3645000"/>
            <a:ext cx="576360" cy="576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1628640"/>
            <a:ext cx="2664000" cy="3240360"/>
          </a:xfrm>
          <a:prstGeom prst="rect">
            <a:avLst/>
          </a:prstGeom>
          <a:noFill/>
          <a:ln w="38160">
            <a:solidFill>
              <a:srgbClr val="007a7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812000" y="2133720"/>
            <a:ext cx="576360" cy="1728720"/>
            <a:chOff x="7812000" y="2133720"/>
            <a:chExt cx="576360" cy="1728720"/>
          </a:xfrm>
        </p:grpSpPr>
        <p:sp>
          <p:nvSpPr>
            <p:cNvPr id="146" name=""/>
            <p:cNvSpPr/>
            <p:nvPr/>
          </p:nvSpPr>
          <p:spPr>
            <a:xfrm rot="16200000">
              <a:off x="7812000" y="328608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7812000" y="271008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6200000">
              <a:off x="7812000" y="2133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419640" y="3141720"/>
            <a:ext cx="1152360" cy="576360"/>
            <a:chOff x="3419640" y="3141720"/>
            <a:chExt cx="1152360" cy="576360"/>
          </a:xfrm>
        </p:grpSpPr>
        <p:sp>
          <p:nvSpPr>
            <p:cNvPr id="150" name=""/>
            <p:cNvSpPr/>
            <p:nvPr/>
          </p:nvSpPr>
          <p:spPr>
            <a:xfrm>
              <a:off x="3419640" y="3141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96000" y="314172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651640" y="2133720"/>
            <a:ext cx="1152000" cy="1726560"/>
            <a:chOff x="5651640" y="2133720"/>
            <a:chExt cx="1152000" cy="1726560"/>
          </a:xfrm>
        </p:grpSpPr>
        <p:sp>
          <p:nvSpPr>
            <p:cNvPr id="153" name=""/>
            <p:cNvSpPr/>
            <p:nvPr/>
          </p:nvSpPr>
          <p:spPr>
            <a:xfrm rot="16200000">
              <a:off x="5651640" y="328428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5651640" y="270828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5651640" y="213372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6227640" y="328428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846520" y="4013280"/>
            <a:ext cx="2662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c5900"/>
                </a:solidFill>
                <a:latin typeface="Arial"/>
                <a:ea typeface="华文新魏"/>
              </a:rPr>
              <a:t>上面或下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1640" y="40053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c5900"/>
                </a:solidFill>
                <a:latin typeface="Arial"/>
                <a:ea typeface="华文新魏"/>
              </a:rPr>
              <a:t>正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96360" y="40053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c5900"/>
                </a:solidFill>
                <a:latin typeface="Arial"/>
                <a:ea typeface="华文新魏"/>
              </a:rPr>
              <a:t>侧面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065480" y="11667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5960" y="13683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43280" y="11667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56080" y="13683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4581000"/>
            <a:ext cx="854064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正面看到               的有哪几个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195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195480" indent="-1954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侧面看到               的有哪几个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250920" y="-316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说一说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492360" y="5805360"/>
            <a:ext cx="1728720" cy="576360"/>
            <a:chOff x="3492360" y="5805360"/>
            <a:chExt cx="1728720" cy="576360"/>
          </a:xfrm>
        </p:grpSpPr>
        <p:sp>
          <p:nvSpPr>
            <p:cNvPr id="167" name=""/>
            <p:cNvSpPr/>
            <p:nvPr/>
          </p:nvSpPr>
          <p:spPr>
            <a:xfrm>
              <a:off x="3492360" y="580536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68360" y="5805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44720" y="5805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780000" y="4508640"/>
            <a:ext cx="1152360" cy="576000"/>
            <a:chOff x="3780000" y="4508640"/>
            <a:chExt cx="1152360" cy="576000"/>
          </a:xfrm>
        </p:grpSpPr>
        <p:sp>
          <p:nvSpPr>
            <p:cNvPr id="171" name=""/>
            <p:cNvSpPr/>
            <p:nvPr/>
          </p:nvSpPr>
          <p:spPr>
            <a:xfrm>
              <a:off x="3780000" y="4508640"/>
              <a:ext cx="57636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56360" y="450864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374840" y="99360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19556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62200" y="119556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397160"/>
            <a:ext cx="79200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7628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1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87640" y="54756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2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6360" y="61920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3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88000" y="13539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64360" y="13539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40720" y="135396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742160" y="7635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05000" y="352728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05000" y="293832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08000" y="352728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03200" y="234792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17600" y="3743280"/>
            <a:ext cx="576360" cy="576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276640"/>
            <a:ext cx="900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4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7640" y="234792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5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56360" y="241920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6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408080" y="329868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7596360" y="350028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393680" y="269388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818400" y="329868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40360" y="299556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760" y="3197160"/>
            <a:ext cx="79200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6360" y="2995560"/>
            <a:ext cx="792360" cy="79236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36800" y="3400560"/>
            <a:ext cx="792360" cy="792000"/>
          </a:xfrm>
          <a:prstGeom prst="cube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19280" y="515772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1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4200" y="5157720"/>
            <a:ext cx="90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2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62200" y="5157720"/>
            <a:ext cx="90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5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20720" y="6362640"/>
            <a:ext cx="90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1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92360" y="6362640"/>
            <a:ext cx="900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c5900"/>
                </a:solidFill>
                <a:latin typeface="Arial"/>
                <a:ea typeface="华文新魏"/>
              </a:rPr>
              <a:t>(5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你能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小正方体按要求摆一摆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8000" y="1976040"/>
            <a:ext cx="85406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上面看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0320" y="2852640"/>
            <a:ext cx="854064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上面看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8000" y="4797360"/>
            <a:ext cx="9036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上面看是          ，从侧面看         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0320" y="3743280"/>
            <a:ext cx="854064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从上面看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490920" y="3789360"/>
            <a:ext cx="1728720" cy="576360"/>
            <a:chOff x="3490920" y="3789360"/>
            <a:chExt cx="1728720" cy="576360"/>
          </a:xfrm>
        </p:grpSpPr>
        <p:sp>
          <p:nvSpPr>
            <p:cNvPr id="211" name=""/>
            <p:cNvSpPr/>
            <p:nvPr/>
          </p:nvSpPr>
          <p:spPr>
            <a:xfrm>
              <a:off x="3490920" y="378936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66920" y="3789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43280" y="378936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492360" y="2924280"/>
            <a:ext cx="1152360" cy="576000"/>
            <a:chOff x="3492360" y="2924280"/>
            <a:chExt cx="1152360" cy="576000"/>
          </a:xfrm>
        </p:grpSpPr>
        <p:sp>
          <p:nvSpPr>
            <p:cNvPr id="215" name=""/>
            <p:cNvSpPr/>
            <p:nvPr/>
          </p:nvSpPr>
          <p:spPr>
            <a:xfrm>
              <a:off x="3492360" y="2924280"/>
              <a:ext cx="57636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68720" y="292428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490920" y="2060640"/>
            <a:ext cx="576360" cy="576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308720" y="4365720"/>
            <a:ext cx="576360" cy="1728720"/>
            <a:chOff x="7308720" y="4365720"/>
            <a:chExt cx="576360" cy="1728720"/>
          </a:xfrm>
        </p:grpSpPr>
        <p:sp>
          <p:nvSpPr>
            <p:cNvPr id="219" name=""/>
            <p:cNvSpPr/>
            <p:nvPr/>
          </p:nvSpPr>
          <p:spPr>
            <a:xfrm rot="16200000">
              <a:off x="7308720" y="5518080"/>
              <a:ext cx="57600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7308720" y="494208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6200000">
              <a:off x="7308720" y="4365720"/>
              <a:ext cx="576360" cy="57636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203640" y="4869000"/>
            <a:ext cx="1152360" cy="576000"/>
            <a:chOff x="3203640" y="4869000"/>
            <a:chExt cx="1152360" cy="576000"/>
          </a:xfrm>
        </p:grpSpPr>
        <p:sp>
          <p:nvSpPr>
            <p:cNvPr id="223" name=""/>
            <p:cNvSpPr/>
            <p:nvPr/>
          </p:nvSpPr>
          <p:spPr>
            <a:xfrm>
              <a:off x="3203640" y="4869000"/>
              <a:ext cx="57636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80000" y="4869000"/>
              <a:ext cx="576000" cy="576000"/>
            </a:xfrm>
            <a:prstGeom prst="rect">
              <a:avLst/>
            </a:prstGeom>
            <a:solidFill>
              <a:srgbClr val="ebf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老师寄语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我们要善于从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不同角度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观察事物，了解事物，不要像摸象的盲人一样</a:t>
            </a:r>
            <a:r>
              <a:rPr b="0" lang="zh-CN" sz="4000" spc="-1" strike="noStrike">
                <a:solidFill>
                  <a:srgbClr val="dc5900"/>
                </a:solidFill>
                <a:latin typeface="Arial"/>
              </a:rPr>
              <a:t>以偏概全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23:30:37Z</dcterms:created>
  <dc:creator>教导处</dc:creator>
  <dc:description/>
  <dc:language>en-US</dc:language>
  <cp:lastModifiedBy>吴建华</cp:lastModifiedBy>
  <dcterms:modified xsi:type="dcterms:W3CDTF">2006-04-26T06:12:44Z</dcterms:modified>
  <cp:revision>49</cp:revision>
  <dc:subject/>
  <dc:title>观察物体</dc:title>
</cp:coreProperties>
</file>