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7.jpeg" ContentType="image/jpeg"/>
  <Override PartName="/ppt/media/camera.wav" ContentType="audio/x-wav"/>
  <Override PartName="/ppt/media/image6.jpeg" ContentType="image/jpeg"/>
  <Override PartName="/ppt/media/image12.jpeg" ContentType="image/jpeg"/>
  <Override PartName="/ppt/media/image10.wmf" ContentType="image/x-wmf"/>
  <Override PartName="/ppt/media/image11.wmf" ContentType="image/x-wmf"/>
  <Override PartName="/ppt/media/Windows%20%E5%90%AF%E5%8A%A8%E6%97%B6%E5%A5%8F%E4%B9%90.wav" ContentType="audio/x-wav"/>
  <Override PartName="/ppt/media/image1.jpeg" ContentType="image/jpeg"/>
  <Override PartName="/ppt/media/CAMERA.WAV" ContentType="audio/x-wav"/>
  <Override PartName="/ppt/media/image4.wmf" ContentType="image/x-wmf"/>
  <Override PartName="/ppt/media/image2.wmf" ContentType="image/x-wmf"/>
  <Override PartName="/ppt/media/image3.wmf" ContentType="image/x-wmf"/>
  <Override PartName="/ppt/media/image5.png" ContentType="image/png"/>
  <Override PartName="/ppt/media/image8.jpeg" ContentType="image/jpeg"/>
  <Override PartName="/ppt/media/TYPE.WAV" ContentType="audio/x-wav"/>
  <Override PartName="/ppt/media/chimes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E24-A244-4C44-B444-47607B13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7CF-CDA7-40C4-BB73-33EAA4A7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87B-D77C-498F-B700-AFD70FF6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8200-C4F7-49BA-82BB-1402D77D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4894-8932-4D2F-B5D6-F43ED581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3343-9277-4337-B6F2-1352A657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2E22-C907-4682-A9AC-38BCCA75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ACC7-BEA4-4A4E-B84C-97291D91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6996-F42F-4C42-B944-38AE9EDA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3848-DAF2-42A6-9E45-B92291A5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E580-E2B5-4A25-8A95-F0629664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B32-5767-496B-93B7-68CD3831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49BC-F032-4A5C-AACA-D989595A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71D5-1138-41A2-B6C0-D8B06A5D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5CB6-8564-42A7-A111-F2D45E8E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44E8-41A6-4A37-A069-1DB01F56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5A51-CC3A-40C7-B457-2C00C8F8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DA6-F87A-459A-AF87-A666CF1B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7C7-3D99-40AE-AC5D-CD73E6E6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7F2-88A9-461F-84B1-AA59F489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CC1-FD97-40E6-8D68-92F137CE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B39-5318-417C-8FDD-28B8EF25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917-76EB-4552-B04B-C288CBDD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7D2-8544-405F-8A3A-2D2BEE6B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F941-F69C-412B-B0D0-002ABA6F936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3FEE-FB53-4F2F-AE99-218BD193C13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ows%20&#21551;&#21160;&#26102;&#22863;&#20048;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33520" y="2400480"/>
            <a:ext cx="8076960" cy="163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cap="rnd" w="19080">
                  <a:solidFill>
                    <a:srgbClr val="cc6600"/>
                  </a:solidFill>
                  <a:custDash>
                    <a:ds d="100000" sp="1000"/>
                  </a:custDash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The Attributive  Clause</a:t>
            </a:r>
            <a:endParaRPr b="1" i="1" lang="en-US" sz="3200" spc="1" strike="noStrike">
              <a:ln cap="rnd" w="19080">
                <a:solidFill>
                  <a:srgbClr val="cc6600"/>
                </a:solidFill>
                <a:custDash>
                  <a:ds d="100000" sp="1000"/>
                </a:custDash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41911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华文新魏"/>
              </a:rPr>
              <a:t>(</a:t>
            </a: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华文新魏"/>
              </a:rPr>
              <a:t>定语从句</a:t>
            </a: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华文新魏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9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ill in the blanks with who, whom, whose that, or which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 have a friend ______ likes listening to classical mus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2 Yesterday Emily was wearing the new dress __________ I gave 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3 The man ______ leg broke in a match used to be a football play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4 Kevin is reading a book __________ is too difficult for hi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190512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12800" y="3519360"/>
            <a:ext cx="19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which/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17320" y="411480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wh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00200" y="518148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Which/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76320"/>
            <a:ext cx="894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ill in the blanks with who, whom, whose that, or whi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8284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5 The family _____ I’m staying with lives in tow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6 I know the student ________ article was publish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7 Betty, ______ has never been abroad, is studying English very we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8 My parents live in a house ____________ is more than 100 years o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9 The boy with _______ John spoke is my bro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26971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wh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36878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678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which/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5668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wh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332280" y="1828800"/>
            <a:ext cx="8762400" cy="1068840"/>
            <a:chOff x="332280" y="1828800"/>
            <a:chExt cx="8762400" cy="1068840"/>
          </a:xfrm>
        </p:grpSpPr>
        <p:sp>
          <p:nvSpPr>
            <p:cNvPr id="162" name=""/>
            <p:cNvSpPr/>
            <p:nvPr/>
          </p:nvSpPr>
          <p:spPr>
            <a:xfrm>
              <a:off x="332280" y="1828800"/>
              <a:ext cx="876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Lucida Sans"/>
                </a:rPr>
                <a:t>The road 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Lucida Sans"/>
                </a:rPr>
                <a:t>which/that</a:t>
              </a:r>
              <a:r>
                <a:rPr b="1" lang="en-US" sz="3200" spc="-1" strike="noStrike" u="sng">
                  <a:solidFill>
                    <a:srgbClr val="0000ff"/>
                  </a:solidFill>
                  <a:uFillTx/>
                  <a:latin typeface="Lucida Sans"/>
                </a:rPr>
                <a:t> was destroyed in the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00ff"/>
                  </a:solidFill>
                  <a:uFillTx/>
                  <a:latin typeface="Lucida Sans"/>
                </a:rPr>
                <a:t>earthquake</a:t>
              </a:r>
              <a:r>
                <a:rPr b="1" lang="en-US" sz="3200" spc="-1" strike="noStrike">
                  <a:solidFill>
                    <a:srgbClr val="0000ff"/>
                  </a:solidFill>
                  <a:latin typeface="Lucida Sans"/>
                </a:rPr>
                <a:t> has now been built stronger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0880" y="1981080"/>
              <a:ext cx="304920" cy="304200"/>
            </a:xfrm>
            <a:prstGeom prst="star5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57200" y="56196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road was destroyed in the earthqu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has now been built stro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58920" y="981000"/>
            <a:ext cx="380880" cy="312840"/>
          </a:xfrm>
          <a:custGeom>
            <a:avLst/>
            <a:gdLst>
              <a:gd name="textAreaLeft" fmla="*/ 127080 w 380880"/>
              <a:gd name="textAreaRight" fmla="*/ 299520 w 380880"/>
              <a:gd name="textAreaTop" fmla="*/ 204840 h 312840"/>
              <a:gd name="textAreaBottom" fmla="*/ 2458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8772"/>
                </a:moveTo>
                <a:lnTo>
                  <a:pt x="14143" y="18772"/>
                </a:lnTo>
                <a:lnTo>
                  <a:pt x="14143" y="7200"/>
                </a:lnTo>
                <a:lnTo>
                  <a:pt x="9514" y="7200"/>
                </a:lnTo>
                <a:lnTo>
                  <a:pt x="15557" y="0"/>
                </a:lnTo>
                <a:lnTo>
                  <a:pt x="21600" y="7200"/>
                </a:lnTo>
                <a:lnTo>
                  <a:pt x="16971" y="7200"/>
                </a:lnTo>
                <a:lnTo>
                  <a:pt x="169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4600" y="11113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03200" y="4800600"/>
            <a:ext cx="7132320" cy="1068840"/>
            <a:chOff x="403200" y="4800600"/>
            <a:chExt cx="7132320" cy="1068840"/>
          </a:xfrm>
        </p:grpSpPr>
        <p:sp>
          <p:nvSpPr>
            <p:cNvPr id="168" name=""/>
            <p:cNvSpPr/>
            <p:nvPr/>
          </p:nvSpPr>
          <p:spPr>
            <a:xfrm>
              <a:off x="483120" y="4800600"/>
              <a:ext cx="705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Lucida Sans"/>
                </a:rPr>
                <a:t>The soldier have saved the peop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Lucida Sans"/>
                </a:rPr>
                <a:t>Whom/that</a:t>
              </a:r>
              <a:r>
                <a:rPr b="1" lang="en-US" sz="3200" spc="-1" strike="noStrike">
                  <a:solidFill>
                    <a:srgbClr val="0000ff"/>
                  </a:solidFill>
                  <a:latin typeface="Lucida Sans"/>
                </a:rPr>
                <a:t> were in dang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3200" y="4952880"/>
              <a:ext cx="304920" cy="304920"/>
            </a:xfrm>
            <a:prstGeom prst="star5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91840" y="3533760"/>
            <a:ext cx="601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eople were in da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oldiers have saved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560" y="40831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980720" y="4038120"/>
            <a:ext cx="3429000" cy="212760"/>
          </a:xfrm>
          <a:prstGeom prst="line">
            <a:avLst/>
          </a:prstGeom>
          <a:ln w="572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264600" y="1828800"/>
            <a:ext cx="8273160" cy="1068840"/>
            <a:chOff x="264600" y="1828800"/>
            <a:chExt cx="8273160" cy="1068840"/>
          </a:xfrm>
        </p:grpSpPr>
        <p:sp>
          <p:nvSpPr>
            <p:cNvPr id="174" name=""/>
            <p:cNvSpPr/>
            <p:nvPr/>
          </p:nvSpPr>
          <p:spPr>
            <a:xfrm>
              <a:off x="264600" y="1828800"/>
              <a:ext cx="827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Lucida Sans"/>
                </a:rPr>
                <a:t>The waiter 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Lucida Sans"/>
                </a:rPr>
                <a:t>who/that</a:t>
              </a:r>
              <a:r>
                <a:rPr b="1" lang="en-US" sz="3200" spc="-1" strike="noStrike" u="sng">
                  <a:solidFill>
                    <a:srgbClr val="0000ff"/>
                  </a:solidFill>
                  <a:uFillTx/>
                  <a:latin typeface="Lucida Sans"/>
                </a:rPr>
                <a:t> served us tea</a:t>
              </a:r>
              <a:r>
                <a:rPr b="1" lang="en-US" sz="3200" spc="-1" strike="noStrike">
                  <a:solidFill>
                    <a:srgbClr val="0000ff"/>
                  </a:solidFill>
                  <a:latin typeface="Lucida Sans"/>
                </a:rPr>
                <a:t>  wa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Lucida Sans"/>
                </a:rPr>
                <a:t> </a:t>
              </a:r>
              <a:r>
                <a:rPr b="1" lang="en-US" sz="3200" spc="-1" strike="noStrike">
                  <a:solidFill>
                    <a:srgbClr val="0000ff"/>
                  </a:solidFill>
                  <a:latin typeface="Lucida Sans"/>
                </a:rPr>
                <a:t>very friendly and poli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920" y="1981080"/>
              <a:ext cx="304560" cy="304200"/>
            </a:xfrm>
            <a:prstGeom prst="star5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50000" y="550800"/>
            <a:ext cx="722016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aiter was very friendly and polite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served us t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280" y="114300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80880" y="4876920"/>
            <a:ext cx="8687520" cy="1068840"/>
            <a:chOff x="380880" y="4876920"/>
            <a:chExt cx="8687520" cy="1068840"/>
          </a:xfrm>
        </p:grpSpPr>
        <p:sp>
          <p:nvSpPr>
            <p:cNvPr id="179" name=""/>
            <p:cNvSpPr/>
            <p:nvPr/>
          </p:nvSpPr>
          <p:spPr>
            <a:xfrm>
              <a:off x="393120" y="4876920"/>
              <a:ext cx="8675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Lucida Sans"/>
                </a:rPr>
                <a:t>A dictionary is a book 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Lucida Sans"/>
                </a:rPr>
                <a:t>which/that</a:t>
              </a:r>
              <a:r>
                <a:rPr b="1" lang="en-US" sz="3200" spc="-1" strike="noStrike" u="sng">
                  <a:solidFill>
                    <a:srgbClr val="0000ff"/>
                  </a:solidFill>
                  <a:uFillTx/>
                  <a:latin typeface="Lucida Sans"/>
                </a:rPr>
                <a:t> you can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00ff"/>
                  </a:solidFill>
                  <a:uFillTx/>
                  <a:latin typeface="Lucida Sans"/>
                </a:rPr>
                <a:t>use to learn more words</a:t>
              </a:r>
              <a:r>
                <a:rPr b="1" lang="en-US" sz="3200" spc="-1" strike="noStrike">
                  <a:solidFill>
                    <a:srgbClr val="0000ff"/>
                  </a:solidFill>
                  <a:latin typeface="Lucida San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880" y="5029200"/>
              <a:ext cx="304920" cy="304920"/>
            </a:xfrm>
            <a:prstGeom prst="star5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92200" y="3467160"/>
            <a:ext cx="71150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dictionary is a book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can use it to learn more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5880" y="41562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042920" y="1125360"/>
            <a:ext cx="360360" cy="216000"/>
          </a:xfrm>
          <a:prstGeom prst="line">
            <a:avLst/>
          </a:prstGeom>
          <a:ln w="572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1523880" y="4038120"/>
            <a:ext cx="1681200" cy="212760"/>
          </a:xfrm>
          <a:prstGeom prst="line">
            <a:avLst/>
          </a:prstGeom>
          <a:ln w="572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43320" y="1981080"/>
            <a:ext cx="783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Xiao Ming works in a shop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hich/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ells photo camer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60240" y="714240"/>
            <a:ext cx="6259680" cy="1191240"/>
            <a:chOff x="660240" y="714240"/>
            <a:chExt cx="6259680" cy="1191240"/>
          </a:xfrm>
        </p:grpSpPr>
        <p:sp>
          <p:nvSpPr>
            <p:cNvPr id="187" name=""/>
            <p:cNvSpPr/>
            <p:nvPr/>
          </p:nvSpPr>
          <p:spPr>
            <a:xfrm>
              <a:off x="934200" y="714240"/>
              <a:ext cx="598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80"/>
                  </a:solidFill>
                  <a:latin typeface="Times New Roman"/>
                </a:rPr>
                <a:t>Xiao Ming works in a shop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80"/>
                  </a:solidFill>
                  <a:latin typeface="Times New Roman"/>
                </a:rPr>
                <a:t>The shop sells photo cameras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0240" y="914400"/>
              <a:ext cx="304920" cy="304920"/>
            </a:xfrm>
            <a:prstGeom prst="star5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001000" y="4894200"/>
            <a:ext cx="871560" cy="173520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299880" y="3505320"/>
            <a:ext cx="8841240" cy="1191240"/>
            <a:chOff x="299880" y="3505320"/>
            <a:chExt cx="8841240" cy="1191240"/>
          </a:xfrm>
        </p:grpSpPr>
        <p:sp>
          <p:nvSpPr>
            <p:cNvPr id="191" name=""/>
            <p:cNvSpPr/>
            <p:nvPr/>
          </p:nvSpPr>
          <p:spPr>
            <a:xfrm>
              <a:off x="592200" y="3505320"/>
              <a:ext cx="854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80"/>
                  </a:solidFill>
                  <a:latin typeface="Times New Roman"/>
                </a:rPr>
                <a:t>What was the name of the farmer?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80"/>
                  </a:solidFill>
                  <a:latin typeface="Times New Roman"/>
                </a:rPr>
                <a:t>He discovered the tomb of  Qin Shi Huang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9880" y="3705120"/>
              <a:ext cx="324360" cy="304560"/>
            </a:xfrm>
            <a:prstGeom prst="star5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6720" y="4724280"/>
            <a:ext cx="914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What was the name of the farm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ho/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scovered the tomb of Qin Shi Hua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828800" y="1219320"/>
            <a:ext cx="3657600" cy="304560"/>
          </a:xfrm>
          <a:prstGeom prst="line">
            <a:avLst/>
          </a:prstGeom>
          <a:ln w="572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066680" y="4038480"/>
            <a:ext cx="4724640" cy="152640"/>
          </a:xfrm>
          <a:prstGeom prst="line">
            <a:avLst/>
          </a:prstGeom>
          <a:ln w="572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99320" y="1981080"/>
            <a:ext cx="788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 like treavelling to plac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hich/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re very beaut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81160" y="638280"/>
            <a:ext cx="4910400" cy="1191240"/>
            <a:chOff x="1181160" y="638280"/>
            <a:chExt cx="4910400" cy="1191240"/>
          </a:xfrm>
        </p:grpSpPr>
        <p:sp>
          <p:nvSpPr>
            <p:cNvPr id="198" name=""/>
            <p:cNvSpPr/>
            <p:nvPr/>
          </p:nvSpPr>
          <p:spPr>
            <a:xfrm>
              <a:off x="1457640" y="638280"/>
              <a:ext cx="463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I really like travelling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I like beautiful places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81160" y="838080"/>
              <a:ext cx="304560" cy="304560"/>
            </a:xfrm>
            <a:prstGeom prst="star5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079640" y="3762360"/>
            <a:ext cx="5928840" cy="1191240"/>
            <a:chOff x="1079640" y="3762360"/>
            <a:chExt cx="5928840" cy="1191240"/>
          </a:xfrm>
        </p:grpSpPr>
        <p:sp>
          <p:nvSpPr>
            <p:cNvPr id="201" name=""/>
            <p:cNvSpPr/>
            <p:nvPr/>
          </p:nvSpPr>
          <p:spPr>
            <a:xfrm>
              <a:off x="1353600" y="3762360"/>
              <a:ext cx="5654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The bus goes to the airport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It runs every half hour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79640" y="3962160"/>
              <a:ext cx="304560" cy="304560"/>
            </a:xfrm>
            <a:prstGeom prst="star5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509400" y="5105520"/>
            <a:ext cx="801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The bu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hich/that goes to the air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runs every half ho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600200" y="4191120"/>
            <a:ext cx="762120" cy="304560"/>
          </a:xfrm>
          <a:prstGeom prst="line">
            <a:avLst/>
          </a:prstGeom>
          <a:ln w="572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533520" y="700200"/>
            <a:ext cx="6885000" cy="947160"/>
            <a:chOff x="533520" y="700200"/>
            <a:chExt cx="6885000" cy="947160"/>
          </a:xfrm>
        </p:grpSpPr>
        <p:sp>
          <p:nvSpPr>
            <p:cNvPr id="206" name=""/>
            <p:cNvSpPr/>
            <p:nvPr/>
          </p:nvSpPr>
          <p:spPr>
            <a:xfrm>
              <a:off x="1820160" y="700200"/>
              <a:ext cx="559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Black"/>
                  <a:ea typeface="隶书"/>
                </a:rPr>
                <a:t>when</a:t>
              </a:r>
              <a:r>
                <a:rPr b="1" lang="zh-CN" sz="28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在定语从句中作时间状语，相当于“介词</a:t>
              </a:r>
              <a:r>
                <a:rPr b="1" lang="zh-CN" sz="28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+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关系代词（</a:t>
              </a:r>
              <a:r>
                <a:rPr b="1" lang="en-US" sz="28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which</a:t>
              </a:r>
              <a:r>
                <a:rPr b="1" lang="en-US" sz="28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）”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3520" y="873000"/>
              <a:ext cx="228600" cy="22824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65960" y="1690560"/>
            <a:ext cx="89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I’ll never forget the day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 I joined the leag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60440" y="227340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n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3549600"/>
            <a:ext cx="7033680" cy="947160"/>
            <a:chOff x="533520" y="3549600"/>
            <a:chExt cx="7033680" cy="947160"/>
          </a:xfrm>
        </p:grpSpPr>
        <p:sp>
          <p:nvSpPr>
            <p:cNvPr id="211" name=""/>
            <p:cNvSpPr/>
            <p:nvPr/>
          </p:nvSpPr>
          <p:spPr>
            <a:xfrm>
              <a:off x="1830240" y="3549600"/>
              <a:ext cx="5736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Black"/>
                  <a:ea typeface="隶书"/>
                </a:rPr>
                <a:t>where</a:t>
              </a:r>
              <a:r>
                <a:rPr b="1" lang="zh-CN" sz="28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在定语从句中作地点状语，相当于“介词</a:t>
              </a:r>
              <a:r>
                <a:rPr b="1" lang="zh-CN" sz="28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+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关系代词（</a:t>
              </a:r>
              <a:r>
                <a:rPr b="1" lang="en-US" sz="28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which</a:t>
              </a:r>
              <a:r>
                <a:rPr b="1" lang="en-US" sz="28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）”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3520" y="3722400"/>
              <a:ext cx="228600" cy="22824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66680" y="44956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This is the house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where</a:t>
            </a: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 I lived two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73680" y="5084640"/>
            <a:ext cx="167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37160" y="2060640"/>
            <a:ext cx="8506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2880" y="4869000"/>
            <a:ext cx="8506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ows%20%E5%90%AF%E5%8A%A8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533520" y="990720"/>
            <a:ext cx="7227000" cy="1373760"/>
            <a:chOff x="533520" y="990720"/>
            <a:chExt cx="7227000" cy="1373760"/>
          </a:xfrm>
        </p:grpSpPr>
        <p:sp>
          <p:nvSpPr>
            <p:cNvPr id="218" name=""/>
            <p:cNvSpPr/>
            <p:nvPr/>
          </p:nvSpPr>
          <p:spPr>
            <a:xfrm>
              <a:off x="1762920" y="990720"/>
              <a:ext cx="5997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Black"/>
                  <a:ea typeface="隶书"/>
                </a:rPr>
                <a:t>why</a:t>
              </a:r>
              <a:r>
                <a:rPr b="1" lang="zh-CN" sz="28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在定语从句中作原因状语，相当于“介词</a:t>
              </a:r>
              <a:r>
                <a:rPr b="1" lang="en-US" sz="28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for+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关系代词（</a:t>
              </a:r>
              <a:r>
                <a:rPr b="1" lang="en-US" sz="28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which</a:t>
              </a:r>
              <a:r>
                <a:rPr b="1" lang="en-US" sz="28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）”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520" y="1163520"/>
              <a:ext cx="228600" cy="22824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20320" y="1981080"/>
            <a:ext cx="76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Do you know the reason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why</a:t>
            </a: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 she was 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47280" y="262260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19320" y="4754520"/>
          <a:ext cx="22860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754520"/>
                    <a:ext cx="22860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572000" y="5181480"/>
            <a:ext cx="1035000" cy="132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5943600" y="5516640"/>
          <a:ext cx="773280" cy="98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43600" y="5516640"/>
                    <a:ext cx="77328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7162920" y="5613480"/>
            <a:ext cx="677880" cy="863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8072280" y="5791320"/>
            <a:ext cx="5382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637160" y="2419200"/>
            <a:ext cx="850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2124000" y="620640"/>
            <a:ext cx="44960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Bye-bye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692360" y="3573360"/>
            <a:ext cx="619272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Many thank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70120" y="981000"/>
            <a:ext cx="1469880" cy="236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506760" y="981000"/>
            <a:ext cx="1473120" cy="2368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227640" y="1049400"/>
            <a:ext cx="1471680" cy="2371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19320" y="209520"/>
            <a:ext cx="508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Which baby is Jack</a:t>
            </a: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71628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穿红裤子的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aby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是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Jack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443700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by                                       is J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5440" y="5084640"/>
            <a:ext cx="92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by                                               is J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47320" y="4437000"/>
            <a:ext cx="38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ose trousers are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74600" y="5084640"/>
            <a:ext cx="468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o is wearing red tro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4" name="CAMERA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2745000" cy="309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8080" y="1628640"/>
            <a:ext cx="2870280" cy="2262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83720" y="333360"/>
            <a:ext cx="756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empus Sans ITC"/>
              </a:rPr>
              <a:t>Which house is mine</a:t>
            </a:r>
            <a:r>
              <a:rPr b="1" lang="en-US" sz="6000" spc="-1" strike="noStrike">
                <a:solidFill>
                  <a:srgbClr val="800080"/>
                </a:solidFill>
                <a:latin typeface="Lucida San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44720" y="42210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房顶是棕色的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房子是我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4797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ouse                                   is m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4400" y="4800600"/>
            <a:ext cx="35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ose roof is br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My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9807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Bookman Old Style"/>
              </a:rPr>
              <a:t>{</a:t>
            </a:r>
            <a:endParaRPr b="0" lang="en-US" sz="8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36180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Which woman is a teacher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The woman who lives next door is a teache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181116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. The woman is a teac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2. The woman lives next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25520" y="1522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关系代词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i="1" lang="zh-CN" sz="40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9200" y="9907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o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指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作主语或宾语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作宾语可省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1480" y="1676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ma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I talked with is our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1480" y="22860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erso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wh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als things is called a thie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27672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om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指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作宾语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作宾语可省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如介词提前则不能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480" y="437364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(whom/who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nodded to is Mr.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5520" y="49831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o wh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nodded is Professor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53880" y="333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指人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物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ich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指物，作主语或宾语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作宾语可省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介词提前则不能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8800" y="16002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are the tree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ere pl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9280" y="5454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4800" y="2708280"/>
            <a:ext cx="736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the libra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rom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b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o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1450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. I told you about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9831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(tha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old you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90400" y="99072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the kind pers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ve ever worked with him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0400" y="4419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the best film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ve ever seen this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3040" y="198108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the kind perso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have ever worked wi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h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23920" y="49528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the best film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 have ever 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9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ill in the blanks with who, whom,  that, or which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The earthquake ____________ hit the city in 1906 was the biggest in American his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2 We don’t know the number of people __________ lost their homes in the 1906 earthquak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3 The house ____________ they built in 1987 stayed up in the earthquak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4 A house ___________ is built on sand may fall down in an earthquak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5Luckily none of the people ___________ I know were killed in the earthquak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6 people _________ study earthquakes thinks that there will be another big one so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1219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which/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16680" y="2071800"/>
            <a:ext cx="17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who/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74920" y="2895480"/>
            <a:ext cx="19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which/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41400" y="3747960"/>
            <a:ext cx="19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which/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17960" y="4662360"/>
            <a:ext cx="20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who/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00880" y="55008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选择引导定语从句的关系代词时，有如下要点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于关系代词在主句与从句间既起到联系作用，又在从句中充当一个成分，因此， 要正确判断关系代词在从句中的功能，如作主语还是宾语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先行词指人时，关系代词可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主语，宾语）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主语，宾语）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m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宾语）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s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定语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先行词指物时，关系代词可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主语，宾语）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ich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主语，宾语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再定语从句中，作宾语的关系代词长可省略，但在介词后面的关系代词不能省略。指人时，介词后只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m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物时，介词后只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ich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非限制性定语从句中，指人时，只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物时，只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ich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09-04-01T00:26:39Z</dcterms:modified>
  <cp:revision>23</cp:revision>
  <dc:subject/>
  <dc:title>PowerPoint Presentation</dc:title>
</cp:coreProperties>
</file>