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E4B-7614-4442-BBF6-945629CA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4D1-9D37-42F2-8A09-7E2C4ED3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A2C-FB0E-486F-82CF-E217B55D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8B9-4DFD-4EDE-8863-C96D2822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19E-A5D8-45DD-BB8B-7E99B3FC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41F-72A8-4699-BD43-8211C3D3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DB9-95E0-4A34-8366-BF1D34FF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B2F-BF1F-4533-B242-1B9E2E1C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0DA-BD29-40F8-8007-0FCECF12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A1E-EA34-4551-A821-2A5A3290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42F-ED79-478F-A065-08B0EC09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6A2-F389-4156-A0A7-AB65616A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2A87-8AF6-4D3D-A5AF-F22E09D82B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92280"/>
            <a:ext cx="871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下面是三年级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班几名同学的套圈情况统计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位：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77336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2276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781360"/>
            <a:ext cx="73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284640"/>
            <a:ext cx="73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3789360"/>
            <a:ext cx="73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7708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12000" y="1773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84464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次  第二次   第三次   第四次    第五次      第六次   第七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2349360"/>
            <a:ext cx="73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刘杰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            9           5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谢兵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            9           5            9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357720"/>
            <a:ext cx="727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杨宇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            6           8            8              5              6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刘杰投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，谢兵投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，杨宇投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2276640"/>
            <a:ext cx="20178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276640"/>
            <a:ext cx="1944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2276640"/>
            <a:ext cx="934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581360"/>
            <a:ext cx="4824360" cy="2016360"/>
          </a:xfrm>
          <a:prstGeom prst="cloudCallout">
            <a:avLst>
              <a:gd name="adj1" fmla="val -43750"/>
              <a:gd name="adj2" fmla="val 221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16000" y="4869000"/>
            <a:ext cx="32004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谁投的最好呢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692280"/>
            <a:ext cx="8713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2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、幼儿园小朋友做花，小红做了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7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朵，小明做了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9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朵，小芳和小宁合做了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12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朵，平均每人做了多少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3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、有五个连续整数排成一排，已知这五个数的平均数是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13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，前三个数的平均数是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12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，后三个数的平均数是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14</a:t>
            </a:r>
            <a:r>
              <a:rPr b="1" i="1" lang="zh-CN" sz="2400" spc="-1" strike="noStrike">
                <a:solidFill>
                  <a:srgbClr val="ff66ff"/>
                </a:solidFill>
                <a:latin typeface="Arial"/>
              </a:rPr>
              <a:t>，求第一个数和第五个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1557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0"/>
            <a:ext cx="3168720" cy="1197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1280" y="189000"/>
            <a:ext cx="27432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奖牌发给谁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41300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年级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班第一小组和第二小组的投沙包比赛开始了，每投中一个，可以再图上画一个△，下面是每小组投中情况统计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小组                                              第二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407664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378936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350028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321300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2924280"/>
            <a:ext cx="216000" cy="2156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256536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465300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4365720"/>
            <a:ext cx="215640" cy="2156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407664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378936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50028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21300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65300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365720"/>
            <a:ext cx="216000" cy="2156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407664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378936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350028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21300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924280"/>
            <a:ext cx="216000" cy="2156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350028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95640" y="2924280"/>
            <a:ext cx="215640" cy="2156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321300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378936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407664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4365720"/>
            <a:ext cx="215640" cy="2156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95640" y="465300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342900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378936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414972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465300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4365720"/>
            <a:ext cx="216000" cy="2156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414972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378936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56360" y="342900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6360" y="306864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443700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414972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378936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342900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314172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443700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414972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378936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342900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306864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6000" y="270828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443700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414972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59640" y="378936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342900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306864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4437000"/>
            <a:ext cx="21600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4437000"/>
            <a:ext cx="215640" cy="2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5013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4941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5075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甲     乙      丙      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501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甲   乙    丙    丁     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589720"/>
            <a:ext cx="849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第一小组（        ）人参加比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那一组平均每人投中的次数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奖牌应发给第（       ）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404640"/>
            <a:ext cx="896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一场足球比赛上、下半场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钟，中场休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钟，李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场时，下半场正好开始，这场球赛何时开始，何时结束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如果午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下雨，那么过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时后有没有可能出太阳？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2133720"/>
            <a:ext cx="8569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有一个除法算式，被除数是除数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，除数是商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，这个除法算式是（ 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      ） ＝（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被减数、减数与差相加的和除以被减数得（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体育课上同学们排队，老师让同学们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报数，最后一个报的数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这一排可能有学生（      ）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   26                                       b    27                                  c  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0"/>
            <a:ext cx="3671640" cy="1846440"/>
          </a:xfrm>
          <a:prstGeom prst="wedgeEllipseCallout">
            <a:avLst>
              <a:gd name="adj1" fmla="val -41787"/>
              <a:gd name="adj2" fmla="val 57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549360"/>
            <a:ext cx="2743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是怎样想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9:13:43Z</dcterms:created>
  <dc:creator>番茄花园</dc:creator>
  <dc:description/>
  <dc:language>en-US</dc:language>
  <cp:lastModifiedBy>微软用户</cp:lastModifiedBy>
  <dcterms:modified xsi:type="dcterms:W3CDTF">2010-11-29T13:34:46Z</dcterms:modified>
  <cp:revision>5</cp:revision>
  <dc:subject/>
  <dc:title>幻灯片 1</dc:title>
</cp:coreProperties>
</file>