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B1D-C105-4378-BEF5-F4ADAE5E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EDC-856C-43F3-8860-28549469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CCF-5A5E-4907-A318-B56EE683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497-554B-4B92-8EE7-709E45DB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E13-282E-4BD7-9BB2-9E982BF7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BEF-9B9D-4AB1-B82B-2B07B237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35B-497A-4B81-A8C1-6C281BCD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442-C571-495E-A354-D1373E98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C53-D23A-403F-BE48-C222FDA9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76C-2197-4B77-9F8F-878B8232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395-D32D-42B5-A972-6D47B0E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829-DC9A-4CA0-B551-5E2886F9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5EE-01D5-4947-AE0E-80FEC2A6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80880"/>
            <a:ext cx="8076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【迁移训练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ff0066"/>
                </a:solidFill>
                <a:latin typeface="宋体"/>
                <a:ea typeface="Times New Roman"/>
              </a:rPr>
              <a:t>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2009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浙江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单晶硅是信息产业中重要的基础材料。通常用碳在高温下还原二氧化硅制得粗硅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含铁、铝、硫、磷等杂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粗硅与氯气反应生成四氯化硅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反应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00℃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四氯化硅经提纯后用氢气还原可得高纯硅。以下是实验室制备四氯化硅的装置示意图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647712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289548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91440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相关信息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四氯化硅遇水极易水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硼、铝、铁、磷在高温下均能与氯气直接反应生成相应的氯化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有关物质的物理常数见下表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9144000" cy="3249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289548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33520" y="685800"/>
            <a:ext cx="82296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请回答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出装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发生反应的离子方程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装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管的作用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装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试剂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装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瓶需要冷却的理由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装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瓶收集到的粗产物可通过精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类似多次蒸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得到高纯度四氯化硅，精馏后的残留物中，除铁元素外可能还含有的杂质元素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填写元素符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1676520"/>
            <a:ext cx="7924680" cy="780120"/>
            <a:chOff x="685800" y="1676520"/>
            <a:chExt cx="7924680" cy="780120"/>
          </a:xfrm>
        </p:grpSpPr>
        <p:grpSp>
          <p:nvGrpSpPr>
            <p:cNvPr id="51" name=""/>
            <p:cNvGrpSpPr/>
            <p:nvPr/>
          </p:nvGrpSpPr>
          <p:grpSpPr>
            <a:xfrm>
              <a:off x="3962520" y="1676520"/>
              <a:ext cx="838080" cy="533520"/>
              <a:chOff x="3962520" y="1676520"/>
              <a:chExt cx="838080" cy="53352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3962520" y="2133720"/>
                <a:ext cx="762120" cy="76320"/>
                <a:chOff x="3962520" y="2133720"/>
                <a:chExt cx="762120" cy="763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962520" y="2133720"/>
                  <a:ext cx="7621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962520" y="2210040"/>
                  <a:ext cx="7621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4114800" y="16765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Arial"/>
                  </a:rPr>
                  <a:t>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85800" y="1758960"/>
              <a:ext cx="7924680" cy="6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 </a:t>
              </a:r>
              <a:r>
                <a:rPr b="0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MnO</a:t>
              </a:r>
              <a:r>
                <a:rPr b="0" lang="en-US" sz="2800" spc="-1" strike="noStrike" baseline="-30000">
                  <a:solidFill>
                    <a:srgbClr val="009999"/>
                  </a:solidFill>
                  <a:latin typeface="Times New Roman"/>
                  <a:ea typeface="楷体_GB2312"/>
                </a:rPr>
                <a:t>2</a:t>
              </a:r>
              <a:r>
                <a:rPr b="0" lang="zh-CN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4H</a:t>
              </a:r>
              <a:r>
                <a:rPr b="0" lang="zh-CN" sz="2800" spc="-1" strike="noStrike" baseline="30000">
                  <a:solidFill>
                    <a:srgbClr val="009999"/>
                  </a:solidFill>
                  <a:latin typeface="Times New Roman"/>
                  <a:ea typeface="楷体_GB2312"/>
                </a:rPr>
                <a:t>＋</a:t>
              </a:r>
              <a:r>
                <a:rPr b="0" lang="zh-CN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2Cl</a:t>
              </a:r>
              <a:r>
                <a:rPr b="0" lang="zh-CN" sz="2800" spc="-1" strike="noStrike" baseline="30000">
                  <a:solidFill>
                    <a:srgbClr val="009999"/>
                  </a:solidFill>
                  <a:latin typeface="Times New Roman"/>
                  <a:ea typeface="楷体_GB2312"/>
                </a:rPr>
                <a:t>－            </a:t>
              </a:r>
              <a:r>
                <a:rPr b="0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Mn</a:t>
              </a:r>
              <a:r>
                <a:rPr b="0" lang="en-US" sz="2800" spc="-1" strike="noStrike" baseline="30000">
                  <a:solidFill>
                    <a:srgbClr val="009999"/>
                  </a:solidFill>
                  <a:latin typeface="Times New Roman"/>
                  <a:ea typeface="楷体_GB2312"/>
                </a:rPr>
                <a:t>2</a:t>
              </a:r>
              <a:r>
                <a:rPr b="0" lang="zh-CN" sz="2800" spc="-1" strike="noStrike" baseline="30000">
                  <a:solidFill>
                    <a:srgbClr val="009999"/>
                  </a:solidFill>
                  <a:latin typeface="Times New Roman"/>
                  <a:ea typeface="楷体_GB2312"/>
                </a:rPr>
                <a:t>＋</a:t>
              </a:r>
              <a:r>
                <a:rPr b="0" lang="zh-CN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Cl</a:t>
              </a:r>
              <a:r>
                <a:rPr b="0" lang="en-US" sz="2800" spc="-1" strike="noStrike" baseline="-30000">
                  <a:solidFill>
                    <a:srgbClr val="009999"/>
                  </a:solidFill>
                  <a:latin typeface="Times New Roman"/>
                  <a:ea typeface="楷体_GB2312"/>
                </a:rPr>
                <a:t>2</a:t>
              </a:r>
              <a:r>
                <a:rPr b="0" lang="en-US" sz="28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↑</a:t>
              </a:r>
              <a:r>
                <a:rPr b="0" lang="zh-CN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2H</a:t>
              </a:r>
              <a:r>
                <a:rPr b="0" lang="en-US" sz="2800" spc="-1" strike="noStrike" baseline="-30000">
                  <a:solidFill>
                    <a:srgbClr val="009999"/>
                  </a:solidFill>
                  <a:latin typeface="Times New Roman"/>
                  <a:ea typeface="楷体_GB2312"/>
                </a:rPr>
                <a:t>2</a:t>
              </a:r>
              <a:r>
                <a:rPr b="0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191120" y="2362320"/>
            <a:ext cx="3886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平衡压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2895480"/>
            <a:ext cx="3505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浓硫酸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586320"/>
            <a:ext cx="373356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使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Si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冷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5262480"/>
            <a:ext cx="3047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Al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P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C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289548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62120" y="1066680"/>
            <a:ext cx="761976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了分析残留物中铁元素的含量，先将残留物预处理，使铁元素还原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再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标准溶液在酸性条件下进行氧化还原滴定，反应的离子方程式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滴定前是否要滴加指示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填“是”或“否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说明理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662280"/>
            <a:ext cx="74674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Fe</a:t>
            </a:r>
            <a:r>
              <a:rPr b="0" lang="en-US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MnO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H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===5Fe</a:t>
            </a:r>
            <a:r>
              <a:rPr b="0" lang="en-US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Mn</a:t>
            </a:r>
            <a:r>
              <a:rPr b="0" lang="en-US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H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4272120"/>
            <a:ext cx="1219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　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5562720"/>
            <a:ext cx="525780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KMn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溶液自身可作指示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289548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62120" y="1143000"/>
            <a:ext cx="746748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同学称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00 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残留物，预处理后在容量瓶中配制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m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溶液，移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00 m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试样溶液，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0×1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·L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标准溶液滴定。达到滴定终点时，消耗标准溶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00 m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残留物中铁元素的质量分数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4572000"/>
            <a:ext cx="3048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.480%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289548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85800" y="838080"/>
            <a:ext cx="7696080" cy="36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【解析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该题为传统的综合实验方案设计题，综合了氯气的制法、硅的提纯、滴定法等实验知识，对有效数字的运算规则也有要求。实验原理是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反应生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i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所以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装置是用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Mn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与浓盐酸反应制备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，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装置除去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中的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HCl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气体，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C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装置干燥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装置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反应生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i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由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i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遇水极易水解——必须干燥，并防止空气中的水蒸气进入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i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熔沸点低——必须冷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289548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85800" y="914400"/>
            <a:ext cx="8001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据所给表中其他物质的熔沸点，可知杂质元素还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气体形式分离了。滴定操作不需要指示剂的原因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反应的前后有颜色的变化，说明已经到滴定终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根据滴定反应原理：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5Fe</a:t>
            </a:r>
            <a:r>
              <a:rPr b="0" lang="en-US" sz="2800" spc="-1" strike="noStrike" baseline="30000">
                <a:solidFill>
                  <a:srgbClr val="009999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楷体_GB2312"/>
              </a:rPr>
              <a:t>＋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　～　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MnO 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楷体_GB2312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mol/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13:30:21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