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50FF-DFA6-4B7E-850B-53527898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F8E7-88D7-4701-97D0-E83A2B0C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5033-122B-4412-8D94-86200CE0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301D-1244-4A5E-B5E0-9EB7FA77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0F00-BF7D-4583-B8FF-DFB7E6F7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AD9A-FADB-4CF4-83E3-F5852B55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6ABA-2965-47F1-A257-39373547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B7F3-C379-4976-B18E-71C47A25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E89D-9C3D-4888-BB0B-3522D9B3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E735-466D-48DB-85B3-175E9EFE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4832-ED21-4D75-A1C2-C1D0CE4D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293A-562D-4070-AA88-4277C6EA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8EB1-10AD-4038-AD88-A5E4948DE5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Comic Sans MS"/>
              </a:rPr>
              <a:t>Unit One</a:t>
            </a:r>
            <a:br>
              <a:rPr sz="9600"/>
            </a:br>
            <a:r>
              <a:rPr b="1" lang="en-US" sz="9600" spc="-1" strike="noStrike">
                <a:solidFill>
                  <a:srgbClr val="ff9900"/>
                </a:solidFill>
                <a:latin typeface="Comic Sans MS"/>
              </a:rPr>
              <a:t> Mocky the juggl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do after schoo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5280" y="2276640"/>
            <a:ext cx="28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lay badmin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08360" y="3789360"/>
            <a:ext cx="28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o shopp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08360" y="2997360"/>
            <a:ext cx="28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o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08360" y="4581360"/>
            <a:ext cx="28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ave di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2276640"/>
            <a:ext cx="28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fter school,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16000" y="259920"/>
            <a:ext cx="40384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is it 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16000" y="1628640"/>
            <a:ext cx="4897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Miss Whit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00000" y="2998800"/>
            <a:ext cx="7344000" cy="3670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260360" y="909720"/>
            <a:ext cx="540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's </a:t>
            </a:r>
            <a:r>
              <a:rPr b="0" lang="en-US" sz="3600" spc="-1" strike="noStrike">
                <a:solidFill>
                  <a:srgbClr val="ff33cc"/>
                </a:solidFill>
                <a:latin typeface="Arial"/>
              </a:rPr>
              <a:t>aft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33cc"/>
                </a:solidFill>
                <a:latin typeface="Arial"/>
              </a:rPr>
              <a:t>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60360" y="2276640"/>
            <a:ext cx="40388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0" lang="en-US" sz="3600" spc="-1" strike="noStrike">
                <a:solidFill>
                  <a:srgbClr val="ff33cc"/>
                </a:solidFill>
                <a:latin typeface="Arial"/>
              </a:rPr>
              <a:t>a  teach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87280" y="3213000"/>
            <a:ext cx="5154840" cy="3311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2360" y="333360"/>
            <a:ext cx="58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n the way, what do they s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2360" y="1701720"/>
            <a:ext cx="58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 does Mocky want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4720" y="234936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 wants to 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jugg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98100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see a 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juggle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2492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juggl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80360" y="2492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juggl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680000">
            <a:off x="6876720" y="2709000"/>
            <a:ext cx="358920" cy="287640"/>
          </a:xfrm>
          <a:prstGeom prst="rightArrow">
            <a:avLst>
              <a:gd name="adj1" fmla="val 50000"/>
              <a:gd name="adj2" fmla="val 311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835280" y="549360"/>
            <a:ext cx="3611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Mocky jugg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63640" y="1413000"/>
            <a:ext cx="2448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he can'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12720" y="2421000"/>
            <a:ext cx="3219480" cy="3686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0" t="19664" r="0" b="0"/>
          <a:stretch/>
        </p:blipFill>
        <p:spPr>
          <a:xfrm>
            <a:off x="4140360" y="2565360"/>
            <a:ext cx="4389120" cy="3500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356000" y="1413000"/>
            <a:ext cx="2880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falls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26920" y="2496960"/>
            <a:ext cx="3384720" cy="2873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861080" y="2565360"/>
            <a:ext cx="3914640" cy="2809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44720" y="549360"/>
            <a:ext cx="396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w to help Mock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2421000"/>
            <a:ext cx="1008000" cy="15127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4720" y="1486080"/>
            <a:ext cx="396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an ambulanc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3440" y="1628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 do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8000" y="2565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does Ken ask (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询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 to hel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58327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oliceman and a v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5280" y="2709720"/>
            <a:ext cx="3960720" cy="2952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645080" y="2709720"/>
            <a:ext cx="403848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rcRect l="2698" t="8131" r="15416" b="0"/>
          <a:stretch/>
        </p:blipFill>
        <p:spPr>
          <a:xfrm>
            <a:off x="108000" y="2349360"/>
            <a:ext cx="4174920" cy="3168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9280" y="333360"/>
            <a:ext cx="43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w is Mocky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6720" y="12700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He is w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29080" y="47628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an Mocky juggle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1270080"/>
            <a:ext cx="431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, he can'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61080" y="2349360"/>
            <a:ext cx="410364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2360" y="-24120"/>
            <a:ext cx="8856720" cy="58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fter school, Ann, Ken and Mocky sa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bye to Miss White. On the way, they see a juggler. Mocky wants to juggle. But he can’t juggle. He falls down. Ann finds a telephone. Ken calls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mbulance. A doctor  is coming. She can't help Mocky.Then, Ken asks a policeman and a vet for help. A vet is coming. And Mocky is well n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2T09:20:46Z</dcterms:created>
  <dc:creator>Administrator</dc:creator>
  <dc:description/>
  <cp:keywords/>
  <dc:language>en-US</dc:language>
  <cp:lastModifiedBy>hys</cp:lastModifiedBy>
  <cp:lastPrinted>1899-12-30T00:00:00Z</cp:lastPrinted>
  <dcterms:modified xsi:type="dcterms:W3CDTF">2013-12-12T07:08:0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