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BEB-0A14-44BE-ACD7-FE23850F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153-B3D0-4513-A271-05B9307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56C-AD9C-4BD7-BD76-AF50C2D8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EAD-B2E3-4A52-B96F-4A604B6D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6D4-522B-4E35-A455-AC9FBA44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C21-B93C-4346-8A61-1FF903CF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4AD-82D0-4487-A019-D4C62612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616-8C0C-4AF7-B0DA-57872E7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5CE-06FA-492F-A9F4-32354E5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1BA-36EB-4C09-BD7F-2D71F339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6A5-8FC4-4627-9B86-59D73DE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047-90D4-488A-BB14-8CC34E6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FC13-D62B-4E61-A78A-A8D1E7CB36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96080" y="53640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858000" y="1219320"/>
            <a:ext cx="439560" cy="73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806400" cy="134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7280" y="2565360"/>
            <a:ext cx="76201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Unit 9 Day and night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82560" y="189000"/>
            <a:ext cx="7561440" cy="644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658800"/>
            <a:ext cx="8280360" cy="521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916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ang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852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a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24360" y="3284640"/>
            <a:ext cx="25909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2376360" cy="1811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530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530064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530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M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89000"/>
            <a:ext cx="208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89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替换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2682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do you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get u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usually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get u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six o’cloc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18907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519640" cy="249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2448000" cy="241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586240" cy="259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80000" y="3429000"/>
            <a:ext cx="2449440" cy="2428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2781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:00  six o’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278136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:15  eleven fif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609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:30 twelve thi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6021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:45  one forty-f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5-15T00:02:36Z</dcterms:modified>
  <cp:revision>127</cp:revision>
  <dc:subject/>
  <dc:title>PowerPoint Presentation</dc:title>
</cp:coreProperties>
</file>