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1C9-DD67-4FBF-92B2-8458082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056-FFC4-40AE-A5EC-5D2113BC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1AB-CD63-4B55-BACB-A6B7E4A8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239-6050-4F0D-955D-98A8CC5C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FEA-8D12-4A53-AC8A-B603A1A9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DC5-E0DC-4F83-8DAA-6AD6C7D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585-0A5A-4E37-823A-A4DA917B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D7F-602C-4371-9B70-49F0F5FE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842-B3FC-4FA0-85E1-CA779CC1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C90-9B12-4756-B733-EAD14F2E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E67-EA3E-44FD-A857-AE3AB22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837-B98D-473C-9107-246C690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9D2-9FA1-4D15-8FC5-3A4B88D61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师大版四年级英语下册课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unit 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Mocky is 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nine o’clock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点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44956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066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？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点五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9532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2971800" cy="247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248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2971800" cy="23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257800" y="3657600"/>
            <a:ext cx="3095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6781680" cy="5869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7760" y="19051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Read and 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 What do you think Booby is asking Moc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  What is Mocky looking 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 What is happening 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 What do you think is wrong with Mocky's watch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what we have learn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eview the next part of th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57240" y="106632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oodby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8280" y="152388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点词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o’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点句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is i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t’s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当不知道时间的时候，我们通常都会有哪些方法来知道时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钟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clock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手机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telephone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电视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television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手表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watch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527040" cy="76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72216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99072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886200" y="2666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2895480"/>
            <a:ext cx="75960" cy="1905120"/>
          </a:xfrm>
          <a:custGeom>
            <a:avLst/>
            <a:gdLst>
              <a:gd name="textAreaLeft" fmla="*/ 48600 w 75960"/>
              <a:gd name="textAreaRight" fmla="*/ 76320 w 759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80720" y="2590560"/>
            <a:ext cx="4953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the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99160" y="0"/>
            <a:ext cx="2544840" cy="2540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27280" cy="449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23120" y="4289400"/>
            <a:ext cx="2720880" cy="2568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981080" y="4781520"/>
            <a:ext cx="2333880" cy="2076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438280" y="0"/>
            <a:ext cx="2362320" cy="220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16040" y="3124080"/>
            <a:ext cx="36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英语如何询问时间或者“现在几点了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h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minut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133720"/>
            <a:ext cx="7617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743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26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39625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one o’clock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点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3200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two o’clock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点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267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five o’clock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点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39625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time is 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leven fiftee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一点十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54864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5-30T00:00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