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27.jpeg" ContentType="image/jpe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BF2-1E4E-49EB-B2EB-3D1374CC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25B-7F77-4E8C-9066-947FEFAE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D97-057C-4CFD-B3E1-D26BB813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049-4F02-4732-BC81-6BB75F74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1C70-1491-4037-9CFD-DECA5DB4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F4A8-4642-40C3-B6B6-7643F56B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A539-49B3-4A4A-A58B-7811C10C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D231-4A22-4B19-BF82-BF7AE169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8A8B-C017-4719-A9C2-EE3B4CE5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74B5-B6E9-4CB7-A017-4885354C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5700-13F9-4A6E-979D-7A6E1BC7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F7ED-7C55-4706-8573-8A279153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6658-F7D1-4407-A559-709DEC07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52E3-4734-4F52-8792-4CBDA86C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4707-8E61-4677-93B2-90ADE286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0E2F-B07D-4C54-B611-EFEF68B0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CE69-30A1-4D77-B196-9F28E871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127-7B79-4C6F-98F4-4F6FBF28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7E8-2FF7-44A4-BC1C-17468CB2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92E-A8B7-4460-8572-3CDEA633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97E-76A8-4CFD-85AD-CA0C0F85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3D5-D782-470F-9B4B-752A54CF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280-90DD-4540-9133-B20E5746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B92-3BD5-44F9-AF37-8154F51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C385-B810-4CB5-BFF9-D03CBF27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4372-1169-4AB6-B212-D1FD181F5DA7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Unit4  Where is it?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1752480"/>
            <a:ext cx="8915400" cy="4675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828800" y="762120"/>
            <a:ext cx="6324480" cy="8874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5335560" y="1905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33556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19720" y="4282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335560" y="5562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笑脸 10"/>
          <p:cNvSpPr/>
          <p:nvPr/>
        </p:nvSpPr>
        <p:spPr>
          <a:xfrm>
            <a:off x="5257800" y="30481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0" y="1981080"/>
            <a:ext cx="8920080" cy="4545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5029200" cy="1274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5395680" y="20732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472000" y="33685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487840" y="46483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487840" y="5867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笑脸 9"/>
          <p:cNvSpPr/>
          <p:nvPr/>
        </p:nvSpPr>
        <p:spPr>
          <a:xfrm>
            <a:off x="5257800" y="571500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3657600" cy="4040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2"/>
          <a:stretch/>
        </p:blipFill>
        <p:spPr>
          <a:xfrm>
            <a:off x="380880" y="4648320"/>
            <a:ext cx="44197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Mocky’s car needs to clean.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3" name="Picture 2" descr="C:\Users\Administrator\Documents\Tencent Files\512018991\FileRecv\38304439.jpg"/>
          <p:cNvPicPr/>
          <p:nvPr/>
        </p:nvPicPr>
        <p:blipFill>
          <a:blip r:embed="rId1"/>
          <a:stretch/>
        </p:blipFill>
        <p:spPr>
          <a:xfrm>
            <a:off x="1066680" y="1752480"/>
            <a:ext cx="6972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64600" cy="53769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2918520" y="32446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232560" y="28954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051720" y="1981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4423320" y="5335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 flipH="1">
            <a:off x="4571280" y="5943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 flipH="1">
            <a:off x="5562720" y="2666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7242480" y="1295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768960" y="2438280"/>
            <a:ext cx="11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2980800" y="152388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eter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4883040" y="457200"/>
            <a:ext cx="29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ang  Ling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5188680" y="5943600"/>
            <a:ext cx="113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Ke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Box 16"/>
          <p:cNvSpPr/>
          <p:nvPr/>
        </p:nvSpPr>
        <p:spPr>
          <a:xfrm>
            <a:off x="5632200" y="2209680"/>
            <a:ext cx="19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ommy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7779240" y="129528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ue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Mocky is happy now.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980720"/>
            <a:ext cx="8540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42674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写一写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74" name="Picture 2" descr="c:\users\ADMINI~1\appdata\roaming\360se6\USERDA~1\Temp\SY_201~1.JPG"/>
          <p:cNvPicPr/>
          <p:nvPr/>
        </p:nvPicPr>
        <p:blipFill>
          <a:blip r:embed="rId1"/>
          <a:stretch/>
        </p:blipFill>
        <p:spPr>
          <a:xfrm>
            <a:off x="1523880" y="1752480"/>
            <a:ext cx="5338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What did you learn today?</a:t>
            </a: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1920" y="213336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今天你学到了什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表示方位的词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描述方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书写句子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通过今天的学习，你懂得了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朋友之间要相互帮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Homework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raw a picture of the words.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画一幅表现方位词的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ead the words.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熟读单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1" name="Picture 2" descr="c:\users\ADMINI~1\appdata\roaming\360se6\USERDA~1\Temp\201208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3360" y="3123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Let’s sing!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5" descr="c:\users\ADMINI~1\appdata\roaming\360se6\USERDA~1\Temp\827889~1.JPG"/>
          <p:cNvPicPr/>
          <p:nvPr/>
        </p:nvPicPr>
        <p:blipFill>
          <a:blip r:embed="rId1"/>
          <a:stretch/>
        </p:blipFill>
        <p:spPr>
          <a:xfrm>
            <a:off x="304920" y="838080"/>
            <a:ext cx="29718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154510~1"/>
          <p:cNvPicPr/>
          <p:nvPr/>
        </p:nvPicPr>
        <p:blipFill>
          <a:blip r:embed="rId1"/>
          <a:stretch/>
        </p:blipFill>
        <p:spPr>
          <a:xfrm>
            <a:off x="228600" y="685800"/>
            <a:ext cx="2722680" cy="4313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2666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动物在哪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3885840"/>
            <a:ext cx="8540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Where is the animal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335268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5029200" cy="3865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0" y="5257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The cat is ____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tabl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4253040" y="914400"/>
            <a:ext cx="4890960" cy="4038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4655160" y="52642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The cat is _____ the </a:t>
            </a:r>
            <a:r>
              <a:rPr b="1" lang="en-US" sz="2400" spc="-1" strike="noStrike">
                <a:solidFill>
                  <a:srgbClr val="cc0066"/>
                </a:solidFill>
                <a:latin typeface="Comic Sans MS"/>
              </a:rPr>
              <a:t>b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697880" y="609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NO.1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2059200" y="503244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nde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402600" y="503244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nde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448160" cy="3085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4191120" cy="3086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60" y="396252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The duck is____ the house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832560" y="541008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The duck is _______ the tree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675440" y="44197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 front of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081120" y="522144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ehin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343400" cy="309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4343400" cy="3063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80520" y="38862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rd is ___the rock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344840" y="57913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rd is_______the tree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058840" y="3581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4320" y="56386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ext t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c:\users\ADMINI~1\appdata\roaming\360se6\USERDA~1\Temp\111810~1.JPG"/>
          <p:cNvPicPr/>
          <p:nvPr/>
        </p:nvPicPr>
        <p:blipFill>
          <a:blip r:embed="rId1"/>
          <a:stretch/>
        </p:blipFill>
        <p:spPr>
          <a:xfrm>
            <a:off x="0" y="2743200"/>
            <a:ext cx="5105520" cy="3933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7572"/>
                </a:solidFill>
                <a:latin typeface="Arial"/>
              </a:rPr>
              <a:t>listen and point.</a:t>
            </a:r>
            <a:br>
              <a:rPr sz="4400"/>
            </a:b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比一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046640" cy="390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6675480" cy="4038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1905120" y="2514600"/>
            <a:ext cx="67993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华文彩云"/>
              </a:rPr>
              <a:t>Where is the bird?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763120" cy="4538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394240" y="213372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395680" y="32925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411520" y="5715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411520" y="4572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笑脸 8"/>
          <p:cNvSpPr/>
          <p:nvPr/>
        </p:nvSpPr>
        <p:spPr>
          <a:xfrm>
            <a:off x="4648320" y="56386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oer</cp:lastModifiedBy>
  <dcterms:modified xsi:type="dcterms:W3CDTF">2014-01-04T05:00:34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