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31.jpeg" ContentType="image/jpeg"/>
  <Override PartName="/ppt/media/image30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E60-1A42-4B22-886C-DEE3CA04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B8C-2D93-4DDA-BA5E-8CBE8AB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3A5-BC76-477A-8117-86083985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D40-96C5-4AE7-A191-5D96274C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AE4-9B0F-4BE7-AFF9-0872094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FE7-6029-4262-A4B0-5BBB49DF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F00-F43A-41EC-A1BD-A4BE0E3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F6E-7912-4640-A721-AC2485C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C92-8A17-4301-96AC-E1E2BC9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B6E-C0C3-4DAE-914E-A54F879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CC0-FFD7-4B2A-8BAA-6799CA9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406-882C-400F-926D-EB366E9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111-D0FC-4825-ACA4-146D112C9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" Target="slide13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95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71640" cy="623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19640" y="3357720"/>
            <a:ext cx="572436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059280" cy="530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419640" y="3284640"/>
            <a:ext cx="5724360" cy="35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476360" y="256536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300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1250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7500"/>
                            </p:stCondLst>
                            <p:childTnLst>
                              <p:par>
                                <p:cTn id="17" nodeType="afterEffect" fill="hold" presetClass="entr" presetID="13" presetSubtype="32" repeatCount="2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" nodeType="afterEffect" fill="hold" presetClass="exit" presetID="9">
                                  <p:stCondLst>
                                    <p:cond delay="1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9000"/>
                            </p:stCondLst>
                            <p:childTnLst>
                              <p:par>
                                <p:cTn id="27" nodeType="afterEffect" fill="hold" presetClass="exit" presetID="3" presetSubtype="10">
                                  <p:stCondLst>
                                    <p:cond delay="5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550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95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9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95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0"/>
                            </p:stCondLst>
                            <p:childTnLst>
                              <p:par>
                                <p:cTn id="54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0"/>
                            </p:stCondLst>
                            <p:childTnLst>
                              <p:par>
                                <p:cTn id="60" nodeType="afterEffect" fill="hold" presetClass="entr" presetID="55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35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81500"/>
                            </p:stCondLst>
                            <p:childTnLst>
                              <p:par>
                                <p:cTn id="74" nodeType="afterEffect" fill="hold" presetClass="entr" presetID="6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6500"/>
                            </p:stCondLst>
                            <p:childTnLst>
                              <p:par>
                                <p:cTn id="78" nodeType="afterEffect" fill="remove" presetClass="emph" presetID="33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2500"/>
                            </p:stCondLst>
                            <p:childTnLst>
                              <p:par>
                                <p:cTn id="8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450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25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45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0500"/>
                            </p:stCondLst>
                            <p:childTnLst>
                              <p:par>
                                <p:cTn id="99" nodeType="afterEffect" fill="hold" presetClass="exit" presetID="8" presetSubtype="32" repeatCount="2000">
                                  <p:stCondLst>
                                    <p:cond delay="500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0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9500"/>
                            </p:stCondLst>
                            <p:childTnLst>
                              <p:par>
                                <p:cTn id="1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0000"/>
                            </p:stCondLst>
                            <p:childTnLst>
                              <p:par>
                                <p:cTn id="10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8000" y="2276640"/>
            <a:ext cx="53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472428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雾凇沆砀，天与云、与山、与水，上下一白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38036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56000" y="501336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1420920"/>
            <a:ext cx="6697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湖上影子，惟长堤一痕，湖心亭一点，与余舟一芥，舟中人两三粒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5867280" y="5084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3794"/>
                </a:moveTo>
                <a:lnTo>
                  <a:pt x="28526" y="10800"/>
                </a:lnTo>
                <a:lnTo>
                  <a:pt x="1451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93080" y="5445000"/>
            <a:ext cx="205092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7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09960" y="0"/>
            <a:ext cx="5234040" cy="40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4932360" cy="3141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581280" y="685800"/>
            <a:ext cx="2971800" cy="825480"/>
            <a:chOff x="3581280" y="685800"/>
            <a:chExt cx="2971800" cy="825480"/>
          </a:xfrm>
        </p:grpSpPr>
        <p:sp>
          <p:nvSpPr>
            <p:cNvPr id="84" name=""/>
            <p:cNvSpPr/>
            <p:nvPr/>
          </p:nvSpPr>
          <p:spPr>
            <a:xfrm>
              <a:off x="3581280" y="6858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湖心亭看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5520" y="11430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张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335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1828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人鸟声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48120" y="1828800"/>
            <a:ext cx="1295280" cy="398880"/>
            <a:chOff x="3048120" y="1828800"/>
            <a:chExt cx="1295280" cy="398880"/>
          </a:xfrm>
        </p:grpSpPr>
        <p:sp>
          <p:nvSpPr>
            <p:cNvPr id="90" name=""/>
            <p:cNvSpPr/>
            <p:nvPr/>
          </p:nvSpPr>
          <p:spPr>
            <a:xfrm>
              <a:off x="3048120" y="198108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62520" y="1828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57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看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23880" y="2895480"/>
            <a:ext cx="1143000" cy="1600200"/>
            <a:chOff x="1523880" y="2895480"/>
            <a:chExt cx="1143000" cy="1600200"/>
          </a:xfrm>
        </p:grpSpPr>
        <p:sp>
          <p:nvSpPr>
            <p:cNvPr id="94" name=""/>
            <p:cNvSpPr/>
            <p:nvPr/>
          </p:nvSpPr>
          <p:spPr>
            <a:xfrm>
              <a:off x="1523880" y="3124080"/>
              <a:ext cx="228600" cy="1371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5120" y="2895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362320" y="25909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上下一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全景 、  大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429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痕点芥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429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特写  、 小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886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炉旺酒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知己同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657600" y="4114800"/>
            <a:ext cx="990720" cy="990720"/>
            <a:chOff x="3657600" y="4114800"/>
            <a:chExt cx="990720" cy="990720"/>
          </a:xfrm>
        </p:grpSpPr>
        <p:sp>
          <p:nvSpPr>
            <p:cNvPr id="104" name=""/>
            <p:cNvSpPr/>
            <p:nvPr/>
          </p:nvSpPr>
          <p:spPr>
            <a:xfrm>
              <a:off x="396252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4114800"/>
              <a:ext cx="228600" cy="990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029200" y="2666880"/>
            <a:ext cx="304920" cy="106704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0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孤独寂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温暖闲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05120" y="4038480"/>
            <a:ext cx="761760" cy="1067040"/>
            <a:chOff x="1905120" y="4038480"/>
            <a:chExt cx="761760" cy="1067040"/>
          </a:xfrm>
        </p:grpSpPr>
        <p:sp>
          <p:nvSpPr>
            <p:cNvPr id="110" name=""/>
            <p:cNvSpPr/>
            <p:nvPr/>
          </p:nvSpPr>
          <p:spPr>
            <a:xfrm>
              <a:off x="1905120" y="4343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03848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3048120"/>
            <a:ext cx="1371600" cy="368280"/>
            <a:chOff x="5257800" y="3048120"/>
            <a:chExt cx="1371600" cy="368280"/>
          </a:xfrm>
        </p:grpSpPr>
        <p:sp>
          <p:nvSpPr>
            <p:cNvPr id="113" name=""/>
            <p:cNvSpPr/>
            <p:nvPr/>
          </p:nvSpPr>
          <p:spPr>
            <a:xfrm>
              <a:off x="579132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对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30481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（景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419720" y="2057400"/>
            <a:ext cx="1600200" cy="2590560"/>
            <a:chOff x="4419720" y="2057400"/>
            <a:chExt cx="1600200" cy="2590560"/>
          </a:xfrm>
        </p:grpSpPr>
        <p:sp>
          <p:nvSpPr>
            <p:cNvPr id="116" name=""/>
            <p:cNvSpPr/>
            <p:nvPr/>
          </p:nvSpPr>
          <p:spPr>
            <a:xfrm>
              <a:off x="4419720" y="205740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19720" y="3428640"/>
              <a:ext cx="152388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1840" y="2438280"/>
            <a:ext cx="1219320" cy="1905120"/>
            <a:chOff x="6171840" y="2438280"/>
            <a:chExt cx="1219320" cy="1905120"/>
          </a:xfrm>
        </p:grpSpPr>
        <p:sp>
          <p:nvSpPr>
            <p:cNvPr id="119" name=""/>
            <p:cNvSpPr/>
            <p:nvPr/>
          </p:nvSpPr>
          <p:spPr>
            <a:xfrm>
              <a:off x="6324480" y="3124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（情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248160" y="3429000"/>
              <a:ext cx="114300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171840" y="2438280"/>
              <a:ext cx="121932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20040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语言精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形象生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645336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219564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524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692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意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10287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76360" y="907920"/>
            <a:ext cx="6769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孤山寺北贾亭西，水面初平云脚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处早莺争暖树，谁家新燕啄春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乱花渐欲迷人眼，浅草才能没马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爱湖东行不足，绿杨荫里白沙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2160720" cy="1681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333440" cy="9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53000" y="2857680"/>
            <a:ext cx="16380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443640" y="3284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5200" y="-272160"/>
            <a:ext cx="557568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晓出净慈寺送林子方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杨万里</a:t>
            </a:r>
            <a:br>
              <a:rPr sz="4400"/>
            </a:br>
            <a:br>
              <a:rPr sz="4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毕竟西湖六月中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风光不与四时同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接天莲叶无穷碧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映日荷花别样红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咏        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谢太傅寒雪日内集，与儿女讲论文义。俄而雪骤，公欣然曰：‘白雪纷纷何所似？’兄子胡儿曰：‘撒盐空中差可拟。’兄女曰：‘未若柳絮因风起。’公大笑乐。 即公大兄无奕女，左将军王凝之妻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05320" y="1219320"/>
            <a:ext cx="3657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昔年曾见此湖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不信人间有此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今日打从湖上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画工还欠着工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159080"/>
            <a:ext cx="32004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水光潋滟晴方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山色空蒙雨亦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欲把西湖比西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淡妆浓抹总相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140360" cy="494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5508720" cy="4089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84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164360" y="4005360"/>
            <a:ext cx="1979640" cy="2852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484360" y="5589720"/>
            <a:ext cx="161136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3600360" cy="1616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4066920" cy="400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38436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24360" y="341280"/>
            <a:ext cx="4535280" cy="365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305080" cy="1616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2808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98100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260280"/>
            <a:ext cx="5327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湖心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557360"/>
            <a:ext cx="83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在西湖之中，据说是宋代疏浚西湖时，以湖泥堆成小山，后于山上建成亭阁，初名振鹭亭，又称清喜阁。明万历后才称湖心亭。今亭于一九五三年重建，四面亭形式，金黄琉璃瓦屋顶，宏丽壮观。昔人有诗云：“百遍清游未拟还，孤亭好在水云间。停阑四面空明里，一面城头三面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700360" y="205092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14680" y="590400"/>
            <a:ext cx="5715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929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62120" y="1219320"/>
            <a:ext cx="7238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湖心亭看雪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8195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张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0"/>
            <a:ext cx="84596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湖心亭看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崇祯五年十二月，余住西湖。大雪三日，湖中人鸟声俱绝。是日更定矣，余拿一小舟，拥毳衣炉火，独往湖心亭看雪。雾凇沆砀，天与云与山与水，上下一白。湖上影子，惟长堤一痕，湖心亭一点，与余舟一芥，舟中人两三粒而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亭上，有两人铺毡对坐，一童子烧酒炉正沸。见余，大喜曰：“湖中焉得更有此人！”拉余同饮。余强饮三大白而别。问其姓氏，是金陵人，客此。及下船，舟子喃喃曰：“莫说相公痴，更有痴似相公者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64000" y="1197000"/>
            <a:ext cx="55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一、知识教学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学习散文语言的形象、生动、精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学习情景对比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复习侧面烘托的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二、能力训练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学习品味散文的欣赏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三、情感渗透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感受自然之美，爱我锦绣中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185760"/>
            <a:ext cx="571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张岱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159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1679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），字宗子，号陶庵。浙江山阴人，侨寓杭州。明末清初文学家明王朝覆灭后，他消极避世，隐居于浙江山中，一心从事著述，尤以散文著称。作品多写山水景物，日常琐事，时时流露出明亡后怀旧感伤的情绪，于追忆往昔之繁华中流露对亡明的缅怀。文笔清新干练，富于诗意。著有《陶庵梦忆》《西湖寻梦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7680" y="722160"/>
            <a:ext cx="7559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大雪三日，湖中人鸟声俱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590920"/>
            <a:ext cx="27478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了三天大雪，湖上人影鸟迹都没有了。寂静的什么声音也没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2514600"/>
            <a:ext cx="33847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千山鸟飞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万径人踪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孤舟蓑笠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独钓寒江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4582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1197000"/>
            <a:ext cx="7129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雾凇沆砀，天与云、与山、与水，上下一白。湖上影子，惟长堤一痕，湖心亭一点，与余舟一芥，舟中人两三粒而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1200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3:37:39Z</dcterms:created>
  <dc:creator>17</dc:creator>
  <dc:description/>
  <dc:language>en-US</dc:language>
  <cp:lastModifiedBy>MC SYSTEM</cp:lastModifiedBy>
  <dcterms:modified xsi:type="dcterms:W3CDTF">2008-02-10T07:12:28Z</dcterms:modified>
  <cp:revision>53</cp:revision>
  <dc:subject/>
  <dc:title>没有幻灯片标题</dc:title>
</cp:coreProperties>
</file>