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936-BA48-44DE-BB0D-4A95A440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5F2-C5DA-40A4-88EF-F663A3C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E50-9088-4D65-B1DF-334FA532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D6F-8303-41D4-ABB4-5E354714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D85-25FE-4D65-B2B7-311A4D8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61A-0CAD-4129-BB51-A1673AD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824-96E0-4C84-82CC-5D3B632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4D5-D265-4F3C-A65A-E5F2654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D06-7A0F-415A-BCE7-BA522F8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EE4-07E2-472E-98C1-13D4A95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7D3-51A5-416F-BA58-446CC959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C43-3BA4-40A4-8EA8-2FE8A654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6B66-6CE5-49F1-B5EC-7A708F3EC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1197000"/>
            <a:ext cx="78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隶书"/>
              </a:rPr>
              <a:t>《答谢中书书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陶弘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11640" y="328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实是欲界之仙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康乐以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未复有能与其奇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26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写作思路探究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景物描写最讲究的是如何安排所要描述内容的先后顺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其次是如何进行生动描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32000" y="2852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新魏"/>
              </a:rPr>
              <a:t>山川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之美，古来共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508640"/>
            <a:ext cx="61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开篇点题         </a:t>
            </a:r>
            <a:r>
              <a:rPr b="1" i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51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620640"/>
            <a:ext cx="2233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峰入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042920" y="1700280"/>
            <a:ext cx="2089080" cy="1439640"/>
            <a:chOff x="1042920" y="1700280"/>
            <a:chExt cx="2089080" cy="1439640"/>
          </a:xfrm>
        </p:grpSpPr>
        <p:sp>
          <p:nvSpPr>
            <p:cNvPr id="119" name=""/>
            <p:cNvSpPr/>
            <p:nvPr/>
          </p:nvSpPr>
          <p:spPr>
            <a:xfrm>
              <a:off x="1042920" y="1700280"/>
              <a:ext cx="2089080" cy="1439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3640" y="1915920"/>
              <a:ext cx="93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仰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940360" y="1197000"/>
            <a:ext cx="1873080" cy="1511280"/>
            <a:chOff x="5940360" y="1197000"/>
            <a:chExt cx="1873080" cy="1511280"/>
          </a:xfrm>
        </p:grpSpPr>
        <p:sp>
          <p:nvSpPr>
            <p:cNvPr id="122" name=""/>
            <p:cNvSpPr/>
            <p:nvPr/>
          </p:nvSpPr>
          <p:spPr>
            <a:xfrm>
              <a:off x="5940360" y="1197000"/>
              <a:ext cx="1873080" cy="1511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6360" y="1268280"/>
              <a:ext cx="7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俯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724360" y="2997360"/>
            <a:ext cx="2160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流见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16000" y="4365720"/>
            <a:ext cx="1871640" cy="1942920"/>
            <a:chOff x="1116000" y="4365720"/>
            <a:chExt cx="1871640" cy="1942920"/>
          </a:xfrm>
        </p:grpSpPr>
        <p:sp>
          <p:nvSpPr>
            <p:cNvPr id="126" name=""/>
            <p:cNvSpPr/>
            <p:nvPr/>
          </p:nvSpPr>
          <p:spPr>
            <a:xfrm>
              <a:off x="1116000" y="4365720"/>
              <a:ext cx="1871640" cy="1942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50133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平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492360" y="4869000"/>
            <a:ext cx="48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岸石壁，五色交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51280" y="1557360"/>
            <a:ext cx="1152360" cy="2879640"/>
            <a:chOff x="3851280" y="1557360"/>
            <a:chExt cx="1152360" cy="2879640"/>
          </a:xfrm>
        </p:grpSpPr>
        <p:sp>
          <p:nvSpPr>
            <p:cNvPr id="130" name=""/>
            <p:cNvSpPr/>
            <p:nvPr/>
          </p:nvSpPr>
          <p:spPr>
            <a:xfrm>
              <a:off x="3851280" y="1557360"/>
              <a:ext cx="1152360" cy="2879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7280" y="2205000"/>
              <a:ext cx="576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视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5640" y="404640"/>
            <a:ext cx="4824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林翠竹，四时俱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79640" y="1413000"/>
            <a:ext cx="1584360" cy="2376360"/>
            <a:chOff x="1979640" y="1413000"/>
            <a:chExt cx="1584360" cy="2376360"/>
          </a:xfrm>
        </p:grpSpPr>
        <p:sp>
          <p:nvSpPr>
            <p:cNvPr id="134" name=""/>
            <p:cNvSpPr/>
            <p:nvPr/>
          </p:nvSpPr>
          <p:spPr>
            <a:xfrm>
              <a:off x="1979640" y="1413000"/>
              <a:ext cx="1584360" cy="2376360"/>
            </a:xfrm>
            <a:prstGeom prst="upArrow">
              <a:avLst>
                <a:gd name="adj1" fmla="val 50000"/>
                <a:gd name="adj2" fmla="val 374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11640" y="220536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四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64000" y="4797360"/>
            <a:ext cx="4895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晓雾将歇，猿鸟乱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日欲颓，沉鳞竞跃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64000" y="2205000"/>
            <a:ext cx="1729080" cy="2305080"/>
            <a:chOff x="5364000" y="2205000"/>
            <a:chExt cx="1729080" cy="2305080"/>
          </a:xfrm>
        </p:grpSpPr>
        <p:sp>
          <p:nvSpPr>
            <p:cNvPr id="138" name=""/>
            <p:cNvSpPr/>
            <p:nvPr/>
          </p:nvSpPr>
          <p:spPr>
            <a:xfrm>
              <a:off x="5364000" y="2205000"/>
              <a:ext cx="1729080" cy="2305080"/>
            </a:xfrm>
            <a:prstGeom prst="downArrow">
              <a:avLst>
                <a:gd name="adj1" fmla="val 50000"/>
                <a:gd name="adj2" fmla="val 333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0360" y="2565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早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9640" y="3789360"/>
            <a:ext cx="1511280" cy="2664000"/>
            <a:chOff x="539640" y="3789360"/>
            <a:chExt cx="1511280" cy="2664000"/>
          </a:xfrm>
        </p:grpSpPr>
        <p:sp>
          <p:nvSpPr>
            <p:cNvPr id="141" name=""/>
            <p:cNvSpPr/>
            <p:nvPr/>
          </p:nvSpPr>
          <p:spPr>
            <a:xfrm>
              <a:off x="539640" y="3789360"/>
              <a:ext cx="1511280" cy="2664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6920" y="4221000"/>
              <a:ext cx="8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时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020000" y="476280"/>
            <a:ext cx="1511280" cy="2663640"/>
            <a:chOff x="7020000" y="476280"/>
            <a:chExt cx="1511280" cy="2663640"/>
          </a:xfrm>
        </p:grpSpPr>
        <p:sp>
          <p:nvSpPr>
            <p:cNvPr id="144" name=""/>
            <p:cNvSpPr/>
            <p:nvPr/>
          </p:nvSpPr>
          <p:spPr>
            <a:xfrm>
              <a:off x="7020000" y="476280"/>
              <a:ext cx="1511280" cy="2663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07280" y="907560"/>
              <a:ext cx="8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时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38292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实是欲界之仙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自康乐以来，未复有能与其奇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4149720"/>
            <a:ext cx="52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故吾欲隐居山林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《记承天寺夜游 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197000"/>
            <a:ext cx="828036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0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0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子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东坡居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川眉山人。北宋著名政治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想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学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一生经历了北宋仁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哲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徽宗五朝。他初入仕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是北宋政治与社会危机开始暴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大夫改革呼声日益高涨的时候。由于苏轼的改革意见和建议遭到变法派的反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苏轼被迫外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通判杭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后又做过密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徐州湖州等地的知州。在他为官之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了解民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心百姓的生产和生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到之处都受到人民群众的拥戴和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理解课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24128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元丰六年十月十二日夜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衣欲睡，月色入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欣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高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起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考虑，想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）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乐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于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至承天寺寻张怀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981000"/>
            <a:ext cx="7848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民亦未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相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共同，一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步于中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庭下如积水空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水中藻、荇交横，盖竹柏影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夜无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处无竹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少闲人如吾两人者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4005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月光照在庭院中，如水一般清明澄澈，竹子和松柏的影子，就像水中交错的藻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333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重点句子的理解与图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628640"/>
            <a:ext cx="7848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庭下如积水空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水中藻、荇交横，盖竹柏影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932360" y="836640"/>
            <a:ext cx="42116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陶弘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朝齐梁时期道教思想家、医学家。字通明，自号华阳隐居。丹阳秣陵（今南京）人。仕齐拜左卫殿中将军。入梁，隐居句曲山（茅山）。武帝礼聘不出，但朝迁大事辄就咨询，时人称为“山中宰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03640" y="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山中宰相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55640" y="333360"/>
            <a:ext cx="3960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庭下如积水空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404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中藻、荇交横，盖竹柏影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ccccff"/>
                </a:solidFill>
                <a:latin typeface="Arial"/>
              </a:rPr>
              <a:t>想一想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篇短文都写自然景物，但表达的思想感情有所不同，试加以说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3417840" cy="429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076720" y="0"/>
            <a:ext cx="4067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沉浸能够在体味出山水之美，沉浸在和古代名人为知音而感到无限的愉快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i="1" lang="zh-CN" sz="5400" spc="-1" strike="noStrike">
                <a:solidFill>
                  <a:srgbClr val="ff3300"/>
                </a:solidFill>
                <a:latin typeface="Arial"/>
              </a:rPr>
              <a:t>不想为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292720" y="549360"/>
            <a:ext cx="352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赏月的欣喜、悠闲之中，包含着无限的感慨、无奈，甚至是悲凉。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政治上不得志，遭到贬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87280" y="404640"/>
            <a:ext cx="7956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解释下列句中红色的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晓雾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猿鸟乱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夕日欲颓，沉鳞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竞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与为乐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遂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承天寺寻张怀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少闲人如吾两人者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0"/>
            <a:ext cx="543708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晓雾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猿鸟乱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消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日欲颓，沉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竞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争相跳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与为乐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考虑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遂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承天寺寻张怀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于是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闲人如吾两人者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只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2852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新魏"/>
              </a:rPr>
              <a:t>山川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之美，古来共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3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03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16000" y="1052640"/>
              <a:ext cx="971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高峰入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740720" y="0"/>
            <a:ext cx="1403280" cy="6858000"/>
            <a:chOff x="7740720" y="0"/>
            <a:chExt cx="1403280" cy="68580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7740720" y="0"/>
              <a:ext cx="1403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956720" y="1052640"/>
              <a:ext cx="971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高峰入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7280" y="2492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清流见底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42920" y="260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岸石壁，五色交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2421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青林翠竹，四时俱备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5445000"/>
            <a:ext cx="53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晓雾将歇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猿鸟乱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87640" y="44370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夕日欲颓，沉鳞竞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1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2:17:26Z</dcterms:created>
  <dc:creator>user</dc:creator>
  <dc:description/>
  <dc:language>en-US</dc:language>
  <cp:lastModifiedBy>liangmingxuan</cp:lastModifiedBy>
  <dcterms:modified xsi:type="dcterms:W3CDTF">2006-06-13T11:49:02Z</dcterms:modified>
  <cp:revision>11</cp:revision>
  <dc:subject/>
  <dc:title>幻灯片 1</dc:title>
</cp:coreProperties>
</file>