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958-EE42-4DAB-B349-52F5BDC7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90E-ED0A-4FB0-8613-E8FE4ECE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2D5-6D6E-4E7B-9672-CED58391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2AF-E442-4AD5-AD1E-D66B5858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2FC-5B79-4AA8-B344-CFA83F14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E0B-142B-49BA-9FCE-F1A271EA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9E7-7666-457A-82D2-9314D0DA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47B-E6DC-4458-AB69-845A8979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11F-FE13-4B4C-A140-1E45DAF1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262-37BE-4289-8633-995EDEAF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C80-D887-43CB-9A5C-F9595438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0A6-3881-43C2-9B20-C6055B31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E91B-65DE-49D7-AA1D-9287017C4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 txBox="1"/>
          <p:nvPr/>
        </p:nvSpPr>
        <p:spPr>
          <a:xfrm rot="5400000">
            <a:off x="2361600" y="1904760"/>
            <a:ext cx="4648320" cy="2210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三峡 </a:t>
            </a:r>
            <a:endParaRPr b="0" i="1" lang="en-US" sz="24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5029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郦    道    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754440" y="1584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文中总写三峡的句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55960" y="2346480"/>
            <a:ext cx="383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自三峡七百里，两岸连山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略无阙处。重峦叠嶂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隐天蔽日，自非亭午夜分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不见曦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6240" y="97740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三峡江水四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7320" y="685800"/>
            <a:ext cx="533520" cy="55627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45080 h 5562720"/>
              <a:gd name="textAreaBottom" fmla="*/ 5417640 h 556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25600" y="746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夏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87520" y="30492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14720" y="29559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春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11560" y="2438280"/>
            <a:ext cx="75960" cy="1752840"/>
          </a:xfrm>
          <a:custGeom>
            <a:avLst/>
            <a:gdLst>
              <a:gd name="textAreaLeft" fmla="*/ 48600 w 75960"/>
              <a:gd name="textAreaRight" fmla="*/ 76320 w 759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11560" y="4724280"/>
            <a:ext cx="75960" cy="1752840"/>
          </a:xfrm>
          <a:custGeom>
            <a:avLst/>
            <a:gdLst>
              <a:gd name="textAreaLeft" fmla="*/ 48600 w 75960"/>
              <a:gd name="textAreaRight" fmla="*/ 76320 w 759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4840" y="5297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秋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25720" y="212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水势浩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5720" y="1335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流速湍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48000" y="2325600"/>
            <a:ext cx="22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俯视倒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98640" y="3392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俯视柏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98640" y="4459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萧瑟之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8640" y="5678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猿啸渔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40040" y="228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夏水襄陵，沿溯阻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40040" y="13874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朝发白帝，暮到江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01440" y="233028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素湍绿潭， 回清倒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10720" y="3473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献怪柏，悬泉飞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33840" y="4511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晴初霜旦，林寒涧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87760" y="5759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猿长啸，渔者悲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267080" y="457200"/>
            <a:ext cx="3733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会译！</a:t>
            </a:r>
            <a:endParaRPr b="0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8222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3560" y="1673280"/>
            <a:ext cx="434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非亭午夜分，不见曦月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虽成奔御风，不以疾也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57080" y="2270160"/>
            <a:ext cx="366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如果不是在正午或半夜 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连太阳和月亮都看不见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57360" y="4175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即使骑着飞奔的马、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着风也不如它快！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170880" y="1981080"/>
            <a:ext cx="27828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水经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江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      江水又东，迳广溪峡，斯乃三峡之首也。峡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有瞿塘、黄龛二滩。其峡盖自昔禹凿以通江，郭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纯所谓巴东之峡，夏后疏凿者也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　　江水又东，迳巫峡，杜宇所凿以通江水也。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水历峡东，迳新崩滩。其间首尾百六十里，谓之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峡，盖因山为名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2120" y="22860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阅读！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06400" y="2514600"/>
            <a:ext cx="24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岩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65440" y="25588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夏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2514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御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616280"/>
            <a:ext cx="23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绿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4616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绝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4616280"/>
            <a:ext cx="13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飞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4616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清荣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65240" y="78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42640" y="1523880"/>
            <a:ext cx="154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hà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8880" y="1812960"/>
            <a:ext cx="152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iā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98960" y="1736640"/>
            <a:ext cx="10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ē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09800" y="395928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uā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3440" y="399420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ǎ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52120" y="3946680"/>
            <a:ext cx="10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358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7720" y="387036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ù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380880"/>
            <a:ext cx="4800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读！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457200"/>
          <a:ext cx="311796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"/>
                    <a:ext cx="3117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352680" y="609480"/>
            <a:ext cx="5589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郦道元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6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72 —5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魏地理学家、散文家。字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，范阳涿鹿人 ，历任冀州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府长史、东荆州刺史等职，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执法威猛著称。好学博览，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水道等地理现象，撰《水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42400" y="0"/>
            <a:ext cx="5362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水经》是记述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国古代河流水道的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理书，记载河流水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条，共一万余字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较简单。郦道元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遍秦岭淮河以北、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城以南广大地区，进行实地考察，并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集大量文物、文献资料，为《水经》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注。《水经注》不仅是一部研究古代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貌的重要科学专著，而且具有较高的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价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24280" y="0"/>
          <a:ext cx="441972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0"/>
                    <a:ext cx="441972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44880" y="1812960"/>
            <a:ext cx="50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根据图片熟读课文，完成以下各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找出文中总写三峡地貌的句子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找出文中描写三峡不同季节的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水特点的句子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45086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508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426640" y="517680"/>
            <a:ext cx="2314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自三峡七百里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两岸连山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略无阙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重峦叠嶂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隐天蔽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自非亭午夜分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不见曦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441972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4197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809880"/>
          <a:ext cx="4419720" cy="30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809880"/>
                    <a:ext cx="44197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392800" y="746280"/>
            <a:ext cx="2619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至于夏水襄陵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沿溯阻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或王命急宣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时朝发白帝城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暮到江陵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其间千二百里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虽乘奔御风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以疾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4876920" cy="34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7692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876920" y="0"/>
          <a:ext cx="4267080" cy="373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0"/>
                    <a:ext cx="42670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0" y="3429000"/>
            <a:ext cx="4876920" cy="3683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4800600" y="3606840"/>
            <a:ext cx="4343400" cy="325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09640" y="-865800"/>
            <a:ext cx="2618280" cy="85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春冬之时。则素湍绿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回清倒影，绝     多生怪柏 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悬泉瀑布，飞漱其间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清荣峻茂，良多趣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31845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18280" y="0"/>
            <a:ext cx="3825720" cy="4267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30520" y="0"/>
            <a:ext cx="3084480" cy="4267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32040" cy="426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44680" y="4154400"/>
            <a:ext cx="421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每至晴初霜旦，林寒涧肃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常有高猿长啸，属引凄异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空谷传响 ，哀转久绝。故渔者歌曰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巴东三峡巫峡长，猿鸣三声泪沾裳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0:31:19Z</dcterms:created>
  <dc:creator>yyh</dc:creator>
  <dc:description/>
  <dc:language>en-US</dc:language>
  <cp:lastModifiedBy>y</cp:lastModifiedBy>
  <dcterms:modified xsi:type="dcterms:W3CDTF">2014-03-07T06:59:04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