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projctor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6.jpeg" ContentType="image/jpeg"/>
  <Override PartName="/ppt/media/chimes.wav" ContentType="audio/x-wav"/>
  <Override PartName="/ppt/media/image13.jpeg" ContentType="image/jpeg"/>
  <Override PartName="/ppt/media/image22.png" ContentType="image/png"/>
  <Override PartName="/ppt/media/image21.jpeg" ContentType="image/jpeg"/>
  <Override PartName="/ppt/media/camera.wav" ContentType="audio/x-wav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625-4CAE-484E-B87D-5CB30F58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843-C563-489D-9436-DD8AEAF5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598-5B21-4E4F-BDFD-E844FA83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7DC-D275-4D25-A61A-B1C4E5E8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496-0A12-452F-84CA-365D72C8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72F-B796-4DD4-A5C3-66808919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71A-225B-4FF5-AC52-70EAB6C3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910-5800-4478-B6CB-80EC3942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D53-C6F7-4A1C-9A41-412AE555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818-A483-4F38-8ED3-CDD7F725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278-BDE7-4005-867E-EEF6C2AE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4D5-72E2-4B46-BD23-6B79B375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00B8-DF0A-4F47-B3FC-FAA9C69430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17.xml"/><Relationship Id="rId7" Type="http://schemas.openxmlformats.org/officeDocument/2006/relationships/image" Target="../media/image2.png"/><Relationship Id="rId8" Type="http://schemas.openxmlformats.org/officeDocument/2006/relationships/slide" Target="slide8.xml"/><Relationship Id="rId9" Type="http://schemas.openxmlformats.org/officeDocument/2006/relationships/image" Target="../media/image2.pn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189000"/>
            <a:ext cx="5184720" cy="1512720"/>
          </a:xfrm>
          <a:prstGeom prst="horizontalScroll">
            <a:avLst>
              <a:gd name="adj" fmla="val 12500"/>
            </a:avLst>
          </a:prstGeom>
          <a:solidFill>
            <a:srgbClr val="bbe0e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5545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杜甫诗三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5640" y="2133720"/>
            <a:ext cx="909720" cy="417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979640" y="3068640"/>
            <a:ext cx="909720" cy="417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219640" y="4653000"/>
            <a:ext cx="909720" cy="41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51280" y="3789360"/>
            <a:ext cx="909720" cy="417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8712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隶书"/>
              </a:rPr>
              <a:t>杜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2040" y="30686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隶书"/>
              </a:rPr>
              <a:t>《望岳》、《春望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6880" y="378936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隶书"/>
              </a:rPr>
              <a:t>《石壕吏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11480" y="465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隶书"/>
              </a:rPr>
              <a:t>修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0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吏呼一何怒，妇啼一何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2835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写故事的展开。在差役怒呼、老妇苦啼声中，一个饱受战祸的家庭的种种不幸，一步步展示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听妇前致词：三男邺城戍。一男附书至，二男新战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705492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从老妇自叙家事可知一家三男全部被征，说明兵役之苛酷；三男已死二男，可见战争之惨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存者且偷生，死者长已矣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活着的人苟且偷生，死去的人就永远地去了。可见战争使百姓民不聊生。老妇希望以自家处境来博得差吏的同情，高抬贵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室中更无人，惟有乳下孙。有孙母未去，出入无完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差吏并不理会老妇人的哭诉，仍然逼老妇家出差役。老妇人只得回答，家里没有男人了（隐去老翁），只有吃奶的孙子和喂奶的母亲，寡媳衣不蔽体，贫困可知，也可见战争破坏之严重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老妪力虽衰，请从吏夜归，急应河阳役，犹得备晨炊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差吏仍是追问不放。老妇自请赴役，仍从掩护老翁出发。力虽衰而请赴役，并请即刻动身，故作恳切，凄苦之情溢于言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69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夜久语声绝，如闻泣幽咽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天明登前途，独与老翁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骚乱终于停息，在死寂一般的深夜，仍听到抽泣之声，也许是寡媳在哭泣，也许是更多的人在哭泣。诗人第二天天明上路时，只跟老翁告别。一夜之间，经此巨变，凄苦、悲愤，尽在不言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诗人的心，是与受苦受难的劳动大众息息相通的。诗人抨击石壕吏的凶暴气焰和冷酷无情，对安史之乱中人民遭受的苦难表示深切的同情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  <a:hlinkClick r:id="rId2"/>
          </p:cNvPr>
          <p:cNvSpPr/>
          <p:nvPr/>
        </p:nvSpPr>
        <p:spPr>
          <a:xfrm>
            <a:off x="769608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amera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380880"/>
            <a:ext cx="11430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修辞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76520"/>
            <a:ext cx="1162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对偶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666880"/>
            <a:ext cx="1162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拟人</a:t>
            </a:r>
            <a:endParaRPr b="1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733920"/>
            <a:ext cx="1162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夸张</a:t>
            </a:r>
            <a:endParaRPr b="1" lang="en-US" sz="4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057400" y="1676520"/>
            <a:ext cx="6810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荡胸生曾云，决眦入归鸟。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81080" y="259092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感时花溅泪，恨别鸟惊心。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057400" y="3733920"/>
            <a:ext cx="6810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白头搔更短，浑欲不胜簪。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4800600"/>
            <a:ext cx="1162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反复</a:t>
            </a:r>
            <a:endParaRPr b="1" lang="en-US" sz="4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057400" y="4800600"/>
            <a:ext cx="6810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吏呼一何怒，妇啼一何苦。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  <p:sndAc>
      <p:stSnd>
        <p:snd r:embed="rId10" name="camera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杜甫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590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杜甫（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712-770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），字</a:t>
            </a:r>
            <a:r>
              <a:rPr b="0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子美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。世称“诗圣”，其诗是“诗史”。因曾居长安城南的少陵以西，故</a:t>
            </a:r>
            <a:r>
              <a:rPr b="0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自称少陵野老，世称杜少陵。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官致参谋、检校工部员外郎，故又有</a:t>
            </a:r>
            <a:r>
              <a:rPr b="0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杜工部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之称。他是我国古代伟大的诗人。在文学史上，他把现实主义传统推向了一个新的更高更成熟的阶段，对后世文学创作产生了极为深远的影响。与李白齐名，世称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李杜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"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。有</a:t>
            </a:r>
            <a:r>
              <a:rPr b="0" lang="zh-CN" sz="3200" spc="-1" strike="noStrike">
                <a:solidFill>
                  <a:srgbClr val="008000"/>
                </a:solidFill>
                <a:latin typeface="隶书"/>
                <a:ea typeface="隶书"/>
              </a:rPr>
              <a:t>《杜工部集》</a:t>
            </a:r>
            <a:r>
              <a:rPr b="0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8316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firstslide"/>
            <a:hlinkClick r:id="rId2"/>
          </p:cNvPr>
          <p:cNvSpPr/>
          <p:nvPr/>
        </p:nvSpPr>
        <p:spPr>
          <a:xfrm>
            <a:off x="5638680" y="6095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533520"/>
            <a:ext cx="7619760" cy="63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岱宗夫如何？齐鲁青未了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造化钟神秀，阴阳割昏晓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荡胸生曾云，决眦入归鸟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会当凌绝顶，一览众山小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7600" y="304920"/>
            <a:ext cx="1752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望岳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143000" y="1676520"/>
            <a:ext cx="68580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国破山河在，城春草木深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感时花溅泪，恨别鸟惊心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烽火连三月，家书抵万金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白头搔更短，浑欲不胜簪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24480" y="53352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春望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比较阅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2057400"/>
            <a:ext cx="5810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关键：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1.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找出相同点不同点！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2.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分析不同点的成因。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09680" y="3886200"/>
            <a:ext cx="233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相同点——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19720" y="4495680"/>
            <a:ext cx="4495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者、五言律诗、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写景抒情、有“望”字</a:t>
            </a: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...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2438280" y="5257800"/>
            <a:ext cx="1600200" cy="822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10" name="camera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57200"/>
            <a:ext cx="2571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不同点——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1523880"/>
            <a:ext cx="2095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写作背景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3581280"/>
            <a:ext cx="2095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主题思想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5562720"/>
            <a:ext cx="2095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诗作风格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219320"/>
            <a:ext cx="380880" cy="1371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2767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502920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1066680"/>
            <a:ext cx="2095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14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开元盛世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b146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038480" y="2133720"/>
            <a:ext cx="2095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14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安史之乱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b146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038480" y="3048120"/>
            <a:ext cx="2095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2346b1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远大抱负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50000">
                    <a:srgbClr val="2346b1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38480" y="4038480"/>
            <a:ext cx="28958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00b1"/>
                    </a:gs>
                    <a:gs pos="100000">
                      <a:srgbClr val="00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忧国、伤时、思家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0000b1"/>
                  </a:gs>
                  <a:gs pos="100000">
                    <a:srgbClr val="00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2095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雄伟深远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62520" y="5867280"/>
            <a:ext cx="2095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b100b1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深沉含蓄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b100b1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96080" y="1447920"/>
            <a:ext cx="4352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因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2514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0120" y="4419720"/>
            <a:ext cx="5331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果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dissolve/>
    <p:sndAc>
      <p:stSnd>
        <p:snd r:embed="rId4" name="camera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48120" y="380880"/>
            <a:ext cx="2095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诗句赏识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295280"/>
            <a:ext cx="5867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楷体_GB2312"/>
              </a:rPr>
              <a:t>造化钟神秀，阴阳割昏晓。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44197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楷体_GB2312"/>
              </a:rPr>
              <a:t>感时花溅泪，恨别鸟惊心。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14400" y="5638680"/>
            <a:ext cx="2286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情物交融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29718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虚实结合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5" name="">
            <a:hlinkClick r:id="" action="ppaction://hlinkshowjump?jump=firstslide"/>
            <a:hlinkClick r:id="rId2"/>
          </p:cNvPr>
          <p:cNvSpPr/>
          <p:nvPr/>
        </p:nvSpPr>
        <p:spPr>
          <a:xfrm>
            <a:off x="655308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2950" y="3837"/>
                </a:moveTo>
                <a:lnTo>
                  <a:pt x="15526" y="6448"/>
                </a:lnTo>
                <a:lnTo>
                  <a:pt x="15526" y="4707"/>
                </a:lnTo>
                <a:lnTo>
                  <a:pt x="17302" y="4707"/>
                </a:lnTo>
                <a:lnTo>
                  <a:pt x="17302" y="8224"/>
                </a:lnTo>
                <a:lnTo>
                  <a:pt x="19913" y="10800"/>
                </a:lnTo>
                <a:lnTo>
                  <a:pt x="18259" y="10800"/>
                </a:lnTo>
                <a:lnTo>
                  <a:pt x="18259" y="17989"/>
                </a:lnTo>
                <a:lnTo>
                  <a:pt x="7641" y="17989"/>
                </a:lnTo>
                <a:lnTo>
                  <a:pt x="7641" y="10800"/>
                </a:lnTo>
                <a:lnTo>
                  <a:pt x="5987" y="10800"/>
                </a:lnTo>
                <a:close/>
              </a:path>
              <a:path fill="darkenLess" w="25900" h="21600">
                <a:moveTo>
                  <a:pt x="15526" y="6448"/>
                </a:moveTo>
                <a:lnTo>
                  <a:pt x="15526" y="4707"/>
                </a:lnTo>
                <a:lnTo>
                  <a:pt x="17302" y="4707"/>
                </a:lnTo>
                <a:lnTo>
                  <a:pt x="17302" y="8224"/>
                </a:lnTo>
                <a:close/>
              </a:path>
              <a:path fill="darkenLess" w="25900" h="21600">
                <a:moveTo>
                  <a:pt x="12027" y="14299"/>
                </a:moveTo>
                <a:lnTo>
                  <a:pt x="13872" y="14299"/>
                </a:lnTo>
                <a:lnTo>
                  <a:pt x="13872" y="17989"/>
                </a:lnTo>
                <a:lnTo>
                  <a:pt x="18259" y="17989"/>
                </a:lnTo>
                <a:lnTo>
                  <a:pt x="18259" y="10800"/>
                </a:lnTo>
                <a:lnTo>
                  <a:pt x="7641" y="10800"/>
                </a:lnTo>
                <a:lnTo>
                  <a:pt x="7641" y="17989"/>
                </a:lnTo>
                <a:lnTo>
                  <a:pt x="1202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amera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作品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《石壕吏》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选自《杜工部集》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758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年，为平息安史之乱，唐将郭子仪、李光粥等九位节度使，率兵二十万围攻安庆绪所占的邺郡。胜利在望。但在第二年春天，由于史思明派来援军，加上后军内部矛盾重重，形势发生了很大变化。在敌人两面夹击之下，唐军全线崩渍。郭子仪等退守河阳（现河南省孟县西），并四处抽丁补充兵力。杜甫这时刚好从洛阳回华州，途经新安、石壕、渲关等地，根据自己目睹的事实，写了一组诗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《三吏三别》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，《石壕吏》就是其中的一篇。</a:t>
            </a:r>
            <a:r>
              <a:rPr b="0" lang="zh-CN" sz="2800" spc="-1" strike="noStrike">
                <a:solidFill>
                  <a:srgbClr val="008000"/>
                </a:solidFill>
                <a:latin typeface="隶书"/>
                <a:ea typeface="隶书"/>
              </a:rPr>
              <a:t>这首诗，叙述差变乘夜捉人，连衰年老妇也被抓服役的故事，对安史之乱中人民遭受的苦难表示深切的同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527120" cy="95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15130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amera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暮投石壕村，有吏夜捉人。老翁逾墙走，老妇出门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80773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开头四句写故事发生。四句各写一人，各自身份、举动和彼此关系，交代分明。“有吏夜捉人”，预示将有一场灾难降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amera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8:57:34Z</dcterms:created>
  <dc:creator>xiaoping</dc:creator>
  <dc:description/>
  <dc:language>en-US</dc:language>
  <cp:lastModifiedBy>MC SYSTEM</cp:lastModifiedBy>
  <dcterms:modified xsi:type="dcterms:W3CDTF">2008-02-10T07:23:03Z</dcterms:modified>
  <cp:revision>20</cp:revision>
  <dc:subject/>
  <dc:title>杜甫诗三首</dc:title>
</cp:coreProperties>
</file>