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20.gif" ContentType="image/gif"/>
  <Override PartName="/ppt/media/image12.jpeg" ContentType="image/jpeg"/>
  <Override PartName="/ppt/media/image10.jpeg" ContentType="image/jpeg"/>
  <Override PartName="/ppt/media/image5.png" ContentType="image/png"/>
  <Override PartName="/ppt/media/whoosh.wav" ContentType="audio/x-wav"/>
  <Override PartName="/ppt/media/image9.jpeg" ContentType="image/jpeg"/>
  <Override PartName="/ppt/media/image11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23.gif" ContentType="image/gif"/>
  <Override PartName="/ppt/media/image17.jpeg" ContentType="image/jpeg"/>
  <Override PartName="/ppt/media/image4.jpeg" ContentType="image/jpeg"/>
  <Override PartName="/ppt/media/image8.gif" ContentType="image/gif"/>
  <Override PartName="/ppt/media/image18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9412-CB13-48E5-8139-6062CDC32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2705-7A03-44D0-9361-9D03E9031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63CC-B9BA-45AA-9E88-0A64F6987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0941-0D4E-4021-953E-DB8CF6FE3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B8FE-99F7-4A4A-A328-D28FD2A72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48A2-ED97-4822-A2AB-752D0A9EB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C988-FF9C-43F8-8BBB-CE5B42162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563A-8B53-4C68-BCCA-9537CD56B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559D-6FB0-4786-B7A6-B98A1D731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60F3-DB2E-4255-8C03-442DCDDCE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98BE-5448-4B59-94CD-A84185B79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D5C5-4F13-497D-A3A7-92DC7A2F6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4FF96-5278-40CE-AB04-3A0EADB7DDA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gif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hyperlink" Target="file:///C:/Documents%20and%20Settings/Administrator/Local%20Settings/Temporary%20Internet%20Files/Content.IE5/QP0T8D0F/&#22823;&#38470;&#28418;&#31227;.exe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kl4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WordArt 3"/>
          <p:cNvSpPr txBox="1"/>
          <p:nvPr/>
        </p:nvSpPr>
        <p:spPr>
          <a:xfrm>
            <a:off x="2666880" y="3048120"/>
            <a:ext cx="38102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华文新魏"/>
              </a:rPr>
              <a:t>恐龙无处不在</a:t>
            </a:r>
            <a:endParaRPr b="1" lang="en-US" sz="4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43" name="WordArt 4"/>
          <p:cNvSpPr txBox="1"/>
          <p:nvPr/>
        </p:nvSpPr>
        <p:spPr>
          <a:xfrm>
            <a:off x="1752480" y="990720"/>
            <a:ext cx="571500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阿西莫夫短文两篇</a:t>
            </a:r>
            <a:endParaRPr b="1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Times New Roman"/>
              </a:rPr>
              <a:t>研读探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0492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30a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30a0"/>
                </a:solidFill>
                <a:latin typeface="宋体"/>
              </a:rPr>
              <a:t>作者采用了什么说明顺序？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本文采用了逻辑顺序，重在说明事理，将抽象的科学认识，层层解剖，既严谨，又深入浅出、通俗易懂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30a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30a0"/>
                </a:solidFill>
                <a:latin typeface="宋体"/>
              </a:rPr>
              <a:t>文章运用了哪些说明方法？（找出文中语句）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4" descr="bird098"/>
          <p:cNvPicPr/>
          <p:nvPr/>
        </p:nvPicPr>
        <p:blipFill>
          <a:blip r:embed="rId2"/>
          <a:stretch/>
        </p:blipFill>
        <p:spPr>
          <a:xfrm>
            <a:off x="4219560" y="5334120"/>
            <a:ext cx="96192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Times New Roman"/>
              </a:rPr>
              <a:t>研读探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-360" y="121896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这篇文章标题是《恐龙无处不在》，那么它的说明对象是否就是恐龙呢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南极恐龙化石的发现，为支持地壳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板块理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提供了一个强有力的佐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宋体"/>
                <a:ea typeface="Times New Roman"/>
              </a:rPr>
              <a:t>课文说明对象涉及哪两个学科，从中我们明白一个什么道理。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物学（恐龙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地质学（板块理论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确如文章开头所说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不同科学领域之间是紧密相连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一个科学领域里的发现肯定会对其他领域产生影响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fe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95480" y="228600"/>
            <a:ext cx="38102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Times New Roman"/>
              </a:rPr>
              <a:t>研读探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228240" y="24382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d2fef1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d2fef1"/>
                </a:solidFill>
                <a:latin typeface="宋体"/>
              </a:rPr>
              <a:t>阿西莫夫驾驭语言和概念的能力强著称。你能找出语言表达平实而又生动的句子吗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d2fef1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4"/>
          <p:cNvSpPr/>
          <p:nvPr/>
        </p:nvSpPr>
        <p:spPr>
          <a:xfrm>
            <a:off x="228600" y="1523880"/>
            <a:ext cx="89154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阿西莫夫驾驭语言和概念的能力强著称。你能找出语言表达平实而又生动的句子吗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作者在行文中放在括号里的补充说明文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课文中多处使用了设问句。这样既将中心内容一步步推出，又使读者感到非常亲切，如面对面的交流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采用打比方的方法，使语言既生动形象又明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3276720" y="764640"/>
            <a:ext cx="5472000" cy="632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阿西莫夫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920 —199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　出生在苏联彼得罗维奇小镇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岁时随父母移居美国纽约。自小喜欢读科幻小说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岁那年，就发表了第一篇科幻小说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《偷乘飞船的人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94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的《理智》第一次提出了著名“机器人三原则”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94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开始创作《基地三部曲》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96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获雨果奖）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97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科幻小说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《神仙们自由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获当年雨果奖和星云奖。他发表的科幻小说和科普作品已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部，是公认的当今美国科幻小说家泰斗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WordArt 4"/>
          <p:cNvSpPr txBox="1"/>
          <p:nvPr/>
        </p:nvSpPr>
        <p:spPr>
          <a:xfrm>
            <a:off x="228600" y="533520"/>
            <a:ext cx="29718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华文行楷"/>
              </a:rPr>
              <a:t>作者介绍</a:t>
            </a:r>
            <a:endParaRPr b="1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46" name="Picture 5" descr="阿西"/>
          <p:cNvPicPr/>
          <p:nvPr/>
        </p:nvPicPr>
        <p:blipFill>
          <a:blip r:embed="rId4"/>
          <a:stretch/>
        </p:blipFill>
        <p:spPr>
          <a:xfrm>
            <a:off x="685800" y="1828800"/>
            <a:ext cx="260352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0" y="228600"/>
            <a:ext cx="91440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骨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骼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é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）        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移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iāo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）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地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壳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iào)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深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渊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uā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）   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驮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着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uó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）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岛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屿链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ǔ liàn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两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栖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ī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）       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铱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ī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）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潮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汐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ī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硅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uī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）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追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ù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）        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褶皱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hě zhòu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劫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难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jié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）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鸟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目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ú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）        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蟾蜍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hán chú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衍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射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ă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）    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携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带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ié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3" descr="可爱女孩的副本"/>
          <p:cNvPicPr/>
          <p:nvPr/>
        </p:nvPicPr>
        <p:blipFill>
          <a:blip r:embed="rId2"/>
          <a:stretch/>
        </p:blipFill>
        <p:spPr>
          <a:xfrm>
            <a:off x="6629400" y="5486400"/>
            <a:ext cx="16002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04920" y="228240"/>
            <a:ext cx="853416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宋体"/>
              </a:rPr>
              <a:t>字词解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遗骸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：遗留下来的骨骸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褶皱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：由于地壳运动，岩层受到挤压而 形成弯曲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劫难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：灾难。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4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致密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：细致精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5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追溯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：逆流而上，向河江发源处走。比喻探索事物的由来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6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天衣无缝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：神话传说，仙女穿的天衣，不用针线制作，没有缝儿，比喻事物没有一定破绽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fb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WordArt 2"/>
          <p:cNvSpPr txBox="1"/>
          <p:nvPr/>
        </p:nvSpPr>
        <p:spPr>
          <a:xfrm rot="5400000">
            <a:off x="2323440" y="2552760"/>
            <a:ext cx="3886200" cy="10666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侏罗记公园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51" name="Picture 3" descr="kl12"/>
          <p:cNvPicPr/>
          <p:nvPr/>
        </p:nvPicPr>
        <p:blipFill>
          <a:blip r:embed="rId1"/>
          <a:stretch/>
        </p:blipFill>
        <p:spPr>
          <a:xfrm>
            <a:off x="380880" y="304920"/>
            <a:ext cx="2971800" cy="30477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kl36"/>
          <p:cNvPicPr/>
          <p:nvPr/>
        </p:nvPicPr>
        <p:blipFill>
          <a:blip r:embed="rId2"/>
          <a:stretch/>
        </p:blipFill>
        <p:spPr>
          <a:xfrm>
            <a:off x="5486400" y="304920"/>
            <a:ext cx="3352680" cy="30542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kl58"/>
          <p:cNvPicPr/>
          <p:nvPr/>
        </p:nvPicPr>
        <p:blipFill>
          <a:blip r:embed="rId3"/>
          <a:stretch/>
        </p:blipFill>
        <p:spPr>
          <a:xfrm>
            <a:off x="5486400" y="3352680"/>
            <a:ext cx="3276720" cy="32767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kl43"/>
          <p:cNvPicPr/>
          <p:nvPr/>
        </p:nvPicPr>
        <p:blipFill>
          <a:blip r:embed="rId4"/>
          <a:stretch/>
        </p:blipFill>
        <p:spPr>
          <a:xfrm>
            <a:off x="380880" y="3352680"/>
            <a:ext cx="297180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e8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WordArt 2"/>
          <p:cNvSpPr txBox="1"/>
          <p:nvPr/>
        </p:nvSpPr>
        <p:spPr>
          <a:xfrm rot="5400000">
            <a:off x="2246040" y="2554200"/>
            <a:ext cx="4118040" cy="1295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新魏"/>
              </a:rPr>
              <a:t>侏罗记公园续集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56" name="Picture 3" descr="kl5"/>
          <p:cNvPicPr/>
          <p:nvPr/>
        </p:nvPicPr>
        <p:blipFill>
          <a:blip r:embed="rId1"/>
          <a:stretch/>
        </p:blipFill>
        <p:spPr>
          <a:xfrm>
            <a:off x="5486400" y="228600"/>
            <a:ext cx="3276720" cy="31240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kl27"/>
          <p:cNvPicPr/>
          <p:nvPr/>
        </p:nvPicPr>
        <p:blipFill>
          <a:blip r:embed="rId2"/>
          <a:stretch/>
        </p:blipFill>
        <p:spPr>
          <a:xfrm>
            <a:off x="228600" y="304920"/>
            <a:ext cx="3124080" cy="32004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kl3"/>
          <p:cNvPicPr/>
          <p:nvPr/>
        </p:nvPicPr>
        <p:blipFill>
          <a:blip r:embed="rId3"/>
          <a:stretch/>
        </p:blipFill>
        <p:spPr>
          <a:xfrm>
            <a:off x="5334120" y="3429000"/>
            <a:ext cx="3504960" cy="32004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嗜鸟龙"/>
          <p:cNvPicPr/>
          <p:nvPr/>
        </p:nvPicPr>
        <p:blipFill>
          <a:blip r:embed="rId4"/>
          <a:stretch/>
        </p:blipFill>
        <p:spPr>
          <a:xfrm>
            <a:off x="228600" y="3581280"/>
            <a:ext cx="3124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6"/>
          <p:cNvSpPr/>
          <p:nvPr/>
        </p:nvSpPr>
        <p:spPr>
          <a:xfrm>
            <a:off x="3566880" y="1295280"/>
            <a:ext cx="237528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 u="sng">
                <a:solidFill>
                  <a:srgbClr val="ccccff"/>
                </a:solidFill>
                <a:uFillTx/>
                <a:latin typeface="Times New Roman"/>
                <a:ea typeface="方正姚体"/>
                <a:hlinkClick r:id="rId2"/>
              </a:rPr>
              <a:t>大陆板块理论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380520" y="1142640"/>
            <a:ext cx="85345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请带着以下两个问题仔细阅读文章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对于在南极发现了恐龙化石，作者作出了怎样推论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作者是怎样得出这个结论的？请找出作者思考问题的轨迹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WordArt 3"/>
          <p:cNvSpPr txBox="1"/>
          <p:nvPr/>
        </p:nvSpPr>
        <p:spPr>
          <a:xfrm>
            <a:off x="2971800" y="228600"/>
            <a:ext cx="30481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自读研究</a:t>
            </a:r>
            <a:endParaRPr b="1" lang="en-US" sz="4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63" name="Picture 5" descr="anim031"/>
          <p:cNvPicPr/>
          <p:nvPr/>
        </p:nvPicPr>
        <p:blipFill>
          <a:blip r:embed="rId2"/>
          <a:stretch/>
        </p:blipFill>
        <p:spPr>
          <a:xfrm>
            <a:off x="3886200" y="4998960"/>
            <a:ext cx="167652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304920" y="228600"/>
            <a:ext cx="861048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六节“是大陆在漂移而不是恐龙自己在迁 移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作者首先发现问题：南极发现恐龙化石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恐龙并不适应南极的气候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它们是如何超过大洋到另一个大陆去的呢？然后进行假设推理：是大陆在漂移而不是恐龙自己在迁移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提出大陆板块构造理论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推断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泛大陆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形成时，所有陆地都处在热带和温带环境中，适合恐龙生活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进一步推断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泛大陆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后来又分裂成四部分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于是每一块大陆都携带着自己的恐龙而去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puser</cp:lastModifiedBy>
  <dcterms:modified xsi:type="dcterms:W3CDTF">2013-11-06T01:41:33Z</dcterms:modified>
  <cp:revision>14</cp:revision>
  <dc:subject/>
  <dc:title>PowerPoint Presentation</dc:title>
</cp:coreProperties>
</file>