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5.jpeg" ContentType="image/jpeg"/>
  <Override PartName="/ppt/media/image29.png" ContentType="image/png"/>
  <Override PartName="/ppt/media/image34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chimes.wav" ContentType="audio/x-wav"/>
  <Override PartName="/ppt/media/image17.jpeg" ContentType="image/jpeg"/>
  <Override PartName="/ppt/media/image49.jpeg" ContentType="image/jpeg"/>
  <Override PartName="/ppt/media/image23.gif" ContentType="image/gif"/>
  <Override PartName="/ppt/media/image26.png" ContentType="image/png"/>
  <Override PartName="/ppt/media/image50.jpeg" ContentType="image/jpeg"/>
  <Override PartName="/ppt/media/image52.png" ContentType="image/png"/>
  <Override PartName="/ppt/media/image3.png" ContentType="image/png"/>
  <Override PartName="/ppt/media/image15.png" ContentType="image/png"/>
  <Override PartName="/ppt/media/image22.gif" ContentType="image/gif"/>
  <Override PartName="/ppt/media/image24.png" ContentType="image/png"/>
  <Override PartName="/ppt/media/image21.gif" ContentType="image/gif"/>
  <Override PartName="/ppt/media/image27.jpeg" ContentType="image/jpeg"/>
  <Override PartName="/ppt/media/image10.jpeg" ContentType="image/jpeg"/>
  <Override PartName="/ppt/media/image19.png" ContentType="image/png"/>
  <Override PartName="/ppt/media/image20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3.jpeg" ContentType="image/jpeg"/>
  <Override PartName="/ppt/media/image51.gif" ContentType="image/gif"/>
  <Override PartName="/ppt/media/image1.jpeg" ContentType="image/jpeg"/>
  <Override PartName="/ppt/media/image35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45.gif" ContentType="image/gif"/>
  <Override PartName="/ppt/media/image9.png" ContentType="image/png"/>
  <Override PartName="/ppt/media/image39.jpeg" ContentType="image/jpeg"/>
  <Override PartName="/ppt/media/image5.png" ContentType="image/png"/>
  <Override PartName="/ppt/media/image43.jpeg" ContentType="image/jpeg"/>
  <Override PartName="/ppt/media/image12.png" ContentType="image/png"/>
  <Override PartName="/ppt/media/image30.jpeg" ContentType="image/jpeg"/>
  <Override PartName="/ppt/media/image31.jpeg" ContentType="image/jpeg"/>
  <Override PartName="/ppt/media/image33.jpeg" ContentType="image/jpeg"/>
  <Override PartName="/ppt/media/image36.jpeg" ContentType="image/jpeg"/>
  <Override PartName="/ppt/media/hammer.wav" ContentType="audio/x-wav"/>
  <Override PartName="/ppt/media/image16.jpeg" ContentType="image/jpeg"/>
  <Override PartName="/ppt/media/image37.jpeg" ContentType="image/jpeg"/>
  <Override PartName="/ppt/media/image44.jpeg" ContentType="image/jpeg"/>
  <Override PartName="/ppt/media/image46.png" ContentType="image/png"/>
  <Override PartName="/ppt/media/camera.wav" ContentType="audio/x-wav"/>
  <Override PartName="/ppt/media/image6.png" ContentType="image/png"/>
  <Override PartName="/ppt/media/image18.png" ContentType="image/png"/>
  <Override PartName="/ppt/media/image42.jpeg" ContentType="image/jpeg"/>
  <Override PartName="/ppt/media/image40.jpeg" ContentType="image/jpeg"/>
  <Override PartName="/ppt/media/image53.gif" ContentType="image/gif"/>
  <Override PartName="/ppt/media/image56.png" ContentType="image/png"/>
  <Override PartName="/ppt/media/image47.gif" ContentType="image/gif"/>
  <Override PartName="/ppt/media/image48.gif" ContentType="image/gif"/>
  <Override PartName="/ppt/media/projctor.wav" ContentType="audio/x-wav"/>
  <Override PartName="/ppt/media/image5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0F6-31B9-4D39-BB78-B001C583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72D-9DED-4BB7-8A3B-74AF695B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004-3E5A-4407-933C-C42DAA1A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704-069B-466F-8803-71319F15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C198-315E-4C21-843B-8E55B52B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805C-47B2-4A3C-A5D6-6259B03C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4358-A801-4250-A59D-4E2B3545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E003-743B-4CF2-9002-7BB6C9BC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565C-FC32-45D4-90BF-6B86E4C4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79C5-12AC-483D-A24B-8076709A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E660-420F-4A78-8DBC-C4053093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CFE-1A98-4493-908F-51DEA514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8A0C-9CF5-4CF3-B5A5-179EA688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A93E-15B6-4E5C-B815-8787E183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3A51-9591-43C3-88B6-1944DCC8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FB38-4359-4634-B803-7AE9CB76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9576-5B8D-4F46-ACE3-34748EAD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A4C-7AED-4F0E-B9A6-6EDE0EFE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C83-EFCF-4D78-9F66-AB6A0A6D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C9A-A49E-4951-81D5-A5179015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2FD-E4DF-4BB1-97FE-63CB273F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430-64BB-4946-A4B5-2C9FCDDC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9F0D-3DA3-477F-9333-D22D9E78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048-F7EF-4608-A337-D8A0CE1B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未知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未知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未知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E03A-9E87-4550-922C-64B5714AE1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未知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未知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127D-A1D1-4B38-A9F8-EC3D82134AB8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gif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371600" y="19051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大自然的语言</a:t>
            </a:r>
            <a:endParaRPr b="1" lang="en-US" sz="7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248520" y="3352680"/>
            <a:ext cx="1904760" cy="7642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竺可桢</a:t>
            </a:r>
            <a:endParaRPr b="1" lang="en-US" sz="4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9" name="Picture 6" descr="20050911220613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WordArt 7"/>
          <p:cNvSpPr txBox="1"/>
          <p:nvPr/>
        </p:nvSpPr>
        <p:spPr>
          <a:xfrm>
            <a:off x="6324480" y="4724280"/>
            <a:ext cx="2210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秋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1" name="WordArt 8"/>
          <p:cNvSpPr txBox="1"/>
          <p:nvPr/>
        </p:nvSpPr>
        <p:spPr>
          <a:xfrm>
            <a:off x="838080" y="3124080"/>
            <a:ext cx="4648320" cy="226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叶子变黄，簌簌落下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99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scene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WordArt 3"/>
          <p:cNvSpPr txBox="1"/>
          <p:nvPr/>
        </p:nvSpPr>
        <p:spPr>
          <a:xfrm>
            <a:off x="5791320" y="5334120"/>
            <a:ext cx="3352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衰草连天</a:t>
            </a:r>
            <a:endParaRPr b="1" lang="en-US" sz="3200" spc="1" strike="noStrike">
              <a:ln w="1908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006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205" name="WordArt 3"/>
          <p:cNvSpPr txBox="1"/>
          <p:nvPr/>
        </p:nvSpPr>
        <p:spPr>
          <a:xfrm>
            <a:off x="990720" y="5029200"/>
            <a:ext cx="12189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冬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pic>
        <p:nvPicPr>
          <p:cNvPr id="206" name="WordArt 4" descr=""/>
          <p:cNvPicPr/>
          <p:nvPr/>
        </p:nvPicPr>
        <p:blipFill>
          <a:blip r:embed="rId2"/>
          <a:stretch/>
        </p:blipFill>
        <p:spPr>
          <a:xfrm>
            <a:off x="6924600" y="5797440"/>
            <a:ext cx="2322720" cy="1146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Br021"/>
          <p:cNvPicPr/>
          <p:nvPr/>
        </p:nvPicPr>
        <p:blipFill>
          <a:blip r:embed="rId3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208" name="WordArt 6" descr=""/>
          <p:cNvPicPr/>
          <p:nvPr/>
        </p:nvPicPr>
        <p:blipFill>
          <a:blip r:embed="rId4"/>
          <a:stretch/>
        </p:blipFill>
        <p:spPr>
          <a:xfrm>
            <a:off x="7004160" y="2378160"/>
            <a:ext cx="224316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990720" y="1038240"/>
            <a:ext cx="792468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描写一年四季的词语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在文中划出来）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88b33"/>
                </a:solidFill>
                <a:latin typeface="Times New Roman"/>
                <a:ea typeface="华文隶书"/>
              </a:rPr>
              <a:t>春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4457"/>
                </a:solidFill>
                <a:latin typeface="Times New Roman"/>
                <a:ea typeface="华文隶书"/>
              </a:rPr>
              <a:t>夏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隶书"/>
              </a:rPr>
              <a:t>秋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隶书"/>
              </a:rPr>
              <a:t>冬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2286000" y="1981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苏醒      冰雪融化     草木萌发     各种花次第开放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286000" y="2971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88b33"/>
                </a:solidFill>
                <a:latin typeface="Times New Roman"/>
              </a:rPr>
              <a:t>炎热       孕育果实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209680" y="38862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b6e63"/>
                </a:solidFill>
                <a:latin typeface="Times New Roman"/>
              </a:rPr>
              <a:t>果实成熟      叶子渐渐变黄     簌簌的落下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286000" y="4876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销声匿迹      衰草连天     风雪载途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2590920" y="5715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生动形象，如一幅四季风光画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val 2"/>
          <p:cNvSpPr/>
          <p:nvPr/>
        </p:nvSpPr>
        <p:spPr>
          <a:xfrm>
            <a:off x="304920" y="1066680"/>
            <a:ext cx="685800" cy="5335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143000" y="838080"/>
            <a:ext cx="6188040" cy="1068840"/>
          </a:xfrm>
          <a:prstGeom prst="rect">
            <a:avLst/>
          </a:prstGeom>
          <a:solidFill>
            <a:srgbClr val="88f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朗读、分析第</a:t>
            </a: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自然段，归纳段意，分析说明方法。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04920" y="2286000"/>
            <a:ext cx="3200400" cy="155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）说明什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　　　么是大自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　　　然的语言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3505320" y="198108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c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657600" y="19810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杏花－传语－耕地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3733920" y="2819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桃花－暗示－种谷子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962520" y="3581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布谷鸟－唱歌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7543800" y="2057400"/>
            <a:ext cx="228600" cy="2209680"/>
          </a:xfrm>
          <a:custGeom>
            <a:avLst/>
            <a:gdLst>
              <a:gd name="textAreaLeft" fmla="*/ 0 w 228600"/>
              <a:gd name="textAreaRight" fmla="*/ 8244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9933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7848720" y="2133720"/>
            <a:ext cx="1000080" cy="2043720"/>
          </a:xfrm>
          <a:prstGeom prst="rect">
            <a:avLst/>
          </a:prstGeom>
          <a:solidFill>
            <a:srgbClr val="e88e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草木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荣枯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候鸟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去来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4" name="AutoShape 11"/>
          <p:cNvSpPr/>
          <p:nvPr/>
        </p:nvSpPr>
        <p:spPr>
          <a:xfrm>
            <a:off x="3276720" y="4267080"/>
            <a:ext cx="4724280" cy="2057400"/>
          </a:xfrm>
          <a:prstGeom prst="horizontalScroll">
            <a:avLst>
              <a:gd name="adj" fmla="val 125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举例子、引用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2358000" y="7621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说明什么叫物候和物候学？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685800" y="990360"/>
            <a:ext cx="762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1" lang="en-US" sz="36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草木荣枯、候鸟去来等自然现象，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古代劳动人民称之为物候；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利用物候来研究农业生产的科学，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叫物候学。 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095880" y="730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~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28" name="Picture 5" descr="01-8"/>
          <p:cNvPicPr/>
          <p:nvPr/>
        </p:nvPicPr>
        <p:blipFill>
          <a:blip r:embed="rId1"/>
          <a:stretch/>
        </p:blipFill>
        <p:spPr>
          <a:xfrm>
            <a:off x="228600" y="3886200"/>
            <a:ext cx="3608280" cy="2743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07-02-5"/>
          <p:cNvPicPr/>
          <p:nvPr/>
        </p:nvPicPr>
        <p:blipFill>
          <a:blip r:embed="rId2"/>
          <a:stretch/>
        </p:blipFill>
        <p:spPr>
          <a:xfrm>
            <a:off x="4191120" y="3343320"/>
            <a:ext cx="4762440" cy="32860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1371600" y="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朗读第</a:t>
            </a: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段，归纳段意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533520" y="0"/>
            <a:ext cx="533160" cy="5335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7467480" y="1981080"/>
            <a:ext cx="1447920" cy="9144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下定义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77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770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295280" y="1371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说明物候观测对农业生产的重要意义。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76320" y="3001320"/>
            <a:ext cx="3809880" cy="2653560"/>
          </a:xfrm>
          <a:prstGeom prst="rect">
            <a:avLst/>
          </a:prstGeom>
          <a:solidFill>
            <a:srgbClr val="e88e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物候反映气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候条件对生物的影响，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比较简便，容易掌握，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可以广泛应用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在农业生产上。</a:t>
            </a:r>
            <a:r>
              <a:rPr b="1" lang="zh-CN" sz="3600" spc="-1" strike="noStrike">
                <a:solidFill>
                  <a:srgbClr val="1b1b2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228600" y="533520"/>
            <a:ext cx="609480" cy="5331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762120" y="5335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朗读第</a:t>
            </a: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段，归纳段意、分析说明方法。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886200" y="2286000"/>
            <a:ext cx="304920" cy="3886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99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4267080" y="2895480"/>
            <a:ext cx="1295640" cy="23623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北京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 flipV="1">
            <a:off x="5105520" y="2971800"/>
            <a:ext cx="761760" cy="5335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5257800" y="3962520"/>
            <a:ext cx="7621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5181480" y="4495680"/>
            <a:ext cx="533520" cy="6858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6054840" y="2743200"/>
            <a:ext cx="14238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1962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年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5978520" y="3657600"/>
            <a:ext cx="14238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1961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年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5826240" y="4648320"/>
            <a:ext cx="142380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1960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年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5" name="AutoShape 14"/>
          <p:cNvSpPr/>
          <p:nvPr/>
        </p:nvSpPr>
        <p:spPr>
          <a:xfrm>
            <a:off x="7391520" y="228600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99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7543800" y="2743200"/>
            <a:ext cx="1600200" cy="253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举例子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列数字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作比较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0" y="0"/>
            <a:ext cx="92203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朗读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段，归纳段意，分析说明方法、说明顺序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28600" y="1752480"/>
            <a:ext cx="1076400" cy="3506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说明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决定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物候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现象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来临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的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因素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1295280" y="1295280"/>
            <a:ext cx="381240" cy="4876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127080 h 4876920"/>
              <a:gd name="textAreaBottom" fmla="*/ 4749840 h 487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c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2076480" y="1219320"/>
            <a:ext cx="912240" cy="1068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纬度的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差异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3200400" y="114300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99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3807360" y="9828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南京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北京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4876920" y="990720"/>
            <a:ext cx="1904760" cy="6094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桃花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4952880" y="1676520"/>
            <a:ext cx="190512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刺槐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965240" y="2735280"/>
            <a:ext cx="1082880" cy="1068840"/>
          </a:xfrm>
          <a:prstGeom prst="rect">
            <a:avLst/>
          </a:prstGeom>
          <a:solidFill>
            <a:srgbClr val="d9f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经度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差异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>
            <a:off x="3048120" y="26668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66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3512880" y="2743200"/>
            <a:ext cx="424440" cy="10688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东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西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8" name="Oval 13"/>
          <p:cNvSpPr/>
          <p:nvPr/>
        </p:nvSpPr>
        <p:spPr>
          <a:xfrm>
            <a:off x="4114800" y="3429000"/>
            <a:ext cx="1143000" cy="4572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北京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4267080" y="2666880"/>
            <a:ext cx="121932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大连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0" name="Oval 15"/>
          <p:cNvSpPr/>
          <p:nvPr/>
        </p:nvSpPr>
        <p:spPr>
          <a:xfrm>
            <a:off x="5638680" y="3352680"/>
            <a:ext cx="1371600" cy="4572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济南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1" name="Oval 16"/>
          <p:cNvSpPr/>
          <p:nvPr/>
        </p:nvSpPr>
        <p:spPr>
          <a:xfrm>
            <a:off x="5334120" y="2666880"/>
            <a:ext cx="121896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烟台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1965240" y="4183200"/>
            <a:ext cx="1082880" cy="1068840"/>
          </a:xfrm>
          <a:prstGeom prst="rect">
            <a:avLst/>
          </a:prstGeom>
          <a:solidFill>
            <a:srgbClr val="93f2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高下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差异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3" name="AutoShape 18"/>
          <p:cNvSpPr/>
          <p:nvPr/>
        </p:nvSpPr>
        <p:spPr>
          <a:xfrm>
            <a:off x="2971800" y="4191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9f78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4" name="Oval 19"/>
          <p:cNvSpPr/>
          <p:nvPr/>
        </p:nvSpPr>
        <p:spPr>
          <a:xfrm>
            <a:off x="3276720" y="4191120"/>
            <a:ext cx="1371600" cy="4572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高处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5" name="Oval 20"/>
          <p:cNvSpPr/>
          <p:nvPr/>
        </p:nvSpPr>
        <p:spPr>
          <a:xfrm>
            <a:off x="3352680" y="4876920"/>
            <a:ext cx="1219320" cy="457200"/>
          </a:xfrm>
          <a:prstGeom prst="ellipse">
            <a:avLst/>
          </a:prstGeom>
          <a:solidFill>
            <a:srgbClr val="cdf78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低处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6" name="Oval 21"/>
          <p:cNvSpPr/>
          <p:nvPr/>
        </p:nvSpPr>
        <p:spPr>
          <a:xfrm>
            <a:off x="5105520" y="4267080"/>
            <a:ext cx="1371600" cy="533520"/>
          </a:xfrm>
          <a:prstGeom prst="ellipse">
            <a:avLst/>
          </a:prstGeom>
          <a:solidFill>
            <a:srgbClr val="b0f98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开花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7" name="Oval 22"/>
          <p:cNvSpPr/>
          <p:nvPr/>
        </p:nvSpPr>
        <p:spPr>
          <a:xfrm>
            <a:off x="5105520" y="4876920"/>
            <a:ext cx="1371600" cy="533160"/>
          </a:xfrm>
          <a:prstGeom prst="ellipse">
            <a:avLst/>
          </a:prstGeom>
          <a:solidFill>
            <a:srgbClr val="fef88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落叶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8" name="Line 23"/>
          <p:cNvSpPr/>
          <p:nvPr/>
        </p:nvSpPr>
        <p:spPr>
          <a:xfrm>
            <a:off x="4191120" y="4495680"/>
            <a:ext cx="8380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9" name="Line 24"/>
          <p:cNvSpPr/>
          <p:nvPr/>
        </p:nvSpPr>
        <p:spPr>
          <a:xfrm>
            <a:off x="4191120" y="4572000"/>
            <a:ext cx="685800" cy="5335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0" name="Line 25"/>
          <p:cNvSpPr/>
          <p:nvPr/>
        </p:nvSpPr>
        <p:spPr>
          <a:xfrm>
            <a:off x="4572000" y="5105520"/>
            <a:ext cx="609480" cy="759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1" name="Line 26"/>
          <p:cNvSpPr/>
          <p:nvPr/>
        </p:nvSpPr>
        <p:spPr>
          <a:xfrm flipV="1">
            <a:off x="4114800" y="4572000"/>
            <a:ext cx="1143000" cy="3808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2" name="Text Box 27"/>
          <p:cNvSpPr/>
          <p:nvPr/>
        </p:nvSpPr>
        <p:spPr>
          <a:xfrm>
            <a:off x="1828800" y="5410080"/>
            <a:ext cx="1076400" cy="1068840"/>
          </a:xfrm>
          <a:prstGeom prst="rect">
            <a:avLst/>
          </a:prstGeom>
          <a:solidFill>
            <a:srgbClr val="fef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古今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差异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3" name="Oval 28"/>
          <p:cNvSpPr/>
          <p:nvPr/>
        </p:nvSpPr>
        <p:spPr>
          <a:xfrm>
            <a:off x="3352680" y="5715000"/>
            <a:ext cx="1295640" cy="533520"/>
          </a:xfrm>
          <a:prstGeom prst="ellipse">
            <a:avLst/>
          </a:prstGeom>
          <a:solidFill>
            <a:srgbClr val="87f9bd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英国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4" name="Line 29"/>
          <p:cNvSpPr/>
          <p:nvPr/>
        </p:nvSpPr>
        <p:spPr>
          <a:xfrm flipV="1">
            <a:off x="4267080" y="5714640"/>
            <a:ext cx="685800" cy="15228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5" name="Line 30"/>
          <p:cNvSpPr/>
          <p:nvPr/>
        </p:nvSpPr>
        <p:spPr>
          <a:xfrm>
            <a:off x="4267080" y="6095880"/>
            <a:ext cx="609840" cy="15264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4861080" y="5425920"/>
            <a:ext cx="26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1741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1750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7" name="Text Box 32"/>
          <p:cNvSpPr/>
          <p:nvPr/>
        </p:nvSpPr>
        <p:spPr>
          <a:xfrm>
            <a:off x="4784760" y="5883120"/>
            <a:ext cx="26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1921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1930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8" name="AutoShape 33"/>
          <p:cNvSpPr/>
          <p:nvPr/>
        </p:nvSpPr>
        <p:spPr>
          <a:xfrm>
            <a:off x="7391520" y="1295280"/>
            <a:ext cx="228600" cy="5181840"/>
          </a:xfrm>
          <a:custGeom>
            <a:avLst/>
            <a:gdLst>
              <a:gd name="textAreaLeft" fmla="*/ 0 w 228600"/>
              <a:gd name="textAreaRight" fmla="*/ 82440 w 22860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84fc84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7543800" y="1523880"/>
            <a:ext cx="1447920" cy="1556280"/>
          </a:xfrm>
          <a:prstGeom prst="rect">
            <a:avLst/>
          </a:prstGeom>
          <a:solidFill>
            <a:srgbClr val="84f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举例子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列数字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作比较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7772400" y="3657600"/>
            <a:ext cx="1371600" cy="1068840"/>
          </a:xfrm>
          <a:prstGeom prst="rect">
            <a:avLst/>
          </a:prstGeom>
          <a:solidFill>
            <a:srgbClr val="8b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由主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到次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7620120" y="5029200"/>
            <a:ext cx="1523880" cy="1068840"/>
          </a:xfrm>
          <a:prstGeom prst="rect">
            <a:avLst/>
          </a:prstGeom>
          <a:solidFill>
            <a:srgbClr val="8bf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由空间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到时间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2" name="AutoShape 37"/>
          <p:cNvSpPr/>
          <p:nvPr/>
        </p:nvSpPr>
        <p:spPr>
          <a:xfrm>
            <a:off x="2971800" y="54864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7f9bd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77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770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3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5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7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3"/>
          <p:cNvSpPr/>
          <p:nvPr/>
        </p:nvSpPr>
        <p:spPr>
          <a:xfrm>
            <a:off x="1125720" y="4724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三月的内蒙古草原</a:t>
            </a:r>
            <a:endParaRPr b="1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105520" y="46483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三月的海南</a:t>
            </a:r>
            <a:endParaRPr b="1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2209680" y="380880"/>
            <a:ext cx="48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纬度对物候的影响</a:t>
            </a:r>
            <a:endParaRPr b="1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86" name="图片 6" descr="QQ截图20131106093137.jpg"/>
          <p:cNvPicPr/>
          <p:nvPr/>
        </p:nvPicPr>
        <p:blipFill>
          <a:blip r:embed="rId1"/>
          <a:stretch/>
        </p:blipFill>
        <p:spPr>
          <a:xfrm>
            <a:off x="609480" y="1828800"/>
            <a:ext cx="3508560" cy="250524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7" descr="QQ截图20131106093225.jpg"/>
          <p:cNvPicPr/>
          <p:nvPr/>
        </p:nvPicPr>
        <p:blipFill>
          <a:blip r:embed="rId2"/>
          <a:stretch/>
        </p:blipFill>
        <p:spPr>
          <a:xfrm>
            <a:off x="4572000" y="1752480"/>
            <a:ext cx="3908520" cy="2514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hamme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2286000" y="685800"/>
            <a:ext cx="53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经度对物候的影响</a:t>
            </a:r>
            <a:endParaRPr b="1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1278000" y="52578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四月的内蒙古草原</a:t>
            </a:r>
            <a:endParaRPr b="1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5257800" y="5257800"/>
            <a:ext cx="31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四月的大连</a:t>
            </a:r>
            <a:endParaRPr b="1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1" name="AutoShape 7">
            <a:hlinkClick r:id="" action="ppaction://hlinkshowjump?jump=nextslide"/>
          </p:cNvPr>
          <p:cNvSpPr/>
          <p:nvPr/>
        </p:nvSpPr>
        <p:spPr>
          <a:xfrm>
            <a:off x="8763120" y="6324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" w="21600" h="30248">
                <a:moveTo>
                  <a:pt x="3794" y="8118"/>
                </a:moveTo>
                <a:lnTo>
                  <a:pt x="17806" y="15124"/>
                </a:lnTo>
                <a:lnTo>
                  <a:pt x="3794" y="2213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92" name="图片 7" descr="QQ截图20131106092945.jpg"/>
          <p:cNvPicPr/>
          <p:nvPr/>
        </p:nvPicPr>
        <p:blipFill>
          <a:blip r:embed="rId1"/>
          <a:stretch/>
        </p:blipFill>
        <p:spPr>
          <a:xfrm>
            <a:off x="685800" y="2133720"/>
            <a:ext cx="3730680" cy="285732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8" descr="QQ截图20131106093041.jpg"/>
          <p:cNvPicPr/>
          <p:nvPr/>
        </p:nvPicPr>
        <p:blipFill>
          <a:blip r:embed="rId2"/>
          <a:stretch/>
        </p:blipFill>
        <p:spPr>
          <a:xfrm>
            <a:off x="4800600" y="2209680"/>
            <a:ext cx="3906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3659040" cy="5203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609480" y="990720"/>
            <a:ext cx="381024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隶书"/>
              </a:rPr>
              <a:t>竺可桢    </a:t>
            </a:r>
            <a:endParaRPr b="1" lang="en-US" sz="36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ts val="33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隶书"/>
              </a:rPr>
              <a:t>　　</a:t>
            </a:r>
            <a:r>
              <a:rPr b="1" lang="zh-CN" sz="2800" spc="-1" strike="noStrike">
                <a:solidFill>
                  <a:srgbClr val="0c0b0a"/>
                </a:solidFill>
                <a:latin typeface="Times New Roman"/>
              </a:rPr>
              <a:t>浙江上虞人，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气象学家、地理学家</a:t>
            </a:r>
            <a:r>
              <a:rPr b="1" lang="zh-CN" sz="2800" spc="-1" strike="noStrike">
                <a:solidFill>
                  <a:srgbClr val="0c0b0a"/>
                </a:solidFill>
                <a:latin typeface="Times New Roman"/>
              </a:rPr>
              <a:t>。他在气象学、气候学、地理学、自然科学史等方面的造诣都很高，而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物候学</a:t>
            </a:r>
            <a:r>
              <a:rPr b="1" lang="zh-CN" sz="2800" spc="-1" strike="noStrike">
                <a:solidFill>
                  <a:srgbClr val="0c0b0a"/>
                </a:solidFill>
                <a:latin typeface="Times New Roman"/>
              </a:rPr>
              <a:t>也是他呕心沥血做出了重要贡献的领域之一。我国现代物候学的每一份成就都是和他的辛勤工作分不开的。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1600200" y="762120"/>
            <a:ext cx="621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高下的差异对物候的影响</a:t>
            </a:r>
            <a:endParaRPr b="1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209680" y="5638680"/>
            <a:ext cx="567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天山山顶和山腰的差异</a:t>
            </a:r>
            <a:endParaRPr b="1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96" name="图片 5" descr="QQ截图20131106093450.jpg"/>
          <p:cNvPicPr/>
          <p:nvPr/>
        </p:nvPicPr>
        <p:blipFill>
          <a:blip r:embed="rId1"/>
          <a:stretch/>
        </p:blipFill>
        <p:spPr>
          <a:xfrm>
            <a:off x="685800" y="2286000"/>
            <a:ext cx="3639960" cy="243828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6" descr="QQ截图20131106093556.jpg"/>
          <p:cNvPicPr/>
          <p:nvPr/>
        </p:nvPicPr>
        <p:blipFill>
          <a:blip r:embed="rId2"/>
          <a:stretch/>
        </p:blipFill>
        <p:spPr>
          <a:xfrm>
            <a:off x="5029200" y="2286000"/>
            <a:ext cx="3352680" cy="24732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3" name="hamme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889280" y="801720"/>
            <a:ext cx="5851440" cy="703440"/>
          </a:xfrm>
          <a:prstGeom prst="rect">
            <a:avLst/>
          </a:prstGeom>
          <a:solidFill>
            <a:srgbClr val="62d46d"/>
          </a:solidFill>
          <a:ln w="0">
            <a:noFill/>
          </a:ln>
          <a:effectLst>
            <a:outerShdw dist="99192" dir="13818056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古今差异对物候的影响</a:t>
            </a:r>
            <a:endParaRPr b="1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99" name="Picture 3" descr="长城古"/>
          <p:cNvPicPr/>
          <p:nvPr/>
        </p:nvPicPr>
        <p:blipFill>
          <a:blip r:embed="rId1"/>
          <a:stretch/>
        </p:blipFill>
        <p:spPr>
          <a:xfrm>
            <a:off x="4724280" y="1752480"/>
            <a:ext cx="3505320" cy="3962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长城今"/>
          <p:cNvPicPr/>
          <p:nvPr/>
        </p:nvPicPr>
        <p:blipFill>
          <a:blip r:embed="rId2"/>
          <a:stretch/>
        </p:blipFill>
        <p:spPr>
          <a:xfrm>
            <a:off x="914400" y="1828800"/>
            <a:ext cx="3581280" cy="38862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762120" y="5851440"/>
            <a:ext cx="40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现代三月的长城</a:t>
            </a:r>
            <a:endParaRPr b="1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4724280" y="5867280"/>
            <a:ext cx="409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古代三月的长城</a:t>
            </a:r>
            <a:endParaRPr b="1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3" name="AutoShape 7"/>
          <p:cNvSpPr/>
          <p:nvPr/>
        </p:nvSpPr>
        <p:spPr>
          <a:xfrm>
            <a:off x="7632720" y="6426360"/>
            <a:ext cx="1511280" cy="431640"/>
          </a:xfrm>
          <a:custGeom>
            <a:avLst/>
            <a:gdLst>
              <a:gd name="textAreaLeft" fmla="*/ 27720 w 1511280"/>
              <a:gd name="textAreaRight" fmla="*/ 1483560 w 1511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5582" h="21600">
                <a:moveTo>
                  <a:pt x="0" y="0"/>
                </a:moveTo>
                <a:lnTo>
                  <a:pt x="75582" y="0"/>
                </a:lnTo>
                <a:lnTo>
                  <a:pt x="75582" y="21600"/>
                </a:lnTo>
                <a:lnTo>
                  <a:pt x="0" y="21600"/>
                </a:lnTo>
                <a:close/>
              </a:path>
              <a:path fill="lightenLess" w="75582" h="21600">
                <a:moveTo>
                  <a:pt x="0" y="0"/>
                </a:moveTo>
                <a:lnTo>
                  <a:pt x="75582" y="0"/>
                </a:lnTo>
                <a:lnTo>
                  <a:pt x="74182" y="1400"/>
                </a:lnTo>
                <a:lnTo>
                  <a:pt x="1400" y="1400"/>
                </a:lnTo>
                <a:close/>
              </a:path>
              <a:path fill="darken" w="75582" h="21600">
                <a:moveTo>
                  <a:pt x="75582" y="0"/>
                </a:moveTo>
                <a:lnTo>
                  <a:pt x="75582" y="21600"/>
                </a:lnTo>
                <a:lnTo>
                  <a:pt x="74182" y="20200"/>
                </a:lnTo>
                <a:lnTo>
                  <a:pt x="74182" y="1400"/>
                </a:lnTo>
                <a:close/>
              </a:path>
              <a:path fill="darkenLess" w="75582" h="21600">
                <a:moveTo>
                  <a:pt x="7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2" y="20200"/>
                </a:lnTo>
                <a:close/>
              </a:path>
              <a:path fill="lighten" w="7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82" h="21600">
                <a:moveTo>
                  <a:pt x="30785" y="10800"/>
                </a:moveTo>
                <a:lnTo>
                  <a:pt x="44797" y="3794"/>
                </a:lnTo>
                <a:lnTo>
                  <a:pt x="44797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3" name="hamme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304920" y="1143000"/>
            <a:ext cx="914400" cy="2288520"/>
          </a:xfrm>
          <a:prstGeom prst="rect">
            <a:avLst/>
          </a:prstGeom>
          <a:solidFill>
            <a:srgbClr val="8b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研究物候学的意义</a:t>
            </a:r>
            <a:endParaRPr b="1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43000" y="1767240"/>
            <a:ext cx="8001000" cy="2531160"/>
          </a:xfrm>
          <a:prstGeom prst="rect">
            <a:avLst/>
          </a:prstGeom>
          <a:solidFill>
            <a:srgbClr val="8efa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预报农时，安排播种日期；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安排农作物区划，确定造林和采集种子                  的日期；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引种植物到气候条件相同的地区；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避免或减轻害虫的侵害；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便利山区的农业发展。 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52280" y="0"/>
            <a:ext cx="914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朗读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段，研究物侯学有哪些意义？在文中划出来。并思考说明顺序。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2666880" y="5181480"/>
            <a:ext cx="1981440" cy="581400"/>
          </a:xfrm>
          <a:prstGeom prst="rect">
            <a:avLst/>
          </a:prstGeom>
          <a:solidFill>
            <a:srgbClr val="fef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由主到次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308" name="Picture 6" descr="HC3"/>
          <p:cNvPicPr/>
          <p:nvPr/>
        </p:nvPicPr>
        <p:blipFill>
          <a:blip r:embed="rId1"/>
          <a:stretch/>
        </p:blipFill>
        <p:spPr>
          <a:xfrm>
            <a:off x="7429680" y="4952880"/>
            <a:ext cx="171432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1752480" y="1676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描述物候现象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54864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阐述研究意义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752480" y="2971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作出科学解释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676520" y="4267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影响物候的四个因素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2895480" y="24382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2895480" y="3657600"/>
            <a:ext cx="6098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2895480" y="49528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6" name="WordArt 9"/>
          <p:cNvSpPr txBox="1"/>
          <p:nvPr/>
        </p:nvSpPr>
        <p:spPr>
          <a:xfrm rot="5400000">
            <a:off x="5790600" y="159984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现象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7" name="WordArt 10"/>
          <p:cNvSpPr txBox="1"/>
          <p:nvPr/>
        </p:nvSpPr>
        <p:spPr>
          <a:xfrm rot="5400000">
            <a:off x="5828760" y="5524200"/>
            <a:ext cx="914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本质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8" name="Line 11"/>
          <p:cNvSpPr/>
          <p:nvPr/>
        </p:nvSpPr>
        <p:spPr>
          <a:xfrm flipH="1">
            <a:off x="6324120" y="2590920"/>
            <a:ext cx="1800" cy="274140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9" name="WordArt 12"/>
          <p:cNvSpPr txBox="1"/>
          <p:nvPr/>
        </p:nvSpPr>
        <p:spPr>
          <a:xfrm rot="5400000">
            <a:off x="6094440" y="3583080"/>
            <a:ext cx="3124080" cy="682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逻辑顺序</a:t>
            </a:r>
            <a:endParaRPr b="1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0" name="WordArt 13"/>
          <p:cNvSpPr txBox="1"/>
          <p:nvPr/>
        </p:nvSpPr>
        <p:spPr>
          <a:xfrm>
            <a:off x="1066680" y="45720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自然的语言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WordArt 2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2097360" cy="128736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2160000" y="1676520"/>
            <a:ext cx="5139720" cy="1068840"/>
          </a:xfrm>
          <a:prstGeom prst="rect">
            <a:avLst/>
          </a:prstGeom>
          <a:solidFill>
            <a:srgbClr val="8efa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　　本文说明了什么是物候、物候学，影响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物候的因素，物候观测对农业的意义。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2798640" y="3200400"/>
            <a:ext cx="750600" cy="581400"/>
          </a:xfrm>
          <a:prstGeom prst="rect">
            <a:avLst/>
          </a:prstGeom>
          <a:solidFill>
            <a:srgbClr val="8b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语言准确、生动、典雅。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324" name="Picture 5" descr="HC34"/>
          <p:cNvPicPr/>
          <p:nvPr/>
        </p:nvPicPr>
        <p:blipFill>
          <a:blip r:embed="rId2"/>
          <a:stretch/>
        </p:blipFill>
        <p:spPr>
          <a:xfrm>
            <a:off x="6324480" y="3352680"/>
            <a:ext cx="1914480" cy="27338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114"/>
          <p:cNvPicPr/>
          <p:nvPr/>
        </p:nvPicPr>
        <p:blipFill>
          <a:blip r:embed="rId3"/>
          <a:stretch/>
        </p:blipFill>
        <p:spPr>
          <a:xfrm>
            <a:off x="914400" y="4419720"/>
            <a:ext cx="2286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ahoma"/>
                <a:ea typeface="隶书"/>
              </a:rPr>
              <a:t>摘出文段中表示时间推移的词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666800" y="1782720"/>
            <a:ext cx="387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立春过后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再过两个月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不久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夏季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秋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寒冬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8" name="WordArt 4"/>
          <p:cNvSpPr txBox="1"/>
          <p:nvPr/>
        </p:nvSpPr>
        <p:spPr>
          <a:xfrm>
            <a:off x="5410080" y="3002040"/>
            <a:ext cx="2438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层次井然</a:t>
            </a:r>
            <a:endParaRPr b="1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7" name="projctor.wav"/>
      </p:stSnd>
    </p:sndAc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9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838080" y="152568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衰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草连天    　　 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—  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鬓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衰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翘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尾巴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翘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首、连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翘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差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异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差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遣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差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劲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参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差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观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测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观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播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种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耕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种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落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叶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丢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落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四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落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枕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12716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2523960" y="1600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shuāi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6054840" y="15238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uī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5639400" y="23623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qiáo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2134080" y="23623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qiào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1686240" y="3276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hā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3818880" y="32767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hāi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944680" y="3276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hà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8188200" y="32004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ī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1686600" y="4114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guān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3887280" y="4114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guàn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1677600" y="49528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zhǒng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3887640" y="49528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zhòng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677600" y="57913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uò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4572720" y="57913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à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45" name="Text Box 18"/>
          <p:cNvSpPr/>
          <p:nvPr/>
        </p:nvSpPr>
        <p:spPr>
          <a:xfrm>
            <a:off x="6706440" y="57913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ào</a:t>
            </a:r>
            <a:endParaRPr b="1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46" name="WordArt 19"/>
          <p:cNvSpPr txBox="1"/>
          <p:nvPr/>
        </p:nvSpPr>
        <p:spPr>
          <a:xfrm>
            <a:off x="457200" y="60948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检查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cao"/>
          <p:cNvPicPr/>
          <p:nvPr/>
        </p:nvPicPr>
        <p:blipFill>
          <a:blip r:embed="rId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111"/>
          <p:cNvPicPr/>
          <p:nvPr/>
        </p:nvPicPr>
        <p:blipFill>
          <a:blip r:embed="rId3"/>
          <a:stretch/>
        </p:blipFill>
        <p:spPr>
          <a:xfrm>
            <a:off x="7315200" y="4800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457200" y="838080"/>
            <a:ext cx="8915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幼圆"/>
                <a:ea typeface="幼圆"/>
              </a:rPr>
              <a:t>两个月前，在广州，看见了玉兰开花；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幼圆"/>
                <a:ea typeface="幼圆"/>
              </a:rPr>
              <a:t>两个月后，在北京，又看见玉兰开花。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幼圆"/>
                <a:ea typeface="幼圆"/>
              </a:rPr>
              <a:t>玉兰花呀，我说，你走得真慢哪！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幼圆"/>
                <a:ea typeface="幼圆"/>
              </a:rPr>
              <a:t>费了两个月工夫，你才到了京华。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幼圆"/>
                <a:ea typeface="幼圆"/>
              </a:rPr>
              <a:t>                        </a:t>
            </a:r>
            <a:r>
              <a:rPr b="1" lang="en-US" sz="3200" spc="-1" strike="noStrike">
                <a:solidFill>
                  <a:srgbClr val="545472"/>
                </a:solidFill>
                <a:latin typeface="Arial"/>
                <a:ea typeface="幼圆"/>
              </a:rPr>
              <a:t>——</a:t>
            </a:r>
            <a:r>
              <a:rPr b="1" lang="zh-CN" sz="3200" spc="-1" strike="noStrike">
                <a:solidFill>
                  <a:srgbClr val="545472"/>
                </a:solidFill>
                <a:latin typeface="幼圆"/>
                <a:ea typeface="幼圆"/>
              </a:rPr>
              <a:t>郭沫若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350" name="WordArt 5" descr="白色大理石"/>
          <p:cNvPicPr/>
          <p:nvPr/>
        </p:nvPicPr>
        <p:blipFill>
          <a:blip r:embed="rId4"/>
          <a:stretch/>
        </p:blipFill>
        <p:spPr>
          <a:xfrm>
            <a:off x="817560" y="4400640"/>
            <a:ext cx="6789600" cy="793800"/>
          </a:xfrm>
          <a:prstGeom prst="rect">
            <a:avLst/>
          </a:prstGeom>
          <a:ln w="0">
            <a:noFill/>
          </a:ln>
        </p:spPr>
      </p:pic>
      <p:sp>
        <p:nvSpPr>
          <p:cNvPr id="351" name="WordArt 6"/>
          <p:cNvSpPr txBox="1"/>
          <p:nvPr/>
        </p:nvSpPr>
        <p:spPr>
          <a:xfrm>
            <a:off x="1828800" y="5867280"/>
            <a:ext cx="198108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知识运用</a:t>
            </a:r>
            <a:endParaRPr b="1" lang="en-US" sz="3200" spc="1" strike="noStrike">
              <a:ln w="12600">
                <a:solidFill>
                  <a:srgbClr val="ff66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0" y="1905120"/>
            <a:ext cx="997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梅子黄时日日晴，</a:t>
            </a:r>
            <a:r>
              <a:rPr b="0" lang="zh-CN" sz="4400" spc="-1" strike="noStrike">
                <a:solidFill>
                  <a:srgbClr val="993300"/>
                </a:solidFill>
                <a:latin typeface="华文行楷"/>
                <a:ea typeface="华文行楷"/>
              </a:rPr>
              <a:t>小溪汛尽却山行。</a:t>
            </a:r>
            <a:br>
              <a:rPr sz="4400"/>
            </a:br>
            <a:r>
              <a:rPr b="0" lang="zh-CN" sz="4400" spc="-1" strike="noStrike">
                <a:solidFill>
                  <a:srgbClr val="993300"/>
                </a:solidFill>
                <a:latin typeface="华文行楷"/>
                <a:ea typeface="华文行楷"/>
              </a:rPr>
              <a:t>绿荫不减来时路，添得黄鹂四五声。</a:t>
            </a:r>
            <a:br>
              <a:rPr sz="4400"/>
            </a:br>
            <a:r>
              <a:rPr b="0" lang="zh-CN" sz="4400" spc="-1" strike="noStrike">
                <a:solidFill>
                  <a:srgbClr val="993300"/>
                </a:solidFill>
                <a:latin typeface="Arial"/>
                <a:ea typeface="华文行楷"/>
              </a:rPr>
              <a:t>   </a:t>
            </a:r>
            <a:r>
              <a:rPr b="0" lang="zh-CN" sz="4400" spc="-1" strike="noStrike">
                <a:solidFill>
                  <a:srgbClr val="993300"/>
                </a:solidFill>
                <a:latin typeface="华文行楷"/>
                <a:ea typeface="华文行楷"/>
              </a:rPr>
              <a:t> </a:t>
            </a:r>
            <a:endParaRPr b="1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0" y="228600"/>
            <a:ext cx="972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黄梅时节家家雨，</a:t>
            </a:r>
            <a:r>
              <a:rPr b="0" lang="zh-CN" sz="4400" spc="-1" strike="noStrike">
                <a:solidFill>
                  <a:srgbClr val="336699"/>
                </a:solidFill>
                <a:latin typeface="华文行楷"/>
                <a:ea typeface="华文行楷"/>
              </a:rPr>
              <a:t>青草池塘处处蛙。</a:t>
            </a:r>
            <a:br>
              <a:rPr sz="4400"/>
            </a:br>
            <a:r>
              <a:rPr b="0" lang="zh-CN" sz="4400" spc="-1" strike="noStrike">
                <a:solidFill>
                  <a:srgbClr val="336699"/>
                </a:solidFill>
                <a:latin typeface="华文行楷"/>
                <a:ea typeface="华文行楷"/>
              </a:rPr>
              <a:t>有约不来过夜半，闭敲棋子落灯花。</a:t>
            </a:r>
            <a:br>
              <a:rPr sz="4400"/>
            </a:br>
            <a:r>
              <a:rPr b="0" lang="zh-CN" sz="4400" spc="-1" strike="noStrike">
                <a:solidFill>
                  <a:srgbClr val="c7c7df"/>
                </a:solidFill>
                <a:latin typeface="Arial"/>
                <a:ea typeface="华文行楷"/>
              </a:rPr>
              <a:t>   </a:t>
            </a:r>
            <a:r>
              <a:rPr b="0" lang="zh-CN" sz="4400" spc="-1" strike="noStrike">
                <a:solidFill>
                  <a:srgbClr val="c7c7df"/>
                </a:solidFill>
                <a:latin typeface="华文行楷"/>
                <a:ea typeface="华文行楷"/>
              </a:rPr>
              <a:t> </a:t>
            </a:r>
            <a:endParaRPr b="1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-455760" y="3505320"/>
            <a:ext cx="982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华文行楷"/>
              </a:rPr>
              <a:t>    </a:t>
            </a:r>
            <a:r>
              <a:rPr b="0" lang="zh-CN" sz="4400" spc="-1" strike="noStrike">
                <a:solidFill>
                  <a:srgbClr val="9595ff"/>
                </a:solidFill>
                <a:latin typeface="华文行楷"/>
                <a:ea typeface="华文行楷"/>
              </a:rPr>
              <a:t>乳鸭池塘水浅深，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熟梅天气半阴晴。</a:t>
            </a:r>
            <a:br>
              <a:rPr sz="4400"/>
            </a:b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华文行楷"/>
              </a:rPr>
              <a:t>    </a:t>
            </a:r>
            <a:r>
              <a:rPr b="0" lang="zh-CN" sz="4400" spc="-1" strike="noStrike">
                <a:solidFill>
                  <a:srgbClr val="9595ff"/>
                </a:solidFill>
                <a:latin typeface="华文行楷"/>
                <a:ea typeface="华文行楷"/>
              </a:rPr>
              <a:t>东园载酒西园醉，摘尽枇杷一树金。</a:t>
            </a:r>
            <a:br>
              <a:rPr sz="4400"/>
            </a:br>
            <a:r>
              <a:rPr b="0" lang="zh-CN" sz="4400" spc="-1" strike="noStrike">
                <a:solidFill>
                  <a:srgbClr val="ff9933"/>
                </a:solidFill>
                <a:latin typeface="华文行楷"/>
                <a:ea typeface="华文行楷"/>
              </a:rPr>
              <a:t>                                                                              </a:t>
            </a: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华文行楷"/>
              </a:rPr>
              <a:t>   </a:t>
            </a:r>
            <a:r>
              <a:rPr b="0" lang="zh-CN" sz="4400" spc="-1" strike="noStrike">
                <a:solidFill>
                  <a:srgbClr val="ff9933"/>
                </a:solidFill>
                <a:latin typeface="华文行楷"/>
                <a:ea typeface="华文行楷"/>
              </a:rPr>
              <a:t> </a:t>
            </a:r>
            <a:endParaRPr b="1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355" name="Picture 5" descr="gif048[1]"/>
          <p:cNvPicPr/>
          <p:nvPr/>
        </p:nvPicPr>
        <p:blipFill>
          <a:blip r:embed="rId1"/>
          <a:stretch/>
        </p:blipFill>
        <p:spPr>
          <a:xfrm>
            <a:off x="7772400" y="5611680"/>
            <a:ext cx="1371600" cy="1246320"/>
          </a:xfrm>
          <a:prstGeom prst="rect">
            <a:avLst/>
          </a:prstGeom>
          <a:ln w="0">
            <a:noFill/>
          </a:ln>
        </p:spPr>
      </p:pic>
      <p:sp>
        <p:nvSpPr>
          <p:cNvPr id="356" name="WordArt 6"/>
          <p:cNvSpPr txBox="1"/>
          <p:nvPr/>
        </p:nvSpPr>
        <p:spPr>
          <a:xfrm>
            <a:off x="1676520" y="525780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为什么会有如此差异？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4406040" y="533520"/>
            <a:ext cx="1887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雨中闻蝉叫，预告晴天到。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麻雀屯食要落雪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鱼跳水，有雨来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燕子低飞要落雨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泥鳅静，天气晴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蚂蚁垒窝要落雨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58" name="WordArt 3"/>
          <p:cNvSpPr txBox="1"/>
          <p:nvPr/>
        </p:nvSpPr>
        <p:spPr>
          <a:xfrm>
            <a:off x="762120" y="609480"/>
            <a:ext cx="1676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农谚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59" name="Picture 4" descr="0672IF"/>
          <p:cNvPicPr/>
          <p:nvPr/>
        </p:nvPicPr>
        <p:blipFill>
          <a:blip r:embed="rId3"/>
          <a:stretch/>
        </p:blipFill>
        <p:spPr>
          <a:xfrm>
            <a:off x="7010280" y="2514600"/>
            <a:ext cx="1600200" cy="26827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图片1"/>
          <p:cNvPicPr/>
          <p:nvPr/>
        </p:nvPicPr>
        <p:blipFill>
          <a:blip r:embed="rId4"/>
          <a:stretch/>
        </p:blipFill>
        <p:spPr>
          <a:xfrm>
            <a:off x="1066680" y="3962520"/>
            <a:ext cx="126216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0312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词语解释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09680" y="1295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原指不公开的说话，不公开露面，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这里指昆虫都无声无息，无影无踪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ahoma"/>
              </a:rPr>
              <a:t>销：消失。匿：隐藏。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0" y="1295280"/>
            <a:ext cx="25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销声匿迹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-228600" y="2789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衰草连天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705240" y="355140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风雪载途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76880" y="434340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周而复始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05240" y="513540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草长莺飞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380880" y="281952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Arial"/>
              </a:rPr>
              <a:t>遍地是衰草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2209680" y="35654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Arial"/>
              </a:rPr>
              <a:t>风雪满路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209680" y="4403880"/>
            <a:ext cx="57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Arial"/>
              </a:rPr>
              <a:t>一次又一次的循环。周，绕一圈。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828800" y="51814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Arial"/>
              </a:rPr>
              <a:t>绿草茂盛，莺儿啼飞，指春天的美好景象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838080" y="5715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次　第</a:t>
            </a:r>
            <a:r>
              <a:rPr b="1" lang="zh-CN" sz="2800" spc="-1" strike="noStrike">
                <a:solidFill>
                  <a:srgbClr val="545472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2209680" y="57150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Arial"/>
              </a:rPr>
              <a:t>一个挨一个地。</a:t>
            </a:r>
            <a:endParaRPr b="1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269800" y="1981080"/>
            <a:ext cx="4241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什么是物候？什么是物候学？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物候观测对农业有什么重要意义？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决定物候观测的因素有哪些？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研究物候学有什么意义？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1001880" cy="2133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838080" y="1066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听朗读，根据提示将课文分为四部分。</a:t>
            </a:r>
            <a:endParaRPr b="1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0" y="1066680"/>
            <a:ext cx="685800" cy="6098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2"/>
          <p:cNvSpPr/>
          <p:nvPr/>
        </p:nvSpPr>
        <p:spPr>
          <a:xfrm flipV="1">
            <a:off x="304920" y="457200"/>
            <a:ext cx="380880" cy="4572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58" name="WordArt 3" descr=""/>
          <p:cNvPicPr/>
          <p:nvPr/>
        </p:nvPicPr>
        <p:blipFill>
          <a:blip r:embed="rId1"/>
          <a:stretch/>
        </p:blipFill>
        <p:spPr>
          <a:xfrm>
            <a:off x="1139760" y="189000"/>
            <a:ext cx="2841840" cy="10494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4"/>
          <p:cNvSpPr/>
          <p:nvPr/>
        </p:nvSpPr>
        <p:spPr>
          <a:xfrm>
            <a:off x="304920" y="1676520"/>
            <a:ext cx="304560" cy="457200"/>
          </a:xfrm>
          <a:custGeom>
            <a:avLst/>
            <a:gdLst>
              <a:gd name="textAreaLeft" fmla="*/ 45000 w 304560"/>
              <a:gd name="textAreaRight" fmla="*/ 259560 w 304560"/>
              <a:gd name="textAreaTop" fmla="*/ 67680 h 457200"/>
              <a:gd name="textAreaBottom" fmla="*/ 3895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582800" y="15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本文是一篇什么文章？说明对象是什么？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428640" y="2362320"/>
            <a:ext cx="2521440" cy="581400"/>
          </a:xfrm>
          <a:prstGeom prst="rect">
            <a:avLst/>
          </a:prstGeom>
          <a:solidFill>
            <a:srgbClr val="8bf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事理说明文。说明对象是“物候”和“物候学”。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04920" y="3429000"/>
            <a:ext cx="304560" cy="457200"/>
          </a:xfrm>
          <a:custGeom>
            <a:avLst/>
            <a:gdLst>
              <a:gd name="textAreaLeft" fmla="*/ 45000 w 304560"/>
              <a:gd name="textAreaRight" fmla="*/ 259560 w 304560"/>
              <a:gd name="textAreaTop" fmla="*/ 67680 h 457200"/>
              <a:gd name="textAreaBottom" fmla="*/ 3895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384280" y="3200400"/>
            <a:ext cx="4813560" cy="1068840"/>
          </a:xfrm>
          <a:prstGeom prst="rect">
            <a:avLst/>
          </a:prstGeom>
          <a:solidFill>
            <a:srgbClr val="fef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课题用了什么修辞手法？有何作用？能否改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为“物候与物候学”？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2190600" y="4487760"/>
            <a:ext cx="4813560" cy="1556280"/>
          </a:xfrm>
          <a:prstGeom prst="rect">
            <a:avLst/>
          </a:prstGeom>
          <a:solidFill>
            <a:srgbClr val="87f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用了拟人手法。使文章生动形象，富有情趣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和吸引力，吸引人读下去。改后是专业术语，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没有吸引力。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495680" cy="2808360"/>
          </a:xfrm>
          <a:prstGeom prst="rect">
            <a:avLst/>
          </a:prstGeom>
          <a:ln w="12600">
            <a:solidFill>
              <a:srgbClr val="545472"/>
            </a:solidFill>
            <a:miter/>
          </a:ln>
        </p:spPr>
      </p:pic>
      <p:pic>
        <p:nvPicPr>
          <p:cNvPr id="166" name="Picture 3" descr="春雨"/>
          <p:cNvPicPr/>
          <p:nvPr/>
        </p:nvPicPr>
        <p:blipFill>
          <a:blip r:embed="rId2"/>
          <a:stretch/>
        </p:blipFill>
        <p:spPr>
          <a:xfrm>
            <a:off x="0" y="1752480"/>
            <a:ext cx="4648320" cy="28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7" name="Picture 4" descr="雪景2"/>
          <p:cNvPicPr/>
          <p:nvPr/>
        </p:nvPicPr>
        <p:blipFill>
          <a:blip r:embed="rId3"/>
          <a:srcRect l="0" t="0" r="-37" b="-37"/>
          <a:stretch/>
        </p:blipFill>
        <p:spPr>
          <a:xfrm>
            <a:off x="0" y="4510080"/>
            <a:ext cx="4643280" cy="23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8" name="Picture 5" descr="霜叶红于二月花"/>
          <p:cNvPicPr/>
          <p:nvPr/>
        </p:nvPicPr>
        <p:blipFill>
          <a:blip r:embed="rId4"/>
          <a:stretch/>
        </p:blipFill>
        <p:spPr>
          <a:xfrm>
            <a:off x="4648320" y="4495680"/>
            <a:ext cx="4495680" cy="2362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69" name="Text Box 6"/>
          <p:cNvSpPr/>
          <p:nvPr/>
        </p:nvSpPr>
        <p:spPr>
          <a:xfrm>
            <a:off x="3886200" y="25146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ea2c"/>
                </a:solidFill>
                <a:latin typeface="Arial"/>
              </a:rPr>
              <a:t>春</a:t>
            </a:r>
            <a:endParaRPr b="1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724280" y="251460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74f2e"/>
                </a:solidFill>
                <a:latin typeface="Arial"/>
              </a:rPr>
              <a:t>夏</a:t>
            </a:r>
            <a:endParaRPr b="1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800600" y="480060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秋</a:t>
            </a:r>
            <a:endParaRPr b="1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276720" y="48769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c1fdd"/>
                </a:solidFill>
                <a:latin typeface="Arial"/>
              </a:rPr>
              <a:t>冬</a:t>
            </a:r>
            <a:endParaRPr b="1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228600" y="228600"/>
            <a:ext cx="533520" cy="4572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50840" y="168120"/>
            <a:ext cx="63406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朗读分析第</a:t>
            </a: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自然段，概括段意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838080" y="990720"/>
            <a:ext cx="5791320" cy="581400"/>
          </a:xfrm>
          <a:prstGeom prst="rect">
            <a:avLst/>
          </a:prstGeom>
          <a:solidFill>
            <a:srgbClr val="88f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写春夏秋冬四季更迭的情况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553080" y="609480"/>
            <a:ext cx="2590920" cy="9144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摹状貌</a:t>
            </a:r>
            <a:endParaRPr b="1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1128712545_2b9c70c6e3d472231c6c4a59c0b47ab0"/>
          <p:cNvPicPr/>
          <p:nvPr/>
        </p:nvPicPr>
        <p:blipFill>
          <a:blip r:embed="rId1"/>
          <a:stretch/>
        </p:blipFill>
        <p:spPr>
          <a:xfrm>
            <a:off x="0" y="0"/>
            <a:ext cx="4952880" cy="3352680"/>
          </a:xfrm>
          <a:prstGeom prst="rect">
            <a:avLst/>
          </a:prstGeom>
          <a:ln w="0">
            <a:noFill/>
          </a:ln>
        </p:spPr>
      </p:pic>
      <p:pic>
        <p:nvPicPr>
          <p:cNvPr id="178" name="WordArt 3" descr=""/>
          <p:cNvPicPr/>
          <p:nvPr/>
        </p:nvPicPr>
        <p:blipFill>
          <a:blip r:embed="rId2"/>
          <a:stretch/>
        </p:blipFill>
        <p:spPr>
          <a:xfrm>
            <a:off x="835200" y="53028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natur019"/>
          <p:cNvPicPr/>
          <p:nvPr/>
        </p:nvPicPr>
        <p:blipFill>
          <a:blip r:embed="rId3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5638680" y="54100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次第开放</a:t>
            </a:r>
            <a:endParaRPr b="1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1" name="Picture 6" descr="图片1"/>
          <p:cNvPicPr/>
          <p:nvPr/>
        </p:nvPicPr>
        <p:blipFill>
          <a:blip r:embed="rId4"/>
          <a:stretch/>
        </p:blipFill>
        <p:spPr>
          <a:xfrm>
            <a:off x="4343400" y="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182" name="WordArt 7" descr=""/>
          <p:cNvPicPr/>
          <p:nvPr/>
        </p:nvPicPr>
        <p:blipFill>
          <a:blip r:embed="rId5"/>
          <a:stretch/>
        </p:blipFill>
        <p:spPr>
          <a:xfrm>
            <a:off x="4797360" y="85680"/>
            <a:ext cx="28353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xbwq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春暖花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小蜜蜂"/>
          <p:cNvPicPr/>
          <p:nvPr/>
        </p:nvPicPr>
        <p:blipFill>
          <a:blip r:embed="rId3"/>
          <a:stretch/>
        </p:blipFill>
        <p:spPr>
          <a:xfrm>
            <a:off x="7086600" y="1447920"/>
            <a:ext cx="576360" cy="631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小蜜蜂"/>
          <p:cNvPicPr/>
          <p:nvPr/>
        </p:nvPicPr>
        <p:blipFill>
          <a:blip r:embed="rId4"/>
          <a:stretch/>
        </p:blipFill>
        <p:spPr>
          <a:xfrm>
            <a:off x="6248520" y="4495680"/>
            <a:ext cx="682560" cy="784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小蜜蜂"/>
          <p:cNvPicPr/>
          <p:nvPr/>
        </p:nvPicPr>
        <p:blipFill>
          <a:blip r:embed="rId5"/>
          <a:stretch/>
        </p:blipFill>
        <p:spPr>
          <a:xfrm>
            <a:off x="4191120" y="3200400"/>
            <a:ext cx="507960" cy="555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花蝴蝶"/>
          <p:cNvPicPr/>
          <p:nvPr/>
        </p:nvPicPr>
        <p:blipFill>
          <a:blip r:embed="rId6"/>
          <a:stretch/>
        </p:blipFill>
        <p:spPr>
          <a:xfrm>
            <a:off x="762120" y="3429000"/>
            <a:ext cx="1439640" cy="1235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振翅的蝴蝶"/>
          <p:cNvPicPr/>
          <p:nvPr/>
        </p:nvPicPr>
        <p:blipFill>
          <a:blip r:embed="rId7"/>
          <a:stretch/>
        </p:blipFill>
        <p:spPr>
          <a:xfrm>
            <a:off x="6934320" y="3581280"/>
            <a:ext cx="1028520" cy="914400"/>
          </a:xfrm>
          <a:prstGeom prst="rect">
            <a:avLst/>
          </a:prstGeom>
          <a:ln w="0">
            <a:noFill/>
          </a:ln>
        </p:spPr>
      </p:pic>
      <p:pic>
        <p:nvPicPr>
          <p:cNvPr id="190" name="WordArt 9" descr=""/>
          <p:cNvPicPr/>
          <p:nvPr/>
        </p:nvPicPr>
        <p:blipFill>
          <a:blip r:embed="rId8"/>
          <a:stretch/>
        </p:blipFill>
        <p:spPr>
          <a:xfrm>
            <a:off x="1822320" y="665280"/>
            <a:ext cx="427356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xia1"/>
          <p:cNvPicPr/>
          <p:nvPr/>
        </p:nvPicPr>
        <p:blipFill>
          <a:blip r:embed="rId1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pic>
        <p:nvPicPr>
          <p:cNvPr id="192" name="WordArt 3" descr=""/>
          <p:cNvPicPr/>
          <p:nvPr/>
        </p:nvPicPr>
        <p:blipFill>
          <a:blip r:embed="rId2"/>
          <a:stretch/>
        </p:blipFill>
        <p:spPr>
          <a:xfrm>
            <a:off x="5248440" y="176040"/>
            <a:ext cx="2657160" cy="2421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图片8"/>
          <p:cNvPicPr/>
          <p:nvPr/>
        </p:nvPicPr>
        <p:blipFill>
          <a:blip r:embed="rId3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94" name="WordArt 5"/>
          <p:cNvSpPr txBox="1"/>
          <p:nvPr/>
        </p:nvSpPr>
        <p:spPr>
          <a:xfrm>
            <a:off x="762120" y="4267080"/>
            <a:ext cx="3047760" cy="12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孕育果实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pepuser</cp:lastModifiedBy>
  <dcterms:modified xsi:type="dcterms:W3CDTF">2013-11-06T01:40:18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