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C6C-6502-465C-9DDE-FE8E73A9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FC5D-7EFF-43DF-B4C5-8E712F3F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5D4C-4EFD-43E3-BCDD-2CE6D9D3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5838-F41C-4FC5-8FB4-9129AD32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522-D47E-4F75-8E0D-A4E1B537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C081-84E8-4BAF-9BC0-D2D17ED1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4F73-576A-40A6-922B-2A35B4C7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48C-0459-4586-AF4A-299323AE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EA4-16E4-4542-8CF4-961356FB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DDE-0EB5-4BCD-9B62-BBBFA05C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6C7-0515-4CDF-80C3-78663625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656-38F3-4BF1-ACEF-61A387D6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1A55-4783-4B00-8A7B-E964FE3CB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70880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1835280" y="1268280"/>
            <a:ext cx="392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Arial"/>
              </a:rPr>
              <a:t>说 “屏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411280" y="3141720"/>
            <a:ext cx="59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说”：陈述、解说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FR6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592800" y="98100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何使用屏风的关键在于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1763640" y="5805360"/>
            <a:ext cx="1008000" cy="360360"/>
          </a:xfrm>
          <a:custGeom>
            <a:avLst/>
            <a:gdLst>
              <a:gd name="textAreaLeft" fmla="*/ 311400 w 1008000"/>
              <a:gd name="textAreaRight" fmla="*/ 696600 w 1008000"/>
              <a:gd name="textAreaTop" fmla="*/ 137520 h 360360"/>
              <a:gd name="textAreaBottom" fmla="*/ 275400 h 360360"/>
            </a:gdLst>
            <a:ahLst/>
            <a:rect l="textAreaLeft" t="textAreaTop" r="textAreaRight" b="textAreaBottom"/>
            <a:pathLst>
              <a:path w="1008062" h="360362">
                <a:moveTo>
                  <a:pt x="1" y="137646"/>
                </a:moveTo>
                <a:lnTo>
                  <a:pt x="385048" y="137647"/>
                </a:lnTo>
                <a:lnTo>
                  <a:pt x="504031" y="0"/>
                </a:lnTo>
                <a:lnTo>
                  <a:pt x="623014" y="137647"/>
                </a:lnTo>
                <a:lnTo>
                  <a:pt x="1008061" y="137646"/>
                </a:lnTo>
                <a:lnTo>
                  <a:pt x="696550" y="222715"/>
                </a:lnTo>
                <a:lnTo>
                  <a:pt x="815540" y="360361"/>
                </a:lnTo>
                <a:lnTo>
                  <a:pt x="504031" y="275290"/>
                </a:lnTo>
                <a:lnTo>
                  <a:pt x="192522" y="360361"/>
                </a:lnTo>
                <a:lnTo>
                  <a:pt x="311512" y="22271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1258920" y="2484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屏风的大小需因地制宜，造型、色彩以及上面的绘画都不能马虎。设置要与整体的相称，安放的位置与作用、曲屏的折度、视线的远近诸方面，均要做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得体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PIN"/>
          <p:cNvPicPr/>
          <p:nvPr/>
        </p:nvPicPr>
        <p:blipFill>
          <a:blip r:embed="rId1"/>
          <a:stretch/>
        </p:blipFill>
        <p:spPr>
          <a:xfrm>
            <a:off x="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395280" y="55609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金 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102071_2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900000" y="57276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银 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468360" y="59198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锦 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2"/>
          <p:cNvPicPr/>
          <p:nvPr/>
        </p:nvPicPr>
        <p:blipFill>
          <a:blip r:embed="rId1"/>
          <a:stretch/>
        </p:blipFill>
        <p:spPr>
          <a:xfrm>
            <a:off x="324000" y="620640"/>
            <a:ext cx="8351640" cy="5904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755640" y="54165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画 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7093080" y="5950080"/>
            <a:ext cx="20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石 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1"/>
          <p:cNvPicPr/>
          <p:nvPr/>
        </p:nvPicPr>
        <p:blipFill>
          <a:blip r:embed="rId1"/>
          <a:stretch/>
        </p:blipFill>
        <p:spPr>
          <a:xfrm>
            <a:off x="547560" y="885960"/>
            <a:ext cx="80488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屏"/>
          <p:cNvPicPr/>
          <p:nvPr/>
        </p:nvPicPr>
        <p:blipFill>
          <a:blip r:embed="rId1"/>
          <a:stretch/>
        </p:blipFill>
        <p:spPr>
          <a:xfrm>
            <a:off x="0" y="-228600"/>
            <a:ext cx="9448920" cy="71089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468360" y="606420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木 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图片1"/>
          <p:cNvPicPr/>
          <p:nvPr/>
        </p:nvPicPr>
        <p:blipFill>
          <a:blip r:embed="rId1"/>
          <a:stretch/>
        </p:blipFill>
        <p:spPr>
          <a:xfrm>
            <a:off x="395280" y="0"/>
            <a:ext cx="828036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1187280" y="599292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竹 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611280" y="8254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0" y="260280"/>
            <a:ext cx="4427640" cy="1008000"/>
          </a:xfrm>
          <a:custGeom>
            <a:avLst/>
            <a:gdLst>
              <a:gd name="textAreaLeft" fmla="*/ 1107000 w 4427640"/>
              <a:gd name="textAreaRight" fmla="*/ 3321000 w 4427640"/>
              <a:gd name="textAreaTop" fmla="*/ 0 h 1008000"/>
              <a:gd name="textAreaBottom" fmla="*/ 882000 h 1008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539640" y="141300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确定写作对象找出写作对象的特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39640" y="282744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决定说明顺序安排好写作结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539640" y="209736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文只有抓住事物的特征，才能使读者对所说明的事物有具体、清晰、准确的了解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11280" y="4045320"/>
            <a:ext cx="82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般地说明事物的成因、方法的文章，往往以时间为序，说明事物形状、构造，一般以空间顺序写。有的说明文采用分类的方法，可以按照所分的各类为顺序进行说明。大多数不是只用单一的说明顺序，而是多种说明顺序交错使用，因此，在写作时要合理安排好说明顺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一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安排好全文布局顺序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安排好说明主体的顺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三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安排好段落内部的顺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611280" y="33336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说明文练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539640" y="4983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文不是以情感人，而是客观地说明事物，它追求的是科学的真实。说明的对象是怎样的，就必须如实地说成是怎样的。特别是时间、空间、范围、条件、数量等方面更要注意。准确，是说明语言的基本特点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813760" y="54936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初步想好所要采用的说明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611280" y="119700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种说明方法在同一篇说明文往往是综合甚至交错运用的。这样综合运用说明方法，而又有所侧重，就能具体而生动地显示事物的特征，又能给人清晰的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一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说明方法要看能不能有助于达到说明目的。</a:t>
            </a:r>
            <a:br>
              <a:rPr sz="2400"/>
            </a:b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有助于加强文章的趣味性。</a:t>
            </a:r>
            <a:br>
              <a:rPr sz="2400"/>
            </a:b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三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运用说明方法时应该有所侧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826920" y="3716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注意说明文的语言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33"/>
          <p:cNvSpPr/>
          <p:nvPr/>
        </p:nvSpPr>
        <p:spPr>
          <a:xfrm>
            <a:off x="1297800" y="302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00"/>
                </a:solidFill>
                <a:latin typeface="Arial"/>
                <a:ea typeface="华文新魏"/>
              </a:rPr>
              <a:t>屏风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36" descr="屏风2"/>
          <p:cNvPicPr/>
          <p:nvPr/>
        </p:nvPicPr>
        <p:blipFill>
          <a:blip r:embed="rId1"/>
          <a:stretch/>
        </p:blipFill>
        <p:spPr>
          <a:xfrm>
            <a:off x="539640" y="1341360"/>
            <a:ext cx="316872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37"/>
          <p:cNvSpPr/>
          <p:nvPr/>
        </p:nvSpPr>
        <p:spPr>
          <a:xfrm>
            <a:off x="5830560" y="333000"/>
            <a:ext cx="100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屏者，障也，缓冲视线。</a:t>
            </a:r>
            <a:r>
              <a:rPr b="1" lang="zh-CN" sz="4800" spc="-1" strike="noStrike">
                <a:solidFill>
                  <a:srgbClr val="333399"/>
                </a:solidFill>
                <a:latin typeface="华文行楷"/>
                <a:ea typeface="华文行楷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38" descr="2"/>
          <p:cNvPicPr/>
          <p:nvPr/>
        </p:nvPicPr>
        <p:blipFill>
          <a:blip r:embed="rId2"/>
          <a:stretch/>
        </p:blipFill>
        <p:spPr>
          <a:xfrm>
            <a:off x="4067280" y="4149720"/>
            <a:ext cx="4572000" cy="2492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39"/>
          <p:cNvSpPr/>
          <p:nvPr/>
        </p:nvSpPr>
        <p:spPr>
          <a:xfrm>
            <a:off x="4140360" y="1268280"/>
            <a:ext cx="49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似隔非隔、功能与美感相结合。在空间上起到神秘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40"/>
          <p:cNvSpPr/>
          <p:nvPr/>
        </p:nvSpPr>
        <p:spPr>
          <a:xfrm>
            <a:off x="4138560" y="285264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介绍有关屏风的功用及如何使用屏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FR6061"/>
          <p:cNvPicPr/>
          <p:nvPr/>
        </p:nvPicPr>
        <p:blipFill>
          <a:blip r:embed="rId1"/>
          <a:stretch/>
        </p:blipFill>
        <p:spPr>
          <a:xfrm>
            <a:off x="-541440" y="-950760"/>
            <a:ext cx="10585440" cy="7808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1919160" y="620640"/>
            <a:ext cx="77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抓住第一段有关语句分析把握作者的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84360" y="1484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“屏”看作是一个富有诗意的名词，表露了作者对屏风的情有独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84360" y="263700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受古诗词古画的影响，作者从小就对屏风产生了喜爱和向往之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684360" y="364500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来在实际接触和研究工作中，对屏风的认识更深，也就“更觉得它实在微妙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1042920" y="486900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是全文的引子既写出了作者对屏风的感情，（作者创作的感情基调）又点出了屏风的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38" descr="FR6061"/>
          <p:cNvPicPr/>
          <p:nvPr/>
        </p:nvPicPr>
        <p:blipFill>
          <a:blip r:embed="rId1"/>
          <a:stretch/>
        </p:blipFill>
        <p:spPr>
          <a:xfrm>
            <a:off x="-324000" y="-243000"/>
            <a:ext cx="10296720" cy="7101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028"/>
          <p:cNvSpPr/>
          <p:nvPr/>
        </p:nvSpPr>
        <p:spPr>
          <a:xfrm>
            <a:off x="2370240" y="706320"/>
            <a:ext cx="677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划分文章结构层次，理清行文思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29"/>
          <p:cNvSpPr/>
          <p:nvPr/>
        </p:nvSpPr>
        <p:spPr>
          <a:xfrm>
            <a:off x="179280" y="32925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说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屏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行楷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30"/>
          <p:cNvSpPr/>
          <p:nvPr/>
        </p:nvSpPr>
        <p:spPr>
          <a:xfrm>
            <a:off x="1908000" y="1773360"/>
            <a:ext cx="360360" cy="3671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1"/>
          <p:cNvSpPr/>
          <p:nvPr/>
        </p:nvSpPr>
        <p:spPr>
          <a:xfrm>
            <a:off x="2340000" y="148428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节，引出说明对象，点出屏风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32"/>
          <p:cNvSpPr/>
          <p:nvPr/>
        </p:nvSpPr>
        <p:spPr>
          <a:xfrm>
            <a:off x="2455200" y="306864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四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33"/>
          <p:cNvSpPr/>
          <p:nvPr/>
        </p:nvSpPr>
        <p:spPr>
          <a:xfrm>
            <a:off x="3635280" y="2421000"/>
            <a:ext cx="144720" cy="2520720"/>
          </a:xfrm>
          <a:custGeom>
            <a:avLst/>
            <a:gdLst>
              <a:gd name="textAreaLeft" fmla="*/ 92520 w 144720"/>
              <a:gd name="textAreaRight" fmla="*/ 145080 w 144720"/>
              <a:gd name="textAreaTop" fmla="*/ 52200 h 2520720"/>
              <a:gd name="textAreaBottom" fmla="*/ 246852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15"/>
                  <a:pt x="10800" y="1430"/>
                </a:cubicBezTo>
                <a:lnTo>
                  <a:pt x="10800" y="9370"/>
                </a:lnTo>
                <a:cubicBezTo>
                  <a:pt x="10800" y="10085"/>
                  <a:pt x="5400" y="10800"/>
                  <a:pt x="0" y="10800"/>
                </a:cubicBezTo>
                <a:cubicBezTo>
                  <a:pt x="5400" y="10800"/>
                  <a:pt x="10800" y="11515"/>
                  <a:pt x="10800" y="12230"/>
                </a:cubicBezTo>
                <a:lnTo>
                  <a:pt x="10800" y="20170"/>
                </a:lnTo>
                <a:cubicBezTo>
                  <a:pt x="10800" y="2088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34"/>
          <p:cNvSpPr/>
          <p:nvPr/>
        </p:nvSpPr>
        <p:spPr>
          <a:xfrm>
            <a:off x="3924360" y="213372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节，介绍屏风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35"/>
          <p:cNvSpPr/>
          <p:nvPr/>
        </p:nvSpPr>
        <p:spPr>
          <a:xfrm>
            <a:off x="3924360" y="3068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节，屏风的种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36"/>
          <p:cNvSpPr/>
          <p:nvPr/>
        </p:nvSpPr>
        <p:spPr>
          <a:xfrm>
            <a:off x="3851280" y="462744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四节，屏风在设置上应 注意的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37"/>
          <p:cNvSpPr/>
          <p:nvPr/>
        </p:nvSpPr>
        <p:spPr>
          <a:xfrm>
            <a:off x="2268360" y="5300640"/>
            <a:ext cx="687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五节，总结全文，再次强调屏风的作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作意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WordArt 1039" descr=""/>
          <p:cNvPicPr/>
          <p:nvPr/>
        </p:nvPicPr>
        <p:blipFill>
          <a:blip r:embed="rId2"/>
          <a:stretch/>
        </p:blipFill>
        <p:spPr>
          <a:xfrm>
            <a:off x="2109960" y="3413160"/>
            <a:ext cx="64544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43" descr="FR6061"/>
          <p:cNvPicPr/>
          <p:nvPr/>
        </p:nvPicPr>
        <p:blipFill>
          <a:blip r:embed="rId1"/>
          <a:stretch/>
        </p:blipFill>
        <p:spPr>
          <a:xfrm>
            <a:off x="-612720" y="-243000"/>
            <a:ext cx="10153440" cy="7101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028"/>
          <p:cNvSpPr/>
          <p:nvPr/>
        </p:nvSpPr>
        <p:spPr>
          <a:xfrm>
            <a:off x="1871640" y="461880"/>
            <a:ext cx="75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具体介绍了关于“屏”的哪些知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29"/>
          <p:cNvSpPr/>
          <p:nvPr/>
        </p:nvSpPr>
        <p:spPr>
          <a:xfrm>
            <a:off x="468360" y="14698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其所在空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30"/>
          <p:cNvSpPr/>
          <p:nvPr/>
        </p:nvSpPr>
        <p:spPr>
          <a:xfrm>
            <a:off x="2916360" y="1341360"/>
            <a:ext cx="71280" cy="85896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58960"/>
              <a:gd name="textAreaBottom" fmla="*/ 836640 h 85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31"/>
          <p:cNvSpPr/>
          <p:nvPr/>
        </p:nvSpPr>
        <p:spPr>
          <a:xfrm>
            <a:off x="2771640" y="256536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32"/>
          <p:cNvSpPr/>
          <p:nvPr/>
        </p:nvSpPr>
        <p:spPr>
          <a:xfrm>
            <a:off x="2771640" y="458640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33"/>
          <p:cNvSpPr/>
          <p:nvPr/>
        </p:nvSpPr>
        <p:spPr>
          <a:xfrm>
            <a:off x="468360" y="306864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室外屏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34"/>
          <p:cNvSpPr/>
          <p:nvPr/>
        </p:nvSpPr>
        <p:spPr>
          <a:xfrm>
            <a:off x="395280" y="492588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室内屏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35"/>
          <p:cNvSpPr/>
          <p:nvPr/>
        </p:nvSpPr>
        <p:spPr>
          <a:xfrm>
            <a:off x="3132000" y="1243080"/>
            <a:ext cx="23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室外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36"/>
          <p:cNvSpPr/>
          <p:nvPr/>
        </p:nvSpPr>
        <p:spPr>
          <a:xfrm>
            <a:off x="3100320" y="1819440"/>
            <a:ext cx="32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室内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37"/>
          <p:cNvSpPr/>
          <p:nvPr/>
        </p:nvSpPr>
        <p:spPr>
          <a:xfrm>
            <a:off x="3218040" y="2471760"/>
            <a:ext cx="53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避免从门外直接望到厅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38"/>
          <p:cNvSpPr/>
          <p:nvPr/>
        </p:nvSpPr>
        <p:spPr>
          <a:xfrm>
            <a:off x="3276720" y="299556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屏风上有书有画，是一种艺术点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39"/>
          <p:cNvSpPr/>
          <p:nvPr/>
        </p:nvSpPr>
        <p:spPr>
          <a:xfrm>
            <a:off x="3243240" y="3500280"/>
            <a:ext cx="37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挡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40"/>
          <p:cNvSpPr/>
          <p:nvPr/>
        </p:nvSpPr>
        <p:spPr>
          <a:xfrm>
            <a:off x="3241800" y="3933720"/>
            <a:ext cx="44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空间仍然是流动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41"/>
          <p:cNvSpPr/>
          <p:nvPr/>
        </p:nvSpPr>
        <p:spPr>
          <a:xfrm>
            <a:off x="3160800" y="4581360"/>
            <a:ext cx="45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帷幕相同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42"/>
          <p:cNvSpPr/>
          <p:nvPr/>
        </p:nvSpPr>
        <p:spPr>
          <a:xfrm>
            <a:off x="3132000" y="5372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缓冲一下视线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44">
            <a:hlinkClick r:id="rId4" action="ppaction://hlinksldjump"/>
          </p:cNvPr>
          <p:cNvSpPr/>
          <p:nvPr/>
        </p:nvSpPr>
        <p:spPr>
          <a:xfrm>
            <a:off x="6732720" y="573408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3_pingfen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755640" y="5983200"/>
            <a:ext cx="2016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室外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721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611280" y="5910120"/>
            <a:ext cx="2160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室内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54" descr="FR6061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28"/>
          <p:cNvSpPr/>
          <p:nvPr/>
        </p:nvSpPr>
        <p:spPr>
          <a:xfrm>
            <a:off x="684360" y="206064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按建造材料及其装饰的华丽程度分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29"/>
          <p:cNvSpPr/>
          <p:nvPr/>
        </p:nvSpPr>
        <p:spPr>
          <a:xfrm>
            <a:off x="2195640" y="1341360"/>
            <a:ext cx="360360" cy="324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30"/>
          <p:cNvSpPr/>
          <p:nvPr/>
        </p:nvSpPr>
        <p:spPr>
          <a:xfrm>
            <a:off x="2916360" y="981000"/>
            <a:ext cx="15112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金 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31"/>
          <p:cNvSpPr/>
          <p:nvPr/>
        </p:nvSpPr>
        <p:spPr>
          <a:xfrm>
            <a:off x="5435640" y="1058760"/>
            <a:ext cx="18716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银 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32"/>
          <p:cNvSpPr/>
          <p:nvPr/>
        </p:nvSpPr>
        <p:spPr>
          <a:xfrm>
            <a:off x="2916360" y="2139840"/>
            <a:ext cx="1584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锦 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33"/>
          <p:cNvSpPr/>
          <p:nvPr/>
        </p:nvSpPr>
        <p:spPr>
          <a:xfrm>
            <a:off x="5435640" y="2133720"/>
            <a:ext cx="15112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画 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34"/>
          <p:cNvSpPr/>
          <p:nvPr/>
        </p:nvSpPr>
        <p:spPr>
          <a:xfrm>
            <a:off x="2914560" y="3147840"/>
            <a:ext cx="19447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石 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35"/>
          <p:cNvSpPr/>
          <p:nvPr/>
        </p:nvSpPr>
        <p:spPr>
          <a:xfrm>
            <a:off x="5364000" y="31417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木 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36"/>
          <p:cNvSpPr/>
          <p:nvPr/>
        </p:nvSpPr>
        <p:spPr>
          <a:xfrm>
            <a:off x="2916360" y="42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竹 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39"/>
          <p:cNvSpPr/>
          <p:nvPr/>
        </p:nvSpPr>
        <p:spPr>
          <a:xfrm>
            <a:off x="4184280" y="5157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行楷"/>
              </a:rPr>
              <a:t>实用功能和艺术装饰功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32" descr="FR6061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29"/>
          <p:cNvSpPr/>
          <p:nvPr/>
        </p:nvSpPr>
        <p:spPr>
          <a:xfrm>
            <a:off x="2771640" y="83664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理解引用古诗词的用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30"/>
          <p:cNvSpPr/>
          <p:nvPr/>
        </p:nvSpPr>
        <p:spPr>
          <a:xfrm>
            <a:off x="1187280" y="177336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古诗词句，使全文具有了浓浓的诗意和韵味，而这和本文说明对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屏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种中国传统器具是相称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31"/>
          <p:cNvSpPr/>
          <p:nvPr/>
        </p:nvSpPr>
        <p:spPr>
          <a:xfrm>
            <a:off x="1332000" y="450864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突显了中国传统文化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07:42:03Z</dcterms:created>
  <dc:creator>清华同方思科</dc:creator>
  <dc:description/>
  <dc:language>en-US</dc:language>
  <cp:lastModifiedBy>岳宝丽</cp:lastModifiedBy>
  <dcterms:modified xsi:type="dcterms:W3CDTF">2012-08-13T02:35:53Z</dcterms:modified>
  <cp:revision>23</cp:revision>
  <dc:subject/>
  <dc:title>幻灯片 1</dc:title>
</cp:coreProperties>
</file>