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917-7E1F-4F56-92CF-1A34C74E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3BA4-966D-460D-8771-9921F4CF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C3B-33B9-420C-9864-B6B37F2C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C1A-C14C-4D83-9247-6BD8091A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415-C699-44D8-877E-672675E6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3A7-37D8-4D7A-BE42-5217E803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AE1-C161-4925-97BC-B9CBE2E2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3AC-35C6-4271-B86D-6C43A2CA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3AB-2EEA-4049-8D96-99F4286A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20F-6BE7-48AF-A606-4EF6F11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406-BC5F-4468-B091-6E41B78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905-A242-4197-912E-3519FFD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D67C-5BB4-488B-A1BC-A85C42C1B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gugong"/>
          <p:cNvPicPr/>
          <p:nvPr/>
        </p:nvPicPr>
        <p:blipFill>
          <a:blip r:embed="rId1"/>
          <a:stretch/>
        </p:blipFill>
        <p:spPr>
          <a:xfrm>
            <a:off x="0" y="0"/>
            <a:ext cx="9144000" cy="678024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755640" y="1197000"/>
            <a:ext cx="7704000" cy="18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故宫博物院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middlehall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468360" y="333360"/>
            <a:ext cx="2374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中和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prot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395280" y="476280"/>
            <a:ext cx="2341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保和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200303250306_45607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1" name="WordArt 4"/>
          <p:cNvSpPr txBox="1"/>
          <p:nvPr/>
        </p:nvSpPr>
        <p:spPr>
          <a:xfrm>
            <a:off x="6877080" y="765000"/>
            <a:ext cx="20541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保和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p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4"/>
          <p:cNvSpPr txBox="1"/>
          <p:nvPr/>
        </p:nvSpPr>
        <p:spPr>
          <a:xfrm>
            <a:off x="6300720" y="333360"/>
            <a:ext cx="24145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乾清宫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hun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4"/>
          <p:cNvSpPr txBox="1"/>
          <p:nvPr/>
        </p:nvSpPr>
        <p:spPr>
          <a:xfrm>
            <a:off x="6516720" y="404640"/>
            <a:ext cx="219852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交泰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79280" y="1084320"/>
            <a:ext cx="10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清 代 放 置 寶 璽 的 地 方。 這 里 收 藏 著 二 十 五 方 代 表 皇 權 的 印 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用 金 盒 盛 裝， 黃 綢 覆 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1042920" y="602136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清 代 放 置 寶 璽 的 地 方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tranqu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6873840" y="765000"/>
            <a:ext cx="22701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坤宁宫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50920" y="1229040"/>
            <a:ext cx="143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皇 后 的 寢 宮。 圖 為 坤 寧 宮 東 側 室， 是 皇 帝 大 婚 時 的 洞 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大 婚 時 皇 后 只 在 此 居 住 三 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然 后 回 到 各 自 所 住 的 宮 內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gard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4"/>
          <p:cNvSpPr txBox="1"/>
          <p:nvPr/>
        </p:nvSpPr>
        <p:spPr>
          <a:xfrm>
            <a:off x="324000" y="549360"/>
            <a:ext cx="24145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御花园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northg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89" name="WordArt 4"/>
          <p:cNvSpPr txBox="1"/>
          <p:nvPr/>
        </p:nvSpPr>
        <p:spPr>
          <a:xfrm>
            <a:off x="324000" y="476280"/>
            <a:ext cx="241452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神武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6588000" y="981000"/>
            <a:ext cx="182592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景山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：概括说明故宫的称属、历史及现状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：是全文的重点，概括了故宫博物院的历史、现状、规模、布局特色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—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ist009_magic02_02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故宫（紫禁城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371600" y="1981080"/>
            <a:ext cx="718668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紫：紫薇垣（天地之宫），天子所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禁：守卫森严，常人难以涉足的禁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简介故宫总体布局及建筑特色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紫禁城正门（午门）内外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安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端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午门（五凤楼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庭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水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汉白玉石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和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大殿（紫禁城中心）外观、规模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太和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◆外形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景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置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途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和殿： 概貌、用途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和殿：用途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）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朝”“内廷”通道（分界地带）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763640" y="2133720"/>
            <a:ext cx="441360" cy="3743280"/>
          </a:xfrm>
          <a:custGeom>
            <a:avLst/>
            <a:gdLst>
              <a:gd name="textAreaLeft" fmla="*/ 281880 w 441360"/>
              <a:gd name="textAreaRight" fmla="*/ 441720 w 441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611280" y="3789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前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乾清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途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三宫      交泰殿：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坤宁宫：用途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与前三殿比较）写后三宫特点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御花园（园林特色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从景山鸟瞰故宫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3362400" y="1700280"/>
            <a:ext cx="142920" cy="1584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684440" y="1628640"/>
            <a:ext cx="144360" cy="2952720"/>
          </a:xfrm>
          <a:custGeom>
            <a:avLst/>
            <a:gdLst>
              <a:gd name="textAreaLeft" fmla="*/ 92160 w 144360"/>
              <a:gd name="textAreaRight" fmla="*/ 144360 w 14436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685800" y="2852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内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“前朝”中作者重点介绍了哪个大殿，为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和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三大殿的中心，皇帝的宝座在此，是显示皇威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故宫建筑群的中心，最全面最突出地体现了故宫的本质特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“内廷”中作者重点介绍了哪个宫，为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乾清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皇帝处理日常政务，批阅奏章的地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介绍太和殿时，立足点是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什么顺序介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书上圈点出方位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足点是正中的朱漆方台和雕金蟠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空间顺序介绍的，按空间顺序写的文字，要有一个立足点，离开立足点，就无法确立方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太和殿为什么要设在中轴线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内景的主要特点是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强调皇权这个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内景的主要特点是彩绘了众多的龙的图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皇帝自命为真龙天子，这是皇权的象征，所以用龙来突出皇帝的尊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三宫”的图案和前三殿有什么不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三宫”彩绘中凤凰逐渐增加，出现了双凤朝阳、龙风呈祥、飞凤、舞凤、凤凰牡丹等图案。和前三殿相比庄严肃穆的气氛减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宫从明永乐四年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开始修建，永乐十八年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基本建成，至今已有近六百年的历史了。它集中体现了我国古代建筑艺术的优秀传统和独特风格。在当时社会条件下，能建筑这样高大雄伟的建筑群，充分反映了我国古代劳动人民的智慧和创造才能，在建筑史上具有十分重要的地位，是祖国珍贵的文化遗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头介绍本校觉有特色的一个建筑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ggD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读一篇说明文应掌握的基本程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说明对象的特点（最核心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说明事物的内容（详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说明的顺序及结构（空间；总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恰当的说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说明语言的准确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erid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4"/>
          <p:cNvSpPr txBox="1"/>
          <p:nvPr/>
        </p:nvSpPr>
        <p:spPr>
          <a:xfrm>
            <a:off x="2195640" y="26028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午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harmon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2627280" y="26028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太和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11"/>
          <p:cNvPicPr/>
          <p:nvPr/>
        </p:nvPicPr>
        <p:blipFill>
          <a:blip r:embed="rId1"/>
          <a:stretch/>
        </p:blipFill>
        <p:spPr>
          <a:xfrm>
            <a:off x="0" y="0"/>
            <a:ext cx="853272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12"/>
          <p:cNvPicPr/>
          <p:nvPr/>
        </p:nvPicPr>
        <p:blipFill>
          <a:blip r:embed="rId1"/>
          <a:stretch/>
        </p:blipFill>
        <p:spPr>
          <a:xfrm>
            <a:off x="0" y="0"/>
            <a:ext cx="9468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puser</cp:lastModifiedBy>
  <dcterms:modified xsi:type="dcterms:W3CDTF">2013-10-29T11:48:1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