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gif" ContentType="image/gif"/>
  <Override PartName="/ppt/media/image20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projctor.wav" ContentType="audio/x-wav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43.gif" ContentType="image/gif"/>
  <Override PartName="/ppt/media/image32.jpeg" ContentType="image/jpeg"/>
  <Override PartName="/ppt/media/image5.jpeg" ContentType="image/jpeg"/>
  <Override PartName="/ppt/media/image49.jpeg" ContentType="image/jpeg"/>
  <Override PartName="/ppt/media/image50.gif" ContentType="image/gif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18.png" ContentType="image/pn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D05-DB4A-49A9-B698-E86B3BBE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246-CF41-4E84-B02F-18F44CDF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D5A-C230-43EB-9A85-D54EC46D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F1E-57B7-4D0A-BEF0-B546F765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B90-6FCF-4A10-BFD5-C9F2028F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723-999C-4B54-B2F9-5DA2087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EEF-BFC0-406E-85B8-A24F18BF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CF9-17D7-42AF-8394-7BAD951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7A2-4E5D-4987-A971-0E7EB4D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E8C-1BBE-4B9C-8031-6D1AF35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66C-1A92-46E8-B124-26BBD5A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1EF-7064-4FED-AEE7-96E0AB9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830-EBB7-409D-9DDB-EF12FE6E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hyperlink" Target="259,25,&#24187;&#28783;&#29255; 25" TargetMode="External"/><Relationship Id="rId4" Type="http://schemas.openxmlformats.org/officeDocument/2006/relationships/hyperlink" Target="259,26,&#24187;&#28783;&#29255; 26" TargetMode="External"/><Relationship Id="rId5" Type="http://schemas.openxmlformats.org/officeDocument/2006/relationships/hyperlink" Target="259,28,&#24187;&#28783;&#29255; 28" TargetMode="External"/><Relationship Id="rId6" Type="http://schemas.openxmlformats.org/officeDocument/2006/relationships/hyperlink" Target="286,30,&#24187;&#28783;&#29255; 30" TargetMode="External"/><Relationship Id="rId7" Type="http://schemas.openxmlformats.org/officeDocument/2006/relationships/hyperlink" Target="259,33,&#24187;&#28783;&#29255; 33" TargetMode="External"/><Relationship Id="rId8" Type="http://schemas.openxmlformats.org/officeDocument/2006/relationships/hyperlink" Target="259,34,&#24187;&#28783;&#29255; 34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259,37,&#24187;&#28783;&#29255; 37" TargetMode="External"/><Relationship Id="rId2" Type="http://schemas.openxmlformats.org/officeDocument/2006/relationships/hyperlink" Target="262,33,&#24187;&#28783;&#29255; 33" TargetMode="External"/><Relationship Id="rId3" Type="http://schemas.openxmlformats.org/officeDocument/2006/relationships/hyperlink" Target="259,21,&#24187;&#28783;&#29255; 21" TargetMode="External"/><Relationship Id="rId4" Type="http://schemas.openxmlformats.org/officeDocument/2006/relationships/hyperlink" Target="259,21,&#24187;&#28783;&#29255; 21" TargetMode="External"/><Relationship Id="rId5" Type="http://schemas.openxmlformats.org/officeDocument/2006/relationships/hyperlink" Target="259,21,&#24187;&#28783;&#29255; 21" TargetMode="External"/><Relationship Id="rId6" Type="http://schemas.openxmlformats.org/officeDocument/2006/relationships/hyperlink" Target="259,21,&#24187;&#28783;&#29255; 21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59,32,&#24187;&#28783;&#29255; 32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59,36,&#24187;&#28783;&#29255; 3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inyue13.com/sreenbz/79741_7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travel.dahangzhou.com/fengjing/26/5.htm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a-gui.com/Picture/PicSmall.asp?SmallClassName=&amp;pageno=24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a-gui.com/Picture/PicSmall.asp?SmallClassName=&amp;pageno=25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www.a-gui.com/Picture/PicSmall.asp?SmallClassName=&#33487;&#24030;&#22253;&#26519;&amp;pageno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www.98desk.com/desk/class3/687/2a0229873fefc2a4.htm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photo.mofile.com/cn/viewpicture/multiSizePicture.do?picId=R1S9XDZAX5_201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hi.baidu.com/&#28248;&#28525;&#30340;&#38518;&#38518;/album/item/13d1124523f58928cffca3e5.html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http://hi.baidu.com/&#20551;&#20844;&#23376;/album/item/a9872b8f91db13e0f01f3693.html" TargetMode="External"/><Relationship Id="rId18" Type="http://schemas.openxmlformats.org/officeDocument/2006/relationships/image" Target="../media/image11.jpeg"/><Relationship Id="rId19" Type="http://schemas.openxmlformats.org/officeDocument/2006/relationships/image" Target="../media/image12.png"/><Relationship Id="rId20" Type="http://schemas.openxmlformats.org/officeDocument/2006/relationships/image" Target="../media/image13.jpeg"/><Relationship Id="rId21" Type="http://schemas.openxmlformats.org/officeDocument/2006/relationships/image" Target="../media/image14.jpeg"/><Relationship Id="rId22" Type="http://schemas.openxmlformats.org/officeDocument/2006/relationships/image" Target="../media/image15.jpeg"/><Relationship Id="rId2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8900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世界文化遗产——苏州园林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43828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完美的图   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447920"/>
            <a:ext cx="228600" cy="3429000"/>
            <a:chOff x="2438280" y="1447920"/>
            <a:chExt cx="228600" cy="3429000"/>
          </a:xfrm>
        </p:grpSpPr>
        <p:sp>
          <p:nvSpPr>
            <p:cNvPr id="111" name=""/>
            <p:cNvSpPr/>
            <p:nvPr/>
          </p:nvSpPr>
          <p:spPr>
            <a:xfrm>
              <a:off x="2438280" y="1447920"/>
              <a:ext cx="2286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1447920"/>
              <a:ext cx="0" cy="3429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4876920"/>
              <a:ext cx="1828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666880" y="1143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亭台轩榭的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286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假山池沼的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花草树木的映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495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讲究近景远景的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124080"/>
            <a:ext cx="3808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657600"/>
            <a:ext cx="3049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1143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3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4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6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5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6019920"/>
            <a:ext cx="13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5334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分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3320" y="5334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8672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4440" y="1447920"/>
            <a:ext cx="729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内容上一一对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3886200"/>
            <a:ext cx="17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000" y="68580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讲究亭台轩榭的布局</a:t>
            </a:r>
            <a:endParaRPr b="1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Picture 27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4114800" cy="236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2514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的建筑是图案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园林是美术画，美术画要求自然之趣，是不讲究对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53352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讲究假山池沼的配合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504960" cy="257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6236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狮 子 林"/>
          <p:cNvPicPr/>
          <p:nvPr/>
        </p:nvPicPr>
        <p:blipFill>
          <a:blip r:embed="rId3"/>
          <a:stretch/>
        </p:blipFill>
        <p:spPr>
          <a:xfrm>
            <a:off x="2666880" y="1828800"/>
            <a:ext cx="289584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耦 园 假 山"/>
          <p:cNvPicPr/>
          <p:nvPr/>
        </p:nvPicPr>
        <p:blipFill>
          <a:blip r:embed="rId4"/>
          <a:stretch/>
        </p:blipFill>
        <p:spPr>
          <a:xfrm>
            <a:off x="5867280" y="4267080"/>
            <a:ext cx="2743200" cy="2208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9880" y="4419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山的堆叠，是一项艺术而不仅是技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133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池沼或河道的边沿很少砌齐整的石岸，总是高低屈曲任其自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52480" y="3048120"/>
            <a:ext cx="5639040" cy="5814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33"/>
                </a:solidFill>
                <a:latin typeface="Times New Roman"/>
              </a:rPr>
              <a:t>讲究花草树木的映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3352680" cy="19717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724280" y="4343400"/>
            <a:ext cx="3276720" cy="2057400"/>
            <a:chOff x="4724280" y="4343400"/>
            <a:chExt cx="3276720" cy="2057400"/>
          </a:xfrm>
        </p:grpSpPr>
        <p:sp>
          <p:nvSpPr>
            <p:cNvPr id="147" name=""/>
            <p:cNvSpPr/>
            <p:nvPr/>
          </p:nvSpPr>
          <p:spPr>
            <a:xfrm>
              <a:off x="4724280" y="4343400"/>
              <a:ext cx="3276720" cy="2057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4" descr=""/>
            <p:cNvPicPr/>
            <p:nvPr/>
          </p:nvPicPr>
          <p:blipFill>
            <a:blip r:embed="rId3"/>
            <a:stretch/>
          </p:blipFill>
          <p:spPr>
            <a:xfrm>
              <a:off x="4800600" y="4419720"/>
              <a:ext cx="316224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838080" y="4343400"/>
            <a:ext cx="3200400" cy="2133720"/>
            <a:chOff x="838080" y="4343400"/>
            <a:chExt cx="3200400" cy="2133720"/>
          </a:xfrm>
        </p:grpSpPr>
        <p:sp>
          <p:nvSpPr>
            <p:cNvPr id="150" name=""/>
            <p:cNvSpPr/>
            <p:nvPr/>
          </p:nvSpPr>
          <p:spPr>
            <a:xfrm>
              <a:off x="838080" y="4343400"/>
              <a:ext cx="3200400" cy="2133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Picture 5" descr=""/>
            <p:cNvPicPr/>
            <p:nvPr/>
          </p:nvPicPr>
          <p:blipFill>
            <a:blip r:embed="rId4"/>
            <a:stretch/>
          </p:blipFill>
          <p:spPr>
            <a:xfrm>
              <a:off x="914400" y="4425840"/>
              <a:ext cx="3085920" cy="197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876920" y="457200"/>
            <a:ext cx="3124080" cy="1905120"/>
            <a:chOff x="4876920" y="457200"/>
            <a:chExt cx="3124080" cy="1905120"/>
          </a:xfrm>
        </p:grpSpPr>
        <p:sp>
          <p:nvSpPr>
            <p:cNvPr id="153" name=""/>
            <p:cNvSpPr/>
            <p:nvPr/>
          </p:nvSpPr>
          <p:spPr>
            <a:xfrm>
              <a:off x="4876920" y="457200"/>
              <a:ext cx="3124080" cy="1905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Picture 10" descr=""/>
            <p:cNvPicPr/>
            <p:nvPr/>
          </p:nvPicPr>
          <p:blipFill>
            <a:blip r:embed="rId5"/>
            <a:stretch/>
          </p:blipFill>
          <p:spPr>
            <a:xfrm>
              <a:off x="4953240" y="527040"/>
              <a:ext cx="2971800" cy="17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971640" y="378936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落叶树和常绿树相间，花时不同的多种花树相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7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高树与低树俯仰生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838080" y="4495680"/>
            <a:ext cx="2590920" cy="1828800"/>
            <a:chOff x="838080" y="4495680"/>
            <a:chExt cx="2590920" cy="1828800"/>
          </a:xfrm>
        </p:grpSpPr>
        <p:sp>
          <p:nvSpPr>
            <p:cNvPr id="158" name=""/>
            <p:cNvSpPr/>
            <p:nvPr/>
          </p:nvSpPr>
          <p:spPr>
            <a:xfrm>
              <a:off x="914400" y="4572000"/>
              <a:ext cx="2514600" cy="175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Picture 2" descr=""/>
            <p:cNvPicPr/>
            <p:nvPr/>
          </p:nvPicPr>
          <p:blipFill>
            <a:blip r:embed="rId2"/>
            <a:stretch/>
          </p:blipFill>
          <p:spPr>
            <a:xfrm>
              <a:off x="838080" y="4495680"/>
              <a:ext cx="251460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838080" y="304920"/>
            <a:ext cx="2590920" cy="1828800"/>
            <a:chOff x="838080" y="304920"/>
            <a:chExt cx="2590920" cy="1828800"/>
          </a:xfrm>
        </p:grpSpPr>
        <p:sp>
          <p:nvSpPr>
            <p:cNvPr id="161" name=""/>
            <p:cNvSpPr/>
            <p:nvPr/>
          </p:nvSpPr>
          <p:spPr>
            <a:xfrm>
              <a:off x="914400" y="457200"/>
              <a:ext cx="2514600" cy="1676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Picture 3" descr=""/>
            <p:cNvPicPr/>
            <p:nvPr/>
          </p:nvPicPr>
          <p:blipFill>
            <a:blip r:embed="rId3"/>
            <a:stretch/>
          </p:blipFill>
          <p:spPr>
            <a:xfrm>
              <a:off x="838080" y="304920"/>
              <a:ext cx="251460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838080" y="2438280"/>
            <a:ext cx="2590920" cy="1828800"/>
            <a:chOff x="838080" y="2438280"/>
            <a:chExt cx="2590920" cy="1828800"/>
          </a:xfrm>
        </p:grpSpPr>
        <p:sp>
          <p:nvSpPr>
            <p:cNvPr id="164" name=""/>
            <p:cNvSpPr/>
            <p:nvPr/>
          </p:nvSpPr>
          <p:spPr>
            <a:xfrm>
              <a:off x="914400" y="2514600"/>
              <a:ext cx="2514600" cy="175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Picture 4" descr=""/>
            <p:cNvPicPr/>
            <p:nvPr/>
          </p:nvPicPr>
          <p:blipFill>
            <a:blip r:embed="rId4"/>
            <a:stretch/>
          </p:blipFill>
          <p:spPr>
            <a:xfrm>
              <a:off x="838080" y="2438280"/>
              <a:ext cx="251460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3581280" y="7621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苏州园林的墙壁上有砖砌的镂空图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1148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廊子是隔而不隔，界而未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33920" y="251460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讲究近景远景的层次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448400" y="4952880"/>
            <a:ext cx="169560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60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每一个角落的图画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4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5" descr=""/>
          <p:cNvPicPr/>
          <p:nvPr/>
        </p:nvPicPr>
        <p:blipFill>
          <a:blip r:embed="rId3"/>
          <a:stretch/>
        </p:blipFill>
        <p:spPr>
          <a:xfrm>
            <a:off x="0" y="4429080"/>
            <a:ext cx="3352680" cy="2428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9" descr=""/>
          <p:cNvPicPr/>
          <p:nvPr/>
        </p:nvPicPr>
        <p:blipFill>
          <a:blip r:embed="rId4"/>
          <a:stretch/>
        </p:blipFill>
        <p:spPr>
          <a:xfrm>
            <a:off x="5257800" y="380880"/>
            <a:ext cx="3886200" cy="2641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3809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色彩的搭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7200" y="5105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讲究门、窗的图案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990720"/>
            <a:ext cx="4779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亭台轩榭的布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假山池沼的配合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花草树木的映衬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近景远景的层次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5053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角落的图画美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门窗的图案美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讲究色彩的搭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1337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完美的图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2193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119700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657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160020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3962520"/>
            <a:ext cx="53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细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止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1752480"/>
            <a:ext cx="228600" cy="289584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76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824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分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02840" y="548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总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8880" y="533412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867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03280" y="1773360"/>
            <a:ext cx="6172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说明苏州园林在园林艺术中的重要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-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者从园林建筑设施的各个方面，说明了苏州园林图画美的总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指出苏州园林的美还不止以上这些，引人回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32000" y="26028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层次的说明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1600200"/>
            <a:ext cx="304920" cy="4343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 rot="5400000">
            <a:off x="-1512000" y="3607560"/>
            <a:ext cx="42465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隶书"/>
              </a:rPr>
              <a:t>苏州园林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762120"/>
            <a:ext cx="708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57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从哪几个方面说明苏州园林的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073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3000" y="1676520"/>
            <a:ext cx="533520" cy="4724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1600200"/>
            <a:ext cx="4267440" cy="30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亭台轩榭的布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假山池沼的配合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花草树木的映衬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近景远景的层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752480"/>
            <a:ext cx="152280" cy="236232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4419720"/>
            <a:ext cx="44956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角落的布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图）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门窗的琢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图）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油漆的调配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46483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4876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细微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26640" y="3124080"/>
            <a:ext cx="1155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由主到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探究与研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06668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亭台轩榭的布局有什么特点？（用文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的话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32560" y="23623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——“绝不讲究对称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44720" y="297180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文中哪句话紧扣“图画美”这一特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657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“我想，用图画来比方，对称的建筑是图案画，不是美术画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这段用了什么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04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三段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5160" y="5257800"/>
            <a:ext cx="383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打比方（图案画和美术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2286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探究与研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020000" y="3645000"/>
            <a:ext cx="1371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叶圣陶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2000" y="1413000"/>
            <a:ext cx="69134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华文行楷"/>
              </a:rPr>
              <a:t>苏州园林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24680" y="344520"/>
            <a:ext cx="26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四段</a:t>
            </a:r>
            <a:r>
              <a:rPr b="0" lang="en-US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(1)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1523880"/>
            <a:ext cx="381240" cy="4953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752480"/>
            <a:ext cx="243828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假山的堆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191120"/>
            <a:ext cx="23619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池沼的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914400"/>
            <a:ext cx="533160" cy="2514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838080"/>
            <a:ext cx="4724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是一项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艺术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而不是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19200" y="1752480"/>
            <a:ext cx="29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平多阅历，胸中有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壑”与“忘却苏州城市，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觉身在山间。”照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581280"/>
            <a:ext cx="685800" cy="2667240"/>
          </a:xfrm>
          <a:custGeom>
            <a:avLst/>
            <a:gdLst>
              <a:gd name="textAreaLeft" fmla="*/ 438120 w 685800"/>
              <a:gd name="textAreaRight" fmla="*/ 686160 w 6858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505320"/>
            <a:ext cx="470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宽畅，一种成河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高低屈曲任其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392400" y="3429000"/>
            <a:ext cx="152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自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53280" y="573120"/>
            <a:ext cx="26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四段</a:t>
            </a:r>
            <a:r>
              <a:rPr b="0" lang="en-US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(2)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523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本段哪些句子紧扣“图画美”这一特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666880"/>
            <a:ext cx="70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819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“ ……这也是为了取得从各个角度看都成一幅画的效果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343400"/>
            <a:ext cx="6933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览者看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“鱼戏莲叶间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又是入画的一景。”        （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00640" y="496800"/>
            <a:ext cx="26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五段</a:t>
            </a:r>
            <a:r>
              <a:rPr b="0" lang="en-US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(1)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33040" y="16272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花草树木的映衬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7160" y="2362320"/>
            <a:ext cx="30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——“着眼在画意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32767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本段用了哪些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4191120"/>
            <a:ext cx="6781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作比较：与松柏，道旁树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举例子：“古老的藤萝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比方：把藤萝比作一幅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28954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“苏州园林栽种和修剪树木也着眼在画意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几个园里有古老的藤萝，盘曲嶙峋的枝干就是一幅好画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03840" y="1523880"/>
            <a:ext cx="32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、本段哪些句子紧扣“图画美”这一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1880" y="496800"/>
            <a:ext cx="26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五段</a:t>
            </a:r>
            <a:r>
              <a:rPr b="0" lang="en-US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(2)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4644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第六段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94680" y="1676520"/>
            <a:ext cx="53496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近景远景的层次如何安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利用花墙、廊子或镜子为苏州园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加景致的层次和深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、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“隔而不隔，界而未界”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（图）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尽管花墙和廊子作为一个隔界把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致分为几个部分，但是好像并没有把景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9964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感情的朗读课文，划出文中你认为写得好的句子，思考好有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1565280" cy="175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projctor.wav"/>
      </p:stSnd>
    </p:sndAc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498680"/>
            <a:ext cx="81532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cc66"/>
                </a:solidFill>
                <a:latin typeface="Times New Roman"/>
                <a:ea typeface="华文彩云"/>
              </a:rPr>
              <a:t>语言特点：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说出下列句画横线的词的作用——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苏州园林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据说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有一百多处，我到过的不过十多处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谁要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鉴赏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我国的园林，苏州园林就不该错过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务必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使游览者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Times New Roman"/>
              </a:rPr>
              <a:t>无论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站在哪个点上，眼前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总是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一幅完美的图画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我国的建筑，从古代的宫殿到近代的一般住房，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绝大部分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是对称的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苏州园林与北京园林不同，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极少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使用彩绘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）阶砌旁边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栽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几丛书带草。墙上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蔓延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着爬山虎或者蔷蔽木香。如果开窗正对着白色墙壁，太单调了，给</a:t>
            </a:r>
            <a:r>
              <a:rPr b="1" lang="zh-CN" sz="2300" spc="-1" strike="noStrike" u="sng">
                <a:solidFill>
                  <a:srgbClr val="ff3300"/>
                </a:solidFill>
                <a:uFillTx/>
                <a:latin typeface="Times New Roman"/>
              </a:rPr>
              <a:t>补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上几竿竹子或几棵芭蕉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260280"/>
            <a:ext cx="252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探究与研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6920" y="297000"/>
            <a:ext cx="79250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．作比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介绍布局的时候，将苏州园林内亭台轩村的布局跟宫殿和住宅相比； 突出了苏州园林讲究“自然之趣”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介绍花草树木时说，“没有修剪得像宝塔那样的松柏，没有阅兵式似的道旁树”。这既是比喻，又是比较，表现了我国传统的审美观点和民族的特有风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介绍建筑物的色彩时，又与北京的园林相比较，’‘与北京的园林的不同，极少使用彩绘。梁和杜子以及门窗栏杆大多漆广漆，那是不刺眼的颜色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26920" y="260280"/>
            <a:ext cx="7543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举例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，以游览都来到园里，没有一个不心里想着口头说着“如在图画中”的例子，说明苏州园林是一幅完美的图画的特点。再如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中，以几条园里的古藤为例，形象地说明了苏州园林花树的艺术风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摹状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中，对苏州园林树木的栽种和修剪着眼在画意的描摹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说明方法的运用，既突出了事物的特征，又使语言达到了准确、简明而又形象生动的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533520"/>
            <a:ext cx="2590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探究拓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60020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组讨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假如要你来介绍苏州园林，你还有别的思路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80773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04640"/>
            <a:ext cx="102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江南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3040" y="3005280"/>
            <a:ext cx="82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苏州更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1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1"/>
                            </p:stCondLst>
                            <p:childTnLst>
                              <p:par>
                                <p:cTn id="30" nodeType="afterEffect" fill="hold" presetClass="entr" presetID="14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001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001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1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3001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1001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9001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4001"/>
                            </p:stCondLst>
                            <p:childTnLst>
                              <p:par>
                                <p:cTn id="59" nodeType="afterEffect" fill="hold" presetClass="entr" presetID="14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2002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2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2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2002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457200"/>
            <a:ext cx="2590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6960" y="1676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作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04812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提示：先抓住玉峰实验学校的教学楼、实验楼、宿舍、食堂的共同点，先概述，后分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字数为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-303120" y="1066680"/>
            <a:ext cx="2208240" cy="1905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62440" y="2268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华文新魏"/>
                <a:ea typeface="华文新魏"/>
              </a:rPr>
              <a:t>我们的校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403884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434240" y="5715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叶圣陶（右）与老舍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876920" y="380880"/>
            <a:ext cx="3809880" cy="6095880"/>
            <a:chOff x="4876920" y="380880"/>
            <a:chExt cx="3809880" cy="6095880"/>
          </a:xfrm>
        </p:grpSpPr>
        <p:sp>
          <p:nvSpPr>
            <p:cNvPr id="64" name=""/>
            <p:cNvSpPr/>
            <p:nvPr/>
          </p:nvSpPr>
          <p:spPr>
            <a:xfrm>
              <a:off x="4876920" y="380880"/>
              <a:ext cx="3809880" cy="6095880"/>
            </a:xfrm>
            <a:custGeom>
              <a:avLst/>
              <a:gdLst>
                <a:gd name="textAreaLeft" fmla="*/ 185760 w 3809880"/>
                <a:gd name="textAreaRight" fmla="*/ 3624120 w 3809880"/>
                <a:gd name="textAreaTop" fmla="*/ 185760 h 6095880"/>
                <a:gd name="textAreaBottom" fmla="*/ 5910120 h 6095880"/>
              </a:gdLst>
              <a:ahLst/>
              <a:rect l="textAreaLeft" t="textAreaTop" r="textAreaRight" b="textAreaBottom"/>
              <a:pathLst>
                <a:path w="21600" h="34559">
                  <a:moveTo>
                    <a:pt x="3600" y="0"/>
                  </a:moveTo>
                  <a:arcTo wR="3600" hR="3600" stAng="16200000" swAng="-5400000"/>
                  <a:lnTo>
                    <a:pt x="0" y="30959"/>
                  </a:lnTo>
                  <a:arcTo wR="3600" hR="3600" stAng="10800000" swAng="-5400000"/>
                  <a:lnTo>
                    <a:pt x="18000" y="34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144756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叶圣陶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894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98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，著名作家，教育家，原名叶绍鈞，江苏苏州人。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92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年和茅盾、郑振铎等人发起组织了文学研究会，提出“为人生”的主张。代表作有童话《古代英雄的石像》、《稻草人》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长篇小说《倪焕之》，有“优秀的语言艺术家”之称。在语文教学和教材规范化方面也有独特的贡献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5715000" y="685800"/>
              <a:ext cx="2419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228600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轩       榭      池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丘壑        嶙     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镂    空    蔷      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重峦叠    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2520" y="236232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xuā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    （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xi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49680" y="236232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zhǎ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8120" y="29718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h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68760" y="297180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l ín)           (xú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8280" y="3581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lò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1800" y="358128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qiáng)       (wē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9000" y="41911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di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160" y="419112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(zhà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8580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读准下列词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952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听读课文，苏州园林给你留下印象最深的是什么？请试用简短的文字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总是一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03400" y="2766960"/>
            <a:ext cx="6937200" cy="1311120"/>
            <a:chOff x="1103400" y="2766960"/>
            <a:chExt cx="6937200" cy="1311120"/>
          </a:xfrm>
        </p:grpSpPr>
        <p:sp>
          <p:nvSpPr>
            <p:cNvPr id="83" name=""/>
            <p:cNvSpPr/>
            <p:nvPr/>
          </p:nvSpPr>
          <p:spPr>
            <a:xfrm>
              <a:off x="1103400" y="276696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03400" y="276696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952880" y="3276720"/>
            <a:ext cx="342900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留 园"/>
          <p:cNvPicPr/>
          <p:nvPr/>
        </p:nvPicPr>
        <p:blipFill>
          <a:blip r:embed="rId2"/>
          <a:stretch/>
        </p:blipFill>
        <p:spPr>
          <a:xfrm>
            <a:off x="4876920" y="3200400"/>
            <a:ext cx="33908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838080" y="3200400"/>
            <a:ext cx="3505320" cy="2286000"/>
            <a:chOff x="838080" y="3200400"/>
            <a:chExt cx="3505320" cy="2286000"/>
          </a:xfrm>
        </p:grpSpPr>
        <p:sp>
          <p:nvSpPr>
            <p:cNvPr id="88" name=""/>
            <p:cNvSpPr/>
            <p:nvPr/>
          </p:nvSpPr>
          <p:spPr>
            <a:xfrm>
              <a:off x="1066680" y="3276720"/>
              <a:ext cx="327672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10" descr="拙 政 园 之 冬"/>
            <p:cNvPicPr/>
            <p:nvPr/>
          </p:nvPicPr>
          <p:blipFill>
            <a:blip r:embed="rId3"/>
            <a:stretch/>
          </p:blipFill>
          <p:spPr>
            <a:xfrm>
              <a:off x="838080" y="3200400"/>
              <a:ext cx="339084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447920" y="5638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拙政园之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留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43000" y="2666880"/>
            <a:ext cx="6937200" cy="1311120"/>
            <a:chOff x="1143000" y="2666880"/>
            <a:chExt cx="6937200" cy="1311120"/>
          </a:xfrm>
        </p:grpSpPr>
        <p:sp>
          <p:nvSpPr>
            <p:cNvPr id="93" name=""/>
            <p:cNvSpPr/>
            <p:nvPr/>
          </p:nvSpPr>
          <p:spPr>
            <a:xfrm>
              <a:off x="1143000" y="26668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2666880"/>
              <a:ext cx="6937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257800" y="533520"/>
            <a:ext cx="2895480" cy="1904400"/>
            <a:chOff x="5257800" y="533520"/>
            <a:chExt cx="2895480" cy="1904400"/>
          </a:xfrm>
        </p:grpSpPr>
        <p:sp>
          <p:nvSpPr>
            <p:cNvPr id="96" name=""/>
            <p:cNvSpPr/>
            <p:nvPr/>
          </p:nvSpPr>
          <p:spPr>
            <a:xfrm>
              <a:off x="5334120" y="609480"/>
              <a:ext cx="2819160" cy="1828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16" descr="网 师 园"/>
            <p:cNvPicPr/>
            <p:nvPr/>
          </p:nvPicPr>
          <p:blipFill>
            <a:blip r:embed="rId4"/>
            <a:stretch/>
          </p:blipFill>
          <p:spPr>
            <a:xfrm>
              <a:off x="5257800" y="533520"/>
              <a:ext cx="2819520" cy="185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571500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网师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2000" y="18288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完美的图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25905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苏州园林为了达到图画美这个目的，具体设计主要表现在哪几个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2387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590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文第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段中的四个“讲究”的次序能不能调换次序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某公园聘请你为园林设计师，你将会从哪几个方面进行设计，如何设计，让游客有“如在画图中”的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303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苏州园林追求完美的图画，除了上面讨论的四个“讲究”外，还注意了哪些细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162920" y="6477120"/>
            <a:ext cx="533160" cy="380880"/>
          </a:xfrm>
          <a:custGeom>
            <a:avLst/>
            <a:gdLst>
              <a:gd name="textAreaLeft" fmla="*/ 23760 w 533160"/>
              <a:gd name="textAreaRight" fmla="*/ 509400 w 53316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78" y="1350"/>
                </a:lnTo>
                <a:lnTo>
                  <a:pt x="1350" y="135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78" y="20250"/>
                </a:lnTo>
                <a:lnTo>
                  <a:pt x="28878" y="135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78" y="2025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28" h="21600">
                <a:moveTo>
                  <a:pt x="8070" y="3756"/>
                </a:moveTo>
                <a:lnTo>
                  <a:pt x="22158" y="10800"/>
                </a:lnTo>
                <a:lnTo>
                  <a:pt x="8070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0880" y="4572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华文中宋"/>
                <a:ea typeface="华文中宋"/>
              </a:rPr>
              <a:t>（可结合课文内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06:56:27Z</dcterms:created>
  <dc:creator>赵新革</dc:creator>
  <dc:description>河南省卫辉市孙杏村镇中学 赵新革 TEL：13937390983</dc:description>
  <dc:language>en-US</dc:language>
  <cp:lastModifiedBy>微软用户</cp:lastModifiedBy>
  <dcterms:modified xsi:type="dcterms:W3CDTF">2014-03-07T03:58:46Z</dcterms:modified>
  <cp:revision>185</cp:revision>
  <dc:subject/>
  <dc:title>《苏州园林》多媒体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