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3E0-1005-47F7-88CC-0FB0B419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E8D-3162-4C65-8E1A-D761EC16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F79-122D-4DA8-A0AC-24266EE8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656-B744-4E69-B1BD-3D47ED97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9FCD-7853-400D-BDAA-4EF36315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B6EC-8797-4662-B8FF-A62C8B16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158C-8998-4E5D-9A22-880AB565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1FE-8B50-42A2-A1A4-2D3A2BB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106B-718D-4F2D-A969-7531365F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087D-0F2A-4E6B-BEDD-44D8F883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7A13-7BE9-41D6-8226-C5FDC338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204-3C95-48A5-BEDC-18CFCA94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18A-C8A3-4FCC-8635-9FC4532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9205-0274-4C62-87E8-31B0C3B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DAC0-175F-4E29-8F5E-CE218217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C2C3-4893-40D1-BED8-A853AB59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90C2-258A-4B92-A3E2-29B74660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F2D-CB9B-4B39-81DF-990C8D97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61D-BC5D-462A-809F-85EEBA6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570-ED1C-4F8F-851F-210DFA3D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204-C823-4009-9496-47DD75CA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E5C-D788-4A18-8AC2-968B23A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131-EFAA-425B-A292-1CE193D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924-B2B4-44C9-99E2-E5E6C69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4BB-E91E-4602-B1D5-50A6370957A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67C7-54A6-4B04-ABC9-DAAD3A265CF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桥  之  美</a:t>
            </a:r>
            <a:br>
              <a:rPr sz="4800"/>
            </a:b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作  者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吴冠中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57400" y="3124080"/>
            <a:ext cx="6267600" cy="2364840"/>
            <a:chOff x="2057400" y="3124080"/>
            <a:chExt cx="6267600" cy="23648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2057400" y="3124080"/>
              <a:ext cx="626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429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《清明上河图》虹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2849400"/>
            <a:ext cx="62481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71629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正面举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600200"/>
            <a:ext cx="2666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芦苇—舒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细柳—销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孔—满足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廊、亭—驻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行人—高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形与色—乐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195264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不同环境中的多种多样的形式作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面举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欠缺配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4479840"/>
            <a:ext cx="26668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想寻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构不成图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划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666880" y="1600200"/>
            <a:ext cx="2895480" cy="4913640"/>
            <a:chOff x="2666880" y="1600200"/>
            <a:chExt cx="2895480" cy="4913640"/>
          </a:xfrm>
        </p:grpSpPr>
        <p:sp>
          <p:nvSpPr>
            <p:cNvPr id="141" name=""/>
            <p:cNvSpPr/>
            <p:nvPr/>
          </p:nvSpPr>
          <p:spPr>
            <a:xfrm>
              <a:off x="2666880" y="4495680"/>
              <a:ext cx="2743200" cy="20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南京长江大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钱塘江大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成昆铁路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6880" y="1600200"/>
              <a:ext cx="2895480" cy="30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故乡乌镇石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江南乡间石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湖 上  长 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山区 风雨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清明上河图虹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小径尽头小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比较本文与《中国石拱桥》一文在表达手法和阅读感受上的不同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拓展迁移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请用上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小桥、流水、人家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三个词写一段话，最好能用上一两种修辞手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2860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作者简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99"/>
                </a:solidFill>
                <a:latin typeface="Times New Roman"/>
                <a:ea typeface="黑体"/>
              </a:rPr>
              <a:t>吴冠中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19—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江苏宜兴人，中国现代画家，油画代表作有《长江三峡》、《鲁迅的故乡》，中国画有《春雪》、《狮子林》、《长城》。散文作品《吴冠中人生小品》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99"/>
                </a:solidFill>
                <a:latin typeface="Times New Roman"/>
              </a:rPr>
              <a:t>学习目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有感情的朗读课文，理解作者爱桥的原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品味优美而又富有意味的语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学习从某一角度欣赏艺术作品的方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）、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正音正字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媒介（       ）  煞风景（      ） 和谐（       ）  纤细（        ）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销魂（       ）  颐和园（       ）点缀（       ）  摄影（       ）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）、理解下列词语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美感：对于美的感受或体会。　　驻足：停止脚步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煞它风景：破坏人的兴致的意思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失之毫厘，差之千里：相差虽小而造成的误差或错误极大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）文章引用或化用的名言诗句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落霞与孤鹜齐飞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，秋水共长天一色。     王勃 《滕王阁序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今宵酒醒何处？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杨柳岸晓风残月。       柳永 《雨 霖 铃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失之毫厘，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谬以千里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。                                   《易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枯藤老树昏鸦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，小桥流水人家，古道西风瘦马。夕阳西下，　断肠人在天涯。                  马致远  《天净沙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秋思》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219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</a:rPr>
              <a:t>词语卡片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90920" y="1981080"/>
            <a:ext cx="6553080" cy="825480"/>
            <a:chOff x="2590920" y="1981080"/>
            <a:chExt cx="6553080" cy="825480"/>
          </a:xfrm>
        </p:grpSpPr>
        <p:sp>
          <p:nvSpPr>
            <p:cNvPr id="100" name=""/>
            <p:cNvSpPr/>
            <p:nvPr/>
          </p:nvSpPr>
          <p:spPr>
            <a:xfrm>
              <a:off x="2590920" y="198108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PMingLiU"/>
                </a:rPr>
                <a:t>méi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shà             xié              xiān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90920" y="228600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xiāo                yí              zhuì              shè</a:t>
              </a:r>
              <a:r>
                <a:rPr b="0" lang="en-US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  <a:ea typeface="黑体"/>
              </a:rPr>
              <a:t>说明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是客观的说明事物、阐明事理的一种文体，目的是给读者以科学的知识，科学的认识事物的方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  <a:ea typeface="黑体"/>
              </a:rPr>
              <a:t>常见说明方法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举例子、作比较、下定义、打比方、分类别、列数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81080" y="2362320"/>
            <a:ext cx="6267600" cy="2364480"/>
            <a:chOff x="1981080" y="2362320"/>
            <a:chExt cx="6267600" cy="23644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981080" y="2362320"/>
              <a:ext cx="62676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352680" y="42670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《清明上河图》虹桥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38680" y="3809880"/>
            <a:ext cx="3505320" cy="28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33720" y="5029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南京长江大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思      考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作者是怎样引出“桥”这一话题的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人们（美术工作者）爱桥的原因是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作者爱桥的原因是什么？作者如何产生这样的感情的呢？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743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用一句俗语“我走过的桥比你走过的路还长”引出“桥”的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62320" y="3767040"/>
            <a:ext cx="5943600" cy="1572120"/>
            <a:chOff x="2362320" y="3767040"/>
            <a:chExt cx="5943600" cy="1572120"/>
          </a:xfrm>
        </p:grpSpPr>
        <p:sp>
          <p:nvSpPr>
            <p:cNvPr id="116" name=""/>
            <p:cNvSpPr/>
            <p:nvPr/>
          </p:nvSpPr>
          <p:spPr>
            <a:xfrm>
              <a:off x="2362320" y="3767040"/>
              <a:ext cx="5943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                  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圆的桥洞     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结构美      方的石块     相处和谐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                  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弧的桥背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3886200"/>
              <a:ext cx="304920" cy="12189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3886200"/>
              <a:ext cx="304920" cy="12189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66680" y="6248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缘于桥在不同环境中的多种多样的形式作用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并非……也并非……而是……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一组关联词语仿写一个句子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0:39:03Z</dcterms:created>
  <dc:creator>print</dc:creator>
  <dc:description/>
  <dc:language>en-US</dc:language>
  <cp:lastModifiedBy>MC SYSTEM</cp:lastModifiedBy>
  <dcterms:modified xsi:type="dcterms:W3CDTF">2014-03-07T06:12:09Z</dcterms:modified>
  <cp:revision>25</cp:revision>
  <dc:subject/>
  <dc:title>桥之美 作者：吴冠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