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gif" ContentType="image/gif"/>
  <Override PartName="/ppt/media/image24.jpeg" ContentType="image/jpeg"/>
  <Override PartName="/ppt/media/image21.jpeg" ContentType="image/jpeg"/>
  <Override PartName="/ppt/media/image19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5.wmf" ContentType="image/x-wmf"/>
  <Override PartName="/ppt/media/image14.jpeg" ContentType="image/jpeg"/>
  <Override PartName="/ppt/media/image29.gif" ContentType="image/gif"/>
  <Override PartName="/ppt/media/image9.png" ContentType="image/png"/>
  <Override PartName="/ppt/media/image34.png" ContentType="image/png"/>
  <Override PartName="/ppt/media/image11.gif" ContentType="image/gif"/>
  <Override PartName="/ppt/media/image23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1.jpeg" ContentType="image/jpeg"/>
  <Override PartName="/ppt/media/image10.png" ContentType="image/png"/>
  <Override PartName="/ppt/media/image6.png" ContentType="image/png"/>
  <Override PartName="/ppt/media/image20.jpeg" ContentType="image/jpeg"/>
  <Override PartName="/ppt/media/image26.gif" ContentType="image/gif"/>
  <Override PartName="/ppt/media/image3.png" ContentType="image/png"/>
  <Override PartName="/ppt/media/image17.jpeg" ContentType="image/jpeg"/>
  <Override PartName="/ppt/media/image2.jpeg" ContentType="image/jpeg"/>
  <Override PartName="/ppt/media/image5.png" ContentType="image/png"/>
  <Override PartName="/ppt/media/image16.jpeg" ContentType="image/jpeg"/>
  <Override PartName="/ppt/media/image22.gif" ContentType="image/gif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F63C-7F3C-4E2B-A0D4-F4BA8B02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C907-74FA-464B-86BD-161A058A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2A62-90DE-41C1-B9A7-F84E204BD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3EFD-4BCF-4335-A749-60C347D9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DA4B-DFB9-4DF1-B639-3203E925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E3B5-1AD8-402C-A3B5-738928DA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4070-2E1D-41F4-BA1C-A02788EF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E279-9B89-4DCB-B574-7FD61861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D4DF-EEAD-4202-B8FF-8CC64543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2A11-7119-4EFD-9B99-5931C430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B1B8-536A-4C79-BADD-0A5723A7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D23F-A852-44DA-B66F-37338ED7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9C82-7AA2-4C47-8FDF-E5626053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5663-F054-4EA0-A93E-40790F22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CB3B-4A7D-450E-A448-9FA755D0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428D-A303-4D4B-A371-70408C765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E169-1D91-46CA-B149-5EB31B6D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7B28-CD27-4DD1-938F-C67FE021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49E0-BB7D-4259-8D11-32355954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5CF5-758E-43DF-8D2C-E1FCCDE4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38D3-E30A-4E9D-B88C-ECDCF7E2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1C9D-5037-4521-B199-16FABD67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6D00-C7B7-45BE-8756-B1A1B287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B425-5370-4A61-9355-B115F60C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8E2C-6F89-48DF-94AE-D3B68CFDDF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CD34-932C-4B45-8CAE-3F948DAB8C3A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5.png"/><Relationship Id="rId8" Type="http://schemas.openxmlformats.org/officeDocument/2006/relationships/image" Target="../media/image10.png"/><Relationship Id="rId9" Type="http://schemas.openxmlformats.org/officeDocument/2006/relationships/image" Target="../media/image11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4" name="Picture 4" descr="图片a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7"/>
          <p:cNvSpPr/>
          <p:nvPr/>
        </p:nvSpPr>
        <p:spPr>
          <a:xfrm>
            <a:off x="684360" y="40464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Arial"/>
              </a:rPr>
              <a:t>七嘴八舌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228600" y="1447920"/>
            <a:ext cx="8686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你喜欢信客吗？为什么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诚信无私、任劳任怨、待人宽容、洁身自好、恪尽职守、善良厚道等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324000" y="321300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5" name="Picture 21" descr="woman_teacher_blackboard_md_wht"/>
          <p:cNvPicPr/>
          <p:nvPr/>
        </p:nvPicPr>
        <p:blipFill>
          <a:blip r:embed="rId1"/>
          <a:stretch/>
        </p:blipFill>
        <p:spPr>
          <a:xfrm>
            <a:off x="304920" y="5562720"/>
            <a:ext cx="1143000" cy="1063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2" descr="RT_002"/>
          <p:cNvPicPr/>
          <p:nvPr/>
        </p:nvPicPr>
        <p:blipFill>
          <a:blip r:embed="rId2"/>
          <a:stretch/>
        </p:blipFill>
        <p:spPr>
          <a:xfrm>
            <a:off x="7620120" y="533520"/>
            <a:ext cx="1096920" cy="9144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3"/>
          <p:cNvSpPr/>
          <p:nvPr/>
        </p:nvSpPr>
        <p:spPr>
          <a:xfrm>
            <a:off x="3728160" y="3213000"/>
            <a:ext cx="172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信客死后，为什么要和老信客葬在一 起？ </a:t>
            </a:r>
            <a:br>
              <a:rPr sz="3200"/>
            </a:b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Rectangle 24"/>
          <p:cNvSpPr/>
          <p:nvPr/>
        </p:nvSpPr>
        <p:spPr>
          <a:xfrm>
            <a:off x="395280" y="39337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因为信客理解老信客，同情他，敬重他，感激他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1" name="Picture 4" descr="图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1042920" y="1341360"/>
            <a:ext cx="705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187280" y="3141720"/>
            <a:ext cx="72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971640" y="620640"/>
            <a:ext cx="770580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信客为他人付出了很多，自己却落得遭人误解，饱受委屈，按现代某些价值观衡量，似乎很不划算。你认为他这样做傻不傻？假如让你选择，你会当信客吗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5" name="Picture 9" descr="B09AAE05DBE37BB77058CEF199965422"/>
          <p:cNvPicPr/>
          <p:nvPr/>
        </p:nvPicPr>
        <p:blipFill>
          <a:blip r:embed="rId2"/>
          <a:stretch/>
        </p:blipFill>
        <p:spPr>
          <a:xfrm>
            <a:off x="3851280" y="5013360"/>
            <a:ext cx="1584360" cy="1255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8" name="Picture 5" descr="图片1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6"/>
          <p:cNvSpPr/>
          <p:nvPr/>
        </p:nvSpPr>
        <p:spPr>
          <a:xfrm>
            <a:off x="611280" y="170028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Arial"/>
                <a:ea typeface="黑体"/>
              </a:rPr>
              <a:t>在我们的生活中，你有没有发现像信客一样默默奉献着而又处在社会下层的平凡人？请举一两例，并谈一谈我们应该如何对待他们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WordArt 7"/>
          <p:cNvSpPr txBox="1"/>
          <p:nvPr/>
        </p:nvSpPr>
        <p:spPr>
          <a:xfrm>
            <a:off x="611280" y="189000"/>
            <a:ext cx="2808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寻找“信客”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1028"/>
          <p:cNvSpPr txBox="1"/>
          <p:nvPr/>
        </p:nvSpPr>
        <p:spPr>
          <a:xfrm>
            <a:off x="900000" y="620640"/>
            <a:ext cx="4114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试一试，发挥你的最大潜能！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2" name="Rectangle 1029"/>
          <p:cNvSpPr/>
          <p:nvPr/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信客死后，有很多人来吊唁，假如你就是其中一员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请你为信客撰写墓志铭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5919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995919"/>
                </a:solidFill>
                <a:latin typeface="Arial"/>
              </a:rPr>
              <a:t>提示：墓志铭就是对死者生平事迹或品质的概述，语言力求简洁、通畅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Rectangle 1030"/>
          <p:cNvSpPr/>
          <p:nvPr/>
        </p:nvSpPr>
        <p:spPr>
          <a:xfrm>
            <a:off x="762120" y="68580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6" name="Picture 4" descr="图片10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5"/>
          <p:cNvSpPr/>
          <p:nvPr/>
        </p:nvSpPr>
        <p:spPr>
          <a:xfrm>
            <a:off x="2050920" y="2565360"/>
            <a:ext cx="53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一支蜡烛，奉献默默，一生之中，忍辱负重，光芒四射，蜡烛已尽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0" name="Picture 4" descr="图片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1042920" y="1052640"/>
            <a:ext cx="705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　　好人终有好报。愿你的灵魂在地下安息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　　我尊敬的人呐，你辛苦啦，歇一歇吧，我会日日为你祈祷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00A75A1D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1042920" y="333360"/>
            <a:ext cx="75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 </a:t>
            </a:r>
            <a:r>
              <a:rPr b="1" lang="zh-CN" sz="4000" spc="-1" strike="noStrike">
                <a:solidFill>
                  <a:srgbClr val="cc0066"/>
                </a:solidFill>
                <a:latin typeface="隶书"/>
                <a:ea typeface="隶书"/>
              </a:rPr>
              <a:t>走出课文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cc0066"/>
                </a:solidFill>
                <a:latin typeface="隶书"/>
                <a:ea typeface="隶书"/>
              </a:rPr>
              <a:t> </a:t>
            </a:r>
            <a:r>
              <a:rPr b="1" lang="zh-CN" sz="4400" spc="-1" strike="noStrike">
                <a:solidFill>
                  <a:srgbClr val="cc0066"/>
                </a:solidFill>
                <a:latin typeface="隶书"/>
                <a:ea typeface="隶书"/>
              </a:rPr>
              <a:t>联系生活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隶书"/>
                <a:ea typeface="隶书"/>
              </a:rPr>
              <a:t>             </a:t>
            </a:r>
            <a:r>
              <a:rPr b="1" lang="zh-CN" sz="4400" spc="-1" strike="noStrike">
                <a:solidFill>
                  <a:srgbClr val="cc0066"/>
                </a:solidFill>
                <a:latin typeface="隶书"/>
                <a:ea typeface="隶书"/>
              </a:rPr>
              <a:t>体验反思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466560" y="1916280"/>
            <a:ext cx="867744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信客，作为一种职业已经消失了，而作为一辈子默默奉献的一类人，却没有绝迹，也不会绝迹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诚信永是做人之本，请结合现实生活和自己的经历，谈谈你对诚信的理解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WordArt 5"/>
          <p:cNvSpPr txBox="1"/>
          <p:nvPr/>
        </p:nvSpPr>
        <p:spPr>
          <a:xfrm>
            <a:off x="1523880" y="5105520"/>
            <a:ext cx="684216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宋体"/>
              </a:rPr>
              <a:t>聆听你的心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宋体"/>
              <a:ea typeface="宋体"/>
            </a:endParaRPr>
          </a:p>
        </p:txBody>
      </p:sp>
    </p:spTree>
  </p:cSld>
  <p:transition spd="slow">
    <p:pull dir="ru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99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5280" y="764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诚信是我们做人的基本原则，人、群体、社会是不可以不讲诚信的，诚信是我们这个世界得以支撑到今天的基石之一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为新一代的学生，我们必须努力做到事事讲诚信，时时讲诚信。让诚信伴我们行天下！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90" name="Picture 4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5"/>
          <p:cNvSpPr/>
          <p:nvPr/>
        </p:nvSpPr>
        <p:spPr>
          <a:xfrm>
            <a:off x="1979640" y="105264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余秋雨先生的散文语言很有特色，请在笔记本摘抄出你认为精彩的语句，并简要说说它的美感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WordArt 7"/>
          <p:cNvSpPr txBox="1"/>
          <p:nvPr/>
        </p:nvSpPr>
        <p:spPr>
          <a:xfrm rot="660600">
            <a:off x="324000" y="188640"/>
            <a:ext cx="1584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02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作业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02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258920" y="256536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想联络一位朋友或亲人你会采用什么方法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539640" y="549360"/>
            <a:ext cx="2808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课前调查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88" name="Picture 6" descr="BD14790_"/>
          <p:cNvPicPr/>
          <p:nvPr/>
        </p:nvPicPr>
        <p:blipFill>
          <a:blip r:embed="rId2"/>
          <a:stretch/>
        </p:blipFill>
        <p:spPr>
          <a:xfrm>
            <a:off x="6877080" y="407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BD14752_"/>
          <p:cNvPicPr/>
          <p:nvPr/>
        </p:nvPicPr>
        <p:blipFill>
          <a:blip r:embed="rId3"/>
          <a:stretch/>
        </p:blipFill>
        <p:spPr>
          <a:xfrm>
            <a:off x="4859280" y="692280"/>
            <a:ext cx="719280" cy="790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BD14794_"/>
          <p:cNvPicPr/>
          <p:nvPr/>
        </p:nvPicPr>
        <p:blipFill>
          <a:blip r:embed="rId4"/>
          <a:stretch/>
        </p:blipFill>
        <p:spPr>
          <a:xfrm>
            <a:off x="395280" y="227664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BD14795_"/>
          <p:cNvPicPr/>
          <p:nvPr/>
        </p:nvPicPr>
        <p:blipFill>
          <a:blip r:embed="rId5"/>
          <a:stretch/>
        </p:blipFill>
        <p:spPr>
          <a:xfrm>
            <a:off x="4211640" y="48690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BD14791_"/>
          <p:cNvPicPr/>
          <p:nvPr/>
        </p:nvPicPr>
        <p:blipFill>
          <a:blip r:embed="rId6"/>
          <a:stretch/>
        </p:blipFill>
        <p:spPr>
          <a:xfrm>
            <a:off x="611280" y="5661000"/>
            <a:ext cx="753840" cy="754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BD14790_"/>
          <p:cNvPicPr/>
          <p:nvPr/>
        </p:nvPicPr>
        <p:blipFill>
          <a:blip r:embed="rId7"/>
          <a:stretch/>
        </p:blipFill>
        <p:spPr>
          <a:xfrm>
            <a:off x="8028000" y="57340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BD14792_"/>
          <p:cNvPicPr/>
          <p:nvPr/>
        </p:nvPicPr>
        <p:blipFill>
          <a:blip r:embed="rId8"/>
          <a:stretch/>
        </p:blipFill>
        <p:spPr>
          <a:xfrm>
            <a:off x="1116000" y="260280"/>
            <a:ext cx="431640" cy="430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图片112"/>
          <p:cNvPicPr/>
          <p:nvPr/>
        </p:nvPicPr>
        <p:blipFill>
          <a:blip r:embed="rId9"/>
          <a:stretch/>
        </p:blipFill>
        <p:spPr>
          <a:xfrm>
            <a:off x="7093080" y="260280"/>
            <a:ext cx="116352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8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7812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py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 rot="5400000">
            <a:off x="5081400" y="2948040"/>
            <a:ext cx="347688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宋体"/>
              </a:rPr>
              <a:t>信 客</a:t>
            </a:r>
            <a:endParaRPr b="0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宋体"/>
              <a:ea typeface="宋体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542840" y="4221000"/>
            <a:ext cx="139932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方正康体简体"/>
                <a:ea typeface="方正康体简体"/>
              </a:rPr>
              <a:t>余秋雨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2290680" y="3048120"/>
            <a:ext cx="1633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Picture 7" descr="BD06663_"/>
          <p:cNvPicPr/>
          <p:nvPr/>
        </p:nvPicPr>
        <p:blipFill>
          <a:blip r:embed="rId2"/>
          <a:stretch/>
        </p:blipFill>
        <p:spPr>
          <a:xfrm>
            <a:off x="611280" y="260280"/>
            <a:ext cx="1928880" cy="16732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8"/>
          <p:cNvSpPr/>
          <p:nvPr/>
        </p:nvSpPr>
        <p:spPr>
          <a:xfrm>
            <a:off x="1042920" y="1916280"/>
            <a:ext cx="72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知识与技能：了解信客这种职业的特点，体会信客的为人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过程与方法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整体把握内容了解信客的“信”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围绕“诚信”进行口语练习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情感、态度和价值观：树立诚信为本的做人理念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2916360" y="692280"/>
            <a:ext cx="35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教学目标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15"/>
          <p:cNvSpPr/>
          <p:nvPr/>
        </p:nvSpPr>
        <p:spPr>
          <a:xfrm>
            <a:off x="6804000" y="4869000"/>
            <a:ext cx="2016000" cy="1296720"/>
          </a:xfrm>
          <a:custGeom>
            <a:avLst/>
            <a:gdLst>
              <a:gd name="textAreaLeft" fmla="*/ 504000 w 2016000"/>
              <a:gd name="textAreaRight" fmla="*/ 1512000 w 2016000"/>
              <a:gd name="textAreaTop" fmla="*/ 0 h 1296720"/>
              <a:gd name="textAreaBottom" fmla="*/ 1134720 h 12967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余秋雨的主要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作品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Picture 13" descr="余作2"/>
          <p:cNvPicPr/>
          <p:nvPr/>
        </p:nvPicPr>
        <p:blipFill>
          <a:blip r:embed="rId1"/>
          <a:stretch/>
        </p:blipFill>
        <p:spPr>
          <a:xfrm>
            <a:off x="3419640" y="4437000"/>
            <a:ext cx="1544400" cy="2087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余作3"/>
          <p:cNvPicPr/>
          <p:nvPr/>
        </p:nvPicPr>
        <p:blipFill>
          <a:blip r:embed="rId2"/>
          <a:stretch/>
        </p:blipFill>
        <p:spPr>
          <a:xfrm>
            <a:off x="250920" y="4437000"/>
            <a:ext cx="1512720" cy="2086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余作5"/>
          <p:cNvPicPr/>
          <p:nvPr/>
        </p:nvPicPr>
        <p:blipFill>
          <a:blip r:embed="rId3"/>
          <a:stretch/>
        </p:blipFill>
        <p:spPr>
          <a:xfrm>
            <a:off x="1835280" y="4437000"/>
            <a:ext cx="1511280" cy="20876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Arial"/>
              </a:rPr>
              <a:t>走近作者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12" name="Picture 7" descr="余作1"/>
          <p:cNvPicPr/>
          <p:nvPr/>
        </p:nvPicPr>
        <p:blipFill>
          <a:blip r:embed="rId4"/>
          <a:stretch/>
        </p:blipFill>
        <p:spPr>
          <a:xfrm>
            <a:off x="5076720" y="4437000"/>
            <a:ext cx="1511280" cy="2087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0" y="16002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余秋雨，生于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946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年，浙江余姚人，我国当代著名艺术理论家、文化史学者、散文家。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主要作品有《文化苦旅》《山居笔记》《千年一叹》《行者无疆》等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4" name="Picture 18" descr="U3P112T22D2250F829DT20031202131228"/>
          <p:cNvPicPr/>
          <p:nvPr/>
        </p:nvPicPr>
        <p:blipFill>
          <a:blip r:embed="rId5"/>
          <a:stretch/>
        </p:blipFill>
        <p:spPr>
          <a:xfrm>
            <a:off x="5513400" y="0"/>
            <a:ext cx="3630600" cy="4343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7" name="Picture 4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2771640" y="189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你会读吗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611280" y="1628640"/>
            <a:ext cx="655308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嫉妒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（          ）  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è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     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耗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猝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然（    ）         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jì liǎng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昏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厥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（    ）           连声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nuò nuò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文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绉绉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（       ）    颠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pèi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吊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唁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（    ）           焦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zhuó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诘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问（    ）           时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máo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2197080" y="164952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jídù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4140720" y="1647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噩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1981080" y="20829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ù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5509440" y="213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伎俩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1910160" y="265752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jué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6589080" y="2655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诺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2331720" y="309096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zhōu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5221800" y="3141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1836720" y="359424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yà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5725080" y="3645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灼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Rectangle 17"/>
          <p:cNvSpPr/>
          <p:nvPr/>
        </p:nvSpPr>
        <p:spPr>
          <a:xfrm>
            <a:off x="1909800" y="41702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jié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5582160" y="4168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2" name="Picture 19" descr="gif002"/>
          <p:cNvPicPr/>
          <p:nvPr/>
        </p:nvPicPr>
        <p:blipFill>
          <a:blip r:embed="rId2"/>
          <a:stretch/>
        </p:blipFill>
        <p:spPr>
          <a:xfrm>
            <a:off x="8101080" y="189000"/>
            <a:ext cx="718920" cy="647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5" name="Picture 5" descr="图片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1012680" y="1890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Arial"/>
              </a:rPr>
              <a:t>认识信客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4356000" y="260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信客是一种私人职业，不受任何机构管理。这个地方外出谋生的人多了，少不了要带几封平安家信、带一点衣物食品的，方圆几十里又没有邮局，那就用得着信客了。信客要有一点文化，知道各大码头的情形，还要一副强健的筋骨，背得动重重的行李。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信客为远行者们效力，自己却是最困苦的远行者。一身破衣旧衫，满脸风尘， 状如乞丐。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0" name="Picture 4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395280" y="333360"/>
            <a:ext cx="59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</a:rPr>
              <a:t>走进课文——整体感知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187280" y="1413000"/>
            <a:ext cx="6350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信客的工作量大吗？你对这份工作的初步印象是怎样的？能用一个字来概括吗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这种“苦”从哪里体现出来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WordArt 7"/>
          <p:cNvSpPr txBox="1"/>
          <p:nvPr/>
        </p:nvSpPr>
        <p:spPr>
          <a:xfrm>
            <a:off x="3564000" y="3429000"/>
            <a:ext cx="11509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87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苦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slow">
    <p:pull dir="r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6" name="Picture 4" descr="图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68360" y="2060640"/>
            <a:ext cx="220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做信客很</a:t>
            </a: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“苦”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2771640" y="1700280"/>
            <a:ext cx="71640" cy="2592360"/>
          </a:xfrm>
          <a:custGeom>
            <a:avLst/>
            <a:gdLst>
              <a:gd name="textAreaLeft" fmla="*/ 45720 w 71640"/>
              <a:gd name="textAreaRight" fmla="*/ 72000 w 7164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132000" y="1557360"/>
            <a:ext cx="477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工作劳苦：终年跋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4055400" y="227664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生活贫苦：收入微薄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2987640" y="2997360"/>
            <a:ext cx="83930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心灵痛苦：蒙受怀疑、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欺凌、憎恨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7T15:07:00Z</dcterms:created>
  <dc:creator>林方雄</dc:creator>
  <dc:description/>
  <dc:language>en-US</dc:language>
  <cp:lastModifiedBy>岳宝丽</cp:lastModifiedBy>
  <dcterms:modified xsi:type="dcterms:W3CDTF">2012-05-09T01:44:45Z</dcterms:modified>
  <cp:revision>99</cp:revision>
  <dc:subject/>
  <dc:title>信  客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2</vt:r8>
  </property>
</Properties>
</file>