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A15-1BCC-4975-BAC1-F9B0904E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2DF-19CF-43F9-BE7D-A03EDCAB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32C-59C2-4949-A35C-38A7E80E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48F-66EB-4419-971F-4A0FA0F1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099-481A-42E3-B523-70FF2631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5C7-9ABD-45EB-86A6-DFCC9C0F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5BE-5443-47D1-8F53-A1994E10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0E6-0C90-4D10-A9B3-0EDACC4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9FF-8717-434F-9F4C-009E91DF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4D2-8784-4687-93C1-652E7C6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6DF-51DD-4F8F-A7C8-89EA04F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0F6-1F17-498E-A8C8-7FD3FEE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075B-033B-4BBF-9DA9-D839A1407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A1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爱的奉献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95280" y="2781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 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作者也是一个善良的人。具体表现：照顾老王的生意，坐他的车；老王再客气，也付给他应得的报酬；老王送来香油鸡蛋，不能让他白送，也给了钱。关心老王生活，三轮改成平板三轮，生意不好做，作者关切地询问他是否能维持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8164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39640" y="515772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黑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对老王的不幸深表同情，为自己对老王的关爱还不够和自己无力真正改变老王的境遇而感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</a:rPr>
              <a:t>到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</a:rPr>
              <a:t>愧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11280" y="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黑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介绍了老王的职业、生活缺陷、居住条件。    介绍了老王为作者送冰，车费减半；送钱先生看病，不要钱，拿了钱还不放心；去世前给我送香油和鸡蛋表示感谢。老王是一个孤苦伶仃又老实厚道，有良心，懂得关心人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05264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为什么老王得了重病还来送香油和鸡蛋？体现了老王怎样的性格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为什么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强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勉强地笑）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３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老王说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我不要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后来又等着要钱是为什么？你怎样理解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重点研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临终相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部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40766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知恩图报，心地善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２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透露了作者看到老王病成那个样子，还拿东西来谢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我们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，心里有说不出的悲酸和感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老王怕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真的托人给他送钱，平白给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添麻烦，体现了老王的朴实和善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5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0" y="190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如何理解下面这句话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126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渐渐明白：那是一个幸运的人对一个不幸者的愧怍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350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社会总有幸运者和不幸者，幸运者有责任关爱不幸者，关注他们的命运，让他们也过上好日子，帮助改善他们的处境。作者回想起来，对老王的关爱还很不够，所以感到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愧怍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2"/>
          <p:cNvSpPr/>
          <p:nvPr/>
        </p:nvSpPr>
        <p:spPr>
          <a:xfrm>
            <a:off x="3352680" y="380880"/>
            <a:ext cx="2303640" cy="820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延伸拓展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68360" y="160020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应如何面对社会中的不幸者和幸运者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241200" y="2514600"/>
            <a:ext cx="89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352680" y="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ahoma"/>
              </a:rPr>
              <a:t>感  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5280" y="1557360"/>
            <a:ext cx="87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假如我是一团火，就为他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假如我是一朵花，就为他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假如我是一颗星，就为他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假如我是一片云，就为他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假如我是一棵树，就为他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假如我是一泓清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就为他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6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50000">
              <a:srgbClr val="ffffff"/>
            </a:gs>
            <a:gs pos="100000">
              <a:srgbClr val="e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val 7"/>
          <p:cNvSpPr/>
          <p:nvPr/>
        </p:nvSpPr>
        <p:spPr>
          <a:xfrm>
            <a:off x="304920" y="228600"/>
            <a:ext cx="2303280" cy="8208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赠  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11"/>
          <p:cNvSpPr txBox="1"/>
          <p:nvPr/>
        </p:nvSpPr>
        <p:spPr>
          <a:xfrm>
            <a:off x="228600" y="2666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心存善良仁厚之意；胸怀平等博爱之念。</a:t>
            </a:r>
            <a:endParaRPr b="0" lang="en-US" sz="32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304920" y="160020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爱人者，人恒爱之；敬人者，人恒敬之。</a:t>
            </a:r>
            <a:endParaRPr b="0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57200" y="434340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黑体"/>
              </a:rPr>
              <a:t>氧化冷漠，还原温存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g.mp3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1203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476360" y="457200"/>
            <a:ext cx="6335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老  王</a:t>
            </a:r>
            <a:endParaRPr b="0" lang="en-US" sz="44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4370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杨  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940年的杨绛"/>
          <p:cNvPicPr/>
          <p:nvPr/>
        </p:nvPicPr>
        <p:blipFill>
          <a:blip r:embed="rId1"/>
          <a:stretch/>
        </p:blipFill>
        <p:spPr>
          <a:xfrm>
            <a:off x="179280" y="1557360"/>
            <a:ext cx="313056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348000" y="33336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杨绛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(191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),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钱钟书夫人，本名杨季康，著名的作家、评论家、翻译家、学者。祖籍江苏无锡，生于北京。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193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年毕业于苏州东吴大学。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193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1938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年留学英法，回国后曾在上海震旦女子文理学院、清华大学任教。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1949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年后，在中国社会科学院文学研究所、外国文学研究所工作。主要作品有剧本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称心如意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弄假成真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，长篇小说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洗澡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，散文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干校六记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，随笔集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将饮茶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，译作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堂吉诃德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吉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布拉斯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小癞子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斐多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95280" y="476280"/>
            <a:ext cx="26542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杨  绛  简  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9640" y="5877000"/>
            <a:ext cx="374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钱钟书、杨绛（一九三八年于巴黎）"/>
          <p:cNvPicPr/>
          <p:nvPr/>
        </p:nvPicPr>
        <p:blipFill>
          <a:blip r:embed="rId1"/>
          <a:stretch/>
        </p:blipFill>
        <p:spPr>
          <a:xfrm>
            <a:off x="755640" y="1195560"/>
            <a:ext cx="3887640" cy="568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1240" y="115920"/>
            <a:ext cx="546120" cy="6597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钱钟书、杨绛（一九三八年于巴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43280" y="1195560"/>
            <a:ext cx="4427640" cy="3699720"/>
            <a:chOff x="4643280" y="1195560"/>
            <a:chExt cx="4427640" cy="3699720"/>
          </a:xfrm>
        </p:grpSpPr>
        <p:pic>
          <p:nvPicPr>
            <p:cNvPr id="52" name="Picture 6" descr="八十年代钱钟书和杨绛在南沙沟家中阳台"/>
            <p:cNvPicPr/>
            <p:nvPr/>
          </p:nvPicPr>
          <p:blipFill>
            <a:blip r:embed="rId2"/>
            <a:stretch/>
          </p:blipFill>
          <p:spPr>
            <a:xfrm>
              <a:off x="4643280" y="1195560"/>
              <a:ext cx="442764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7"/>
            <p:cNvSpPr/>
            <p:nvPr/>
          </p:nvSpPr>
          <p:spPr>
            <a:xfrm>
              <a:off x="4643280" y="4435560"/>
              <a:ext cx="44276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中宋"/>
                </a:rPr>
                <a:t>八十年代钱钟书和杨绛在南沙沟家中阳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Picture 8" descr="图标3"/>
          <p:cNvPicPr/>
          <p:nvPr/>
        </p:nvPicPr>
        <p:blipFill>
          <a:blip r:embed="rId3"/>
          <a:stretch/>
        </p:blipFill>
        <p:spPr>
          <a:xfrm>
            <a:off x="7667640" y="5364000"/>
            <a:ext cx="1481040" cy="152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3276720" y="18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华文中宋"/>
              </a:rPr>
              <a:t>人生履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556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背景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　　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是一篇回忆类的文章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写于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84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文章回忆的是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文革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期间与车夫老王交往的一些小事。从时间来看，所写内容既有下放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五七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干校（１９６９）之前的，也有回到北京（１９７２年春）之后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11280" y="907920"/>
            <a:ext cx="80769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败（      ）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取缔（       ） 伛（      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翳（      ）      骷髅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绷（      ）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笨（       ） 愧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塌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滞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取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愧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892160" y="1447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t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725360" y="1447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d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783480" y="1447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y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3520" y="1981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</a:rPr>
              <a:t>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497120" y="198108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</a:rPr>
              <a:t>kū l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ó</a:t>
            </a:r>
            <a:r>
              <a:rPr b="0" lang="en-US" sz="2400" spc="-1" strike="noStrike">
                <a:solidFill>
                  <a:srgbClr val="cc3300"/>
                </a:solidFill>
                <a:latin typeface="黑体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430640" y="25146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</a:rPr>
              <a:t>bē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519800" y="25146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</a:rPr>
              <a:t>zh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6950880" y="25146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</a:rPr>
              <a:t>z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2333520" y="3657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黑体"/>
              </a:rPr>
              <a:t>塌陷破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2333520" y="4191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黑体"/>
              </a:rPr>
              <a:t>呆滞笨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2790720" y="472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黑体"/>
              </a:rPr>
              <a:t>明令取消或禁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2028600" y="5334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黑体"/>
              </a:rPr>
              <a:t>惭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55640" y="260280"/>
            <a:ext cx="990720" cy="528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762120" y="3124080"/>
            <a:ext cx="9144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释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684360" y="76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620640"/>
            <a:ext cx="741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自读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要求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）以善良体察善良，领会作者与    人物的思想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）发挥想像，头脑中再现鲜活的人物形象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34920" y="1982880"/>
            <a:ext cx="9074160" cy="4332960"/>
            <a:chOff x="34920" y="1982880"/>
            <a:chExt cx="9074160" cy="4332960"/>
          </a:xfrm>
        </p:grpSpPr>
        <p:grpSp>
          <p:nvGrpSpPr>
            <p:cNvPr id="76" name=""/>
            <p:cNvGrpSpPr/>
            <p:nvPr/>
          </p:nvGrpSpPr>
          <p:grpSpPr>
            <a:xfrm>
              <a:off x="34920" y="1982880"/>
              <a:ext cx="9074160" cy="3825360"/>
              <a:chOff x="34920" y="1982880"/>
              <a:chExt cx="9074160" cy="3825360"/>
            </a:xfrm>
          </p:grpSpPr>
          <p:pic>
            <p:nvPicPr>
              <p:cNvPr id="77" name="Picture 4" descr="三轮货车"/>
              <p:cNvPicPr/>
              <p:nvPr/>
            </p:nvPicPr>
            <p:blipFill>
              <a:blip r:embed="rId1"/>
              <a:stretch/>
            </p:blipFill>
            <p:spPr>
              <a:xfrm>
                <a:off x="34920" y="1982880"/>
                <a:ext cx="3851280" cy="38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5" descr="载客三轮车"/>
              <p:cNvPicPr/>
              <p:nvPr/>
            </p:nvPicPr>
            <p:blipFill>
              <a:blip r:embed="rId2"/>
              <a:stretch/>
            </p:blipFill>
            <p:spPr>
              <a:xfrm>
                <a:off x="3889440" y="2044440"/>
                <a:ext cx="5219640" cy="375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Text Box 6"/>
            <p:cNvSpPr/>
            <p:nvPr/>
          </p:nvSpPr>
          <p:spPr>
            <a:xfrm>
              <a:off x="144360" y="585612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中宋"/>
                </a:rPr>
                <a:t>（载货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7"/>
            <p:cNvSpPr/>
            <p:nvPr/>
          </p:nvSpPr>
          <p:spPr>
            <a:xfrm>
              <a:off x="4138560" y="5856120"/>
              <a:ext cx="489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中宋"/>
                </a:rPr>
                <a:t>（载人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8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课文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他靠着活命的只是一辆破旧的三轮车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700360" y="18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课文联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979640" y="6922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课文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与老王的交往为线索，介绍了老王哪些艰难的生活境况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记叙了与老王交往过程中的哪几件事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</a:rPr>
              <a:t>?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通过这些叙述与描写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你认为老王是一个怎样的人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课本插图"/>
          <p:cNvPicPr/>
          <p:nvPr/>
        </p:nvPicPr>
        <p:blipFill>
          <a:blip r:embed="rId1"/>
          <a:stretch/>
        </p:blipFill>
        <p:spPr>
          <a:xfrm>
            <a:off x="179280" y="2349360"/>
            <a:ext cx="29685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11280" y="0"/>
            <a:ext cx="23032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095640" y="3645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认为作者是一个怎样的人？具体表现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35280" y="515772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３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本文表达了作者一种怎样的思想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8:00:25Z</dcterms:created>
  <dc:creator>feiyiyun</dc:creator>
  <dc:description/>
  <dc:language>en-US</dc:language>
  <cp:lastModifiedBy>岳宝丽</cp:lastModifiedBy>
  <dcterms:modified xsi:type="dcterms:W3CDTF">2014-03-07T06:13:29Z</dcterms:modified>
  <cp:revision>91</cp:revision>
  <dc:subject/>
  <dc:title>老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