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7.gif" ContentType="image/gif"/>
  <Override PartName="/ppt/media/image1.jpeg" ContentType="image/jpeg"/>
  <Override PartName="/ppt/media/image23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9EF3-06E7-44A5-B7C9-8D6B7F27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90C2-C493-4327-9811-FF0F322BD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作业布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C06C-0C2B-47E3-895E-A62DE947E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导学达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9326-D822-43A7-8774-A4ADA335C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者介绍和写作背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D96-96D5-4836-98B8-F4544C9B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E94-BFB7-4CDD-A6CA-82AEB4AE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627-1F8D-4D0A-8CE3-F56DF6C7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D56-0BB5-42E4-BEF8-B866AB17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BAC3-38B7-4573-A606-3D1AA480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BB8-9E81-494D-AEFC-8F3375B1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6D3-9BDF-4903-9812-75960A05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367-E194-4521-B74E-EE48504E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412-5C97-436A-BDB8-9BCAA424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CBA-8F8B-44CD-A9FA-ED78D07F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962-6275-4742-B6A3-7A151559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5F06-AACE-425C-865F-67AA8CEA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B077-B31B-4942-B646-B096DD25B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27.gif"/><Relationship Id="rId4" Type="http://schemas.openxmlformats.org/officeDocument/2006/relationships/image" Target="../media/image3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3618720"/>
            <a:ext cx="7486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640" y="404640"/>
            <a:ext cx="7848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儿子眼中的父亲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660033"/>
                </a:solidFill>
                <a:latin typeface="隶书"/>
                <a:ea typeface="隶书"/>
              </a:rPr>
              <a:t>7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岁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爸爸真了不起，什么都懂</a:t>
            </a:r>
            <a:r>
              <a:rPr b="1" lang="en-US" sz="2400" spc="-1" strike="noStrike">
                <a:solidFill>
                  <a:srgbClr val="660033"/>
                </a:solidFill>
                <a:latin typeface="隶书"/>
                <a:ea typeface="隶书"/>
              </a:rPr>
              <a:t>!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隶书"/>
              </a:rPr>
              <a:t>”</a:t>
            </a:r>
            <a:br>
              <a:rPr sz="2400"/>
            </a:br>
            <a:r>
              <a:rPr b="1" lang="en-US" sz="2400" spc="-1" strike="noStrike">
                <a:solidFill>
                  <a:srgbClr val="660033"/>
                </a:solidFill>
                <a:latin typeface="隶书"/>
                <a:ea typeface="隶书"/>
              </a:rPr>
              <a:t>    14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岁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好像有时候觉得也不对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隶书"/>
              </a:rPr>
              <a:t>……”</a:t>
            </a:r>
            <a:br>
              <a:rPr sz="2400"/>
            </a:br>
            <a:r>
              <a:rPr b="1" lang="en-US" sz="2400" spc="-1" strike="noStrike">
                <a:solidFill>
                  <a:srgbClr val="660033"/>
                </a:solidFill>
                <a:latin typeface="隶书"/>
                <a:ea typeface="隶书"/>
              </a:rPr>
              <a:t>    </a:t>
            </a:r>
            <a:r>
              <a:rPr b="1" lang="en-US" sz="2400" spc="-1" strike="noStrike">
                <a:solidFill>
                  <a:srgbClr val="660033"/>
                </a:solidFill>
                <a:latin typeface="隶书"/>
                <a:ea typeface="隶书"/>
              </a:rPr>
              <a:t>20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岁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爸爸有点落伍了，他的理论和时代格格不入。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隶书"/>
              </a:rPr>
              <a:t>”</a:t>
            </a:r>
            <a:br>
              <a:rPr sz="2400"/>
            </a:b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    </a:t>
            </a:r>
            <a:r>
              <a:rPr b="1" lang="en-US" sz="2400" spc="-1" strike="noStrike">
                <a:solidFill>
                  <a:srgbClr val="660033"/>
                </a:solidFill>
                <a:latin typeface="隶书"/>
                <a:ea typeface="隶书"/>
              </a:rPr>
              <a:t>25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岁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老头子一无所知，毫无疑问，他已陈腐不堪。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隶书"/>
              </a:rPr>
              <a:t>”</a:t>
            </a:r>
            <a:br>
              <a:rPr sz="2400"/>
            </a:b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    </a:t>
            </a:r>
            <a:r>
              <a:rPr b="1" lang="en-US" sz="2400" spc="-1" strike="noStrike">
                <a:solidFill>
                  <a:srgbClr val="660033"/>
                </a:solidFill>
                <a:latin typeface="隶书"/>
                <a:ea typeface="隶书"/>
              </a:rPr>
              <a:t>35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岁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如果爸爸当年像我这样老练，他今天肯定是个百万富翁了。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隶书"/>
              </a:rPr>
              <a:t>”</a:t>
            </a:r>
            <a:br>
              <a:rPr sz="2400"/>
            </a:b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    </a:t>
            </a:r>
            <a:r>
              <a:rPr b="1" lang="en-US" sz="2400" spc="-1" strike="noStrike">
                <a:solidFill>
                  <a:srgbClr val="660033"/>
                </a:solidFill>
                <a:latin typeface="隶书"/>
                <a:ea typeface="隶书"/>
              </a:rPr>
              <a:t>45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岁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我不知道是否该和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隶书"/>
              </a:rPr>
              <a:t>‘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老头子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隶书"/>
              </a:rPr>
              <a:t>’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商量商量，或许他能帮我出出主意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隶书"/>
              </a:rPr>
              <a:t>”</a:t>
            </a:r>
            <a:br>
              <a:rPr sz="2400"/>
            </a:b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    </a:t>
            </a:r>
            <a:r>
              <a:rPr b="1" lang="en-US" sz="2400" spc="-1" strike="noStrike">
                <a:solidFill>
                  <a:srgbClr val="660033"/>
                </a:solidFill>
                <a:latin typeface="隶书"/>
                <a:ea typeface="隶书"/>
              </a:rPr>
              <a:t>55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岁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真可惜，爸爸去世了，说实话，他的看法相当高明。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隶书"/>
              </a:rPr>
              <a:t>”</a:t>
            </a:r>
            <a:br>
              <a:rPr sz="2400"/>
            </a:b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    </a:t>
            </a:r>
            <a:r>
              <a:rPr b="1" lang="en-US" sz="2400" spc="-1" strike="noStrike">
                <a:solidFill>
                  <a:srgbClr val="660033"/>
                </a:solidFill>
                <a:latin typeface="隶书"/>
                <a:ea typeface="隶书"/>
              </a:rPr>
              <a:t>60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岁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隶书"/>
              </a:rPr>
              <a:t> “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可怜的爸爸，您简直是位无所不知的学者，遗憾的是我了解您太晚了！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660033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WordArt 6" descr=""/>
          <p:cNvPicPr/>
          <p:nvPr/>
        </p:nvPicPr>
        <p:blipFill>
          <a:blip r:embed="rId2"/>
          <a:stretch/>
        </p:blipFill>
        <p:spPr>
          <a:xfrm>
            <a:off x="1255680" y="5583240"/>
            <a:ext cx="5810400" cy="1092240"/>
          </a:xfrm>
          <a:prstGeom prst="rect">
            <a:avLst/>
          </a:prstGeom>
          <a:ln w="0">
            <a:noFill/>
          </a:ln>
        </p:spPr>
      </p:pic>
      <p:pic>
        <p:nvPicPr>
          <p:cNvPr id="52" name="父亲.mp3" descr=""/>
          <p:cNvPicPr/>
          <p:nvPr/>
        </p:nvPicPr>
        <p:blipFill>
          <a:blip r:embed="rId3"/>
          <a:stretch/>
        </p:blipFill>
        <p:spPr>
          <a:xfrm>
            <a:off x="32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8312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971640" y="83664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&lt;1&gt;“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不要紧，他们去不好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&lt;2&gt;“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我买几个橘子去。你就在此地，不要走动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&lt;3&gt;“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我走了，到那边来信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&lt;4&gt;“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进去吧，里边没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84360" y="4005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这几句话简洁朴实的话语把父亲对儿子无限怜惜、体贴、依依不舍的深情淋漓尽致地表现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6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7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中写到了父亲几次背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14400" y="21337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2057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&lt;1&gt;    </a:t>
            </a:r>
            <a:r>
              <a:rPr b="0" lang="zh-CN" sz="3200" spc="-1" strike="noStrike">
                <a:solidFill>
                  <a:srgbClr val="009999"/>
                </a:solidFill>
                <a:latin typeface="宋体"/>
              </a:rPr>
              <a:t>背影  </a:t>
            </a:r>
            <a:r>
              <a:rPr b="0" lang="zh-CN" sz="3200" spc="-1" strike="noStrike">
                <a:solidFill>
                  <a:srgbClr val="99cc00"/>
                </a:solidFill>
                <a:latin typeface="宋体"/>
              </a:rPr>
              <a:t>（思念父亲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0" y="2971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&lt;2&gt;    </a:t>
            </a:r>
            <a:r>
              <a:rPr b="0" lang="zh-CN" sz="3200" spc="-1" strike="noStrike">
                <a:solidFill>
                  <a:srgbClr val="009999"/>
                </a:solidFill>
                <a:latin typeface="宋体"/>
              </a:rPr>
              <a:t>背影  </a:t>
            </a:r>
            <a:r>
              <a:rPr b="0" lang="zh-CN" sz="3200" spc="-1" strike="noStrike">
                <a:solidFill>
                  <a:srgbClr val="99cc00"/>
                </a:solidFill>
                <a:latin typeface="宋体"/>
              </a:rPr>
              <a:t>（望父买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0" y="38862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&lt;3&gt;    </a:t>
            </a:r>
            <a:r>
              <a:rPr b="0" lang="zh-CN" sz="3200" spc="-1" strike="noStrike">
                <a:solidFill>
                  <a:srgbClr val="009999"/>
                </a:solidFill>
                <a:latin typeface="宋体"/>
              </a:rPr>
              <a:t>背影  </a:t>
            </a:r>
            <a:r>
              <a:rPr b="0" lang="zh-CN" sz="3200" spc="-1" strike="noStrike">
                <a:solidFill>
                  <a:srgbClr val="99cc00"/>
                </a:solidFill>
                <a:latin typeface="宋体"/>
              </a:rPr>
              <a:t>（父子分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0" y="4800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&lt;4&gt;    </a:t>
            </a:r>
            <a:r>
              <a:rPr b="0" lang="zh-CN" sz="3200" spc="-1" strike="noStrike">
                <a:solidFill>
                  <a:srgbClr val="009999"/>
                </a:solidFill>
                <a:latin typeface="宋体"/>
              </a:rPr>
              <a:t>背影  </a:t>
            </a:r>
            <a:r>
              <a:rPr b="0" lang="zh-CN" sz="3200" spc="-1" strike="noStrike">
                <a:solidFill>
                  <a:srgbClr val="99cc00"/>
                </a:solidFill>
                <a:latin typeface="宋体"/>
              </a:rPr>
              <a:t>（别后怀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5720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762120" y="29718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609480" y="3886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8380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83808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4876920" y="19051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点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51814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刻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518148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惜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952880" y="46483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回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6248520" y="2057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进入回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9"/>
          <p:cNvSpPr/>
          <p:nvPr/>
        </p:nvSpPr>
        <p:spPr>
          <a:xfrm>
            <a:off x="5943600" y="3048120"/>
            <a:ext cx="380880" cy="1371600"/>
          </a:xfrm>
          <a:custGeom>
            <a:avLst/>
            <a:gdLst>
              <a:gd name="textAreaLeft" fmla="*/ 0 w 380880"/>
              <a:gd name="textAreaRight" fmla="*/ 137520 w 3808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114240" y="3048120"/>
            <a:ext cx="91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回忆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172200" y="4876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回忆结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2"/>
          <p:cNvSpPr/>
          <p:nvPr/>
        </p:nvSpPr>
        <p:spPr>
          <a:xfrm>
            <a:off x="6934320" y="2514600"/>
            <a:ext cx="1143000" cy="2362320"/>
          </a:xfrm>
          <a:prstGeom prst="upDownArrow">
            <a:avLst>
              <a:gd name="adj1" fmla="val 50000"/>
              <a:gd name="adj2" fmla="val 41144"/>
            </a:avLst>
          </a:pr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倒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2004612160832"/>
          <p:cNvPicPr/>
          <p:nvPr/>
        </p:nvPicPr>
        <p:blipFill>
          <a:blip r:embed="rId2"/>
          <a:stretch/>
        </p:blipFill>
        <p:spPr>
          <a:xfrm>
            <a:off x="1258920" y="836640"/>
            <a:ext cx="4673520" cy="5013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6880680" y="907920"/>
            <a:ext cx="6678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父爱是夕阳中的一抹金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2004623175354"/>
          <p:cNvPicPr/>
          <p:nvPr/>
        </p:nvPicPr>
        <p:blipFill>
          <a:blip r:embed="rId2"/>
          <a:stretch/>
        </p:blipFill>
        <p:spPr>
          <a:xfrm>
            <a:off x="1332000" y="907920"/>
            <a:ext cx="4125960" cy="48261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6447240" y="981000"/>
            <a:ext cx="6678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父爱那一次次欣慰的举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200474104952"/>
          <p:cNvPicPr/>
          <p:nvPr/>
        </p:nvPicPr>
        <p:blipFill>
          <a:blip r:embed="rId2"/>
          <a:stretch/>
        </p:blipFill>
        <p:spPr>
          <a:xfrm>
            <a:off x="826920" y="765000"/>
            <a:ext cx="4540320" cy="5112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6623640" y="981000"/>
            <a:ext cx="6678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　　父爱是让我最开心的一次次亲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2004623175509"/>
          <p:cNvPicPr/>
          <p:nvPr/>
        </p:nvPicPr>
        <p:blipFill>
          <a:blip r:embed="rId2"/>
          <a:stretch/>
        </p:blipFill>
        <p:spPr>
          <a:xfrm>
            <a:off x="684360" y="907920"/>
            <a:ext cx="3835080" cy="4626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5721840" y="1197000"/>
            <a:ext cx="11552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父爱是我们飞翔的翅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2004612143635"/>
          <p:cNvPicPr/>
          <p:nvPr/>
        </p:nvPicPr>
        <p:blipFill>
          <a:blip r:embed="rId2"/>
          <a:stretch/>
        </p:blipFill>
        <p:spPr>
          <a:xfrm>
            <a:off x="755640" y="692280"/>
            <a:ext cx="4824360" cy="46767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7079040" y="907920"/>
            <a:ext cx="6678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　　父爱是值得我用一生折时间去欣赏的一幅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2004623175608"/>
          <p:cNvPicPr/>
          <p:nvPr/>
        </p:nvPicPr>
        <p:blipFill>
          <a:blip r:embed="rId2"/>
          <a:stretch/>
        </p:blipFill>
        <p:spPr>
          <a:xfrm>
            <a:off x="900000" y="981000"/>
            <a:ext cx="4237200" cy="4535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5577120" y="1052640"/>
            <a:ext cx="16426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　　读懂父爱后，我们才知道天空有多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l-s03"/>
          <p:cNvPicPr/>
          <p:nvPr/>
        </p:nvPicPr>
        <p:blipFill>
          <a:blip r:embed="rId1"/>
          <a:stretch/>
        </p:blipFill>
        <p:spPr>
          <a:xfrm>
            <a:off x="0" y="0"/>
            <a:ext cx="9325080" cy="696276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3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295280" y="533520"/>
            <a:ext cx="7010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父亲是一座山，伟大而坚强。严酷的现实扭曲了情感，沉重的负担压弯了脊背，他从无怨言，默默地用点点血汗，以透支的生命为儿女们开出一条成功之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n-png"/>
          <p:cNvPicPr/>
          <p:nvPr/>
        </p:nvPicPr>
        <p:blipFill>
          <a:blip r:embed="rId1"/>
          <a:stretch/>
        </p:blipFill>
        <p:spPr>
          <a:xfrm>
            <a:off x="250920" y="765000"/>
            <a:ext cx="3809880" cy="59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4211640" y="6922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284720" y="1125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父亲又是一部大书，年轻的儿女们常读不懂，直到他们真正长大，站在理想与现实、历史与今天的交汇点上重新打开它时，才能读懂父亲那颗真诚的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6" descr="beike"/>
          <p:cNvPicPr/>
          <p:nvPr/>
        </p:nvPicPr>
        <p:blipFill>
          <a:blip r:embed="rId2"/>
          <a:stretch/>
        </p:blipFill>
        <p:spPr>
          <a:xfrm>
            <a:off x="6804000" y="4797360"/>
            <a:ext cx="1582920" cy="134136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17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8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9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rcRect l="0" t="0" r="-133" b="11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4" name="Text Box 3"/>
          <p:cNvSpPr/>
          <p:nvPr/>
        </p:nvSpPr>
        <p:spPr>
          <a:xfrm>
            <a:off x="6447600" y="549360"/>
            <a:ext cx="234396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影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738240" y="2438280"/>
            <a:ext cx="2618280" cy="34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朱自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9" descr="u=2940637649,2828122335&amp;gp=0"/>
          <p:cNvPicPr/>
          <p:nvPr/>
        </p:nvPicPr>
        <p:blipFill>
          <a:blip r:embed="rId1"/>
          <a:stretch/>
        </p:blipFill>
        <p:spPr>
          <a:xfrm>
            <a:off x="179280" y="-27000"/>
            <a:ext cx="8821800" cy="66168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81952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326160" y="260280"/>
            <a:ext cx="2861640" cy="61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     </a:t>
            </a:r>
            <a:r>
              <a:rPr b="1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世间的爱千万种</a:t>
            </a:r>
            <a:r>
              <a:rPr b="1" lang="en-US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惟有父母之爱最无私</a:t>
            </a:r>
            <a:r>
              <a:rPr b="1" lang="en-US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.</a:t>
            </a:r>
            <a:r>
              <a:rPr b="1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时间的长河可以带走一切</a:t>
            </a:r>
            <a:r>
              <a:rPr b="1" lang="en-US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但带不走父母的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u=3544052101,1711348624&amp;gp=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8"/>
          <p:cNvSpPr/>
          <p:nvPr/>
        </p:nvSpPr>
        <p:spPr>
          <a:xfrm>
            <a:off x="3492360" y="285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74560" y="692280"/>
            <a:ext cx="676908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血浓于水</a:t>
            </a:r>
            <a:r>
              <a:rPr b="1" lang="en-US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亲情无价</a:t>
            </a:r>
            <a:r>
              <a:rPr b="1" lang="en-US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父母之爱</a:t>
            </a:r>
            <a:r>
              <a:rPr b="1" lang="en-US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是人世间最伟大、最无私的情感</a:t>
            </a:r>
            <a:r>
              <a:rPr b="1" lang="en-US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.</a:t>
            </a: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遗憾的是很多人在拥有它的时候没有发觉</a:t>
            </a:r>
            <a:r>
              <a:rPr b="1" lang="en-US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世间的情千万种，只有爱最崇高；世间的爱千万种，惟有父母之爱最无私。时间的长河可以带走一切，但带不走父母的爱。它已深入我们的骨髓，溶入我们的血液。这爱留在我们的心中，时刻温暖我们的生命历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图片9"/>
          <p:cNvPicPr/>
          <p:nvPr/>
        </p:nvPicPr>
        <p:blipFill>
          <a:blip r:embed="rId1"/>
          <a:stretch/>
        </p:blipFill>
        <p:spPr>
          <a:xfrm>
            <a:off x="2411280" y="1989000"/>
            <a:ext cx="3694320" cy="369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图片3"/>
          <p:cNvPicPr/>
          <p:nvPr/>
        </p:nvPicPr>
        <p:blipFill>
          <a:blip r:embed="rId1"/>
          <a:stretch/>
        </p:blipFill>
        <p:spPr>
          <a:xfrm>
            <a:off x="468360" y="333360"/>
            <a:ext cx="6480000" cy="42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你不会不想到父母平时对自己的许多钟爱，甚至有些是自己本来不怎么在意的事情，这时也会浮现出来，令你动心，乃至流泪，甚或惭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08000" y="264960"/>
            <a:ext cx="9036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父母爱子女之心，无微不至，父母爱子女之事，可写的事情成千上万。本文以小见大，将父母的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0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俯首甘为孺子牛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0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的挚爱全部凝聚在这个背影里。就像我们熟悉的唐朝人孟郊的</a:t>
            </a:r>
            <a:r>
              <a:rPr b="0" lang="en-US" sz="34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0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游子吟</a:t>
            </a:r>
            <a:r>
              <a:rPr b="0" lang="en-US" sz="34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0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就把母亲对即将远行的儿子的种种复杂微妙的感情全部凝聚在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0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临行密密缝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0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这个形象上。读了本文，你不会不想到父母平时对自己的许多钟爱，甚至有些是自己本来不怎么在意的事情，这时也会浮现出来，令你动心，乃至流泪，甚或惭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814400" y="477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作业布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16" name="Group 4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217" name="Rectangle 5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6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7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220" name="Rectangle 8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9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Rectangle 10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1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2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13"/>
          <p:cNvSpPr/>
          <p:nvPr/>
        </p:nvSpPr>
        <p:spPr>
          <a:xfrm>
            <a:off x="684360" y="33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9999"/>
                </a:solidFill>
                <a:latin typeface="宋体"/>
              </a:rPr>
              <a:t>其实何止父爱，所有的亲情之爱都是感人的，也许你承受着却没有发觉，也许你失去了才觉珍贵。请你仔细品味这记忆中的珍宝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</a:rPr>
              <a:t>写一篇表现父母或祖辈疼爱自己的文章，要求写出真情实感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宋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4" descr="beike"/>
          <p:cNvPicPr/>
          <p:nvPr/>
        </p:nvPicPr>
        <p:blipFill>
          <a:blip r:embed="rId1"/>
          <a:stretch/>
        </p:blipFill>
        <p:spPr>
          <a:xfrm>
            <a:off x="7308720" y="66600"/>
            <a:ext cx="1366920" cy="12366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15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6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7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95280" y="14842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有感情的把</a:t>
            </a:r>
            <a:r>
              <a:rPr b="1" lang="en-US" sz="3200" spc="-1" strike="noStrike">
                <a:solidFill>
                  <a:srgbClr val="99cc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背影</a:t>
            </a:r>
            <a:r>
              <a:rPr b="1" lang="en-US" sz="3200" spc="-1" strike="noStrike">
                <a:solidFill>
                  <a:srgbClr val="99cc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读给你的爸爸听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借鉴</a:t>
            </a:r>
            <a:r>
              <a:rPr b="1" lang="en-US" sz="3200" spc="-1" strike="noStrike">
                <a:solidFill>
                  <a:srgbClr val="99cc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背影</a:t>
            </a:r>
            <a:r>
              <a:rPr b="1" lang="en-US" sz="3200" spc="-1" strike="noStrike">
                <a:solidFill>
                  <a:srgbClr val="99cc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的构思法，选取你生活的片断，以父亲为话题写一篇不少于</a:t>
            </a:r>
            <a:r>
              <a:rPr b="1" lang="en-US" sz="3200" spc="-1" strike="noStrike">
                <a:solidFill>
                  <a:srgbClr val="99cc00"/>
                </a:solidFill>
                <a:latin typeface="黑体"/>
                <a:ea typeface="黑体"/>
              </a:rPr>
              <a:t>600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字的习作，写好后请你爸爸修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32" name="Group 4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233" name="Rectangle 5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7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236" name="Rectangle 8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9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Rectangle 10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2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13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作业布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4" descr="beike"/>
          <p:cNvPicPr/>
          <p:nvPr/>
        </p:nvPicPr>
        <p:blipFill>
          <a:blip r:embed="rId1"/>
          <a:stretch/>
        </p:blipFill>
        <p:spPr>
          <a:xfrm>
            <a:off x="6659640" y="5011560"/>
            <a:ext cx="2244600" cy="1571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2004612160832"/>
          <p:cNvPicPr/>
          <p:nvPr/>
        </p:nvPicPr>
        <p:blipFill>
          <a:blip r:embed="rId2"/>
          <a:stretch/>
        </p:blipFill>
        <p:spPr>
          <a:xfrm>
            <a:off x="395280" y="4076640"/>
            <a:ext cx="2592360" cy="2781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123"/>
          <p:cNvPicPr/>
          <p:nvPr/>
        </p:nvPicPr>
        <p:blipFill>
          <a:blip r:embed="rId3"/>
          <a:stretch/>
        </p:blipFill>
        <p:spPr>
          <a:xfrm>
            <a:off x="7164360" y="333360"/>
            <a:ext cx="1408320" cy="1192320"/>
          </a:xfrm>
          <a:prstGeom prst="rect">
            <a:avLst/>
          </a:prstGeom>
          <a:ln w="0">
            <a:noFill/>
          </a:ln>
        </p:spPr>
      </p:pic>
      <p:pic>
        <p:nvPicPr>
          <p:cNvPr id="245" name="liuhegang-fuqin.mp3" descr=""/>
          <p:cNvPicPr/>
          <p:nvPr/>
        </p:nvPicPr>
        <p:blipFill>
          <a:blip r:embed="rId4"/>
          <a:stretch/>
        </p:blipFill>
        <p:spPr>
          <a:xfrm>
            <a:off x="8388360" y="609300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8" descr="2004612143635"/>
          <p:cNvPicPr/>
          <p:nvPr/>
        </p:nvPicPr>
        <p:blipFill>
          <a:blip r:embed="rId5"/>
          <a:stretch/>
        </p:blipFill>
        <p:spPr>
          <a:xfrm>
            <a:off x="3708360" y="4135320"/>
            <a:ext cx="2808360" cy="27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283125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1219320" y="685800"/>
            <a:ext cx="6953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c03c"/>
                </a:solidFill>
                <a:latin typeface="Tahoma"/>
                <a:ea typeface="方正少儿简体"/>
              </a:rPr>
              <a:t>连接生活，畅谈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249" name="Group 4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250" name="Rectangle 5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6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253" name="Rectangle 8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9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Rectangle 10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Rectangle 13"/>
          <p:cNvSpPr/>
          <p:nvPr/>
        </p:nvSpPr>
        <p:spPr>
          <a:xfrm>
            <a:off x="685800" y="1981080"/>
            <a:ext cx="8153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1258920" y="1628640"/>
            <a:ext cx="60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0" y="1628640"/>
            <a:ext cx="8675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  <a:ea typeface="宋体"/>
              </a:rPr>
              <a:t>1.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  <a:ea typeface="宋体"/>
              </a:rPr>
              <a:t>听歌曲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  <a:ea typeface="宋体"/>
              </a:rPr>
              <a:t>《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  <a:ea typeface="宋体"/>
              </a:rPr>
              <a:t>父亲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  <a:ea typeface="宋体"/>
              </a:rPr>
              <a:t>》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  <a:ea typeface="宋体"/>
              </a:rPr>
              <a:t>感受如山的父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在你的人生经历中，你的父亲肯定也给予了你许许多多的关爱，想一想，哪一个细节给你留下了难以磨灭的印象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6" descr="200474104952"/>
          <p:cNvPicPr/>
          <p:nvPr/>
        </p:nvPicPr>
        <p:blipFill>
          <a:blip r:embed="rId1"/>
          <a:stretch/>
        </p:blipFill>
        <p:spPr>
          <a:xfrm>
            <a:off x="3419640" y="3284640"/>
            <a:ext cx="3173400" cy="3573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7" descr="2004623175608"/>
          <p:cNvPicPr/>
          <p:nvPr/>
        </p:nvPicPr>
        <p:blipFill>
          <a:blip r:embed="rId2"/>
          <a:stretch/>
        </p:blipFill>
        <p:spPr>
          <a:xfrm>
            <a:off x="250920" y="3429000"/>
            <a:ext cx="3203640" cy="3429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8" descr="2004623175354"/>
          <p:cNvPicPr/>
          <p:nvPr/>
        </p:nvPicPr>
        <p:blipFill>
          <a:blip r:embed="rId3"/>
          <a:stretch/>
        </p:blipFill>
        <p:spPr>
          <a:xfrm>
            <a:off x="7093080" y="0"/>
            <a:ext cx="2050920" cy="2133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9" descr="2004623175509"/>
          <p:cNvPicPr/>
          <p:nvPr/>
        </p:nvPicPr>
        <p:blipFill>
          <a:blip r:embed="rId4"/>
          <a:stretch/>
        </p:blipFill>
        <p:spPr>
          <a:xfrm>
            <a:off x="6121440" y="3213000"/>
            <a:ext cx="3022560" cy="3645000"/>
          </a:xfrm>
          <a:prstGeom prst="rect">
            <a:avLst/>
          </a:prstGeom>
          <a:ln w="0">
            <a:noFill/>
          </a:ln>
        </p:spPr>
      </p:pic>
      <p:pic>
        <p:nvPicPr>
          <p:cNvPr id="265" name="zuijinhaofuqing.mp3" descr=""/>
          <p:cNvPicPr/>
          <p:nvPr/>
        </p:nvPicPr>
        <p:blipFill>
          <a:blip r:embed="rId5"/>
          <a:stretch/>
        </p:blipFill>
        <p:spPr>
          <a:xfrm>
            <a:off x="8388360" y="292572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9010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600200" y="19051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1268280"/>
            <a:ext cx="4056120" cy="51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4c3302"/>
                </a:solidFill>
                <a:latin typeface="黑体"/>
                <a:ea typeface="新宋体"/>
              </a:rPr>
              <a:t>朱自清</a:t>
            </a:r>
            <a:r>
              <a:rPr b="1" lang="en-US" sz="2800" spc="-1" strike="noStrike">
                <a:solidFill>
                  <a:srgbClr val="4c3302"/>
                </a:solidFill>
                <a:latin typeface="黑体"/>
                <a:ea typeface="新宋体"/>
              </a:rPr>
              <a:t>(1898</a:t>
            </a:r>
            <a:r>
              <a:rPr b="1" lang="zh-CN" sz="2800" spc="-1" strike="noStrike">
                <a:solidFill>
                  <a:srgbClr val="4c3302"/>
                </a:solidFill>
                <a:latin typeface="黑体"/>
                <a:ea typeface="新宋体"/>
              </a:rPr>
              <a:t>－</a:t>
            </a:r>
            <a:r>
              <a:rPr b="1" lang="en-US" sz="2800" spc="-1" strike="noStrike">
                <a:solidFill>
                  <a:srgbClr val="4c3302"/>
                </a:solidFill>
                <a:latin typeface="黑体"/>
                <a:ea typeface="新宋体"/>
              </a:rPr>
              <a:t>1948),</a:t>
            </a:r>
            <a:r>
              <a:rPr b="1" lang="zh-CN" sz="2800" spc="-1" strike="noStrike">
                <a:solidFill>
                  <a:srgbClr val="4c3302"/>
                </a:solidFill>
                <a:latin typeface="黑体"/>
                <a:ea typeface="新宋体"/>
              </a:rPr>
              <a:t>字佩弦，江苏扬州市人</a:t>
            </a:r>
            <a:r>
              <a:rPr b="1" lang="en-US" sz="2800" spc="-1" strike="noStrike">
                <a:solidFill>
                  <a:srgbClr val="4c3302"/>
                </a:solidFill>
                <a:latin typeface="黑体"/>
                <a:ea typeface="新宋体"/>
              </a:rPr>
              <a:t>,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新宋体"/>
              </a:rPr>
              <a:t>散文家、诗人、学者、民主战士</a:t>
            </a:r>
            <a:r>
              <a:rPr b="1" lang="zh-CN" sz="2800" spc="-1" strike="noStrike">
                <a:solidFill>
                  <a:srgbClr val="4c3302"/>
                </a:solidFill>
                <a:latin typeface="黑体"/>
                <a:ea typeface="新宋体"/>
              </a:rPr>
              <a:t>。有诗文集</a:t>
            </a:r>
            <a:r>
              <a:rPr b="1" lang="en-US" sz="2800" spc="-1" strike="noStrike">
                <a:solidFill>
                  <a:srgbClr val="4c3302"/>
                </a:solidFill>
                <a:latin typeface="Times New Roman"/>
                <a:ea typeface="新宋体"/>
              </a:rPr>
              <a:t>《</a:t>
            </a:r>
            <a:r>
              <a:rPr b="1" lang="zh-CN" sz="2800" spc="-1" strike="noStrike">
                <a:solidFill>
                  <a:srgbClr val="4c3302"/>
                </a:solidFill>
                <a:latin typeface="Times New Roman"/>
                <a:ea typeface="新宋体"/>
              </a:rPr>
              <a:t>踪迹</a:t>
            </a:r>
            <a:r>
              <a:rPr b="1" lang="en-US" sz="2800" spc="-1" strike="noStrike">
                <a:solidFill>
                  <a:srgbClr val="4c3302"/>
                </a:solidFill>
                <a:latin typeface="Times New Roman"/>
                <a:ea typeface="新宋体"/>
              </a:rPr>
              <a:t>》《</a:t>
            </a:r>
            <a:r>
              <a:rPr b="1" lang="zh-CN" sz="2800" spc="-1" strike="noStrike">
                <a:solidFill>
                  <a:srgbClr val="4c3302"/>
                </a:solidFill>
                <a:latin typeface="Times New Roman"/>
                <a:ea typeface="新宋体"/>
              </a:rPr>
              <a:t>欧游杂记</a:t>
            </a:r>
            <a:r>
              <a:rPr b="1" lang="en-US" sz="2800" spc="-1" strike="noStrike">
                <a:solidFill>
                  <a:srgbClr val="4c3302"/>
                </a:solidFill>
                <a:latin typeface="Times New Roman"/>
                <a:ea typeface="新宋体"/>
              </a:rPr>
              <a:t>》</a:t>
            </a:r>
            <a:r>
              <a:rPr b="1" lang="zh-CN" sz="2800" spc="-1" strike="noStrike">
                <a:solidFill>
                  <a:srgbClr val="4c3302"/>
                </a:solidFill>
                <a:latin typeface="黑体"/>
                <a:ea typeface="新宋体"/>
              </a:rPr>
              <a:t>。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新宋体"/>
              </a:rPr>
              <a:t>散文代表作是</a:t>
            </a: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新宋体"/>
              </a:rPr>
              <a:t>《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新宋体"/>
              </a:rPr>
              <a:t>背影</a:t>
            </a: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新宋体"/>
              </a:rPr>
              <a:t>》《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新宋体"/>
              </a:rPr>
              <a:t>河塘月色</a:t>
            </a: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新宋体"/>
              </a:rPr>
              <a:t>》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新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新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背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是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新宋体"/>
              </a:rPr>
              <a:t>记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散文，写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新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2222"/>
          <p:cNvPicPr/>
          <p:nvPr/>
        </p:nvPicPr>
        <p:blipFill>
          <a:blip r:embed="rId1"/>
          <a:stretch/>
        </p:blipFill>
        <p:spPr>
          <a:xfrm>
            <a:off x="5111640" y="907920"/>
            <a:ext cx="4032360" cy="5516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6084720" y="260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300a"/>
                </a:solidFill>
                <a:latin typeface="Tahoma"/>
                <a:ea typeface="隶书"/>
              </a:rPr>
              <a:t>朱自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883120" y="7415280"/>
            <a:ext cx="60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u=3415895353,3126221626&amp;gp=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0920" y="1557000"/>
            <a:ext cx="75596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血浓于水</a:t>
            </a:r>
            <a:r>
              <a:rPr b="0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亲情无价</a:t>
            </a:r>
            <a:r>
              <a:rPr b="0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父母之爱</a:t>
            </a:r>
            <a:r>
              <a:rPr b="0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是人世间最伟大、最无私的情感</a:t>
            </a:r>
            <a:r>
              <a:rPr b="0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.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遗憾的是很多人在拥有它的时候没有发觉</a:t>
            </a:r>
            <a:r>
              <a:rPr b="0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父亲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283125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5472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父亲为儿子做的几件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351792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隶书"/>
              </a:rPr>
              <a:t>安慰儿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隶书"/>
              </a:rPr>
              <a:t>送儿子上火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隶书"/>
              </a:rPr>
              <a:t>搬行李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隶书"/>
              </a:rPr>
              <a:t>过铁道买桔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隶书"/>
              </a:rPr>
              <a:t>写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824080" y="2514600"/>
            <a:ext cx="1643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隶书"/>
              </a:rPr>
              <a:t>慈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1" name="chimes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581280" y="777960"/>
            <a:ext cx="142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u=3231397849,936599079&amp;gp=1"/>
          <p:cNvPicPr/>
          <p:nvPr/>
        </p:nvPicPr>
        <p:blipFill>
          <a:blip r:embed="rId2"/>
          <a:stretch/>
        </p:blipFill>
        <p:spPr>
          <a:xfrm>
            <a:off x="380880" y="2855880"/>
            <a:ext cx="1743120" cy="130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u=3289178996,54030057&amp;gp=1"/>
          <p:cNvPicPr/>
          <p:nvPr/>
        </p:nvPicPr>
        <p:blipFill>
          <a:blip r:embed="rId3"/>
          <a:stretch/>
        </p:blipFill>
        <p:spPr>
          <a:xfrm>
            <a:off x="6781680" y="2971800"/>
            <a:ext cx="160020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u=527331431,3812160239&amp;gp=0"/>
          <p:cNvPicPr/>
          <p:nvPr/>
        </p:nvPicPr>
        <p:blipFill>
          <a:blip r:embed="rId4"/>
          <a:stretch/>
        </p:blipFill>
        <p:spPr>
          <a:xfrm>
            <a:off x="4572000" y="297180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u=1396002605,2215786706&amp;gp=3"/>
          <p:cNvPicPr/>
          <p:nvPr/>
        </p:nvPicPr>
        <p:blipFill>
          <a:blip r:embed="rId5"/>
          <a:stretch/>
        </p:blipFill>
        <p:spPr>
          <a:xfrm>
            <a:off x="2438280" y="2971800"/>
            <a:ext cx="1600200" cy="1200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565560" y="4649760"/>
            <a:ext cx="17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的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549160" y="4724280"/>
            <a:ext cx="15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的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833720" y="464832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的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7121160" y="4572000"/>
            <a:ext cx="15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的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0" descr="u=2368650152,2865209169&amp;gp=0"/>
          <p:cNvPicPr/>
          <p:nvPr/>
        </p:nvPicPr>
        <p:blipFill>
          <a:blip r:embed="rId1"/>
          <a:stretch/>
        </p:blipFill>
        <p:spPr>
          <a:xfrm>
            <a:off x="6948360" y="4797360"/>
            <a:ext cx="1860840" cy="186048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"/>
          <p:cNvGrpSpPr/>
          <p:nvPr/>
        </p:nvGrpSpPr>
        <p:grpSpPr>
          <a:xfrm>
            <a:off x="0" y="1197000"/>
            <a:ext cx="9009000" cy="1052640"/>
            <a:chOff x="0" y="1197000"/>
            <a:chExt cx="9009000" cy="1052640"/>
          </a:xfrm>
        </p:grpSpPr>
        <p:grpSp>
          <p:nvGrpSpPr>
            <p:cNvPr id="76" name="Group 3"/>
            <p:cNvGrpSpPr/>
            <p:nvPr/>
          </p:nvGrpSpPr>
          <p:grpSpPr>
            <a:xfrm>
              <a:off x="290520" y="1305000"/>
              <a:ext cx="711360" cy="474840"/>
              <a:chOff x="290520" y="1305000"/>
              <a:chExt cx="711360" cy="474840"/>
            </a:xfrm>
          </p:grpSpPr>
          <p:sp>
            <p:nvSpPr>
              <p:cNvPr id="77" name="Rectangle 4"/>
              <p:cNvSpPr/>
              <p:nvPr/>
            </p:nvSpPr>
            <p:spPr>
              <a:xfrm>
                <a:off x="290520" y="1305000"/>
                <a:ext cx="437400" cy="4748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5"/>
              <p:cNvSpPr/>
              <p:nvPr/>
            </p:nvSpPr>
            <p:spPr>
              <a:xfrm>
                <a:off x="673560" y="13050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6"/>
            <p:cNvGrpSpPr/>
            <p:nvPr/>
          </p:nvGrpSpPr>
          <p:grpSpPr>
            <a:xfrm>
              <a:off x="414360" y="1727280"/>
              <a:ext cx="737640" cy="474840"/>
              <a:chOff x="414360" y="1727280"/>
              <a:chExt cx="737640" cy="474840"/>
            </a:xfrm>
          </p:grpSpPr>
          <p:sp>
            <p:nvSpPr>
              <p:cNvPr id="80" name="Rectangle 7"/>
              <p:cNvSpPr/>
              <p:nvPr/>
            </p:nvSpPr>
            <p:spPr>
              <a:xfrm>
                <a:off x="414360" y="1727280"/>
                <a:ext cx="421560" cy="4748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8"/>
              <p:cNvSpPr/>
              <p:nvPr/>
            </p:nvSpPr>
            <p:spPr>
              <a:xfrm>
                <a:off x="783000" y="17272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Rectangle 9"/>
            <p:cNvSpPr/>
            <p:nvPr/>
          </p:nvSpPr>
          <p:spPr>
            <a:xfrm>
              <a:off x="0" y="1654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0"/>
            <p:cNvSpPr/>
            <p:nvPr/>
          </p:nvSpPr>
          <p:spPr>
            <a:xfrm>
              <a:off x="635040" y="11970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 flipV="1">
              <a:off x="316080" y="20192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14"/>
          <p:cNvSpPr/>
          <p:nvPr/>
        </p:nvSpPr>
        <p:spPr>
          <a:xfrm>
            <a:off x="2038680" y="2349360"/>
            <a:ext cx="35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: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感动之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望父买橘，艰难背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2029320" y="3068640"/>
            <a:ext cx="35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: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伤心之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父子离别，惜别背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1935000" y="3716280"/>
            <a:ext cx="35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: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思念之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再现背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泪光莹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7090920" y="2743200"/>
            <a:ext cx="1643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隶书"/>
              </a:rPr>
              <a:t>孝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971640" y="45086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: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后悔自责之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24"/>
          <p:cNvSpPr txBox="1"/>
          <p:nvPr/>
        </p:nvSpPr>
        <p:spPr>
          <a:xfrm>
            <a:off x="2340000" y="620640"/>
            <a:ext cx="43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父亲是一部书 读懂更珍贵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AutoShape 26"/>
          <p:cNvSpPr/>
          <p:nvPr/>
        </p:nvSpPr>
        <p:spPr>
          <a:xfrm rot="21172200">
            <a:off x="4059000" y="4707000"/>
            <a:ext cx="2449440" cy="15256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衬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2" name="chimes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772640" y="446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94" name="Group 4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6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7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98" name="Rectangle 8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Rectangle 10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13"/>
          <p:cNvSpPr/>
          <p:nvPr/>
        </p:nvSpPr>
        <p:spPr>
          <a:xfrm>
            <a:off x="2843280" y="1773360"/>
            <a:ext cx="590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看见他戴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穿着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布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深青布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走到铁道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慢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下去，尚不大难。可是他穿过铁道 ，要爬上那边月台 ，就不容易了 。他用两手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着上面 ，两脚再向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他肥胖的身子向左微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显出努力的样子，这时我看见他的背影 ，我的泪很快地流下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Object 14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054160" cy="47530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6443640" y="219384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076720" y="1700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黑布小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276720" y="2133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马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594036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棉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7164360" y="2205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蹒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5580000" y="26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8244000" y="35053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22764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4716360" y="429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4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5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6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背影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295280" y="6858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219320" y="14479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他用两手</a:t>
            </a:r>
            <a:r>
              <a:rPr b="1" lang="zh-CN" sz="2800" spc="-1" strike="noStrike">
                <a:solidFill>
                  <a:srgbClr val="99cc00"/>
                </a:solidFill>
                <a:latin typeface="宋体"/>
              </a:rPr>
              <a:t>攀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着上面 ，两脚再向上</a:t>
            </a:r>
            <a:r>
              <a:rPr b="1" lang="zh-CN" sz="2800" spc="-1" strike="noStrike">
                <a:solidFill>
                  <a:srgbClr val="99cc00"/>
                </a:solidFill>
                <a:latin typeface="宋体"/>
              </a:rPr>
              <a:t>缩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；他的肥胖身子向左微</a:t>
            </a:r>
            <a:r>
              <a:rPr b="1" lang="zh-CN" sz="2800" spc="-1" strike="noStrike">
                <a:solidFill>
                  <a:srgbClr val="99cc00"/>
                </a:solidFill>
                <a:latin typeface="宋体"/>
              </a:rPr>
              <a:t>倾</a:t>
            </a: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显出努力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2666880" y="1828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  <p:sndAc>
      <p:stSnd>
        <p:snd r:embed="rId2" name="chimes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324000" y="1483200"/>
            <a:ext cx="424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宋体"/>
              </a:rPr>
              <a:t>ａ</a:t>
            </a:r>
            <a:r>
              <a:rPr b="0" lang="en-US" sz="3200" spc="-1" strike="noStrike">
                <a:solidFill>
                  <a:srgbClr val="99cc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99cc00"/>
                </a:solidFill>
                <a:latin typeface="宋体"/>
              </a:rPr>
              <a:t>父亲的穿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宋体"/>
              </a:rPr>
              <a:t>ｂ</a:t>
            </a:r>
            <a:r>
              <a:rPr b="0" lang="en-US" sz="3200" spc="-1" strike="noStrike">
                <a:solidFill>
                  <a:srgbClr val="99cc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99cc00"/>
                </a:solidFill>
                <a:latin typeface="宋体"/>
              </a:rPr>
              <a:t>走路的姿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宋体"/>
              </a:rPr>
              <a:t>ｃ</a:t>
            </a:r>
            <a:r>
              <a:rPr b="0" lang="en-US" sz="3200" spc="-1" strike="noStrike">
                <a:solidFill>
                  <a:srgbClr val="99cc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99cc00"/>
                </a:solidFill>
                <a:latin typeface="宋体"/>
              </a:rPr>
              <a:t>爬月台时的动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924360" y="1557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宋体"/>
              </a:rPr>
              <a:t>黑、深青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4092120" y="241992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蹒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5574960" y="3499560"/>
            <a:ext cx="7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探、攀、缩、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0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6443640" y="1413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家境不好，心情忧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5724360" y="25653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龄大，腿脚不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5292720" y="42926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动不便，艰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1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3:30:56Z</dcterms:created>
  <dc:creator>MC SYSTEM</dc:creator>
  <dc:description/>
  <dc:language>en-US</dc:language>
  <cp:lastModifiedBy>岳宝丽</cp:lastModifiedBy>
  <dcterms:modified xsi:type="dcterms:W3CDTF">2012-05-04T01:25:48Z</dcterms:modified>
  <cp:revision>16</cp:revision>
  <dc:subject/>
  <dc:title>幻灯片 1</dc:title>
</cp:coreProperties>
</file>