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D76-6A0F-48CA-97FC-02C0CBEC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1E7-C176-46D6-A068-1BC5C41A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517-B05E-4754-B22E-FA2BD11F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CF8-B93A-405E-BB5A-5B8C989F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0DF-2B98-47E3-A40F-77DB7974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D65-CAC7-4170-BB8B-F831ABE1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720-5AEB-4038-861F-D7947895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982-5018-4EF5-AE26-84D68A16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DD5-8B1E-433D-96C0-0B745B23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A9E-5818-49E7-916E-6BD2C86E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6BC-8266-418F-841F-AE528623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93A-39DD-4791-A14F-1E7BD6A7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AB93-A224-46C4-938D-CB97C42FC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阿长与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《</a:t>
            </a:r>
            <a:r>
              <a:rPr b="0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山海经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鲁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508720" y="558972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50920" y="404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11280" y="141300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这堂课，咱们随着 鲁迅，走进他的散文集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《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中的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阿长与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&lt;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山海经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&gt;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，去探访了一个人，她是清末时期的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      （职业）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，她的身上有很多毛病，比如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      、    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随性而为，迷信愚蠢，但是，她的身上也有很多很多优点，如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通过本文的学习，我还知道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                                  。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（可结合复述故事方法、文学赏析方法、写作技巧、如何看人、如何做人等方面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楷体_GB2312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感知课文，分析人物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品味语言，体会人物思想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95280" y="1500120"/>
            <a:ext cx="81360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骇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　　　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掳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　　　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悚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惶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急　　　灸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疮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疤　　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诘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问　　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慕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疏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懒　　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霹雳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　　孤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孀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絮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说　  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斋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　　　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拙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　　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嘁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嘁喳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喳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89240" y="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基础知识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144800" y="12193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à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038480" y="114300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58000" y="1219320"/>
            <a:ext cx="17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ǒ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678680" y="220968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u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063040" y="2209680"/>
            <a:ext cx="16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u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856280" y="2209680"/>
            <a:ext cx="74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679040" y="312408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419720" y="31240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6858000" y="3124080"/>
            <a:ext cx="15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īl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523880" y="40831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hu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4572000" y="396252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7451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6629400" y="4038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ā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905120" y="51055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u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791320" y="5029200"/>
            <a:ext cx="22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īch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7524720" y="422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457200" y="380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家简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ject 5" descr=""/>
          <p:cNvPicPr/>
          <p:nvPr/>
        </p:nvPicPr>
        <p:blipFill>
          <a:blip r:embed="rId2"/>
          <a:stretch/>
        </p:blipFill>
        <p:spPr>
          <a:xfrm>
            <a:off x="5821200" y="333360"/>
            <a:ext cx="3143520" cy="4029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324000" y="1581120"/>
            <a:ext cx="54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文选自散文集                   ，作者鲁迅，原名           ，我国现代伟大的无产阶级文学家、思想家、革命家，中国现代文学的奠基人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，第一次用“鲁迅”的笔名发表了中国文学史上第一篇白话小说                 。短篇小说集                        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916360" y="162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朝花夕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627280" y="198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周树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619280" y="41958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狂人日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611280" y="4581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呐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1763640" y="458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彷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539640" y="3333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章围绕阿长写了哪些事，对阿长的感情是怎样的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62120" y="1905120"/>
            <a:ext cx="4876560" cy="3568320"/>
            <a:chOff x="762120" y="1905120"/>
            <a:chExt cx="4876560" cy="3568320"/>
          </a:xfrm>
        </p:grpSpPr>
        <p:sp>
          <p:nvSpPr>
            <p:cNvPr id="74" name="Text Box 4"/>
            <p:cNvSpPr/>
            <p:nvPr/>
          </p:nvSpPr>
          <p:spPr>
            <a:xfrm>
              <a:off x="762120" y="1905120"/>
              <a:ext cx="41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名字的来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762120" y="24382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喜切切察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6"/>
            <p:cNvSpPr/>
            <p:nvPr/>
          </p:nvSpPr>
          <p:spPr>
            <a:xfrm>
              <a:off x="762120" y="2895480"/>
              <a:ext cx="35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睡觉摆“大”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7"/>
            <p:cNvSpPr/>
            <p:nvPr/>
          </p:nvSpPr>
          <p:spPr>
            <a:xfrm>
              <a:off x="762120" y="327636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规矩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762120" y="3657240"/>
              <a:ext cx="18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道理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762120" y="4038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讲“长毛”的故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762120" y="4952880"/>
              <a:ext cx="316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买“三哼经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1"/>
          <p:cNvSpPr/>
          <p:nvPr/>
        </p:nvSpPr>
        <p:spPr>
          <a:xfrm>
            <a:off x="838080" y="4991040"/>
            <a:ext cx="1981440" cy="495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877080" y="2060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不大佩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885000" y="3716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不耐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6877080" y="4340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敬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653904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产生新的敬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5508720" y="1295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我”对阿长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7308720" y="2637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7308720" y="40766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>
            <a:off x="7308720" y="479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762120" y="1295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200400" y="685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黑体"/>
              </a:rPr>
              <a:t>阿长买“三哼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555920"/>
            <a:ext cx="2514600" cy="45972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渴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山海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600200" y="21654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62120" y="3048120"/>
            <a:ext cx="1828800" cy="45972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想得而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2743200" y="3276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191120" y="3048120"/>
            <a:ext cx="1447560" cy="45972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阿长来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191120" y="4114800"/>
            <a:ext cx="2743200" cy="45972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告假回家，买到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4191120" y="5181480"/>
            <a:ext cx="2133360" cy="45972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见面就高兴地把书给“我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49528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495288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28195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838080" y="5181480"/>
            <a:ext cx="1752840" cy="8254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阿长产生新的敬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6989040" y="1630440"/>
            <a:ext cx="139932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原因   经过   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33520" y="969840"/>
            <a:ext cx="8229600" cy="138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四本书，乃是我</a:t>
            </a: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最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得到</a:t>
            </a: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，最为心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宝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书的模样，到现在还在眼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可是从还在眼前的模样来说，却是一部刻印都十分粗拙的本子。纸张很黄；图像也很坏，甚至于几乎全用直线凑合，连动物的眼睛也都是长方形的。</a:t>
            </a: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但那是我最心爱的宝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看起来，确是人面的兽；九头的蛇；一脚的牛；袋子似的帝江；没有头而“以乳为目，以脐为口”，还要“执干戚而舞”的刑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752480" y="4724280"/>
            <a:ext cx="5791320" cy="5205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言，那种对童心的巨大的满足、阿长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爱，永久印烙在了心灵之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95280" y="404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品味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04920" y="2163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仁厚黑暗的地母啊，愿在你怀里永安她的魂灵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905120" y="35812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深情的呼唤，深切的怀念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我们生活中，有没有像阿长这样的给你留下深刻印象的普通人，说说他（她）的故事，谈谈你的感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1:28:04Z</dcterms:created>
  <dc:creator>User</dc:creator>
  <dc:description/>
  <dc:language>en-US</dc:language>
  <cp:lastModifiedBy>岳宝丽</cp:lastModifiedBy>
  <dcterms:modified xsi:type="dcterms:W3CDTF">2014-03-07T06:14:46Z</dcterms:modified>
  <cp:revision>19</cp:revision>
  <dc:subject/>
  <dc:title>阿长与《山海经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