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EFD-930D-43C6-9D3E-898B7441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2108-0E39-41DC-9D6C-0579D146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64CE-C96F-4A4B-A740-154C284F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615F-CCFD-4193-8C3F-93E5AE0E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6C5B-A1EA-4858-ADFF-39771311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57B-E85C-4274-ADFF-450BF411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AC3-5A8D-4E8C-A0AC-7EB78A0F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E15-85DD-4FF8-904E-ED190ED9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2311-BA3B-4982-B59B-0FD74DA6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9AF-1662-4723-A12B-D96A316C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FB8D-9777-48A9-885E-4A9CC2F4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451-34EC-49A6-A3DD-06FE6C34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51CA-93CB-4AFB-AC72-D56DE20D3B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205000"/>
            <a:ext cx="8675640" cy="28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香菱学诗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 rot="243600">
            <a:off x="539640" y="907560"/>
            <a:ext cx="805500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相信你苦志学习，精血诚聚，一定也能成功！</a:t>
            </a:r>
            <a:endParaRPr b="0" lang="en-US" sz="24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71640" y="1341360"/>
            <a:ext cx="309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赏读课文</a:t>
            </a:r>
            <a:endParaRPr b="0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8172360" y="6208560"/>
            <a:ext cx="971640" cy="649440"/>
          </a:xfrm>
          <a:custGeom>
            <a:avLst/>
            <a:gdLst>
              <a:gd name="textAreaLeft" fmla="*/ 41760 w 971640"/>
              <a:gd name="textAreaRight" fmla="*/ 929880 w 97164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32310" h="21600">
                <a:moveTo>
                  <a:pt x="0" y="0"/>
                </a:moveTo>
                <a:lnTo>
                  <a:pt x="32310" y="0"/>
                </a:lnTo>
                <a:lnTo>
                  <a:pt x="32310" y="21600"/>
                </a:lnTo>
                <a:lnTo>
                  <a:pt x="0" y="21600"/>
                </a:lnTo>
                <a:close/>
              </a:path>
              <a:path fill="lightenLess" w="32310" h="21600">
                <a:moveTo>
                  <a:pt x="0" y="0"/>
                </a:moveTo>
                <a:lnTo>
                  <a:pt x="32310" y="0"/>
                </a:lnTo>
                <a:lnTo>
                  <a:pt x="30910" y="1400"/>
                </a:lnTo>
                <a:lnTo>
                  <a:pt x="1400" y="1400"/>
                </a:lnTo>
                <a:close/>
              </a:path>
              <a:path fill="darken" w="32310" h="21600">
                <a:moveTo>
                  <a:pt x="32310" y="0"/>
                </a:moveTo>
                <a:lnTo>
                  <a:pt x="32310" y="21600"/>
                </a:lnTo>
                <a:lnTo>
                  <a:pt x="30910" y="20200"/>
                </a:lnTo>
                <a:lnTo>
                  <a:pt x="30910" y="1400"/>
                </a:lnTo>
                <a:close/>
              </a:path>
              <a:path fill="darkenLess" w="32310" h="21600">
                <a:moveTo>
                  <a:pt x="32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10" y="20200"/>
                </a:lnTo>
                <a:close/>
              </a:path>
              <a:path fill="lighten" w="32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10" h="21600">
                <a:moveTo>
                  <a:pt x="16155" y="3837"/>
                </a:moveTo>
                <a:lnTo>
                  <a:pt x="18731" y="6448"/>
                </a:lnTo>
                <a:lnTo>
                  <a:pt x="18731" y="4707"/>
                </a:lnTo>
                <a:lnTo>
                  <a:pt x="20507" y="4707"/>
                </a:lnTo>
                <a:lnTo>
                  <a:pt x="20507" y="8224"/>
                </a:lnTo>
                <a:lnTo>
                  <a:pt x="23118" y="10800"/>
                </a:lnTo>
                <a:lnTo>
                  <a:pt x="21464" y="10800"/>
                </a:lnTo>
                <a:lnTo>
                  <a:pt x="21464" y="17989"/>
                </a:lnTo>
                <a:lnTo>
                  <a:pt x="10846" y="17989"/>
                </a:lnTo>
                <a:lnTo>
                  <a:pt x="10846" y="10800"/>
                </a:lnTo>
                <a:lnTo>
                  <a:pt x="9192" y="10800"/>
                </a:lnTo>
                <a:close/>
              </a:path>
              <a:path fill="darkenLess" w="32310" h="21600">
                <a:moveTo>
                  <a:pt x="18731" y="6448"/>
                </a:moveTo>
                <a:lnTo>
                  <a:pt x="18731" y="4707"/>
                </a:lnTo>
                <a:lnTo>
                  <a:pt x="20507" y="4707"/>
                </a:lnTo>
                <a:lnTo>
                  <a:pt x="20507" y="8224"/>
                </a:lnTo>
                <a:close/>
              </a:path>
              <a:path fill="darkenLess" w="32310" h="21600">
                <a:moveTo>
                  <a:pt x="15233" y="14299"/>
                </a:moveTo>
                <a:lnTo>
                  <a:pt x="17078" y="14299"/>
                </a:lnTo>
                <a:lnTo>
                  <a:pt x="17078" y="17989"/>
                </a:lnTo>
                <a:lnTo>
                  <a:pt x="21464" y="17989"/>
                </a:lnTo>
                <a:lnTo>
                  <a:pt x="21464" y="10800"/>
                </a:lnTo>
                <a:lnTo>
                  <a:pt x="10846" y="10800"/>
                </a:lnTo>
                <a:lnTo>
                  <a:pt x="10846" y="17989"/>
                </a:lnTo>
                <a:lnTo>
                  <a:pt x="1523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859280" y="1197000"/>
          <a:ext cx="36003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197000"/>
                    <a:ext cx="36003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176364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 rot="5400000">
            <a:off x="-2142720" y="2763000"/>
            <a:ext cx="5977080" cy="16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红楼梦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6364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76364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76364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1692360" y="0"/>
            <a:ext cx="745164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1692360" y="0"/>
            <a:ext cx="745164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hspace=0"/>
          <p:cNvPicPr/>
          <p:nvPr/>
        </p:nvPicPr>
        <p:blipFill>
          <a:blip r:embed="rId8"/>
          <a:stretch/>
        </p:blipFill>
        <p:spPr>
          <a:xfrm>
            <a:off x="1692360" y="0"/>
            <a:ext cx="745164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1692360" y="0"/>
            <a:ext cx="74516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80428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80428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92928"/>
                            </p:stCondLst>
                            <p:childTnLst>
                              <p:par>
                                <p:cTn id="89" nodeType="afterEffect" fill="hold" presetClass="entr" presetID="25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4928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16928"/>
                            </p:stCondLst>
                            <p:childTnLst>
                              <p:par>
                                <p:cTn id="105" nodeType="afterEffect" fill="hold" presetClass="entr" presetID="3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6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28928"/>
                            </p:stCondLst>
                            <p:childTnLst>
                              <p:par>
                                <p:cTn id="114" nodeType="afterEffect" fill="hold" presetClass="entr" presetID="21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40928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2928"/>
                            </p:stCondLst>
                            <p:childTnLst>
                              <p:par>
                                <p:cTn id="122" nodeType="afterEffect" fill="hold" presetClass="entr" presetID="8" presetSubtype="3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64928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7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Arial"/>
              </a:rPr>
              <a:t>整理课上发言</a:t>
            </a:r>
            <a:r>
              <a:rPr b="0" lang="zh-CN" sz="5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5100" spc="-1" strike="noStrike">
                <a:solidFill>
                  <a:srgbClr val="000000"/>
                </a:solidFill>
                <a:latin typeface="Arial"/>
              </a:rPr>
              <a:t>写一篇题目为《香菱学诗的启示》的文章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00000" y="1125360"/>
            <a:ext cx="36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布置作业</a:t>
            </a:r>
            <a:endParaRPr b="0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616800">
            <a:off x="375840" y="753840"/>
            <a:ext cx="4853160" cy="28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香菱学诗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4653000"/>
            <a:ext cx="454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66ff"/>
                </a:solidFill>
                <a:latin typeface="Times New Roman"/>
                <a:ea typeface="隶书"/>
              </a:rPr>
              <a:t>曹雪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692360" y="-1395360"/>
            <a:ext cx="12457080" cy="9361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7524720" y="836640"/>
            <a:ext cx="115272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叹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香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菱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4581360"/>
            <a:ext cx="835164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50000">
                      <a:srgbClr val="ff99ff"/>
                    </a:gs>
                    <a:gs pos="100000">
                      <a:srgbClr val="bbe0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根并荷花一茎香，平生遭际实堪伤。</a:t>
            </a:r>
            <a:endParaRPr b="0" lang="en-US" sz="2400" spc="1" strike="noStrike">
              <a:ln w="9360">
                <a:solidFill>
                  <a:srgbClr val="ff99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50000">
                    <a:srgbClr val="ff99ff"/>
                  </a:gs>
                  <a:gs pos="100000">
                    <a:srgbClr val="bbe0e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50000">
                      <a:srgbClr val="ff99ff"/>
                    </a:gs>
                    <a:gs pos="100000">
                      <a:srgbClr val="bbe0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自从两地生孤木，致使香魂返故乡。</a:t>
            </a:r>
            <a:endParaRPr b="0" lang="en-US" sz="2400" spc="1" strike="noStrike">
              <a:ln w="9360">
                <a:solidFill>
                  <a:srgbClr val="ff99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50000">
                    <a:srgbClr val="ff99ff"/>
                  </a:gs>
                  <a:gs pos="100000">
                    <a:srgbClr val="bbe0e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332000" y="1413000"/>
            <a:ext cx="2952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整体感知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/>
          <p:nvPr/>
        </p:nvSpPr>
        <p:spPr>
          <a:xfrm>
            <a:off x="2050920" y="3068640"/>
            <a:ext cx="626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概括香菱学诗的过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116000" y="1268280"/>
            <a:ext cx="3816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精读研讨</a:t>
            </a:r>
            <a:endParaRPr b="0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2421000"/>
            <a:ext cx="676908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黛玉给香菱指点学诗时谈到了哪些问题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她的教学方式有何特点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95640" y="191628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香菱学诗成功的原因是什么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40000" y="335772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香菱学诗对我们有何启示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5640" y="1197000"/>
            <a:ext cx="3672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探究思考</a:t>
            </a:r>
            <a:endParaRPr b="0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03640" y="404640"/>
            <a:ext cx="3889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134136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0560" y="1197000"/>
            <a:ext cx="77421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一境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1" lang="zh-CN" sz="4000" spc="-1" strike="noStrike">
                <a:solidFill>
                  <a:srgbClr val="0066ff"/>
                </a:solidFill>
                <a:latin typeface="隶书"/>
                <a:ea typeface="隶书"/>
              </a:rPr>
              <a:t>昨夜西风凋碧树，独上高楼，望尽天涯路。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二境“</a:t>
            </a:r>
            <a:r>
              <a:rPr b="1" lang="zh-CN" sz="4000" spc="-1" strike="noStrike">
                <a:solidFill>
                  <a:srgbClr val="0066ff"/>
                </a:solidFill>
                <a:latin typeface="隶书"/>
                <a:ea typeface="隶书"/>
              </a:rPr>
              <a:t>衣带渐宽终不悔</a:t>
            </a:r>
            <a:r>
              <a:rPr b="1" lang="zh-CN" sz="4000" spc="-1" strike="noStrike">
                <a:solidFill>
                  <a:srgbClr val="0066ff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隶书"/>
              </a:rPr>
              <a:t>为伊消得人憔悴</a:t>
            </a:r>
            <a:r>
              <a:rPr b="1" lang="zh-CN" sz="4000" spc="-1" strike="noStrike">
                <a:solidFill>
                  <a:srgbClr val="0066ff"/>
                </a:solidFill>
                <a:latin typeface="隶书"/>
                <a:ea typeface="隶书"/>
              </a:rPr>
              <a:t>。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三境“</a:t>
            </a:r>
            <a:r>
              <a:rPr b="1" lang="zh-CN" sz="4000" spc="-1" strike="noStrike">
                <a:solidFill>
                  <a:srgbClr val="0066ff"/>
                </a:solidFill>
                <a:latin typeface="隶书"/>
                <a:ea typeface="隶书"/>
              </a:rPr>
              <a:t>蓦然回首，那人却在，灯火阑珊处。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”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13:13:13Z</dcterms:created>
  <dc:creator/>
  <dc:description/>
  <dc:language>en-US</dc:language>
  <cp:lastModifiedBy>微软用户</cp:lastModifiedBy>
  <dcterms:modified xsi:type="dcterms:W3CDTF">2011-03-29T09:08:28Z</dcterms:modified>
  <cp:revision>40</cp:revision>
  <dc:subject/>
  <dc:title>PowerPoint 演示文稿</dc:title>
</cp:coreProperties>
</file>