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projctor.wav" ContentType="audio/x-wav"/>
  <Override PartName="/ppt/media/image2.jpeg" ContentType="image/jpeg"/>
  <Override PartName="/ppt/media/image3.jpeg" ContentType="image/jpeg"/>
  <Override PartName="/ppt/media/image1.png" ContentType="image/png"/>
  <Override PartName="/ppt/media/image24.png" ContentType="image/png"/>
  <Override PartName="/ppt/media/image13.jpeg" ContentType="image/jpeg"/>
  <Override PartName="/ppt/media/image27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6AA-3DF1-494F-BAEC-80828EEA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E21-88F6-423F-8550-E987BCFD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8BE-52E5-4BB8-8035-2DB783CF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268-E9DF-467C-8C42-27C1440C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964F-AA90-43F6-92EE-D6C4FCC0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6903-161C-46D1-BC37-A550E021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820D-D7E0-47F9-AAE2-D942466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B78-1E62-4382-B96D-E5381893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AE0A-F73A-4D1C-8D23-056A4EED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423-4D3F-497D-80E7-E41C082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B740-F3A7-4555-A43D-19EB9AA2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C6F-EA0A-47D4-B538-91CA63F3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1BF-3A4F-422A-8569-63B21421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8195-8925-4DB0-AD86-80160B0C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DBAE-1C6D-4A93-B07E-E507366D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16F9-0603-4DBE-A295-8015A52C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4EB-36D2-4600-8CB3-711DD379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601-7717-4DD5-937F-25FF0AE2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A56-D2DC-491D-9FB1-9E8D0B3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059-3714-46CD-80F5-8CF99736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F9F-2FA3-4ACE-803F-9172357A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AC6-89EB-4805-B38C-350666B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9933-7941-458C-80EC-8D05486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3D4-03BE-493F-967F-91A3AAB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61B7-99FB-4B2A-989B-F0B3F88A2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6D4F-8386-4B8D-8EFE-49787BB68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image" Target="../media/image3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gif"/><Relationship Id="rId3" Type="http://schemas.openxmlformats.org/officeDocument/2006/relationships/image" Target="../media/image6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7,4,&#24187;&#28783;&#29255; 4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6.jpeg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60020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66680" y="53352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人教版《语文》九年级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projcto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6000" y="404640"/>
            <a:ext cx="3733560" cy="825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学过程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1557360"/>
            <a:ext cx="7632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合作探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较范进中举前后社会地位、经济状况的显著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从胡屠户、乡邻、张乡绅对范进态度的变化这个角度分析他们的性格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造成范进中举发疯的根源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 flipH="1"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47920" y="457200"/>
            <a:ext cx="106668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72640" y="728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点拨指导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0440" y="2565360"/>
            <a:ext cx="5514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中举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；中举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~1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四人为一小组扮演人物角色展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物个性，比一比哪个小组合作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成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03640" y="476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内容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进家境社会地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2205000"/>
            <a:ext cx="658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895480"/>
            <a:ext cx="304560" cy="2971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274176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经济状况：每日小菜饭  不知猪油味， 饿了两三天，乡试无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4653000"/>
            <a:ext cx="430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胡屠户：“现世宝  癞虾蟆  尖嘴猴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不三不四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1752480" cy="9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5928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~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范进的经济，社会地位发生了质的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895480"/>
            <a:ext cx="457200" cy="312444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743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众乡邻：拿蛋送酒的  背米捉鸡的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搬桌拿椅的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40734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张乡绅：称兄连谊， 送银赠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4941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胡屠户：才学高  品貌好  天上星宿  贤婿老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1752480" cy="9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76720" y="33336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范进中举前后众人对他的态度截然不同，通过对比夸张等手法达到了怎样的表达效果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209680"/>
            <a:ext cx="7696080" cy="1312920"/>
          </a:xfrm>
          <a:prstGeom prst="rect">
            <a:avLst/>
          </a:prstGeom>
          <a:solidFill>
            <a:srgbClr val="e8e9c7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通过对比夸张等手法达到强烈的讽刺效果！如“蚂蚁伸腿绊大象”通过对比夸张的手法讽刺了自不量力的小人物。运用典型的细节达到讽刺效果如：请举例说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828800" cy="10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76520" y="2209680"/>
            <a:ext cx="7172280" cy="58140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胡屠户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欺贫爱富、趋炎附势，前倨后恭的市侩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4572000"/>
            <a:ext cx="7086600" cy="58140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张静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作者刻画的次要人物。对有钱有势的人奉迎巴结，对无钱无势的人冷漠无情，借此来巩固和扩大自己的权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80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请从胡屠户、乡邻、张乡绅对范进态度的变化这个角度分析他们的性格特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42920" y="2212920"/>
            <a:ext cx="457200" cy="366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400 h 3664080"/>
              <a:gd name="textAreaBottom" fmla="*/ 3568680 h 366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3429000"/>
            <a:ext cx="7178760" cy="58140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乡     邻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趋炎附势，谴责了封建社会的丑恶的道德风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1828800" cy="10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87640" y="549360"/>
            <a:ext cx="3581280" cy="45972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范进中举发疯的根源是？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057400"/>
            <a:ext cx="7391520" cy="106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范进喜极而疯，刻画出一个为追求功名利禄而神魂颠倒的典型形象，尖锐地批判了封建科举制度对知识分子的毒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19200" y="533520"/>
            <a:ext cx="100800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projctor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838080"/>
            <a:ext cx="2819160" cy="703440"/>
          </a:xfrm>
          <a:prstGeom prst="rect">
            <a:avLst/>
          </a:prstGeom>
          <a:solidFill>
            <a:srgbClr val="f6fdd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19890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范进中举了，家庭经济和社会地位都发生了显著变化，为什么说在他身上还体现了封建科举的罪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50320" y="4708440"/>
            <a:ext cx="49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一篇读后感《范进的发疯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projctor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76720" y="1557360"/>
            <a:ext cx="365760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e300a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谢谢！</a:t>
            </a:r>
            <a:endParaRPr b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ee300a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07480" y="8380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1989000"/>
            <a:ext cx="635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人物的性格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会对比和夸张的讽刺艺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探究范进喜极而疯的根源。　　　　　　　　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03120" y="533520"/>
            <a:ext cx="1826640" cy="916920"/>
          </a:xfrm>
          <a:prstGeom prst="rect">
            <a:avLst/>
          </a:prstGeom>
          <a:solidFill>
            <a:srgbClr val="cbb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  <a:ea typeface="华文行楷"/>
              </a:rPr>
              <a:t>检查预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8192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主探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281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2205000"/>
            <a:ext cx="68407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⒈</a:t>
            </a:r>
            <a:r>
              <a:rPr b="0" lang="zh-CN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简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插图，复述课文故事梗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划分文章结构，概括每部分大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4149720"/>
            <a:ext cx="236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4952880" cy="243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97400" y="304920"/>
            <a:ext cx="1642680" cy="266688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0018"/>
                </a:solidFill>
                <a:latin typeface="Times New Roman"/>
                <a:ea typeface="楷体_GB2312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048120"/>
            <a:ext cx="7162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吴敬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0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~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75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字敏轩，晚年又号文林山人，安微全椒人，清代小说家，善诗赋，尤以小说著称。所作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《儒林外史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根据切身体验，从多方面描绘士大夫的精神面貌，对科举制度和封建礼教进行深刻的批判，成为我国古典讽刺小说中的杰出作品。又有《文木山房集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projctor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657600" cy="2967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65760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29200" y="34290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1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73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520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7320" y="609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596880" cy="5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373392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05520" y="304920"/>
            <a:ext cx="358128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143000" y="3581280"/>
            <a:ext cx="3733920" cy="2971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358128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57800" y="29718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5200" y="6019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6019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2152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3657600" cy="3047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528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3810240" cy="312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26888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468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6019920"/>
            <a:ext cx="54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4680" y="6019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3809880" cy="312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90720" y="3505320"/>
            <a:ext cx="3809880" cy="3108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3736800" cy="3124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5029200" y="304920"/>
            <a:ext cx="3733920" cy="3124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6888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30640" y="2971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888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0640" y="609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6680" y="175248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范进中举》按故事情节的发展，可分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大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9640" y="3048120"/>
            <a:ext cx="70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范进中举之前的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91760" y="4343400"/>
            <a:ext cx="4021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范进中举喜极发疯及中举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社会地位显著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49360"/>
            <a:ext cx="3048120" cy="825120"/>
          </a:xfrm>
          <a:prstGeom prst="rect">
            <a:avLst/>
          </a:prstGeom>
          <a:solidFill>
            <a:srgbClr val="cbbd8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结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projctor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30T13:07:31Z</dcterms:created>
  <dc:creator>鲍其伟</dc:creator>
  <dc:description/>
  <cp:keywords>范进中举</cp:keywords>
  <dc:language>en-US</dc:language>
  <cp:lastModifiedBy>y</cp:lastModifiedBy>
  <dcterms:modified xsi:type="dcterms:W3CDTF">2014-03-08T03:31:08Z</dcterms:modified>
  <cp:revision>127</cp:revision>
  <dc:subject/>
  <dc:title>范进中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