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C9F-82DA-4943-93DE-8A0458AE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C49-EEF2-426D-96A9-C509E69A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39B-3C98-4A1D-AB3A-B105D1E2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EC3-4513-4D0C-A2E5-1CAE75D6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7585E-05EA-4E48-865E-F851CE8A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B9ED9-B6ED-497B-9EC5-41920CFF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B5245-3E6D-41AA-B72E-55B36C7E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A5044-035C-4A1B-9B84-0390B162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0473C-A90C-493B-A27B-EF6E6393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006E4-A93F-4419-B5FC-E5D661E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3DD58-6CC1-4C4C-86D7-1BC0867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0C5-1FAC-41B9-A77A-8D34536C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8D593-353C-450F-910B-0A1C54EE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9FE2E-1A8C-43FC-956A-F4F82F5C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701F8-E79B-40B7-8649-A74CA43C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9022F-366E-457F-A829-AF998A23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96562-6CB7-41A8-BBC9-C88D1360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7035-2772-465E-911E-5FF8516E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35C6-40EC-4101-AB0A-25EE77A8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CAF7-CFF0-4987-A56A-B33CDDCA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552F-3459-416C-AC96-A4ADF6A5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3F37-B36B-4816-9DD4-2C096B10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2A2-D56D-458D-9164-0C86D3B7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35CA-B823-4F00-A94E-E73801A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74CC-A4A4-4526-AAD5-93C47AB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C240-406D-4EF9-91E9-229FFCD5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7D31-B73A-40C2-9876-D47645AF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EC09-9017-4AF9-8F8A-F218CBD0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3153-71E3-4932-98DB-65B6B8BF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797A2-2049-4C04-AEF6-CFE764A2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FD1C-66FE-4760-B86E-9BE74534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2AE52-3802-433A-A886-F3E2D189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7BF3-9CF9-4A92-B60E-B4054E32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8CE-C715-4F13-8D78-681E67BA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ACAC-4BEF-4087-88B9-C59D8290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FA237-5A24-4E56-BCD8-26E4800D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D8E8-FFAA-47AB-8872-09D5E9E8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5240-2AB0-4E6B-B630-32938846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C05B-634F-4F2A-B671-1D1FB9C8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31128-FE5D-48AC-A892-B7B68EB2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3508-C5B9-4A8F-B3D9-A885B9D2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3A24C-4C8B-4535-9F0B-91D3F46C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AD4C-BFDA-48A2-97DB-0B180341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EAFD0-2A9F-4B04-88E0-F16DDAE2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A08-02B5-44B7-A6BC-E89AE975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16782-77FE-4398-8F3B-BD72DB8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4044-AE4A-47AB-9FC8-A70EDF03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FCB88-94A2-4AA1-84C3-4E6C1161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908DE-DCAD-4690-A85A-24266036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7B68-9B9B-4F62-8108-37E1E846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E88B7-FCE3-4B25-A52B-02FAB7A4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86460-C313-47BB-9A9D-038696A5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7725-F4F3-48AB-8F23-3EA7D273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25D6-FC31-4CD9-BBE7-45DEDD08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4DDD6-007C-41A0-87F5-657BD2DC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B6D-5785-45AC-9756-68A3B4D2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B96F-DCC6-4C0A-A6D2-2565EC5C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0F6-6CA8-48D0-A84B-814E2C9D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CAE-BD9B-455E-89AB-8AA64E33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0CF-31EE-40FF-8CCE-A28D6538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8A37-9218-482D-BF17-14012B0182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F9AA-7E16-4FAF-BCEF-D18A4927D809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9085-7A08-4FB6-AC40-8501D9E857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E2AF-755B-4608-8A3C-F6AF576B4F99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699A-85AF-4221-97B5-D6247AC10AB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00ph.com/data/2006/0530/article_8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WordArt 3"/>
          <p:cNvSpPr txBox="1"/>
          <p:nvPr/>
        </p:nvSpPr>
        <p:spPr>
          <a:xfrm>
            <a:off x="304920" y="1447920"/>
            <a:ext cx="8370720" cy="18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cc99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方正硬笔楷书简体"/>
              </a:rPr>
              <a:t>    </a:t>
            </a:r>
            <a:r>
              <a:rPr b="1" lang="zh-CN" sz="6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cc99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方正硬笔楷书简体"/>
              </a:rPr>
              <a:t>纪念伏尔泰逝世一百周年的演说</a:t>
            </a:r>
            <a:endParaRPr b="1" lang="en-US" sz="6000" spc="1" strike="noStrike">
              <a:ln w="12600">
                <a:solidFill>
                  <a:srgbClr val="ff6600"/>
                </a:solidFill>
                <a:miter/>
              </a:ln>
              <a:solidFill>
                <a:srgbClr val="ffcc99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方正硬笔楷书简体"/>
              <a:ea typeface="方正硬笔楷书简体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183440" y="4076640"/>
            <a:ext cx="150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ff"/>
                </a:solidFill>
                <a:latin typeface="Times New Roman"/>
                <a:ea typeface="方正流行体简体"/>
              </a:rPr>
              <a:t>法</a:t>
            </a:r>
            <a:r>
              <a:rPr b="0" lang="en-US" sz="4000" spc="-1" strike="noStrike">
                <a:solidFill>
                  <a:srgbClr val="00ccff"/>
                </a:solidFill>
                <a:latin typeface="Times New Roman"/>
                <a:ea typeface="方正流行体简体"/>
              </a:rPr>
              <a:t>·</a:t>
            </a:r>
            <a:r>
              <a:rPr b="0" lang="zh-CN" sz="4000" spc="-1" strike="noStrike">
                <a:solidFill>
                  <a:srgbClr val="00ccff"/>
                </a:solidFill>
                <a:latin typeface="Times New Roman"/>
                <a:ea typeface="方正流行体简体"/>
              </a:rPr>
              <a:t>雨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>
                <a:solidFill>
                  <a:srgbClr val="ffffcc"/>
                </a:solidFill>
                <a:latin typeface="Tahoma"/>
              </a:rPr>
              <a:t>斗士伏尔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斗争的原因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（人民无知，宗教愚昧，君主专制，司法黑暗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斗争的对象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（宫廷  贵族  金融界  教会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斗争的方式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独自一人，一枝笔（轻如和风，猛如雷电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具体表现  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为西尔旺  蒙巴伊  卡拉斯  拉巴尔辩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果 </a:t>
            </a:r>
            <a:r>
              <a:rPr b="0" i="1" lang="zh-CN" sz="3200" spc="-1" strike="noStrike">
                <a:solidFill>
                  <a:srgbClr val="ffff00"/>
                </a:solidFill>
                <a:latin typeface="Tahoma"/>
              </a:rPr>
              <a:t>胜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1452960" y="357120"/>
            <a:ext cx="40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他具体用什么去战斗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841040" y="1336680"/>
            <a:ext cx="49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）他用手中的笔战斗（武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570120" y="2276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利用他的著作和思想去教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1566360" y="3500280"/>
            <a:ext cx="46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）他用他的“微笑”去战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134720" y="4437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微笑是他的人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155240" y="357120"/>
            <a:ext cx="31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他是怎样战斗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841040" y="1336680"/>
            <a:ext cx="49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）他用手中的笔战斗（武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3570120" y="2276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利用他的著作和思想去教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1566360" y="3500280"/>
            <a:ext cx="46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）他用他的“微笑”去战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1134720" y="4437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微笑是他的人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85800" y="5300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硬笔楷书简体"/>
              </a:rPr>
              <a:t>以嘲笑对付权贵；以怜悯安抚 百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硬笔楷书简体"/>
              </a:rPr>
              <a:t>微笑里含有黎明的曙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5606280" y="4437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硬笔楷书简体"/>
              </a:rPr>
              <a:t>他是智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134136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他也赢得了未来的祝福，为什么？</a:t>
            </a:r>
            <a:r>
              <a:rPr b="1" lang="zh-CN" sz="3200" spc="-1" strike="noStrike" u="sng">
                <a:solidFill>
                  <a:srgbClr val="99cc00"/>
                </a:solidFill>
                <a:uFillTx/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0" y="3284640"/>
            <a:ext cx="961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启体简体"/>
              </a:rPr>
              <a:t>伏尔泰对之后的时代有很大的影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启体简体"/>
              </a:rPr>
              <a:t>（法国大革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4762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结构解读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657600" y="42926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介绍伏尔泰的时代意义</a:t>
            </a:r>
            <a:r>
              <a:rPr b="1" lang="en-US" sz="32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总结全文，再次揭示伏尔泰对人类的贡献，激励后来人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2355840" y="5619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2355120" y="216216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-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2354040" y="3152880"/>
            <a:ext cx="18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-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2277720" y="4448160"/>
            <a:ext cx="18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-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32767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总的评价伏尔泰在历史上的非凡地位，世纪性的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3657600" y="16765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歌颂伏尔泰的丰功伟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4038480" y="3048120"/>
            <a:ext cx="46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赞美人格，伏尔泰具有睿智的微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1371600" y="914400"/>
            <a:ext cx="1066680" cy="45720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799920 h 4572000"/>
              <a:gd name="textAreaBottom" fmla="*/ 331488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380880" y="5943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2419560" y="5915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现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6629400" y="6021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伟大人格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3733920" y="59500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伟大贡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6"/>
          <p:cNvSpPr/>
          <p:nvPr/>
        </p:nvSpPr>
        <p:spPr>
          <a:xfrm>
            <a:off x="1447920" y="6324480"/>
            <a:ext cx="838080" cy="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7"/>
          <p:cNvSpPr/>
          <p:nvPr/>
        </p:nvSpPr>
        <p:spPr>
          <a:xfrm>
            <a:off x="5940360" y="6381720"/>
            <a:ext cx="863640" cy="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3203640" y="549360"/>
            <a:ext cx="208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-34920" y="2133720"/>
            <a:ext cx="961056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伏尔泰是一个不屈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方正启体简体"/>
                <a:ea typeface="方正启体简体"/>
              </a:rPr>
              <a:t>             </a:t>
            </a:r>
            <a:r>
              <a:rPr b="1" lang="zh-CN" sz="40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的伏尔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也是个永远保持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方正启体简体"/>
                <a:ea typeface="方正启体简体"/>
              </a:rPr>
              <a:t>            </a:t>
            </a:r>
            <a:r>
              <a:rPr b="1" lang="zh-CN" sz="40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的伏尔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伏尔泰更是个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方正启体简体"/>
                <a:ea typeface="方正启体简体"/>
              </a:rPr>
              <a:t>             </a:t>
            </a:r>
            <a:r>
              <a:rPr b="1" lang="zh-CN" sz="40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的伏尔泰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。</a:t>
            </a:r>
            <a:r>
              <a:rPr b="1" lang="zh-CN" sz="3200" spc="-1" strike="noStrike" u="sng">
                <a:solidFill>
                  <a:srgbClr val="99cc00"/>
                </a:solidFill>
                <a:uFillTx/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829400" y="21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硬笔楷书简体"/>
              </a:rPr>
              <a:t>战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821400" y="30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硬笔楷书简体"/>
              </a:rPr>
              <a:t>微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203640" y="393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硬笔楷书简体"/>
              </a:rPr>
              <a:t>永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20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篇演讲是文坛泰斗对思想大师的崇高礼赞，也是对正义的呐喊，良知的呼唤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3348000" y="620640"/>
            <a:ext cx="237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1" name="Picture 5" descr="cache(25)"/>
            <p:cNvPicPr/>
            <p:nvPr/>
          </p:nvPicPr>
          <p:blipFill>
            <a:blip r:embed="rId1"/>
            <a:stretch/>
          </p:blipFill>
          <p:spPr>
            <a:xfrm rot="10800000">
              <a:off x="6222960" y="3936960"/>
              <a:ext cx="292104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6" descr="cache(25)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21040" cy="292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539640" y="1700280"/>
            <a:ext cx="813780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启体简体"/>
              </a:rPr>
              <a:t>本文是一篇演讲词，具有演讲词的一切特点。激情洋溢：短句、排比句、对称句等句式使用便于情感抒发；语言诗意：生动的比喻、大胆的夸张使文采灵动，极富美感和激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3"/>
          <p:cNvSpPr txBox="1"/>
          <p:nvPr/>
        </p:nvSpPr>
        <p:spPr>
          <a:xfrm>
            <a:off x="2916360" y="765000"/>
            <a:ext cx="302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语言特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6" name="Picture 5" descr="cache(25)"/>
            <p:cNvPicPr/>
            <p:nvPr/>
          </p:nvPicPr>
          <p:blipFill>
            <a:blip r:embed="rId1"/>
            <a:stretch/>
          </p:blipFill>
          <p:spPr>
            <a:xfrm rot="10800000">
              <a:off x="6222960" y="3936960"/>
              <a:ext cx="292104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6" descr="cache(25)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21040" cy="292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方正隶二简体"/>
                <a:ea typeface="方正隶二简体"/>
              </a:rPr>
              <a:t>品读课文，揣摩语言</a:t>
            </a:r>
            <a:r>
              <a:rPr b="0" lang="zh-CN" sz="4000" spc="-1" strike="noStrike">
                <a:solidFill>
                  <a:srgbClr val="0000ff"/>
                </a:solidFill>
                <a:latin typeface="方正隶二简体"/>
                <a:ea typeface="方正隶二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0" y="5157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( 3)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既然黑夜出自王座，就让光明从坟墓里出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0" y="981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）我们应为这微笑感动。这微笑里含有黎明的曙光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0" y="292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）我们感到。从今以后人类最高的统治权力将是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古隶简体"/>
              </a:rPr>
              <a:t>既然黑夜出自王座，就让光明从坟墓里出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这句富有激情的生动呼告，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方正启体简体"/>
                <a:ea typeface="方正启体简体"/>
              </a:rPr>
              <a:t>表现出雨果与黑暗专制势不两立、斗争到底的决心和信念；同时也暗示</a:t>
            </a: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着：长眠于坟墓的伏尔泰曾经催生出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启体简体"/>
              </a:rPr>
              <a:t>“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方正启体简体"/>
                <a:ea typeface="方正启体简体"/>
              </a:rPr>
              <a:t>黎明的曙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，无论曾经怎样被黑暗湮没，最终都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方正启体简体"/>
                <a:ea typeface="方正启体简体"/>
              </a:rPr>
              <a:t>将在人类历史上大放光彩</a:t>
            </a: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。这句话，极其巧妙地呼应着演讲开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他的摇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，他的灵柩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方正启体简体"/>
              </a:rPr>
              <a:t>……”</a:t>
            </a: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，而且把</a:t>
            </a:r>
            <a:r>
              <a:rPr b="1" lang="en-US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18</a:t>
            </a: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世纪与</a:t>
            </a:r>
            <a:r>
              <a:rPr b="1" lang="en-US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19</a:t>
            </a:r>
            <a:r>
              <a:rPr b="1" lang="zh-CN" sz="3600" spc="-1" strike="noStrike">
                <a:solidFill>
                  <a:srgbClr val="0000ff"/>
                </a:solidFill>
                <a:latin typeface="方正启体简体"/>
                <a:ea typeface="方正启体简体"/>
              </a:rPr>
              <a:t>世纪，把整个人类解放的光辉历程，都融合在一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251280" y="4797000"/>
            <a:ext cx="39229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汉鼎繁颜体"/>
                <a:ea typeface="汉鼎繁颜体"/>
              </a:rPr>
              <a:t>维克多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汉鼎繁颜体"/>
              </a:rPr>
              <a:t>·</a:t>
            </a:r>
            <a:r>
              <a:rPr b="1" lang="zh-CN" sz="4000" spc="-1" strike="noStrike">
                <a:solidFill>
                  <a:srgbClr val="ff3300"/>
                </a:solidFill>
                <a:latin typeface="汉鼎繁颜体"/>
                <a:ea typeface="汉鼎繁颜体"/>
              </a:rPr>
              <a:t>雨果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汉鼎繁颜体"/>
                <a:ea typeface="汉鼎繁颜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汉鼎繁颜体"/>
                <a:ea typeface="汉鼎繁颜体"/>
              </a:rPr>
              <a:t>1802</a:t>
            </a:r>
            <a:r>
              <a:rPr b="1" lang="zh-CN" sz="2800" spc="-1" strike="noStrike">
                <a:solidFill>
                  <a:srgbClr val="000000"/>
                </a:solidFill>
                <a:latin typeface="汉鼎繁颜体"/>
                <a:ea typeface="汉鼎繁颜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汉鼎繁颜体"/>
                <a:ea typeface="汉鼎繁颜体"/>
              </a:rPr>
              <a:t>1885</a:t>
            </a:r>
            <a:r>
              <a:rPr b="1" lang="zh-CN" sz="2800" spc="-1" strike="noStrike">
                <a:solidFill>
                  <a:srgbClr val="000000"/>
                </a:solidFill>
                <a:latin typeface="汉鼎繁颜体"/>
                <a:ea typeface="汉鼎繁颜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51280" y="17640"/>
            <a:ext cx="5292720" cy="76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前期积极浪漫主义文学运动的领袖，法国文学史上卓越的资产阶级民主作家。贯穿一生活动和创作的主导思想是人道主义、反暴力、以爱治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作长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以上，作品包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诗歌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小说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剧本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哲理论著，合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之多，给法国文学和人类文化宝库增添了一份十分辉煌的文化遗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200603101910141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92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里是我的心脏，但到处是我的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人疲惫的不是远方的高山，而往往是鞋里的一粒沙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虽然我不在意你说的每一句话，但我将以我的生命捍卫你说话的权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激情是使航船扬帆的骤风，有时也使它沉没，但没有风船就不能前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友谊是灵魂的结合， 这个结合是可以离异的，这是两个敏感正直的人之间心照不宣的契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生来是为行动的，就像火光总向上腾，石头总往下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95280" y="260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611280" y="11970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伏尔泰哲理名言积累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043640" y="5137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我们学过雨果什么作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0" y="5589720"/>
            <a:ext cx="48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启体简体"/>
              </a:rPr>
              <a:t>《就英法联军远征中国给巴特勒上尉的信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219640" y="404640"/>
            <a:ext cx="3490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主要作品有小说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巴黎圣母院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悲惨世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海上劳工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笑面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九三年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，诗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凶年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惩罚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历代传说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和其他许多戏剧作品，对后世作家产生了巨大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图片3"/>
          <p:cNvPicPr/>
          <p:nvPr/>
        </p:nvPicPr>
        <p:blipFill>
          <a:blip r:embed="rId1"/>
          <a:stretch/>
        </p:blipFill>
        <p:spPr>
          <a:xfrm>
            <a:off x="0" y="0"/>
            <a:ext cx="479592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Voltaire%5B1%5D"/>
          <p:cNvPicPr/>
          <p:nvPr/>
        </p:nvPicPr>
        <p:blipFill>
          <a:blip r:embed="rId1"/>
          <a:stretch/>
        </p:blipFill>
        <p:spPr>
          <a:xfrm>
            <a:off x="0" y="0"/>
            <a:ext cx="2771640" cy="3429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"/>
          <p:cNvSpPr/>
          <p:nvPr/>
        </p:nvSpPr>
        <p:spPr>
          <a:xfrm>
            <a:off x="2700360" y="-314280"/>
            <a:ext cx="64436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伏尔泰原名弗兰苏阿，马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阿鲁埃；伏尔泰是他的笔名。伏尔泰是十八世纪法国资产阶级启蒙运动的旗手，被誉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思想之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法兰西最优秀的诗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987640" y="4149720"/>
            <a:ext cx="615636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他曾因辛辣地讽刺封建专制主义而两度被投入巴士底狱。他的书被列为禁书，他本人多次被逐出国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伏尔泰然"/>
          <p:cNvPicPr/>
          <p:nvPr/>
        </p:nvPicPr>
        <p:blipFill>
          <a:blip r:embed="rId2"/>
          <a:stretch/>
        </p:blipFill>
        <p:spPr>
          <a:xfrm>
            <a:off x="0" y="3500280"/>
            <a:ext cx="277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4" name="Picture 3" descr="cache(25)"/>
            <p:cNvPicPr/>
            <p:nvPr/>
          </p:nvPicPr>
          <p:blipFill>
            <a:blip r:embed="rId1"/>
            <a:stretch/>
          </p:blipFill>
          <p:spPr>
            <a:xfrm rot="10800000">
              <a:off x="6222960" y="3936960"/>
              <a:ext cx="292104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cache(25)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21040" cy="29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Text Box 5"/>
          <p:cNvSpPr/>
          <p:nvPr/>
        </p:nvSpPr>
        <p:spPr>
          <a:xfrm>
            <a:off x="250920" y="2276640"/>
            <a:ext cx="8388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陨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落      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诅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咒     余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晖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 灵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柩  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诉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讼</a:t>
            </a:r>
            <a:r>
              <a:rPr b="0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</a:t>
            </a:r>
            <a:r>
              <a:rPr b="0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凌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驾     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深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邃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鞠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睿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智     蕴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涵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怜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悯      曙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光 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弥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留之际        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媚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上欺下           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恪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尽职守        浩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瀚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无际   不屈不</a:t>
            </a:r>
            <a:r>
              <a:rPr b="1" lang="zh-CN" sz="3600" spc="-1" strike="noStrike">
                <a:solidFill>
                  <a:srgbClr val="ff3300"/>
                </a:solidFill>
                <a:latin typeface="方正硬笔楷书简体"/>
                <a:ea typeface="方正硬笔楷书简体"/>
              </a:rPr>
              <a:t>挠</a:t>
            </a: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39640" y="189000"/>
            <a:ext cx="82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黑体"/>
              </a:rPr>
              <a:t>自读课文，落实字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340000" y="414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61128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准下列红色的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324000" y="549360"/>
            <a:ext cx="9540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作者是如何评价伏尔泰的去世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887640" y="2060640"/>
            <a:ext cx="16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硬笔楷书简体"/>
              </a:rPr>
              <a:t>一颗巨星陨落了。但他是永生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硬笔楷书简体"/>
              </a:rPr>
              <a:t>伏尔泰不仅是一个人，他是一个世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95280" y="32860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启体简体"/>
              </a:rPr>
              <a:t>巨星陨落”高度评价伏尔泰在人类历史上的非凡地位，并高度赞扬他的世纪性的贡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830960" y="5013360"/>
            <a:ext cx="49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世人对伏尔泰逝世的态度是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503600" y="5661000"/>
            <a:ext cx="67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硬笔楷书简体"/>
              </a:rPr>
              <a:t>诅咒和祝福。过去的诅咒，未来的祝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95280" y="0"/>
            <a:ext cx="82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黑体"/>
              </a:rPr>
              <a:t>再读课文，合作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388800" y="981000"/>
            <a:ext cx="87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过去为何诅咒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79280" y="314172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4920" y="5229360"/>
            <a:ext cx="96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他也赢得了未来的祝福，为什么？</a:t>
            </a:r>
            <a:r>
              <a:rPr b="1" lang="zh-CN" sz="3200" spc="-1" strike="noStrike" u="sng">
                <a:solidFill>
                  <a:srgbClr val="99cc00"/>
                </a:solidFill>
                <a:uFillTx/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0" name="Picture 7" descr="cache(25)"/>
            <p:cNvPicPr/>
            <p:nvPr/>
          </p:nvPicPr>
          <p:blipFill>
            <a:blip r:embed="rId1"/>
            <a:stretch/>
          </p:blipFill>
          <p:spPr>
            <a:xfrm rot="10800000">
              <a:off x="6222960" y="3936960"/>
              <a:ext cx="292104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8" descr="cache(25)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21040" cy="29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9"/>
          <p:cNvSpPr/>
          <p:nvPr/>
        </p:nvSpPr>
        <p:spPr>
          <a:xfrm>
            <a:off x="1207800" y="2852640"/>
            <a:ext cx="373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他具体用什么去战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（提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个方面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782000" y="126828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方正硬笔楷书简体"/>
              </a:rPr>
              <a:t>因为他有等身的著作，还担负着培育良知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方正硬笔楷书简体"/>
              </a:rPr>
              <a:t>教化人类的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方正硬笔楷书简体"/>
              </a:rPr>
              <a:t>因为他与“过去”进行不屈不挠的“战斗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方正硬笔楷书简体"/>
              </a:rPr>
              <a:t>所以受到过去的诅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他是斗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08000" y="357336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117360"/>
            <a:ext cx="87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过去为何诅咒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452960" y="357120"/>
            <a:ext cx="40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硬笔楷书简体"/>
              </a:rPr>
              <a:t>他具体用什么去战斗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57360" y="1336680"/>
            <a:ext cx="578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）他用手中的笔战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          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方正启体简体"/>
              </a:rPr>
              <a:t>笔”是他的武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55640" y="2708280"/>
            <a:ext cx="65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硬笔楷书简体"/>
              </a:rPr>
              <a:t>利用他的著作和思想去教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700360" y="357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他是斗士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187280" y="4292640"/>
            <a:ext cx="6045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斗争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斗争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斗争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6:56:38Z</dcterms:created>
  <dc:creator>jks</dc:creator>
  <dc:description/>
  <cp:keywords/>
  <dc:language>en-US</dc:language>
  <cp:lastModifiedBy>岳宝丽</cp:lastModifiedBy>
  <dcterms:modified xsi:type="dcterms:W3CDTF">2012-04-19T06:59:59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