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11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1DB-3D7D-4F72-ACF9-274A0180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0DB-E43B-4800-AC63-8C341B3E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1EFC-99EB-4049-9CAC-431E769D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506-5744-4025-BEDF-0A45E7DC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5C5C-9158-49A5-8218-62748177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BB9-C796-4A49-A4A4-361E5B58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AD1B-FE5E-465F-BFC1-66D4CE84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27F0-445A-4FB5-B67D-754D9E08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19E9-F835-47C5-8406-0651B76B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2FB2-127E-458C-8363-5CDCE8CE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49C5-AEAB-46E3-83E1-1BC64FAC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2C4-E65C-4598-B2FB-0C3F954E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5C5A-3D61-426B-9AFD-41B3470C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B36C-189B-4909-B279-981466E9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5EE8-0340-45F5-A96D-057A7426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E579-6894-4238-AE32-CB326AC9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8283-A0E3-4640-94DE-AB932A2E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6FC-7296-499D-9E3E-67A6BAA4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BEB-80BB-43A4-8CAD-5E40E626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8CD-6D6F-4DB2-AA7C-DDE80CAF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F10-52FF-4704-A1E7-9816FE77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3B3-9148-4471-BF8B-735A6006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0FE-AC9A-49DF-A26C-2C022C1F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619-3039-4EF4-BD5F-E5357064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7693-5CE2-472A-ADC4-12B4BD53E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1FCE-D0A4-4433-AB80-D6B693512C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16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363849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9" name="WordArt 3"/>
          <p:cNvSpPr txBox="1"/>
          <p:nvPr/>
        </p:nvSpPr>
        <p:spPr>
          <a:xfrm>
            <a:off x="2743200" y="1052640"/>
            <a:ext cx="3025800" cy="14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雨  说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692360" y="2666880"/>
            <a:ext cx="7451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——</a:t>
            </a:r>
            <a:r>
              <a:rPr b="1" lang="zh-CN" sz="4400" spc="-1" strike="noStrike">
                <a:solidFill>
                  <a:srgbClr val="ffff66"/>
                </a:solidFill>
                <a:latin typeface="华文中宋"/>
                <a:ea typeface="华文中宋"/>
              </a:rPr>
              <a:t>为生活在中国大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华文中宋"/>
                <a:ea typeface="华文中宋"/>
              </a:rPr>
              <a:t>      </a:t>
            </a:r>
            <a:r>
              <a:rPr b="1" lang="zh-CN" sz="4400" spc="-1" strike="noStrike">
                <a:solidFill>
                  <a:srgbClr val="ffff66"/>
                </a:solidFill>
                <a:latin typeface="华文中宋"/>
                <a:ea typeface="华文中宋"/>
              </a:rPr>
              <a:t>上的儿童而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419640" y="4797360"/>
            <a:ext cx="251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郑愁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1197000"/>
            <a:ext cx="9144000" cy="471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首诗文题采用了拟人手法好在哪里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副标题为什么取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为生活在中国大地上的儿童而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949400" y="2436840"/>
            <a:ext cx="52768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让人感到亲切温柔，充满欢快情趣，切合儿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心理，能打动孩子们的心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吸引儿童读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50920" y="47628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文题探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167560" y="4292640"/>
            <a:ext cx="52768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表明诗人对中国儿童的期待和祝愿，有利于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解诗的主旨，同时也让我们明白了此诗的写作目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2603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914400" y="2286000"/>
            <a:ext cx="776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这首诗是诗人借春雨的拟人化形象，对生活在中国大地上的儿童充满爱心的倾述，表达了希望孩子们能够自由快乐地生活的美好愿望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0" y="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小    结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187280" y="-243000"/>
            <a:ext cx="5113440" cy="18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语言赏析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0" y="1628640"/>
            <a:ext cx="91454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Arial"/>
              </a:rPr>
              <a:t>例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的爱心像丝缕那样把天地织在一起。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39640" y="414972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运用比喻的手法，把爱心比作丝缕，生动形象地表现了春雨爱心之细之柔之广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2603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914400" y="1447920"/>
            <a:ext cx="763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 .</a:t>
            </a: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大量采用拟人手法，借春雨之口表达作者对孩子的良好祝福和希望，这是最突出的特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语言通俗、亲切、清新、自然，给人以温柔可亲之感，便于儿童阅读和接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诗的风格轻柔、喜悦、亲切，充满童真童趣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438280" y="0"/>
            <a:ext cx="541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写作特色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195640" y="981000"/>
            <a:ext cx="5105160" cy="56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送元二使安西</a:t>
            </a:r>
            <a:br>
              <a:rPr sz="4800"/>
            </a:b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唐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·</a:t>
            </a: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王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渭城朝雨浥轻尘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客舍青青柳色新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劝君更尽一杯酒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西出阳关无故人。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3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图片6"/>
          <p:cNvPicPr/>
          <p:nvPr/>
        </p:nvPicPr>
        <p:blipFill>
          <a:blip r:embed="rId2"/>
          <a:stretch/>
        </p:blipFill>
        <p:spPr>
          <a:xfrm>
            <a:off x="0" y="6597720"/>
            <a:ext cx="9145440" cy="260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图片"/>
          <p:cNvPicPr/>
          <p:nvPr/>
        </p:nvPicPr>
        <p:blipFill>
          <a:blip r:embed="rId3"/>
          <a:stretch/>
        </p:blipFill>
        <p:spPr>
          <a:xfrm>
            <a:off x="0" y="0"/>
            <a:ext cx="25092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图片"/>
          <p:cNvPicPr/>
          <p:nvPr/>
        </p:nvPicPr>
        <p:blipFill>
          <a:blip r:embed="rId4"/>
          <a:stretch/>
        </p:blipFill>
        <p:spPr>
          <a:xfrm>
            <a:off x="8893080" y="0"/>
            <a:ext cx="250920" cy="6597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7"/>
          <p:cNvSpPr/>
          <p:nvPr/>
        </p:nvSpPr>
        <p:spPr>
          <a:xfrm>
            <a:off x="324000" y="11592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"/>
              </a:rPr>
              <a:t>拓展延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p0071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16000" y="40428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 Black"/>
                <a:ea typeface="隶书"/>
              </a:rPr>
              <a:t>春夜喜雨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050920" y="1557360"/>
            <a:ext cx="604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隶书"/>
                <a:ea typeface="隶书"/>
              </a:rPr>
              <a:t>好雨知时节， 当春乃发生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隶书"/>
                <a:ea typeface="隶书"/>
              </a:rPr>
              <a:t>随风潜入夜，润物细无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隶书"/>
                <a:ea typeface="隶书"/>
              </a:rPr>
              <a:t>野径云俱黑，江船火独明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隶书"/>
                <a:ea typeface="隶书"/>
              </a:rPr>
              <a:t>晓看红湿处，花重锦官城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p0289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19720" y="8377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隶书"/>
              </a:rPr>
              <a:t>夜雨寄北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427640" y="2205000"/>
            <a:ext cx="35049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君问归期未有期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巴山夜雨涨秋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何当共剪西窗烛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却话巴山夜雨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24000" y="692280"/>
            <a:ext cx="495288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课外练笔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09480" y="2590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     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99"/>
                </a:solidFill>
                <a:latin typeface="华文中宋"/>
                <a:ea typeface="华文中宋"/>
              </a:rPr>
              <a:t>雨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000099"/>
                </a:solidFill>
                <a:latin typeface="华文中宋"/>
                <a:ea typeface="华文中宋"/>
              </a:rPr>
              <a:t>说了那么多的话，你是不是也想拿起你手中的笔，对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99"/>
                </a:solidFill>
                <a:latin typeface="华文中宋"/>
                <a:ea typeface="华文中宋"/>
              </a:rPr>
              <a:t>雨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000099"/>
                </a:solidFill>
                <a:latin typeface="华文中宋"/>
                <a:ea typeface="华文中宋"/>
              </a:rPr>
              <a:t>说说你想说的话呢</a:t>
            </a:r>
            <a:r>
              <a:rPr b="1" lang="en-US" sz="3600" spc="-1" strike="noStrike">
                <a:solidFill>
                  <a:srgbClr val="000099"/>
                </a:solidFill>
                <a:latin typeface="华文中宋"/>
                <a:ea typeface="华文中宋"/>
              </a:rPr>
              <a:t>? </a:t>
            </a:r>
            <a:r>
              <a:rPr b="1" lang="zh-CN" sz="3600" spc="-1" strike="noStrike">
                <a:solidFill>
                  <a:srgbClr val="000099"/>
                </a:solidFill>
                <a:latin typeface="华文中宋"/>
                <a:ea typeface="华文中宋"/>
              </a:rPr>
              <a:t>请拿起你的笔，用诗的语言，用心和雨倾谈吧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下雨动大"/>
          <p:cNvPicPr/>
          <p:nvPr/>
        </p:nvPicPr>
        <p:blipFill>
          <a:blip r:embed="rId1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395280" y="69228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826920" y="1125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4360" y="2189160"/>
            <a:ext cx="734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6">
            <a:hlinkClick r:id="rId2" action="ppaction://hlinksldjump"/>
          </p:cNvPr>
          <p:cNvSpPr/>
          <p:nvPr/>
        </p:nvSpPr>
        <p:spPr>
          <a:xfrm>
            <a:off x="2700360" y="1125360"/>
            <a:ext cx="4897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-252360" y="-291960"/>
            <a:ext cx="939636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-252360" y="5786280"/>
            <a:ext cx="939636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-187560" y="549360"/>
            <a:ext cx="871920" cy="58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8388000" y="476280"/>
            <a:ext cx="871920" cy="58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秋日私语.mp3" descr=""/>
          <p:cNvPicPr/>
          <p:nvPr/>
        </p:nvPicPr>
        <p:blipFill>
          <a:blip r:embed="rId3"/>
          <a:stretch/>
        </p:blipFill>
        <p:spPr>
          <a:xfrm>
            <a:off x="7524720" y="5229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2"/>
          <p:cNvSpPr txBox="1"/>
          <p:nvPr/>
        </p:nvSpPr>
        <p:spPr>
          <a:xfrm>
            <a:off x="1979640" y="2852640"/>
            <a:ext cx="540072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202476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523880" y="533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676520" y="685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828800" y="838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90720" y="259092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QUEDH1"/>
          <p:cNvPicPr/>
          <p:nvPr/>
        </p:nvPicPr>
        <p:blipFill>
          <a:blip r:embed="rId1"/>
          <a:stretch/>
        </p:blipFill>
        <p:spPr>
          <a:xfrm>
            <a:off x="609480" y="914400"/>
            <a:ext cx="1524240" cy="1295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QUEDH2"/>
          <p:cNvPicPr/>
          <p:nvPr/>
        </p:nvPicPr>
        <p:blipFill>
          <a:blip r:embed="rId2"/>
          <a:stretch/>
        </p:blipFill>
        <p:spPr>
          <a:xfrm>
            <a:off x="8836200" y="4221000"/>
            <a:ext cx="30780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2666880" y="76212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b7"/>
                </a:solidFill>
                <a:latin typeface="Times New Roman"/>
              </a:rPr>
              <a:t>副标题起什么作用？这一首诗的副标“为生活在中国大地的儿童而歌”对我们理解这首诗的题旨有什么帮助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95280" y="26370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散文和诗歌中的副标题一般以是提示诗、文写作缘由为多。如（有的人）其副标题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纪念鲁迅有感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其实这首诗就是为纪念鲁迅逝世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周年的创作的，目的也就是以鲜明的爱憎，赞颂鲁迅先生自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俯下身子给人民当牛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情愿作野草，等着地下的火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伟大精神。（雨说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首诗的副标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生活在中国大地上的儿童而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提示了读者，诗人写作本首诗歌的出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发点是为中国的广大儿童们。诗人想借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春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告诉中国的儿童们，中国人传统的人文思想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切为了孩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切为了下一代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儿童们应该去感受生活的美好，去体会长者的爱抚，在无忧无虑中幸福成长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0" descr="彩条"/>
          <p:cNvPicPr/>
          <p:nvPr/>
        </p:nvPicPr>
        <p:blipFill>
          <a:blip r:embed="rId3"/>
          <a:stretch/>
        </p:blipFill>
        <p:spPr>
          <a:xfrm>
            <a:off x="468360" y="2492280"/>
            <a:ext cx="8381880" cy="239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179280" y="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知识链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50920" y="1125360"/>
            <a:ext cx="8496360" cy="3384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标题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雨说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那么，雨说了些什么呢？主要表达了什么意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79280" y="40464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整体感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雨是在什么情况下来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雨来后有什么变化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雨是怎么来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诗人为什么把白云比作襁褓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小节表达了诗人怎样的感情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1197000"/>
            <a:ext cx="9144000" cy="4786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＊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我要教你们勇敢的笑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句话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笑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内涵是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＊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只要旗子笑，春天的声音就有了／只要你们笑，大地的希望就有了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句中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旗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春天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象征什么？这两句诗应该如何理解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11280" y="1773360"/>
            <a:ext cx="8064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笑代表一种快乐幸福、乐观向上的态度，是诗人鼓励孩子们要乐观向上地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24000" y="26028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内容探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84360" y="4365720"/>
            <a:ext cx="813564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红旗象征国家。春天象征青少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要孩子们能够勇敢地表达出要求自由、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福的愿望，祖国就有希望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谈一谈你对诗的结尾的理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就安息”的含义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此你想到了那句诗词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最后作者把自己的祝福说成什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样说有什么好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这首诗中，“雨”象征什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地”具体指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448440" y="1413000"/>
            <a:ext cx="10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方正启体简体"/>
                <a:ea typeface="方正启体简体"/>
              </a:rPr>
              <a:t>1.</a:t>
            </a:r>
            <a:r>
              <a:rPr b="1" lang="zh-CN" sz="3600" spc="-1" strike="noStrike">
                <a:solidFill>
                  <a:srgbClr val="3333ff"/>
                </a:solidFill>
                <a:latin typeface="方正启体简体"/>
                <a:ea typeface="方正启体简体"/>
              </a:rPr>
              <a:t>雨是温柔亲切的，充满爱心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718000" y="549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启体简体"/>
              </a:rPr>
              <a:t>雨为什么是爱的使者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14680" y="2421000"/>
            <a:ext cx="116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方正启体简体"/>
                <a:ea typeface="方正启体简体"/>
              </a:rPr>
              <a:t>2.</a:t>
            </a:r>
            <a:r>
              <a:rPr b="1" lang="zh-CN" sz="4000" spc="-1" strike="noStrike">
                <a:solidFill>
                  <a:srgbClr val="3333ff"/>
                </a:solidFill>
                <a:latin typeface="方正启体简体"/>
                <a:ea typeface="方正启体简体"/>
              </a:rPr>
              <a:t>雨让每个孩子学会勇敢的笑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010760" y="4005360"/>
            <a:ext cx="116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方正启体简体"/>
                <a:ea typeface="方正启体简体"/>
              </a:rPr>
              <a:t>3.</a:t>
            </a:r>
            <a:r>
              <a:rPr b="0" lang="zh-CN" sz="4000" spc="-1" strike="noStrike">
                <a:solidFill>
                  <a:srgbClr val="3333ff"/>
                </a:solidFill>
                <a:latin typeface="方正启体简体"/>
                <a:ea typeface="方正启体简体"/>
              </a:rPr>
              <a:t>雨祝福孩子们有美好幸福的生活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273680" y="1916280"/>
            <a:ext cx="28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（第</a:t>
            </a:r>
            <a:r>
              <a:rPr b="1" lang="en-US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节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269720" y="2997360"/>
            <a:ext cx="22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（第</a:t>
            </a:r>
            <a:r>
              <a:rPr b="1" lang="en-US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节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265760" y="4581360"/>
            <a:ext cx="15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（第</a:t>
            </a:r>
            <a:r>
              <a:rPr b="1" lang="en-US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节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076720" y="3068640"/>
            <a:ext cx="181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方正启体简体"/>
              </a:rPr>
              <a:t>快乐幸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方正启体简体"/>
              </a:rPr>
              <a:t>乐观向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142000" y="537372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方正启体简体"/>
              </a:rPr>
              <a:t>对孩子们的祝福也是对祖国的祝福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方正启体简体"/>
              </a:rPr>
              <a:t>孩子是祖国的希望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2:29:33Z</dcterms:created>
  <dc:creator>微软用户</dc:creator>
  <dc:description/>
  <dc:language>en-US</dc:language>
  <cp:lastModifiedBy>岳宝丽</cp:lastModifiedBy>
  <dcterms:modified xsi:type="dcterms:W3CDTF">2012-04-17T01:06:20Z</dcterms:modified>
  <cp:revision>29</cp:revision>
  <dc:subject/>
  <dc:title>幻灯片 1</dc:title>
</cp:coreProperties>
</file>