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jpeg" ContentType="image/jpeg"/>
  <Override PartName="/ppt/media/image2.jpeg" ContentType="image/jpeg"/>
  <Override PartName="/ppt/media/image25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5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E79-38F4-42E6-9B18-FE314E33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B3E-F9EF-45E1-9B0B-E17E75D3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EDC-543B-4338-BDD8-4B617C81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09C-1581-4E34-844C-888F0827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8D76-DF73-4591-9F3A-7F154E3F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D614-406A-4ECD-9E2B-34CE2E04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CF07-2788-428F-A395-90DCD37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C9E7-3CB7-48FE-846E-ACFC78B0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A446-F165-4EFD-AF54-B95538CD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7ED4-6F7C-42D3-8F97-35E8C41B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3909-3664-4846-ACDA-A0FB47F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5F2-2A34-4DAB-A12F-C7270426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8E30-B266-4952-A99D-8038C2C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B94A-2213-46F9-91B0-7035CB4B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4B16-B0A2-48E6-A6AF-8DF5B989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A18D-20CA-40F2-A422-A6FC4C22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88AA-FC3A-42C6-9548-22871EB5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8A3-3D79-4DCC-8DFC-3643BF1E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D52-E629-40B3-8B9A-175D2147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D9A-A10A-4F1C-ABDD-52B265CC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885-5A9C-4982-A8DE-43230244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D7C-DF33-43E1-AFF0-7139D0CD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705-B3A0-44A1-B768-8CB92A32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13B-01DE-4042-B8EB-86F9475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502D-CB61-475F-A0AB-BFCFA4FD96D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614B-5368-4893-B811-7E71A8BB739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12536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3.3 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解一元一次方程（二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        ——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去括号与去分母     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       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（第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课时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541760" y="982800"/>
          <a:ext cx="343080" cy="35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41760" y="982800"/>
                    <a:ext cx="3430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468520" y="1197000"/>
          <a:ext cx="406440" cy="10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68520" y="1197000"/>
                    <a:ext cx="4064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0240" y="1197000"/>
          <a:ext cx="509760" cy="94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10240" y="119700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112920" y="2708280"/>
          <a:ext cx="2127240" cy="98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12920" y="2708280"/>
                    <a:ext cx="21272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87280" y="835920"/>
            <a:ext cx="52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解：设目的地距学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33240" y="835920"/>
            <a:ext cx="29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km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，则骑自行车所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148356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h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，乘汽车所用时间为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23328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由题意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7155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解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508392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答：目的地距学校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7.5 km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484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间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5" name="图片 6" descr="tb.png"/>
          <p:cNvPicPr/>
          <p:nvPr/>
        </p:nvPicPr>
        <p:blipFill>
          <a:blip r:embed="rId10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6" name=""/>
          <p:cNvSpPr/>
          <p:nvPr/>
        </p:nvSpPr>
        <p:spPr>
          <a:xfrm>
            <a:off x="3851280" y="436572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7.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075040" y="1573920"/>
            <a:ext cx="5445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通讯员骑自行车把信送往某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每小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5 km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就比预定时间少用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分钟；如果每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时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2 km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就比预定时间多用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分钟，那么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定时间是多少小时？他去某地的路程是多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km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53320" y="8334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巩固训练，巩固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9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2916360" y="2276640"/>
          <a:ext cx="419076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2276640"/>
                    <a:ext cx="41907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651120" y="3357720"/>
          <a:ext cx="1001880" cy="47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1120" y="3357720"/>
                    <a:ext cx="100188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2087280" y="105192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解：设预定时间为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小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10440" y="334080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解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17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根据题意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2720" y="414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所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478320" y="3990960"/>
          <a:ext cx="2547720" cy="91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78320" y="3990960"/>
                    <a:ext cx="25477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624760" y="499896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答：预定时间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3 h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路程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39 km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1" name="图片 6" descr="tb.png"/>
          <p:cNvPicPr/>
          <p:nvPr/>
        </p:nvPicPr>
        <p:blipFill>
          <a:blip r:embed="rId8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30400" y="262260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通过本节课的研究你有何收获？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090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归纳总结，布置作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4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61080" y="660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10440" y="21178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教科书习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3.3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第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题，第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7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900000" y="162864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节课我们继续学习！再见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476280"/>
            <a:ext cx="814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学习目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．弄清行程问题背景，分析数量关系，正确找出列方程的所依据的主要相等关系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．通过行程问题的探究，进一步体验一元一次方程与实际生活的联系，熟悉解一元一次方程的基本步骤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4290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学习重点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弄清题意、准确列出方程，正确地解方程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学习难点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准确把握行程问题的相等关系，正确列出方程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39840" y="568440"/>
            <a:ext cx="46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一）复习回顾，巩固解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11120" y="1720800"/>
            <a:ext cx="67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解一元一次方程的一般步骤是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11120" y="2368440"/>
            <a:ext cx="43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解下列方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416320" y="3052800"/>
          <a:ext cx="2384280" cy="105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6320" y="3052800"/>
                    <a:ext cx="238428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195640" y="4383000"/>
          <a:ext cx="4106880" cy="93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4383000"/>
                    <a:ext cx="41068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01920" y="332100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05160" y="449424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图片 6" descr="tb.png"/>
          <p:cNvPicPr/>
          <p:nvPr/>
        </p:nvPicPr>
        <p:blipFill>
          <a:blip r:embed="rId6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238560" y="1484280"/>
          <a:ext cx="255744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38560" y="1484280"/>
                    <a:ext cx="25574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300480" y="2408400"/>
          <a:ext cx="2308320" cy="51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0480" y="2408400"/>
                    <a:ext cx="2308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916360" y="3548160"/>
          <a:ext cx="2307960" cy="480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3548160"/>
                    <a:ext cx="23079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98800" y="4684680"/>
          <a:ext cx="1152720" cy="536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98800" y="4684680"/>
                    <a:ext cx="11527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187280" y="3500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移项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467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合并同类项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8938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解：（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）去分母（方程两边乘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）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2349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去括号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7" name="图片 6" descr="tb.png"/>
          <p:cNvPicPr/>
          <p:nvPr/>
        </p:nvPicPr>
        <p:blipFill>
          <a:blip r:embed="rId10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87280" y="23590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去括号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30480" y="3284640"/>
            <a:ext cx="21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移项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40622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合并同类项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2600" y="4927680"/>
            <a:ext cx="36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系数化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981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解：（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）去分母（方程两边乘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）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87640" y="1614600"/>
          <a:ext cx="5683320" cy="50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7640" y="1614600"/>
                    <a:ext cx="56833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443400" y="2444760"/>
          <a:ext cx="464976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43400" y="2444760"/>
                    <a:ext cx="4649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060720" y="3357720"/>
          <a:ext cx="5256360" cy="47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60720" y="3357720"/>
                    <a:ext cx="52563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121280" y="4162320"/>
          <a:ext cx="1471320" cy="411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21280" y="4162320"/>
                    <a:ext cx="1471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924360" y="4727520"/>
          <a:ext cx="1568520" cy="1006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24360" y="4727520"/>
                    <a:ext cx="156852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图片 6" descr="tb.png"/>
          <p:cNvPicPr/>
          <p:nvPr/>
        </p:nvPicPr>
        <p:blipFill>
          <a:blip r:embed="rId1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02000" y="1424520"/>
            <a:ext cx="6217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章前引言问题）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辆客车和一辆卡车同时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地出发沿同一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路同方向行驶，客车的行驶速度是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70 km/h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卡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行驶速度是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60 km/h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客车比卡车早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 h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经过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地间的路程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4514760"/>
            <a:ext cx="81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解：设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地间的路程为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km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则客车和卡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地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地所用的时间表示为：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和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012000" y="5068800"/>
          <a:ext cx="5047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5068800"/>
                    <a:ext cx="5047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093080" y="5143680"/>
          <a:ext cx="525240" cy="96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93080" y="5143680"/>
                    <a:ext cx="5252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323360" y="7491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二）提出问题，尝试解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3" name="图片 6" descr="tb.png"/>
          <p:cNvPicPr/>
          <p:nvPr/>
        </p:nvPicPr>
        <p:blipFill>
          <a:blip r:embed="rId6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7120" y="71280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根据题意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564000" y="1185840"/>
          <a:ext cx="1886040" cy="99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1185840"/>
                    <a:ext cx="188604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743120" y="2205000"/>
            <a:ext cx="36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去分母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684600" y="2781360"/>
          <a:ext cx="2782800" cy="45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84600" y="2781360"/>
                    <a:ext cx="27828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671480" y="3341520"/>
            <a:ext cx="44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合并同类项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92520" y="3890880"/>
          <a:ext cx="204948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92520" y="3890880"/>
                    <a:ext cx="2049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692360" y="45086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系数化为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691080" y="5084640"/>
          <a:ext cx="1312560" cy="43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91080" y="5084640"/>
                    <a:ext cx="13125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671480" y="5734080"/>
            <a:ext cx="606924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答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地间的路程是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420 km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0" name="图片 6" descr="tb.png"/>
          <p:cNvPicPr/>
          <p:nvPr/>
        </p:nvPicPr>
        <p:blipFill>
          <a:blip r:embed="rId10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84840" y="1128600"/>
            <a:ext cx="5007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问题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2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回顾本题列方程的过程，计算行程问题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常用的数量关系是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7120" y="2800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1760" y="26877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路程＝速度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4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0920" y="164952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某中学组织团员到校外参加义务植树活动，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部分团员骑自行车先走，速度为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9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km/h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分钟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781360"/>
            <a:ext cx="8645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其余团员乘汽车出发，速度为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45 km/h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结果他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58720" y="3284640"/>
            <a:ext cx="4778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同时到达目的地，则目的地距学校多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km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？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53320" y="8334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巩固训练，巩固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5:34:51Z</dcterms:created>
  <dc:creator>zzl</dc:creator>
  <dc:description/>
  <dc:language>en-US</dc:language>
  <cp:lastModifiedBy>微软用户</cp:lastModifiedBy>
  <dcterms:modified xsi:type="dcterms:W3CDTF">2012-11-02T13:34:14Z</dcterms:modified>
  <cp:revision>35</cp:revision>
  <dc:subject/>
  <dc:title>幻灯片 1</dc:title>
</cp:coreProperties>
</file>